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1AF-6C88-4FB5-B337-7795517F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23F-59F7-4E26-8828-251F4E17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895-F798-43EF-9CBA-31006472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EAD-5426-40BE-8761-464A38F4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0DB4-2955-40B7-8F78-AC42A616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93BD-6CBD-4523-8F8A-B04CA654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3890-0FBC-44A1-BA6D-CA33157F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02D3-1572-4E72-9C50-B518785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5E2-7E09-41C8-9CF3-27B37DFE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171D-BDA0-4E6E-8C04-6D65047C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C1BA-2E97-46D5-95E1-1A9CF71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1D0-45B4-466A-8759-6B0B1C3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B336-9656-4E38-9A84-BFAC48E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363F-398F-4D67-9361-6A3E4AE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5254-DEB4-4144-86F4-303EBD86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80AB-9120-4525-A439-24F7A7C7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AE59-7B58-4311-BB40-93A36DBA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AB77-4FA3-4E78-9445-A93CEEA4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218D-1276-4D7F-B9C8-4A9B64F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BB65-C303-4CF3-BD7F-E5129B4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3159-269C-419E-9C3D-C8A1DEB1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7DCE-935E-4B61-B3CB-08CF4FD5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798-A8FE-4629-9C97-0B6E5C5D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0BD0-8056-4956-9FC5-5A91829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D6D1-182D-4E33-85DC-6B49E69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C172-8224-452C-927B-C8916865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9274-BBBE-4CC4-BDFF-AE5A24F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28EB-63BD-40D5-B43A-81A9060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C2A2-2902-4D10-AFB4-813B0A92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05CE-3F8A-48F1-B0B9-CF390190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A79D-C62B-415D-A0AB-548AEB76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6906-B446-43A0-A9DC-9088D37F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EA4B2-E06B-4559-ABAC-7C374AE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40B-954D-4FBA-AC60-2C0600BB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1424-9EF7-41D2-8AF0-C1C774F9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2C26-FFD2-4714-9059-1984A0AB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0153-CAE2-4FF9-9963-A173C425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3264-9551-454A-8398-766E012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553B-5FF3-4C6C-A4F9-DF5D4260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DACE-2A40-473E-8118-AF475F9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2C9D-7240-4C83-9CA4-39C23521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50665-7ED5-4DBB-B2EE-69780935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A77A-CB61-4737-8914-6DACE96C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1ABD-1A88-4306-83B4-653E13E9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BA0-35A3-4C90-9332-E221F44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9498-9B2F-4D99-B340-8D241C1C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5F289-BC5D-4C07-B826-8DAD4DBD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E30F-D875-420E-BDE3-9B3E82E1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BF7F-0A1F-4E56-BEA2-DC2A6C32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7C8F-01D5-46DD-9834-5E0D66B1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D05A2-74F9-4541-9CC5-0516F5A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E75FE-6B5E-4A4D-94C0-FC10C8B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DD999-3ACE-430B-BBD6-22086D2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EF0C-9735-4E2D-917B-11B0BFB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A2F4A-FCF1-4C90-BB39-D3F64F21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0CB-36B0-4F81-B8CE-B8BD17AE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F583-DCF0-4B45-8EE6-D9A921D3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301B4-968E-4046-8317-8D7156FA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1FA6C-487A-43CE-897B-F6CB81B7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CDBAA-5C6E-429B-AC45-12FF1A42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82794-6B2F-4D17-8A84-2E6FD81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AAFFF-6278-4D78-885D-70485BB9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CEFFC-72A7-4E5D-BDB5-B06C8F97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8CF8D-5ED6-49E1-AB79-DC3B1F6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437C8-3510-47A3-929C-46A048F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3940-EAC5-4CF8-8220-363B411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B0B-0569-4139-9BDF-06F7B64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B149-3BA1-4E87-8D2F-6E2DC634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7B71-B67F-4A45-92C2-50A62EE9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3558-3D2E-4286-8B28-2A35B1D6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B2F7-5E9B-41AF-8F82-828FACD7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E7728-3762-456E-A9CA-E260EF59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3096-2287-4E69-91BE-0BD9E258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5EA6C-D0A5-4C0B-AF7E-0CCF73B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3CF98-918F-4562-A825-AAD4E1C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1EBF5-23D5-4552-981C-FC3E188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907F6-1DD0-4653-8E1B-317BAFF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FFE-44FC-4355-84C1-C4307C30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4D48B-8D8F-416F-A90F-9E83B5C7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621BC-470B-49A6-A1B6-A744E47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E416-24BA-4601-9226-E026FA80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6C5E8-5CFE-4F0B-B3B4-9E94F09A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669C-F9B2-4164-B720-5BBCE571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96AFD-B7D2-402E-BEF0-90012282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0890D-6FD6-4658-BAF3-FA2102FF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81270-1361-490E-BF38-FAF7A386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9248-C977-49FC-9FE3-7DCCA0B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31D45-BE9F-4102-A12D-A2A21CB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3C3-6BD6-4F7C-81C1-F8A21CC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E7D5-8B56-48CD-A3D0-7CAB0918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B865-497A-4F69-A65B-3CA0D538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72C8-A3E2-4144-8B79-4C02354D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B3134-58E2-454B-885B-DB19CAE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D641A-DA89-4652-8336-31C2BE52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00D98-7E89-44B1-B6A8-0C0F05A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56450-43A8-41C6-B17A-99B8D880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5806-DD29-4ED2-B01A-FBA5915C005B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BA8B-D26F-493D-AECB-1641463744A3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715F-CB96-491A-B2A9-AED9F8DF4162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4514-7DEA-4B63-BCFD-30AE0E39F31A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D13B-55D3-40EF-BA5E-E1F52E79D176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6AC1-4DD1-47B6-A669-63DC1200CD1D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E56F-72E0-42E3-9FC1-B0077CEFB580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CCDB-5408-4CC9-B282-E66E22C8AAE5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одержимое 8" descr="381cc5d77f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Documents and Settings\Надежда\Рабочий стол\bobry.jpeg"/>
          <p:cNvPicPr/>
          <p:nvPr/>
        </p:nvPicPr>
        <p:blipFill>
          <a:blip r:embed="rId1"/>
          <a:stretch/>
        </p:blipFill>
        <p:spPr>
          <a:xfrm>
            <a:off x="1071720" y="1357200"/>
            <a:ext cx="6813360" cy="466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24000" y="25992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Мистер Бобёр приготовил  для постройки своей плотины на 3 брёвна больше, чем Миссис Бобриха. Сколько брёвен заготовила Миссис Бобриха, если Мистер Бобёр заготовил 30 брёвен?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C:\Documents and Settings\Надежда\Рабочий стол\24.jpg"/>
          <p:cNvPicPr/>
          <p:nvPr/>
        </p:nvPicPr>
        <p:blipFill>
          <a:blip r:embed="rId1"/>
          <a:stretch/>
        </p:blipFill>
        <p:spPr>
          <a:xfrm>
            <a:off x="395280" y="4765680"/>
            <a:ext cx="2448000" cy="1503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обё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Бобё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2997360"/>
            <a:ext cx="237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292428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62926728.jpg"/>
          <p:cNvPicPr/>
          <p:nvPr/>
        </p:nvPicPr>
        <p:blipFill>
          <a:blip r:embed="rId1"/>
          <a:stretch/>
        </p:blipFill>
        <p:spPr>
          <a:xfrm>
            <a:off x="2643120" y="1219320"/>
            <a:ext cx="3857760" cy="493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о двум сторонам лестнице стоят снежные скульптуры. Справа мы видим 39 скульптур, а слева на 9 меньше. Сколько всего скульптур стоит по обеим сторонам лестницы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C:\Documents and Settings\Надежда\Рабочий стол\сова.jpg"/>
          <p:cNvPicPr/>
          <p:nvPr/>
        </p:nvPicPr>
        <p:blipFill>
          <a:blip r:embed="rId1"/>
          <a:stretch/>
        </p:blipFill>
        <p:spPr>
          <a:xfrm>
            <a:off x="6786720" y="5214960"/>
            <a:ext cx="2172960" cy="1382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67835526.jpg"/>
          <p:cNvPicPr/>
          <p:nvPr/>
        </p:nvPicPr>
        <p:blipFill>
          <a:blip r:embed="rId1"/>
          <a:stretch/>
        </p:blipFill>
        <p:spPr>
          <a:xfrm>
            <a:off x="2190600" y="1630440"/>
            <a:ext cx="4762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3" descr="1316614647_75189-cover.jpg"/>
          <p:cNvPicPr/>
          <p:nvPr/>
        </p:nvPicPr>
        <p:blipFill>
          <a:blip r:embed="rId1"/>
          <a:stretch/>
        </p:blipFill>
        <p:spPr>
          <a:xfrm>
            <a:off x="2500200" y="214200"/>
            <a:ext cx="4091040" cy="6340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14200" y="5713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ама купила яблок на 6 больше, чем апельсинов. Апельсинов  - 40. Сколько яблок купила мам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Саши было несколько орехов. После того, как 8 орехов он отдал сестре,  у него осталось столько же. Сколько орехов было у Саш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ерез семь лет тете Оле будет 30 лет. Сколько лет ей сей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аня прочитала в первый день 40 страниц, а во второй – 46. Сколько всего страниц в книг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продавца было 20 шаров. После того, как он продал несколько шаров, у него осталось 7 шаров. Сколько шаров он прода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сколько рублей у Коли больше, чем у Димы, если  у Коли 15 рублей, а у Димы – 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46, 16, 23, 86, 13,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и,   р,  н,   я,    а,  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одержимое 3" descr="81808-f95db-34969921-m750x740.jpg"/>
          <p:cNvPicPr/>
          <p:nvPr/>
        </p:nvPicPr>
        <p:blipFill>
          <a:blip r:embed="rId1"/>
          <a:stretch/>
        </p:blipFill>
        <p:spPr>
          <a:xfrm>
            <a:off x="2071800" y="0"/>
            <a:ext cx="4489200" cy="681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5712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AnastasiaScript"/>
              </a:rPr>
              <a:t>Вы в Нарнии. Нашу   страну заколдовала Белая Колдунья, и теперь у нас всегда зима, но никогда не наступает Новый год и не приходит весна. Помогите жителям Нарнии!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4e3b30"/>
                </a:solidFill>
                <a:uFillTx/>
                <a:latin typeface="Cambria"/>
              </a:rPr>
              <a:t>ЗАДАЧА</a:t>
            </a:r>
            <a:endParaRPr b="0" lang="en-US" sz="6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Услов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одержимое 3" descr="ae247a31f18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колько жителей Нарнии заколдовала Белая колдунья, если сначала она заколдовала 14 жителей, а во второй раз – на 6 жителей больш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F:\Нарния\66783363.jpg"/>
          <p:cNvPicPr/>
          <p:nvPr/>
        </p:nvPicPr>
        <p:blipFill>
          <a:blip r:embed="rId1"/>
          <a:stretch/>
        </p:blipFill>
        <p:spPr>
          <a:xfrm>
            <a:off x="7858080" y="5040360"/>
            <a:ext cx="12859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34:11Z</dcterms:created>
  <dc:creator>Надежда</dc:creator>
  <dc:description/>
  <dc:language>en-US</dc:language>
  <cp:lastModifiedBy>МихалыЧ</cp:lastModifiedBy>
  <dcterms:modified xsi:type="dcterms:W3CDTF">2011-11-29T14:18:51Z</dcterms:modified>
  <cp:revision>8</cp:revision>
  <dc:subject/>
  <dc:title>Слайд 1</dc:title>
</cp:coreProperties>
</file>