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0E1F-6908-4AB3-A0D0-3B999A3B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6F1B-C2DE-483E-9ADF-B9F09DFC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48CE-57B6-4C5D-A593-DB229867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81C-18CB-4A38-A978-BA50FD98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B6B5-D8CF-4DC2-9988-CBCB4E1E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420B-FE6B-4566-B3F5-5206CFC3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4EA3-134A-4396-B3CF-6FA393F5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A1EA-F6B1-46FA-AAD1-AE373A59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D449-D32D-45D0-B981-40643729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E121-194C-4AE2-A876-C25CA36D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3173-D9F0-4F14-8702-6F3F89F2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B3E-7B5B-4536-AC44-FE0F21ED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B576-AA79-4C75-B068-02BC8E3D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BD2A-A800-4AFE-BFF8-66C1957B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5EB7-41C6-4C96-B309-64D05BFE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6F3F-D3AA-4C36-8C33-56A360EA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880A-B7F8-4EFC-9B44-DB1C2F6C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5F16F-5A6F-42CE-B413-7D1575CA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12E6C-3D64-4461-A2B2-C7430CED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016A9-797A-4895-B15D-10F0EC6E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063EE-430F-40CB-BAD5-75E1A388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1066F-4A04-438E-9F3F-53F61220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2C7-A52F-4BA0-A1E3-3F90D0AE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1C0A6-BC3E-454D-AF79-69DCA052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C6972-D16E-4F6E-BB8B-B5340FF1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10CC1-7AFF-4EF3-B0CF-B7CA4DD5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1E1F0-4EB5-4D07-8AA5-0EA4CC18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2C6DE-B5C5-43BE-BD0E-2D6EA480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0DCAF-C0E5-4CC2-9A30-E9B20A6B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FA9EA-9660-4904-A3A3-880F7E25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D16FF-4E82-41DF-95DD-F192F23E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1F85C-37C1-44D0-A77E-956E1D87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50420-5641-4FE2-AF51-BB36CECE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86A-8E8D-4D9E-AA7C-D4E20398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6AB6E-46BF-477C-9A34-B7BD7F0D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0D0B7-241A-4D11-98C1-C5BD61C3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E5625-8E12-4AB9-BB52-4228C1AA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359FC-7CEF-4F62-9FCA-A1C048F5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0B6BA-E613-48F8-AEBD-B23B3A2B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64A40-210C-49C4-82E5-148C45FC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7667B-2277-4C53-9C4C-12350120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28FEC-2178-498F-A27D-18A7BD77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019A3-E372-4466-8767-2D76B444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FB74C-F6D8-4978-8BA9-632D7B8F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04F-587B-4197-9CFE-42DE8547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CA983-B11E-4A5D-91B3-DB4316BA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008DA-0277-4377-94C2-E4585885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DDBE2-61CB-4D28-A4BF-BF21702B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7EBC8-C5B3-4425-B165-F3F76B9B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5025C-FBE4-4A5E-AF76-543DFD93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221F9-02DA-42D9-BF8F-7CFE2685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23894-40BF-449B-B6F5-DB74B4F1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46473-7C66-419C-8864-F2F1C3D5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6CEBB-EDA4-4416-AF9C-E47424E3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4ABAC-847C-4FBA-B6AB-3D129766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C8A-4D52-4366-BF68-ECA42165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77C3A-B42C-4876-B6A2-32D603A7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9E55D-1412-4777-9AE0-1C6A9843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4F7AF-BAAF-4301-B31C-16BF46E1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48598-56B8-4147-B2B0-CB3A99B4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F6D8E-41B5-4B2F-B5B7-4F6162CF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AF72B-D74F-4D0D-B522-602F155C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A56CA-8A01-4811-A9B9-1CAA7473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9CA6E-069B-4BAB-9E97-44A8831E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A0FC2-6C66-4AC5-BA5A-BAE6221C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7EDE3-15ED-4EFA-B38E-8038BFDB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5C0-F8C1-4BA8-B566-3D552D3F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30F5F-A089-4988-9965-9748E97E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2329E-961C-4B0A-BB4E-A87DA6BC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B953D-7EE6-4CFB-8503-B9C4B506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D5E88-FB19-4A22-92F6-CD96A8E6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565DE-6F1A-402D-B913-F2BAABD8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3EB0E-1431-4B4C-94E0-BF19CEF4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9C30E-EFE8-414C-9422-4CA8BC06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D40AB-B3F0-49B9-AD8D-8B1A5DA7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08664-B796-4EB3-BB06-9CC0ACB1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066C5-3E4D-42B0-A1A6-2C628830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FF35-D8A7-47D5-B5C7-3257B8BA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44354-CFFB-49E9-ACFF-8794CF58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5E471-AEAF-44BF-80BF-70122307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66467-6CD8-4C7F-9C94-E6A3EB95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8297C-E5DF-4320-B34C-665143D2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2202A-8B70-456B-A424-9253F0EA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D650E-7660-48DF-BCB8-00E28010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0EE88-6B9E-4592-9129-41D660DE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63A52-96F2-4DD0-B4A5-45F44436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D4D76-EA25-498F-B30A-0CFC3325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3BDD6-EEEE-4C4D-A483-3FBA6946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F8E5-81F2-41BD-AD05-1A94D810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BC01A-DD7C-47F6-AA54-8D5C603B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D7D16-8CFC-453E-A9AE-8A829FD0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BBC2F-AEBA-40D4-8780-07B9C9B3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2B813-04D1-4D39-9E0E-59910D26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41BD1-F574-4ACB-A8A0-509B4DC2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57F81-1546-45E7-8A91-11EC56E1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C300A-C396-4260-8D7C-43BBF72A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434A-CCB3-4D80-A87B-300DF3B6EB6F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229C-4F15-4A4A-B7CD-500967C96FF8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2c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fbeec9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be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eec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be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590B-E341-4BB6-B0CC-C07321273F0F}" type="slidenum">
              <a:rPr b="0" lang="en-US" sz="1400" spc="-1" strike="noStrike">
                <a:solidFill>
                  <a:srgbClr val="fbeec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8134-2C45-4509-B98C-E8CC04CCBC06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2A03-A00F-4185-BE2C-F775B6C24861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035E-A6D0-4B90-BCE1-2CFA55AE3297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2c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fbeec9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be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eec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be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0960-8790-47AD-A7EB-087923C400E2}" type="slidenum">
              <a:rPr b="0" lang="en-US" sz="1400" spc="-1" strike="noStrike">
                <a:solidFill>
                  <a:srgbClr val="fbeec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44C3-8D4B-4A07-8ABF-CA8544A0BB29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Содержимое 8" descr="381cc5d77f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C:\Documents and Settings\Надежда\Рабочий стол\bobry.jpeg"/>
          <p:cNvPicPr/>
          <p:nvPr/>
        </p:nvPicPr>
        <p:blipFill>
          <a:blip r:embed="rId1"/>
          <a:stretch/>
        </p:blipFill>
        <p:spPr>
          <a:xfrm>
            <a:off x="1071720" y="1357200"/>
            <a:ext cx="6813360" cy="4667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24000" y="259920"/>
            <a:ext cx="8501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Мистер Бобёр приготовил  для постройки своей плотины на 3 брёвна больше, чем Миссис Бобриха. Сколько брёвен заготовила Миссис Бобриха, если Мистер Бобёр заготовил 30 брёвен?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2" descr="C:\Documents and Settings\Надежда\Рабочий стол\24.jpg"/>
          <p:cNvPicPr/>
          <p:nvPr/>
        </p:nvPicPr>
        <p:blipFill>
          <a:blip r:embed="rId1"/>
          <a:stretch/>
        </p:blipFill>
        <p:spPr>
          <a:xfrm>
            <a:off x="395280" y="4765680"/>
            <a:ext cx="2448000" cy="1503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Бобёр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Б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Бобё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1908000" y="2997360"/>
            <a:ext cx="2376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72360" y="2924280"/>
            <a:ext cx="23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08000" y="429264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429264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Содержимое 3" descr="62926728.jpg"/>
          <p:cNvPicPr/>
          <p:nvPr/>
        </p:nvPicPr>
        <p:blipFill>
          <a:blip r:embed="rId1"/>
          <a:stretch/>
        </p:blipFill>
        <p:spPr>
          <a:xfrm>
            <a:off x="2643120" y="1219320"/>
            <a:ext cx="3857760" cy="4937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По двум сторонам лестнице стоят снежные скульптуры. Справа мы видим 39 скульптур, а слева на 9 меньше. Сколько всего скульптур стоит по обеим сторонам лестницы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2" descr="C:\Documents and Settings\Надежда\Рабочий стол\сова.jpg"/>
          <p:cNvPicPr/>
          <p:nvPr/>
        </p:nvPicPr>
        <p:blipFill>
          <a:blip r:embed="rId1"/>
          <a:stretch/>
        </p:blipFill>
        <p:spPr>
          <a:xfrm>
            <a:off x="6786720" y="5214960"/>
            <a:ext cx="2172960" cy="13827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Содержимое 3" descr="67835526.jpg"/>
          <p:cNvPicPr/>
          <p:nvPr/>
        </p:nvPicPr>
        <p:blipFill>
          <a:blip r:embed="rId1"/>
          <a:stretch/>
        </p:blipFill>
        <p:spPr>
          <a:xfrm>
            <a:off x="2190600" y="1630440"/>
            <a:ext cx="47628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Содержимое 3" descr="1316614647_75189-cover.jpg"/>
          <p:cNvPicPr/>
          <p:nvPr/>
        </p:nvPicPr>
        <p:blipFill>
          <a:blip r:embed="rId1"/>
          <a:stretch/>
        </p:blipFill>
        <p:spPr>
          <a:xfrm>
            <a:off x="2500200" y="214200"/>
            <a:ext cx="4091040" cy="6340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214200" y="5713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ама купила яблок на 6 больше, чем апельсинов. Апельсинов  - 40. Сколько яблок купила мам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 Саши было несколько орехов. После того, как 8 орехов он отдал сестре,  у него осталось столько же. Сколько орехов было у Саш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Через семь лет тете Оле будет 30 лет. Сколько лет ей сейчас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285480" y="28584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Таня прочитала в первый день 40 страниц, а во второй – 46. Сколько всего страниц в книг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 продавца было 20 шаров. После того, как он продал несколько шаров, у него осталось 7 шаров. Сколько шаров он продал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а сколько рублей у Коли больше, чем у Димы, если  у Коли 15 рублей, а у Димы – 9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46, 16, 23, 86, 13, 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и,   р,  н,   я,    а,  н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Содержимое 3" descr="81808-f95db-34969921-m750x740.jpg"/>
          <p:cNvPicPr/>
          <p:nvPr/>
        </p:nvPicPr>
        <p:blipFill>
          <a:blip r:embed="rId1"/>
          <a:stretch/>
        </p:blipFill>
        <p:spPr>
          <a:xfrm>
            <a:off x="2071800" y="0"/>
            <a:ext cx="4489200" cy="6819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57120" y="285840"/>
            <a:ext cx="85010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5400" spc="-1" strike="noStrike">
                <a:solidFill>
                  <a:srgbClr val="000000"/>
                </a:solidFill>
                <a:latin typeface="AnastasiaScript"/>
              </a:rPr>
              <a:t>Вы в Нарнии. Нашу   страну заколдовала Белая Колдунья, и теперь у нас всегда зима, но никогда не наступает Новый год и не приходит весна. Помогите жителям Нарнии!»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4e3b30"/>
                </a:solidFill>
                <a:uFillTx/>
                <a:latin typeface="Cambria"/>
              </a:rPr>
              <a:t>ЗАДАЧА</a:t>
            </a:r>
            <a:endParaRPr b="0" lang="en-US" sz="6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601"/>
              </a:spcBef>
              <a:buClr>
                <a:srgbClr val="f0a22e"/>
              </a:buClr>
              <a:buSzPct val="76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Услов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601"/>
              </a:spcBef>
              <a:buClr>
                <a:srgbClr val="f0a22e"/>
              </a:buClr>
              <a:buSzPct val="76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601"/>
              </a:spcBef>
              <a:buClr>
                <a:srgbClr val="f0a22e"/>
              </a:buClr>
              <a:buSzPct val="76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601"/>
              </a:spcBef>
              <a:buClr>
                <a:srgbClr val="f0a22e"/>
              </a:buClr>
              <a:buSzPct val="76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Содержимое 3" descr="ae247a31f18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85840" y="21384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колько жителей Нарнии заколдовала Белая колдунья, если сначала она заколдовала 14 жителей, а во второй раз – на 6 жителей больше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Picture 2" descr="F:\Нарния\66783363.jpg"/>
          <p:cNvPicPr/>
          <p:nvPr/>
        </p:nvPicPr>
        <p:blipFill>
          <a:blip r:embed="rId1"/>
          <a:stretch/>
        </p:blipFill>
        <p:spPr>
          <a:xfrm>
            <a:off x="7858080" y="5040360"/>
            <a:ext cx="1285920" cy="1817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4:34:11Z</dcterms:created>
  <dc:creator>Надежда</dc:creator>
  <dc:description/>
  <dc:language>en-US</dc:language>
  <cp:lastModifiedBy>МихалыЧ</cp:lastModifiedBy>
  <dcterms:modified xsi:type="dcterms:W3CDTF">2011-11-29T14:18:51Z</dcterms:modified>
  <cp:revision>8</cp:revision>
  <dc:subject/>
  <dc:title>Слайд 1</dc:title>
</cp:coreProperties>
</file>