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62608-3219-47EF-8E03-8802F2DD3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8656E-88EC-49C5-BC50-97325C732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E7FD8-DC9D-4E57-B694-C6CC6FA37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E4EAB-5049-403A-A12E-588C6CE32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341B7-FC84-4267-AE9E-26D2F1AFE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48656-CF2C-496B-963A-69D260409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55BBA-B1C7-41D8-95CA-BA9167785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93A23-5CCA-4FAC-BB47-F702A6B37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DAD49-D79F-4E53-B34C-584A3F561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90478-A31D-4136-9620-22FCEA618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9611A-4648-4635-9A04-40542931B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CA4D5-0238-490A-AE93-AA842A62A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6863E-10ED-43A4-8E76-D2DFACB7C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A707D-DE5B-44BC-9CBF-063726F6A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41CDE-E7D6-4FF7-9213-065E8FE84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81F11-2219-4266-AFE8-6F14CB981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B6604-4B20-423D-920E-694B2B34B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ADE5A-9E91-4FF3-AF3B-36F846713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06050-2240-4887-A133-8E48EECAF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97587-BC05-449A-B99E-FDCF3E31C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859EC-2BE5-4BE6-AC1D-03E4A3C3B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AA00F-FCC7-4A09-9318-61694E394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18709-4C55-4F52-8222-C2F3ED95A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BDAA3-EF8C-46B3-8A6D-DA25346B3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42522-1D31-47DB-841B-41450A8F4F0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DCC14-5225-4BD9-9B44-5AAD83438F6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42520" y="333360"/>
            <a:ext cx="72392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6666"/>
                </a:solidFill>
                <a:latin typeface="Arial"/>
              </a:rPr>
              <a:t>Презентация 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582880" y="5661000"/>
            <a:ext cx="35607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Выполнил работу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ученик 1-б класса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МСОш № 2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Кузьмин Даниил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2700360" y="2852640"/>
            <a:ext cx="5256360" cy="16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всё о павлинах</a:t>
            </a:r>
            <a:endParaRPr b="0" lang="en-US" sz="40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slow"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835280" y="871200"/>
            <a:ext cx="777240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6666"/>
                </a:solidFill>
                <a:latin typeface="Footlight MT Light"/>
              </a:rPr>
              <a:t>Павлины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186920" y="2491920"/>
            <a:ext cx="723924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0066"/>
                </a:solidFill>
                <a:uFillTx/>
                <a:latin typeface="Viner Hand ITC"/>
              </a:rPr>
              <a:t>П</a:t>
            </a:r>
            <a:r>
              <a:rPr b="1" i="1" lang="en-US" sz="1800" spc="-1" strike="noStrike" u="sng">
                <a:solidFill>
                  <a:srgbClr val="ff0066"/>
                </a:solidFill>
                <a:uFillTx/>
                <a:latin typeface="Viner Hand ITC"/>
              </a:rPr>
              <a:t>авлин</a:t>
            </a:r>
            <a:r>
              <a:rPr b="1" i="1" lang="en-US" sz="1800" spc="-1" strike="noStrike">
                <a:solidFill>
                  <a:srgbClr val="ff0066"/>
                </a:solidFill>
                <a:latin typeface="Viner Hand ITC"/>
              </a:rPr>
              <a:t> </a:t>
            </a:r>
            <a:r>
              <a:rPr b="0" i="1" lang="en-US" sz="1800" spc="-1" strike="noStrike">
                <a:solidFill>
                  <a:srgbClr val="33cccc"/>
                </a:solidFill>
                <a:latin typeface="Viner Hand ITC"/>
              </a:rPr>
              <a:t>принадлежит к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cccc"/>
                </a:solidFill>
                <a:latin typeface="Viner Hand ITC"/>
              </a:rPr>
              <a:t>подсемейству фазановых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cccc"/>
                </a:solidFill>
                <a:latin typeface="Viner Hand ITC"/>
              </a:rPr>
              <a:t>От представителей этого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cccc"/>
                </a:solidFill>
                <a:latin typeface="Viner Hand ITC"/>
              </a:rPr>
              <a:t>семейства павлина отличает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cccc"/>
                </a:solidFill>
                <a:latin typeface="Viner Hand ITC"/>
              </a:rPr>
              <a:t>форма хвоста – она не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cccc"/>
                </a:solidFill>
                <a:latin typeface="Viner Hand ITC"/>
              </a:rPr>
              <a:t>крышеобразная, а плоская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5" name="" descr="Самец обыкновенного павлина с раскрытым «хвостом»"/>
          <p:cNvPicPr/>
          <p:nvPr/>
        </p:nvPicPr>
        <p:blipFill>
          <a:blip r:embed="rId1"/>
          <a:stretch/>
        </p:blipFill>
        <p:spPr>
          <a:xfrm>
            <a:off x="4500720" y="3645000"/>
            <a:ext cx="4201920" cy="2825640"/>
          </a:xfrm>
          <a:prstGeom prst="rect">
            <a:avLst/>
          </a:prstGeom>
          <a:ln w="0">
            <a:noFill/>
          </a:ln>
        </p:spPr>
      </p:pic>
    </p:spTree>
  </p:cSld>
  <p:transition spd="slow">
    <p:wheel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Arial"/>
              </a:rPr>
              <a:t>Внешний вид</a:t>
            </a: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7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ff0066"/>
                </a:solidFill>
                <a:uFillTx/>
                <a:latin typeface="Verdana"/>
              </a:rPr>
              <a:t>Павлин</a:t>
            </a:r>
            <a:r>
              <a:rPr b="1" i="1" lang="en-US" sz="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en-US" sz="8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1" i="1" lang="en-US" sz="1400" spc="-1" strike="noStrike">
                <a:solidFill>
                  <a:srgbClr val="000000"/>
                </a:solidFill>
                <a:latin typeface="Verdana"/>
              </a:rPr>
              <a:t>птица крепкого телосложения, средний вес составляет 4-5 килограммов. Небольшая голова располагается на длинной шее. Хохолок небольшого размера увенчивает голову птицы. Крылья коротки, ноги высокие. Замечательный красивый хвост – отличительная черта самцов. Длина хвоста – около полуметра, шлейфа – до 150 см. (при длине тела птицы 120-250 см.). Красоту хвосту павлина придают верхние кроющие перья, которые несут на себе уникальный рисунок в виде «глаз». У самки павлина хвостовые перья короче и не имеют рисунка – в целом, она выглядит скромнее и мельче по размеру. В окраске оперенья преобладают синие, зеленые и рыжие тона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5148360" y="1773360"/>
            <a:ext cx="3384360" cy="338436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643280" y="1844640"/>
            <a:ext cx="4321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Verdana"/>
              </a:rPr>
              <a:t>Ареал распространения обыкновенного павлина – территория Индии, Шри-Ланки, Пакистана, Непала и Бутана. Яванский или зеленый павлин встречается на Яве, Мьянме, Таиланде, Лаосе, Камбодже, Вьетнаме и южном Китае. Населяют павлины леса и местности, поросшие кустарником. Часто селятся вблизи окультуренных человеком ландшафтом, питаясь семенами сельскохозяйственных растений. Места обитания павлина часто располагаются на значительной высоте – до 2 тысяч метров над уровнем моря. Приоритетными моментами для выбора территории проживания для павлинов являются наличие неподалеку водных ресурсов и поросших травой открытых склонов с отдельно стоящими высокими деревьями (которые птицы используют для ночлега).</a:t>
            </a:r>
            <a:br>
              <a:rPr sz="1200"/>
            </a:br>
            <a:br>
              <a:rPr sz="1200"/>
            </a:br>
            <a:r>
              <a:rPr b="1" i="1" lang="en-US" sz="1200" spc="-1" strike="noStrike">
                <a:solidFill>
                  <a:srgbClr val="000000"/>
                </a:solidFill>
                <a:latin typeface="Verdana"/>
              </a:rPr>
              <a:t>Большую часть жизни павлин проводит на земле. Он с большой ловкостью и достаточно быстро пробирается по лесным зарослям – при этом длинный хвост не стесняет его движений. По характеру павлины пугливы. Приближение хищников заставляет их скрываться бегством или прятаться в зарослях кустарников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0" name="" descr="Павлин"/>
          <p:cNvPicPr/>
          <p:nvPr/>
        </p:nvPicPr>
        <p:blipFill>
          <a:blip r:embed="rId1"/>
          <a:stretch/>
        </p:blipFill>
        <p:spPr>
          <a:xfrm>
            <a:off x="900000" y="1989000"/>
            <a:ext cx="3568680" cy="297504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 txBox="1"/>
          <p:nvPr/>
        </p:nvSpPr>
        <p:spPr>
          <a:xfrm>
            <a:off x="1835280" y="260280"/>
            <a:ext cx="597672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parajita"/>
              </a:rPr>
              <a:t>Распространение   и      ареал  обитания</a:t>
            </a:r>
            <a:endParaRPr b="1" i="1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parajita"/>
              <a:ea typeface="Aparajita"/>
            </a:endParaRPr>
          </a:p>
        </p:txBody>
      </p:sp>
    </p:spTree>
  </p:cSld>
  <p:transition spd="slow" advTm="10000"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0000ff"/>
                </a:solidFill>
                <a:latin typeface="Verdana"/>
              </a:rPr>
              <a:t>Павлины в основном травоядные птицы, питаются фруктами, зернами, растительными побегами. Нередко селятся по соседству с человеком и добывают себе пропитание на фермерских полях. Однако, жители деревень положительно относятся к такому присутствию павлинов. Так как птицы истребляют на полях вредоносных небольших змей и грызунов. В целом, павлины добывают себе пищу на земле, и лишь на ночевку перелетают в кроны деревьев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2627280" y="404640"/>
            <a:ext cx="57610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Питание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p:transition spd="slow">
    <p:wheel spokes="3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6666"/>
                </a:solidFill>
                <a:latin typeface="Verdana"/>
              </a:rPr>
              <a:t>История одомашнивания павлина имеет глубокие корни. Более четырех тысяч лет назад павлин привлек внимание человека и заслужил титул одной из самых красивых птиц мира. Упоминания о нем можно встретить в литературных произведениях и культовых книгах. Первые сведения о приручении павлина получены из Индии. </a:t>
            </a:r>
            <a:br>
              <a:rPr sz="1400"/>
            </a:br>
            <a:br>
              <a:rPr sz="1400"/>
            </a:br>
            <a:r>
              <a:rPr b="1" i="1" lang="ru-RU" sz="1400" spc="-1" strike="noStrike">
                <a:solidFill>
                  <a:srgbClr val="006666"/>
                </a:solidFill>
                <a:latin typeface="Verdana"/>
              </a:rPr>
              <a:t>В настоящее время, павлин является символом, национальной птицей этой страны. Примечательно, что выбор этот был сделан не случайно – ему предшествовали дебаты в национальном совете по вопросам дикой природы. Павлин победил в соревновании за право считаться национальной птицей, опередив своего конкурента – большую индийскую дрофу, также являющуюся аборигеном Индии. Немаловажную роль в этой борьбе сыграл тот факт, что павлин является глубоко священной птицей для индусов. Например, Будда часто изображается верхом на павлине, а до рождения своего Будда был золотым павлином. </a:t>
            </a:r>
            <a:br>
              <a:rPr sz="1400"/>
            </a:br>
            <a:br>
              <a:rPr sz="1400"/>
            </a:br>
            <a:r>
              <a:rPr b="1" i="1" lang="ru-RU" sz="1400" spc="-1" strike="noStrike">
                <a:solidFill>
                  <a:srgbClr val="006666"/>
                </a:solidFill>
                <a:latin typeface="Verdana"/>
              </a:rPr>
              <a:t>Павлин ассоциируется также с Кришной – головной убор Кришны «мор-Мукут» украшают перья павлина. Рисунками павлинов украшают храмы и ритуальные предметы, посвященные Кришне. В Буддийской религии павлин связывается с добродетелью сострадания. Согласно мифологии. Именно эта птица переносит души людей в рай. 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476360" y="404640"/>
            <a:ext cx="7086600" cy="552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Script MT Bold"/>
              </a:rPr>
              <a:t>Павлины в истории</a:t>
            </a:r>
            <a:endParaRPr b="1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Script MT Bold"/>
              <a:ea typeface="Script MT Bold"/>
            </a:endParaRPr>
          </a:p>
        </p:txBody>
      </p:sp>
    </p:spTree>
  </p:cSld>
  <p:transition spd="slow">
    <p:strips dir="l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0T11:14:53Z</dcterms:created>
  <dc:creator>Татьяна</dc:creator>
  <dc:description/>
  <dc:language>en-US</dc:language>
  <cp:lastModifiedBy>Татьяна</cp:lastModifiedBy>
  <dcterms:modified xsi:type="dcterms:W3CDTF">2011-11-11T05:01:33Z</dcterms:modified>
  <cp:revision>3</cp:revision>
  <dc:subject/>
  <dc:title>Павлины</dc:title>
</cp:coreProperties>
</file>