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0D8-AD34-458D-A9CA-4F1F0142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7C7-9217-4442-BFE0-AEC52525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BAA-99A0-429C-A35E-DF901706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12A-9844-40A9-B493-7B377E91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66A0-7004-42AF-A25D-94A975BB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7764-64D9-46A7-8A73-DF821066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DB8D-D5FE-4117-8774-5E127E45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518-4147-4118-8C19-90D0A136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107E-AB11-4B14-B604-5CDB9C04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A577-A8E7-45C8-AD48-AB335DF3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38D6-96F9-4063-BDFC-287D769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BFB-ABC0-4F1C-8818-73CA091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383D-9D7C-477B-804D-07044B8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A37F-29F2-45CA-819D-2B57CB38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018D-CF50-4C9F-838A-3982C6BA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2946-63F0-488E-80BC-0D4390CB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3381-A0BE-4F5C-8AF1-9AC373C5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27A-C11B-4168-B9E6-C05FE6D6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BCD-B6C0-42FC-A206-90630AD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AF8-6355-4CE5-93BA-D93FF91A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272-7207-4C17-A67C-72E67281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C66-86C9-4C6E-B2BD-2C123C7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4F8-74F8-4098-95F0-FFB930B6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EBA-3EAA-495A-9748-4C5C4989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FAE0-6B91-4790-8C2B-87C07BC659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F86A-D6DC-44ED-96ED-2DA7539CFB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333360"/>
            <a:ext cx="7239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Arial"/>
              </a:rPr>
              <a:t>Презентация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2880" y="5661000"/>
            <a:ext cx="35607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полнил работ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ник 1-б класс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СОш №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ьмин Дании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00360" y="2852640"/>
            <a:ext cx="52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ё о павлинах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87120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Footlight MT Light"/>
              </a:rPr>
              <a:t>Павли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6920" y="24919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66"/>
                </a:solidFill>
                <a:uFillTx/>
                <a:latin typeface="Viner Hand ITC"/>
              </a:rPr>
              <a:t>П</a:t>
            </a:r>
            <a:r>
              <a:rPr b="1" i="1" lang="en-US" sz="1800" spc="-1" strike="noStrike" u="sng">
                <a:solidFill>
                  <a:srgbClr val="ff0066"/>
                </a:solidFill>
                <a:uFillTx/>
                <a:latin typeface="Viner Hand ITC"/>
              </a:rPr>
              <a:t>авлин</a:t>
            </a:r>
            <a:r>
              <a:rPr b="1" i="1" lang="en-US" sz="1800" spc="-1" strike="noStrike">
                <a:solidFill>
                  <a:srgbClr val="ff0066"/>
                </a:solidFill>
                <a:latin typeface="Viner Hand ITC"/>
              </a:rPr>
              <a:t> </a:t>
            </a: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принадлежит 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подсемейству фазанов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От представителей эт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семейства павлина отлича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форма хвоста – она 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cc"/>
                </a:solidFill>
                <a:latin typeface="Viner Hand ITC"/>
              </a:rPr>
              <a:t>крышеобразная, а плоск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Самец обыкновенного павлина с раскрытым «хвостом»"/>
          <p:cNvPicPr/>
          <p:nvPr/>
        </p:nvPicPr>
        <p:blipFill>
          <a:blip r:embed="rId1"/>
          <a:stretch/>
        </p:blipFill>
        <p:spPr>
          <a:xfrm>
            <a:off x="4500720" y="3645000"/>
            <a:ext cx="420192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Внешний вид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66"/>
                </a:solidFill>
                <a:uFillTx/>
                <a:latin typeface="Verdana"/>
              </a:rPr>
              <a:t>Павлин</a:t>
            </a: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птица крепкого телосложения, средний вес составляет 4-5 килограммов. Небольшая голова располагается на длинной шее. Хохолок небольшого размера увенчивает голову птицы. Крылья коротки, ноги высокие. Замечательный красивый хвост – отличительная черта самцов. Длина хвоста – около полуметра, шлейфа – до 150 см. (при длине тела птицы 120-250 см.). Красоту хвосту павлина придают верхние кроющие перья, которые несут на себе уникальный рисунок в виде «глаз». У самки павлина хвостовые перья короче и не имеют рисунка – в целом, она выглядит скромнее и мельче по размеру. В окраске оперенья преобладают синие, зеленые и рыжие то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38436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3280" y="184464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Ареал распространения обыкновенного павлина – территория Индии, Шри-Ланки, Пакистана, Непала и Бутана. Яванский или зеленый павлин встречается на Яве, Мьянме, Таиланде, Лаосе, Камбодже, Вьетнаме и южном Китае. Населяют павлины леса и местности, поросшие кустарником. Часто селятся вблизи окультуренных человеком ландшафтом, питаясь семенами сельскохозяйственных растений. Места обитания павлина часто располагаются на значительной высоте – до 2 тысяч метров над уровнем моря. Приоритетными моментами для выбора территории проживания для павлинов являются наличие неподалеку водных ресурсов и поросших травой открытых склонов с отдельно стоящими высокими деревьями (которые птицы используют для ночлега).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Большую часть жизни павлин проводит на земле. Он с большой ловкостью и достаточно быстро пробирается по лесным зарослям – при этом длинный хвост не стесняет его движений. По характеру павлины пугливы. Приближение хищников заставляет их скрываться бегством или прятаться в зарослях кустарни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Павлин"/>
          <p:cNvPicPr/>
          <p:nvPr/>
        </p:nvPicPr>
        <p:blipFill>
          <a:blip r:embed="rId1"/>
          <a:stretch/>
        </p:blipFill>
        <p:spPr>
          <a:xfrm>
            <a:off x="900000" y="1989000"/>
            <a:ext cx="3568680" cy="297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835280" y="26028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parajita"/>
              </a:rPr>
              <a:t>Распространение   и      ареал  обитания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parajita"/>
              <a:ea typeface="Aparajita"/>
            </a:endParaRPr>
          </a:p>
        </p:txBody>
      </p:sp>
    </p:spTree>
  </p:cSld>
  <p:transition spd="slow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Павлины в основном травоядные птицы, питаются фруктами, зернами, растительными побегами. Нередко селятся по соседству с человеком и добывают себе пропитание на фермерских полях. Однако, жители деревень положительно относятся к такому присутствию павлинов. Так как птицы истребляют на полях вредоносных небольших змей и грызунов. В целом, павлины добывают себе пищу на земле, и лишь на ночевку перелетают в кроны деревье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27280" y="40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т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История одомашнивания павлина имеет глубокие корни. Более четырех тысяч лет назад павлин привлек внимание человека и заслужил титул одной из самых красивых птиц мира. Упоминания о нем можно встретить в литературных произведениях и культовых книгах. Первые сведения о приручении павлина получены из Индии. 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В настоящее время, павлин является символом, национальной птицей этой страны. Примечательно, что выбор этот был сделан не случайно – ему предшествовали дебаты в национальном совете по вопросам дикой природы. Павлин победил в соревновании за право считаться национальной птицей, опередив своего конкурента – большую индийскую дрофу, также являющуюся аборигеном Индии. Немаловажную роль в этой борьбе сыграл тот факт, что павлин является глубоко священной птицей для индусов. Например, Будда часто изображается верхом на павлине, а до рождения своего Будда был золотым павлином. 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6666"/>
                </a:solidFill>
                <a:latin typeface="Verdana"/>
              </a:rPr>
              <a:t>Павлин ассоциируется также с Кришной – головной убор Кришны «мор-Мукут» украшают перья павлина. Рисунками павлинов украшают храмы и ритуальные предметы, посвященные Кришне. В Буддийской религии павлин связывается с добродетелью сострадания. Согласно мифологии. Именно эта птица переносит души людей в рай.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360" y="404640"/>
            <a:ext cx="7086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cript MT Bold"/>
              </a:rPr>
              <a:t>Павлины в истории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cript MT Bold"/>
              <a:ea typeface="Script MT Bold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1:14:53Z</dcterms:created>
  <dc:creator>Татьяна</dc:creator>
  <dc:description/>
  <dc:language>en-US</dc:language>
  <cp:lastModifiedBy>Татьяна</cp:lastModifiedBy>
  <dcterms:modified xsi:type="dcterms:W3CDTF">2011-11-11T05:01:33Z</dcterms:modified>
  <cp:revision>3</cp:revision>
  <dc:subject/>
  <dc:title>Павлины</dc:title>
</cp:coreProperties>
</file>