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21C2-E529-4E83-A978-4C9F2ED88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2208-6F99-428A-8C8B-E31F1CD18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F157-B8A1-4434-9D20-EDA4343B7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678B-24C8-46E1-800C-819DEF365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9B1-D952-4E45-894C-0A6D1BAD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260-DD35-4FF8-B631-5F73D6A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0F0-42AA-4EFA-B400-11DA58F4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C8F-F989-481B-A217-89E31561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07B-F4E1-4024-BC92-78C439E3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CDA-0A8C-4350-B83E-EA165C94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91B-2228-490B-87EB-121D2DFE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D69-FA30-4733-97E2-C76C06F0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844-E5A3-4250-987D-ED6F0376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3A2-C15A-4762-972A-C37C571B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546-35F2-4A8D-BA24-480AF844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292-FC82-47AE-816F-D7B5E2B6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C6BF-222D-4736-8988-B108E08B35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4.xml"/><Relationship Id="rId3" Type="http://schemas.openxmlformats.org/officeDocument/2006/relationships/slide" Target="slide16.xml"/><Relationship Id="rId4" Type="http://schemas.openxmlformats.org/officeDocument/2006/relationships/slide" Target="slide27.xml"/><Relationship Id="rId5" Type="http://schemas.openxmlformats.org/officeDocument/2006/relationships/slide" Target="slide12.xml"/><Relationship Id="rId6" Type="http://schemas.openxmlformats.org/officeDocument/2006/relationships/slide" Target="slide20.xml"/><Relationship Id="rId7" Type="http://schemas.openxmlformats.org/officeDocument/2006/relationships/slide" Target="slide28.xml"/><Relationship Id="rId8" Type="http://schemas.openxmlformats.org/officeDocument/2006/relationships/slide" Target="slide10.xml"/><Relationship Id="rId9" Type="http://schemas.openxmlformats.org/officeDocument/2006/relationships/slide" Target="slide31.xml"/><Relationship Id="rId10" Type="http://schemas.openxmlformats.org/officeDocument/2006/relationships/slide" Target="slide13.xml"/><Relationship Id="rId11" Type="http://schemas.openxmlformats.org/officeDocument/2006/relationships/slide" Target="slide26.xml"/><Relationship Id="rId12" Type="http://schemas.openxmlformats.org/officeDocument/2006/relationships/slide" Target="slide8.xml"/><Relationship Id="rId13" Type="http://schemas.openxmlformats.org/officeDocument/2006/relationships/slide" Target="slide30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214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42800" y="2714760"/>
            <a:ext cx="600084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cc00"/>
                </a:solidFill>
                <a:latin typeface="Calibri"/>
              </a:rPr>
              <a:t>                                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00cc00"/>
                </a:solidFill>
                <a:latin typeface="Calibri"/>
              </a:rPr>
              <a:t>                                                      </a:t>
            </a:r>
            <a:r>
              <a:rPr b="1" i="1" lang="ru-RU" sz="2900" spc="-1" strike="noStrike">
                <a:solidFill>
                  <a:srgbClr val="00cc00"/>
                </a:solidFill>
                <a:latin typeface="Calibri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тературная викторина по произведению А.С. Пушкина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овести Белкина»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br>
              <a:rPr sz="2900"/>
            </a:br>
            <a:r>
              <a:rPr b="1" i="1" lang="ru-RU" sz="2900" spc="-1" strike="noStrike">
                <a:solidFill>
                  <a:srgbClr val="00cc00"/>
                </a:solidFill>
                <a:latin typeface="Calibri"/>
              </a:rPr>
              <a:t>        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680" y="5785920"/>
            <a:ext cx="81057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98989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08124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3430440"/>
            <a:ext cx="257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.С. Пушкин. Портрет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.А. Кипренского, 18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643200" y="404640"/>
            <a:ext cx="521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рок  внеклассного  чтения по литературе  в  6  класс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5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6429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знайте героя: « Ей было 17 лет. Чёрные глаза оживляли её смуглое и очень приятное лицо. Она была единственное и, следовательно, балованное дитя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71760" y="4143240"/>
            <a:ext cx="30718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Лиза или Бетс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ятно 2 3"/>
          <p:cNvSpPr/>
          <p:nvPr/>
        </p:nvSpPr>
        <p:spPr>
          <a:xfrm>
            <a:off x="2643120" y="4000680"/>
            <a:ext cx="4214880" cy="285732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возврат 4"/>
          <p:cNvSpPr/>
          <p:nvPr/>
        </p:nvSpPr>
        <p:spPr>
          <a:xfrm>
            <a:off x="7740720" y="5661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Кто автор эпиграфа к повести  «Метель»?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85920" y="2571840"/>
            <a:ext cx="33577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В. А. Жуковск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ятно 1 3"/>
          <p:cNvSpPr/>
          <p:nvPr/>
        </p:nvSpPr>
        <p:spPr>
          <a:xfrm>
            <a:off x="2500200" y="3286080"/>
            <a:ext cx="3667320" cy="3378240"/>
          </a:xfrm>
          <a:prstGeom prst="irregularSeal1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правляющая кнопка: возврат 4"/>
          <p:cNvSpPr/>
          <p:nvPr/>
        </p:nvSpPr>
        <p:spPr>
          <a:xfrm>
            <a:off x="7740720" y="573264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приснилось Адриану Прохоров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14680" y="3285720"/>
            <a:ext cx="27147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Calibri"/>
              </a:rPr>
              <a:t>Пётр Курилк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ятно 1 3"/>
          <p:cNvSpPr/>
          <p:nvPr/>
        </p:nvSpPr>
        <p:spPr>
          <a:xfrm>
            <a:off x="2286000" y="3214800"/>
            <a:ext cx="4000680" cy="3857400"/>
          </a:xfrm>
          <a:prstGeom prst="irregularSeal1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возврат 4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357120" y="-571680"/>
            <a:ext cx="10058400" cy="7772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5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спомните описание картинок, украшавших смиренную, но опрятную обитель станционного смотрител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57960" y="3571920"/>
            <a:ext cx="257184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Calibri"/>
              </a:rPr>
              <a:t>Исто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Calibri"/>
              </a:rPr>
              <a:t>блудного сы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ятно 2 3"/>
          <p:cNvSpPr/>
          <p:nvPr/>
        </p:nvSpPr>
        <p:spPr>
          <a:xfrm>
            <a:off x="2500200" y="4000680"/>
            <a:ext cx="3786480" cy="285732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возврат 4"/>
          <p:cNvSpPr/>
          <p:nvPr/>
        </p:nvSpPr>
        <p:spPr>
          <a:xfrm>
            <a:off x="7740720" y="573264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500040" y="-571680"/>
            <a:ext cx="10058400" cy="7772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704520"/>
            <a:ext cx="864216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такое композиц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286240" y="1714320"/>
            <a:ext cx="385776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- построение художественного произведения, расположение и взаимосвязь всех его частей, эпиз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ятно 2 3"/>
          <p:cNvSpPr/>
          <p:nvPr/>
        </p:nvSpPr>
        <p:spPr>
          <a:xfrm>
            <a:off x="2143080" y="3286080"/>
            <a:ext cx="3643200" cy="3571920"/>
          </a:xfrm>
          <a:prstGeom prst="irregularSeal2">
            <a:avLst/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возврат 4"/>
          <p:cNvSpPr/>
          <p:nvPr/>
        </p:nvSpPr>
        <p:spPr>
          <a:xfrm>
            <a:off x="7740720" y="573264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Проезжий в черкесской шапке, в военной шинели, окутанный шалью, вошёл в комнату, требуя лошадей.» Кто 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43800" y="2852280"/>
            <a:ext cx="235728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Ротмист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инск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ятно 1 4"/>
          <p:cNvSpPr/>
          <p:nvPr/>
        </p:nvSpPr>
        <p:spPr>
          <a:xfrm>
            <a:off x="2357280" y="3143160"/>
            <a:ext cx="3714840" cy="3429000"/>
          </a:xfrm>
          <a:prstGeom prst="irregularSeal1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колько дочерей было у Адриана Прохор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72080" y="2357280"/>
            <a:ext cx="31860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Две дочери: Акулина и Дарь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Управляющая кнопка: возврат 3"/>
          <p:cNvSpPr/>
          <p:nvPr/>
        </p:nvSpPr>
        <p:spPr>
          <a:xfrm>
            <a:off x="7740720" y="5661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ятно 1 4"/>
          <p:cNvSpPr/>
          <p:nvPr/>
        </p:nvSpPr>
        <p:spPr>
          <a:xfrm>
            <a:off x="2071800" y="3143160"/>
            <a:ext cx="3643200" cy="3500640"/>
          </a:xfrm>
          <a:prstGeom prst="irregularSeal1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35712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Почему Сильвио не вызвал на дуэль офицера, с которым играл в карты в начале повести «Выстрел»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29200" y="2571840"/>
            <a:ext cx="2757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Ждал своего выстрела с графом Б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ятно 1 4"/>
          <p:cNvSpPr/>
          <p:nvPr/>
        </p:nvSpPr>
        <p:spPr>
          <a:xfrm>
            <a:off x="2428920" y="3716280"/>
            <a:ext cx="3786120" cy="3141720"/>
          </a:xfrm>
          <a:prstGeom prst="irregularSeal1">
            <a:avLst/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mic Sans MS"/>
              </a:rPr>
              <a:t>Какую тайну открыл Бурмин Марье Гавриловне у пруда под ивами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857920" y="2000160"/>
            <a:ext cx="2828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Женат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но не знае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на ко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ятно 1 4"/>
          <p:cNvSpPr/>
          <p:nvPr/>
        </p:nvSpPr>
        <p:spPr>
          <a:xfrm>
            <a:off x="2071800" y="3071880"/>
            <a:ext cx="3643200" cy="3500280"/>
          </a:xfrm>
          <a:prstGeom prst="irregularSeal1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ем закончилась вторая дуэль Сильвио и графа Б.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14640" y="2636640"/>
            <a:ext cx="29718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бежала жена, граф бы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смят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ятно 1 4"/>
          <p:cNvSpPr/>
          <p:nvPr/>
        </p:nvSpPr>
        <p:spPr>
          <a:xfrm>
            <a:off x="2214720" y="2997360"/>
            <a:ext cx="3357360" cy="3431880"/>
          </a:xfrm>
          <a:prstGeom prst="irregularSeal1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843120" y="-428760"/>
            <a:ext cx="9987120" cy="7772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олдинская осень. 1830 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Точечный%20рисунок"/>
          <p:cNvPicPr/>
          <p:nvPr/>
        </p:nvPicPr>
        <p:blipFill>
          <a:blip r:embed="rId2"/>
          <a:stretch/>
        </p:blipFill>
        <p:spPr>
          <a:xfrm>
            <a:off x="4946760" y="1500120"/>
            <a:ext cx="4197240" cy="56167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0" y="1000080"/>
            <a:ext cx="50007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 Нигде мне так хорошо не пишется, как осенью в деревне,»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сал А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e1c11"/>
                </a:solidFill>
                <a:latin typeface="Arial"/>
              </a:rPr>
              <a:t>«Повести Белкина»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- первое законченное прозаическое произведение А.С.Пушк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 Выстр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Ме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Станционный смотр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Гробовщ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e1c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e1c11"/>
                </a:solidFill>
                <a:latin typeface="Arial"/>
              </a:rPr>
              <a:t>«Барышня-крестья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к называлось имение Берестовых и как – имение Муромски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14960" y="2071800"/>
            <a:ext cx="34718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Берестовы жили в Тугилове, а Муромские – в Прилуч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ятно 2 4"/>
          <p:cNvSpPr/>
          <p:nvPr/>
        </p:nvSpPr>
        <p:spPr>
          <a:xfrm>
            <a:off x="2214720" y="4071960"/>
            <a:ext cx="3429000" cy="2571840"/>
          </a:xfrm>
          <a:prstGeom prst="irregularSeal2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гда и где происходят события повести «Метель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929200" y="2142720"/>
            <a:ext cx="2757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поместье Ненарадово в 1811-181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ятно 2 4"/>
          <p:cNvSpPr/>
          <p:nvPr/>
        </p:nvSpPr>
        <p:spPr>
          <a:xfrm>
            <a:off x="2000160" y="3500280"/>
            <a:ext cx="4143600" cy="307188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1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0" y="-6429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704880"/>
            <a:ext cx="7715160" cy="22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Что произошло с Сильвио в конце повести «Выстрел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857560" y="2642760"/>
            <a:ext cx="307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Был убит в сражении под Скулян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1 4"/>
          <p:cNvSpPr/>
          <p:nvPr/>
        </p:nvSpPr>
        <p:spPr>
          <a:xfrm>
            <a:off x="2000160" y="3071880"/>
            <a:ext cx="4071960" cy="3357360"/>
          </a:xfrm>
          <a:prstGeom prst="irregularSeal1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35712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704520"/>
            <a:ext cx="7715160" cy="20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ем представлялась Лиза Муромская Алексею Берестов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857920" y="2428560"/>
            <a:ext cx="282888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Акулиною, дочерью Василия-кузне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ятно 1 4"/>
          <p:cNvSpPr/>
          <p:nvPr/>
        </p:nvSpPr>
        <p:spPr>
          <a:xfrm>
            <a:off x="2357280" y="3214800"/>
            <a:ext cx="4071960" cy="3500280"/>
          </a:xfrm>
          <a:prstGeom prst="irregularSeal1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знайте героя: «…был в самом деле очень милый молодой человек. Он имел именно тот ум, который нравился женщинам. Поведение его с Марьей Гавриловной было просто и свободно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7640" y="3285720"/>
            <a:ext cx="20430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Бурм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ятно 2 4"/>
          <p:cNvSpPr/>
          <p:nvPr/>
        </p:nvSpPr>
        <p:spPr>
          <a:xfrm>
            <a:off x="2000160" y="4071960"/>
            <a:ext cx="5072040" cy="2786040"/>
          </a:xfrm>
          <a:prstGeom prst="irregularSeal2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произошло в Жадринской церкв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28800" y="1600200"/>
            <a:ext cx="325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Марья Гавриловна обвенчалась с незнакомц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ятно 1 4"/>
          <p:cNvSpPr/>
          <p:nvPr/>
        </p:nvSpPr>
        <p:spPr>
          <a:xfrm>
            <a:off x="2000160" y="2571840"/>
            <a:ext cx="3786120" cy="3714840"/>
          </a:xfrm>
          <a:prstGeom prst="irregularSeal1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28760" y="-9144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каком виде предстала Лиза перед Берестовыми, когда они приехали к Муромским на обед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43920" y="1600200"/>
            <a:ext cx="54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ятно 1 4"/>
          <p:cNvSpPr/>
          <p:nvPr/>
        </p:nvSpPr>
        <p:spPr>
          <a:xfrm>
            <a:off x="2928960" y="3214800"/>
            <a:ext cx="4286160" cy="3143160"/>
          </a:xfrm>
          <a:prstGeom prst="irregularSeal1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357120" y="-4287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такое эпиграф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785760" y="1142640"/>
            <a:ext cx="4900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- краткое изречение (пословица, цитата),которое автор помещает перед произведением, чтобы понять его смыс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ятно 2 4"/>
          <p:cNvSpPr/>
          <p:nvPr/>
        </p:nvSpPr>
        <p:spPr>
          <a:xfrm>
            <a:off x="785880" y="1928880"/>
            <a:ext cx="4429080" cy="3714840"/>
          </a:xfrm>
          <a:prstGeom prst="irregularSeal2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0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частливо ли сложилась судьба Дуни, героини «Станционного смотрителя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43680" y="3428640"/>
            <a:ext cx="354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Ду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ня приезжала в карете в 6 лоша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ятно 1 4"/>
          <p:cNvSpPr/>
          <p:nvPr/>
        </p:nvSpPr>
        <p:spPr>
          <a:xfrm>
            <a:off x="1785960" y="3286080"/>
            <a:ext cx="4500720" cy="3357720"/>
          </a:xfrm>
          <a:prstGeom prst="irregularSeal1">
            <a:avLst/>
          </a:prstGeom>
          <a:solidFill>
            <a:srgbClr val="e5af2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0" y="-914400"/>
            <a:ext cx="9858240" cy="7772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каком историческом событии участвовал Владимир и бы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яжело ранен?(повесть «Метель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00840" y="3428640"/>
            <a:ext cx="292896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 Бородинс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сраж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ятно 1 4"/>
          <p:cNvSpPr/>
          <p:nvPr/>
        </p:nvSpPr>
        <p:spPr>
          <a:xfrm>
            <a:off x="2286000" y="3214800"/>
            <a:ext cx="3929040" cy="3214440"/>
          </a:xfrm>
          <a:prstGeom prst="irregularSeal1">
            <a:avLst/>
          </a:prstGeom>
          <a:solidFill>
            <a:srgbClr val="e5af2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0" y="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46c0a"/>
                </a:solidFill>
                <a:latin typeface="Comic Sans MS"/>
              </a:rPr>
              <a:t>Рассказчики истор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9" descr="biblecornerleftup"/>
          <p:cNvPicPr/>
          <p:nvPr/>
        </p:nvPicPr>
        <p:blipFill>
          <a:blip r:embed="rId2"/>
          <a:stretch/>
        </p:blipFill>
        <p:spPr>
          <a:xfrm>
            <a:off x="4229280" y="3502080"/>
            <a:ext cx="685800" cy="722160"/>
          </a:xfrm>
          <a:prstGeom prst="rect">
            <a:avLst/>
          </a:prstGeom>
          <a:ln w="0">
            <a:noFill/>
          </a:ln>
        </p:spPr>
      </p:pic>
      <p:sp>
        <p:nvSpPr>
          <p:cNvPr id="61" name="Облако 4"/>
          <p:cNvSpPr/>
          <p:nvPr/>
        </p:nvSpPr>
        <p:spPr>
          <a:xfrm>
            <a:off x="214200" y="1357200"/>
            <a:ext cx="2643480" cy="2571840"/>
          </a:xfrm>
          <a:prstGeom prst="pie">
            <a:avLst/>
          </a:prstGeom>
          <a:solidFill>
            <a:srgbClr val="ffc000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Девица  К.И.Т. рассказала историю «Барышни-крестьян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блако 6"/>
          <p:cNvSpPr/>
          <p:nvPr/>
        </p:nvSpPr>
        <p:spPr>
          <a:xfrm>
            <a:off x="5327640" y="981000"/>
            <a:ext cx="3816360" cy="2664000"/>
          </a:xfrm>
          <a:prstGeom prst="pie">
            <a:avLst/>
          </a:prstGeom>
          <a:solidFill>
            <a:srgbClr val="ffcc66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Девица  К.И.Т. рассказчица в «Метели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7"/>
          <p:cNvSpPr/>
          <p:nvPr/>
        </p:nvSpPr>
        <p:spPr>
          <a:xfrm>
            <a:off x="2286000" y="3789360"/>
            <a:ext cx="3643200" cy="2925720"/>
          </a:xfrm>
          <a:prstGeom prst="pie">
            <a:avLst/>
          </a:prstGeom>
          <a:solidFill>
            <a:srgbClr val="ff9933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Титулярный советник  А.Г.Н. рассказал «Станционного смотри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лако 8"/>
          <p:cNvSpPr/>
          <p:nvPr/>
        </p:nvSpPr>
        <p:spPr>
          <a:xfrm>
            <a:off x="5357880" y="3500280"/>
            <a:ext cx="4176720" cy="3357720"/>
          </a:xfrm>
          <a:prstGeom prst="pie">
            <a:avLst/>
          </a:prstGeom>
          <a:solidFill>
            <a:srgbClr val="ff9966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Приказчик Б.В. повествует о «Гробовщи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блако 9"/>
          <p:cNvSpPr/>
          <p:nvPr/>
        </p:nvSpPr>
        <p:spPr>
          <a:xfrm>
            <a:off x="2340000" y="1285920"/>
            <a:ext cx="3527280" cy="2935080"/>
          </a:xfrm>
          <a:prstGeom prst="pie">
            <a:avLst/>
          </a:prstGeom>
          <a:solidFill>
            <a:srgbClr val="fac090"/>
          </a:solidFill>
          <a:ln w="25560">
            <a:solidFill>
              <a:srgbClr val="c6d9f1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Подполковник И.Л.П. рассказывает повесть  «Выстр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аким способом организована была переписка между Алексеем и Лизой-Акулин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500880" y="2928600"/>
            <a:ext cx="2286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В дупле старого ду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ятно 1 4"/>
          <p:cNvSpPr/>
          <p:nvPr/>
        </p:nvSpPr>
        <p:spPr>
          <a:xfrm>
            <a:off x="3071880" y="3286080"/>
            <a:ext cx="4000320" cy="3357720"/>
          </a:xfrm>
          <a:prstGeom prst="irregularSeal1">
            <a:avLst/>
          </a:prstGeom>
          <a:solidFill>
            <a:srgbClr val="e5af2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50004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то  сообщил Самсону Вырину, что его дочь не вернется обрат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643800" y="3141360"/>
            <a:ext cx="228600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Ямщ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Управляющая кнопка: возврат 3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ятно 1 4"/>
          <p:cNvSpPr/>
          <p:nvPr/>
        </p:nvSpPr>
        <p:spPr>
          <a:xfrm>
            <a:off x="2500200" y="2500200"/>
            <a:ext cx="4143600" cy="3929040"/>
          </a:xfrm>
          <a:prstGeom prst="irregularSeal1">
            <a:avLst/>
          </a:prstGeom>
          <a:solidFill>
            <a:srgbClr val="e5af2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алексей\Desktop\анимация 3.gif"/>
          <p:cNvPicPr/>
          <p:nvPr/>
        </p:nvPicPr>
        <p:blipFill>
          <a:blip r:embed="rId2"/>
          <a:stretch/>
        </p:blipFill>
        <p:spPr>
          <a:xfrm>
            <a:off x="1547640" y="260280"/>
            <a:ext cx="5353200" cy="4381560"/>
          </a:xfrm>
          <a:prstGeom prst="rect">
            <a:avLst/>
          </a:prstGeom>
          <a:ln w="0">
            <a:noFill/>
          </a:ln>
        </p:spPr>
      </p:pic>
      <p:pic>
        <p:nvPicPr>
          <p:cNvPr id="201" name="Полилиния 4" descr=""/>
          <p:cNvPicPr/>
          <p:nvPr/>
        </p:nvPicPr>
        <p:blipFill>
          <a:blip r:embed="rId3"/>
          <a:stretch/>
        </p:blipFill>
        <p:spPr>
          <a:xfrm>
            <a:off x="2189160" y="4773600"/>
            <a:ext cx="66927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Найди героя пове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Вам были предложены перепутанные герои истор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Вы их соединили, и получилось 5 команд, носящих названия повестей. Та команда, которая справилась первая, получает право первой выбирать ход в иг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авила иг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71720" y="1357200"/>
            <a:ext cx="76262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ам будут предложены вопросы по содержанию «Повестей Белкина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о первого выбора имеет команда, которая первой собрала героев своей пов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 каждый правильный ответ на вопрос вы будете получать от 1 до 4 бал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случае, если у команды нет ответа на вопрос, отвечать и получать баллы будет другая коман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620640"/>
          <a:ext cx="8229600" cy="5688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500040" y="-4287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29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знайте геро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«Отроду не встречал счастливца столь блистательного! Вообразите себе молодость, ум, красоту, веселость самую бешеную, храбрость самую беспечную, громкое имя, деньги, которым он не знал счета и которые никогда у него не переводилис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04000" y="2636640"/>
            <a:ext cx="1882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omic Sans MS"/>
              </a:rPr>
              <a:t>Граф Б., соперник Сильвио.</a:t>
            </a: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ятно 2 3"/>
          <p:cNvSpPr/>
          <p:nvPr/>
        </p:nvSpPr>
        <p:spPr>
          <a:xfrm>
            <a:off x="2428920" y="4143240"/>
            <a:ext cx="4071960" cy="271476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правляющая кнопка: возврат 4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285840" y="-64296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зовите эпиграф к повести « Барышня- крестьянка 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39280" y="4471560"/>
            <a:ext cx="1593720" cy="1384560"/>
          </a:xfrm>
          <a:prstGeom prst="rect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бал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5857920" y="2714760"/>
            <a:ext cx="30002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3500" spc="-1" strike="noStrike">
                <a:solidFill>
                  <a:srgbClr val="632523"/>
                </a:solidFill>
                <a:latin typeface="Calibri"/>
              </a:rPr>
              <a:t>«Во всех ты, Душенька, нарядах хороша»            Богданович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возврат 6"/>
          <p:cNvSpPr/>
          <p:nvPr/>
        </p:nvSpPr>
        <p:spPr>
          <a:xfrm>
            <a:off x="7667640" y="5805360"/>
            <a:ext cx="1081080" cy="71928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59" h="21600">
                <a:moveTo>
                  <a:pt x="0" y="0"/>
                </a:moveTo>
                <a:lnTo>
                  <a:pt x="32459" y="0"/>
                </a:lnTo>
                <a:lnTo>
                  <a:pt x="32459" y="21600"/>
                </a:lnTo>
                <a:lnTo>
                  <a:pt x="0" y="21600"/>
                </a:lnTo>
                <a:close/>
              </a:path>
              <a:path fill="lightenLess" w="32459" h="21600">
                <a:moveTo>
                  <a:pt x="0" y="0"/>
                </a:moveTo>
                <a:lnTo>
                  <a:pt x="32459" y="0"/>
                </a:lnTo>
                <a:lnTo>
                  <a:pt x="31059" y="1400"/>
                </a:lnTo>
                <a:lnTo>
                  <a:pt x="1400" y="1400"/>
                </a:lnTo>
                <a:close/>
              </a:path>
              <a:path fill="darken" w="32459" h="21600">
                <a:moveTo>
                  <a:pt x="32459" y="0"/>
                </a:moveTo>
                <a:lnTo>
                  <a:pt x="32459" y="21600"/>
                </a:lnTo>
                <a:lnTo>
                  <a:pt x="31059" y="20200"/>
                </a:lnTo>
                <a:lnTo>
                  <a:pt x="31059" y="1400"/>
                </a:lnTo>
                <a:close/>
              </a:path>
              <a:path fill="darkenLess" w="32459" h="21600">
                <a:moveTo>
                  <a:pt x="32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59" y="20200"/>
                </a:lnTo>
                <a:close/>
              </a:path>
              <a:path fill="lighten" w="32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59" h="21600">
                <a:moveTo>
                  <a:pt x="9223" y="7493"/>
                </a:moveTo>
                <a:lnTo>
                  <a:pt x="12731" y="7493"/>
                </a:lnTo>
                <a:lnTo>
                  <a:pt x="12731" y="12828"/>
                </a:lnTo>
                <a:cubicBezTo>
                  <a:pt x="12731" y="13751"/>
                  <a:pt x="13532" y="14482"/>
                  <a:pt x="14567" y="14482"/>
                </a:cubicBezTo>
                <a:lnTo>
                  <a:pt x="16230" y="14482"/>
                </a:lnTo>
                <a:cubicBezTo>
                  <a:pt x="17265" y="14482"/>
                  <a:pt x="18066" y="13751"/>
                  <a:pt x="18066" y="12828"/>
                </a:cubicBezTo>
                <a:lnTo>
                  <a:pt x="18066" y="7493"/>
                </a:lnTo>
                <a:lnTo>
                  <a:pt x="16230" y="7493"/>
                </a:lnTo>
                <a:lnTo>
                  <a:pt x="19737" y="3985"/>
                </a:lnTo>
                <a:lnTo>
                  <a:pt x="23410" y="7493"/>
                </a:lnTo>
                <a:lnTo>
                  <a:pt x="21574" y="7493"/>
                </a:lnTo>
                <a:lnTo>
                  <a:pt x="21574" y="12828"/>
                </a:lnTo>
                <a:cubicBezTo>
                  <a:pt x="21574" y="15596"/>
                  <a:pt x="18997" y="18155"/>
                  <a:pt x="16230" y="18155"/>
                </a:cubicBezTo>
                <a:lnTo>
                  <a:pt x="14567" y="18155"/>
                </a:lnTo>
                <a:cubicBezTo>
                  <a:pt x="11800" y="18155"/>
                  <a:pt x="9223" y="15596"/>
                  <a:pt x="9223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E:\Надя\картинки\Изображение 567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772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чему не состоялась первая дуэль, по словам Сильви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29120" y="3286080"/>
            <a:ext cx="403560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Граф Б. равнодушно не дорожил своей жизнь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ятно 2 3"/>
          <p:cNvSpPr/>
          <p:nvPr/>
        </p:nvSpPr>
        <p:spPr>
          <a:xfrm>
            <a:off x="2214720" y="4500720"/>
            <a:ext cx="3571560" cy="2571480"/>
          </a:xfrm>
          <a:prstGeom prst="irregularSeal2">
            <a:avLst/>
          </a:pr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б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возврат 4"/>
          <p:cNvSpPr/>
          <p:nvPr/>
        </p:nvSpPr>
        <p:spPr>
          <a:xfrm>
            <a:off x="7740720" y="5877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7493"/>
                </a:moveTo>
                <a:lnTo>
                  <a:pt x="12671" y="7493"/>
                </a:lnTo>
                <a:lnTo>
                  <a:pt x="12671" y="12828"/>
                </a:lnTo>
                <a:cubicBezTo>
                  <a:pt x="12671" y="13751"/>
                  <a:pt x="13472" y="14482"/>
                  <a:pt x="14508" y="14482"/>
                </a:cubicBezTo>
                <a:lnTo>
                  <a:pt x="16170" y="14482"/>
                </a:lnTo>
                <a:cubicBezTo>
                  <a:pt x="17206" y="14482"/>
                  <a:pt x="18007" y="13751"/>
                  <a:pt x="18007" y="12828"/>
                </a:cubicBezTo>
                <a:lnTo>
                  <a:pt x="18007" y="7493"/>
                </a:lnTo>
                <a:lnTo>
                  <a:pt x="16170" y="7493"/>
                </a:lnTo>
                <a:lnTo>
                  <a:pt x="19678" y="3985"/>
                </a:lnTo>
                <a:lnTo>
                  <a:pt x="23351" y="7493"/>
                </a:lnTo>
                <a:lnTo>
                  <a:pt x="21514" y="7493"/>
                </a:lnTo>
                <a:lnTo>
                  <a:pt x="21514" y="12828"/>
                </a:lnTo>
                <a:cubicBezTo>
                  <a:pt x="21514" y="15596"/>
                  <a:pt x="18938" y="18155"/>
                  <a:pt x="16170" y="18155"/>
                </a:cubicBezTo>
                <a:lnTo>
                  <a:pt x="14508" y="18155"/>
                </a:lnTo>
                <a:cubicBezTo>
                  <a:pt x="11740" y="18155"/>
                  <a:pt x="9164" y="15596"/>
                  <a:pt x="916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18:18Z</dcterms:created>
  <dc:creator>алексей</dc:creator>
  <dc:description/>
  <dc:language>en-US</dc:language>
  <cp:lastModifiedBy>Игорь</cp:lastModifiedBy>
  <dcterms:modified xsi:type="dcterms:W3CDTF">2010-11-12T20:57:13Z</dcterms:modified>
  <cp:revision>78</cp:revision>
  <dc:subject/>
  <dc:title>Итоговый урок по теме: «Фольклор»</dc:title>
</cp:coreProperties>
</file>