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gif" ContentType="image/gif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99DB4-5B57-4A04-B6CD-73145DC14C8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4EF05-854E-45AE-A1B1-EF43D0CE13B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D700A-1627-40C7-8FCB-89271FA16DA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87561-854A-4B5C-88B8-2F3199A3243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1D59E-C2A1-443B-9185-AA285F234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05BC3-52BC-4F73-A254-C76F3AE98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99012-A0BE-4C9A-A7BB-A9A0460B1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698D2-ECC0-4DE5-B45D-D6C451417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0AC6E-4A17-48ED-9E81-2CE50CBC9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4E4A6-857F-478F-A96C-89E923B22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80DC6-F9AD-4060-957F-0A768FE6B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BF162-8DE8-4973-90B4-E865FA7E2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CE4F9-CAFE-4976-9236-7DB461E51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26751-4037-4CE2-9987-24F69AE81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C92EA-9890-494F-9EA0-42B29D84F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FAD7C-20D6-43F8-AD3B-4EBB4E29E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18362-B513-4F45-8F60-EE3CF08ADB27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24.xml"/><Relationship Id="rId3" Type="http://schemas.openxmlformats.org/officeDocument/2006/relationships/slide" Target="slide16.xml"/><Relationship Id="rId4" Type="http://schemas.openxmlformats.org/officeDocument/2006/relationships/slide" Target="slide27.xml"/><Relationship Id="rId5" Type="http://schemas.openxmlformats.org/officeDocument/2006/relationships/slide" Target="slide12.xml"/><Relationship Id="rId6" Type="http://schemas.openxmlformats.org/officeDocument/2006/relationships/slide" Target="slide20.xml"/><Relationship Id="rId7" Type="http://schemas.openxmlformats.org/officeDocument/2006/relationships/slide" Target="slide28.xml"/><Relationship Id="rId8" Type="http://schemas.openxmlformats.org/officeDocument/2006/relationships/slide" Target="slide10.xml"/><Relationship Id="rId9" Type="http://schemas.openxmlformats.org/officeDocument/2006/relationships/slide" Target="slide31.xml"/><Relationship Id="rId10" Type="http://schemas.openxmlformats.org/officeDocument/2006/relationships/slide" Target="slide13.xml"/><Relationship Id="rId11" Type="http://schemas.openxmlformats.org/officeDocument/2006/relationships/slide" Target="slide26.xml"/><Relationship Id="rId12" Type="http://schemas.openxmlformats.org/officeDocument/2006/relationships/slide" Target="slide8.xml"/><Relationship Id="rId13" Type="http://schemas.openxmlformats.org/officeDocument/2006/relationships/slide" Target="slide30.xml"/><Relationship Id="rId1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3" descr="E:\Надя\картинки\Изображение 567.jpg"/>
          <p:cNvPicPr/>
          <p:nvPr/>
        </p:nvPicPr>
        <p:blipFill>
          <a:blip r:embed="rId1"/>
          <a:stretch/>
        </p:blipFill>
        <p:spPr>
          <a:xfrm>
            <a:off x="-285840" y="-214200"/>
            <a:ext cx="10058400" cy="77724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142800" y="2714760"/>
            <a:ext cx="6000840" cy="33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00cc00"/>
                </a:solidFill>
                <a:latin typeface="Calibri"/>
              </a:rPr>
              <a:t>                                    </a:t>
            </a: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r>
              <a:rPr b="0" i="1" lang="ru-RU" sz="2900" spc="-1" strike="noStrike">
                <a:solidFill>
                  <a:srgbClr val="00cc00"/>
                </a:solidFill>
                <a:latin typeface="Calibri"/>
              </a:rPr>
              <a:t>                                                      </a:t>
            </a:r>
            <a:r>
              <a:rPr b="1" i="1" lang="ru-RU" sz="2900" spc="-1" strike="noStrike">
                <a:solidFill>
                  <a:srgbClr val="00cc00"/>
                </a:solidFill>
                <a:latin typeface="Calibri"/>
              </a:rPr>
              <a:t>     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Литературная викторина по произведению А.С. Пушкина           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«Повести Белкина»</a:t>
            </a:r>
            <a:br>
              <a:rPr sz="2900"/>
            </a:br>
            <a:r>
              <a:rPr b="1" i="1" lang="ru-RU" sz="2900" spc="-1" strike="noStrike">
                <a:solidFill>
                  <a:srgbClr val="000000"/>
                </a:solidFill>
                <a:latin typeface="Calibri"/>
              </a:rPr>
              <a:t>                                                   </a:t>
            </a:r>
            <a:br>
              <a:rPr sz="2900"/>
            </a:br>
            <a:r>
              <a:rPr b="1" i="1" lang="ru-RU" sz="2900" spc="-1" strike="noStrike">
                <a:solidFill>
                  <a:srgbClr val="00cc00"/>
                </a:solidFill>
                <a:latin typeface="Calibri"/>
              </a:rPr>
              <a:t>         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71680" y="5785920"/>
            <a:ext cx="81057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898989"/>
              </a:solidFill>
              <a:latin typeface="Times New Roman"/>
            </a:endParaRPr>
          </a:p>
        </p:txBody>
      </p:sp>
      <p:pic>
        <p:nvPicPr>
          <p:cNvPr id="51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3081240" cy="342900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8"/>
          <p:cNvSpPr/>
          <p:nvPr/>
        </p:nvSpPr>
        <p:spPr>
          <a:xfrm>
            <a:off x="0" y="3430440"/>
            <a:ext cx="2571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А.С. Пушкин. Портрет работ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.А. Кипренского, 18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9"/>
          <p:cNvSpPr/>
          <p:nvPr/>
        </p:nvSpPr>
        <p:spPr>
          <a:xfrm>
            <a:off x="3643200" y="404640"/>
            <a:ext cx="52149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Урок  внеклассного  чтения по литературе  в  6  классе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550"/>
                            </p:stCondLst>
                            <p:childTnLst>
                              <p:par>
                                <p:cTn id="17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5" descr="E:\Надя\картинки\Изображение 567.jpg"/>
          <p:cNvPicPr/>
          <p:nvPr/>
        </p:nvPicPr>
        <p:blipFill>
          <a:blip r:embed="rId1"/>
          <a:stretch/>
        </p:blipFill>
        <p:spPr>
          <a:xfrm>
            <a:off x="-285840" y="-642960"/>
            <a:ext cx="10058400" cy="777240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214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Узнайте героя: « Ей было 17 лет. Чёрные глаза оживляли её смуглое и очень приятное лицо. Она была единственное и, следовательно, балованное дитя.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6071760" y="4143240"/>
            <a:ext cx="3071880" cy="12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632523"/>
                </a:solidFill>
                <a:latin typeface="Calibri"/>
              </a:rPr>
              <a:t>Лиза или Бетси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Пятно 2 3"/>
          <p:cNvSpPr/>
          <p:nvPr/>
        </p:nvSpPr>
        <p:spPr>
          <a:xfrm>
            <a:off x="2643120" y="4000680"/>
            <a:ext cx="4214880" cy="2857320"/>
          </a:xfrm>
          <a:prstGeom prst="irregularSeal2">
            <a:avLst/>
          </a:prstGeom>
          <a:solidFill>
            <a:srgbClr val="ffcc6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3 бал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Управляющая кнопка: возврат 4"/>
          <p:cNvSpPr/>
          <p:nvPr/>
        </p:nvSpPr>
        <p:spPr>
          <a:xfrm>
            <a:off x="7740720" y="5661000"/>
            <a:ext cx="1079280" cy="720720"/>
          </a:xfrm>
          <a:custGeom>
            <a:avLst/>
            <a:gdLst>
              <a:gd name="textAreaLeft" fmla="*/ 46440 w 1079280"/>
              <a:gd name="textAreaRight" fmla="*/ 1032840 w 107928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32341" h="21600">
                <a:moveTo>
                  <a:pt x="0" y="0"/>
                </a:moveTo>
                <a:lnTo>
                  <a:pt x="32341" y="0"/>
                </a:lnTo>
                <a:lnTo>
                  <a:pt x="32341" y="21600"/>
                </a:lnTo>
                <a:lnTo>
                  <a:pt x="0" y="21600"/>
                </a:lnTo>
                <a:close/>
              </a:path>
              <a:path fill="lightenLess" w="32341" h="21600">
                <a:moveTo>
                  <a:pt x="0" y="0"/>
                </a:moveTo>
                <a:lnTo>
                  <a:pt x="32341" y="0"/>
                </a:lnTo>
                <a:lnTo>
                  <a:pt x="30941" y="1400"/>
                </a:lnTo>
                <a:lnTo>
                  <a:pt x="1400" y="1400"/>
                </a:lnTo>
                <a:close/>
              </a:path>
              <a:path fill="darken" w="32341" h="21600">
                <a:moveTo>
                  <a:pt x="32341" y="0"/>
                </a:moveTo>
                <a:lnTo>
                  <a:pt x="32341" y="21600"/>
                </a:lnTo>
                <a:lnTo>
                  <a:pt x="30941" y="20200"/>
                </a:lnTo>
                <a:lnTo>
                  <a:pt x="30941" y="1400"/>
                </a:lnTo>
                <a:close/>
              </a:path>
              <a:path fill="darkenLess" w="32341" h="21600">
                <a:moveTo>
                  <a:pt x="323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41" y="20200"/>
                </a:lnTo>
                <a:close/>
              </a:path>
              <a:path fill="lighten" w="323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41" h="21600">
                <a:moveTo>
                  <a:pt x="9164" y="7493"/>
                </a:moveTo>
                <a:lnTo>
                  <a:pt x="12671" y="7493"/>
                </a:lnTo>
                <a:lnTo>
                  <a:pt x="12671" y="12828"/>
                </a:lnTo>
                <a:cubicBezTo>
                  <a:pt x="12671" y="13751"/>
                  <a:pt x="13472" y="14482"/>
                  <a:pt x="14508" y="14482"/>
                </a:cubicBezTo>
                <a:lnTo>
                  <a:pt x="16170" y="14482"/>
                </a:lnTo>
                <a:cubicBezTo>
                  <a:pt x="17206" y="14482"/>
                  <a:pt x="18007" y="13751"/>
                  <a:pt x="18007" y="12828"/>
                </a:cubicBezTo>
                <a:lnTo>
                  <a:pt x="18007" y="7493"/>
                </a:lnTo>
                <a:lnTo>
                  <a:pt x="16170" y="7493"/>
                </a:lnTo>
                <a:lnTo>
                  <a:pt x="19678" y="3985"/>
                </a:lnTo>
                <a:lnTo>
                  <a:pt x="23351" y="7493"/>
                </a:lnTo>
                <a:lnTo>
                  <a:pt x="21514" y="7493"/>
                </a:lnTo>
                <a:lnTo>
                  <a:pt x="21514" y="12828"/>
                </a:lnTo>
                <a:cubicBezTo>
                  <a:pt x="21514" y="15596"/>
                  <a:pt x="18938" y="18155"/>
                  <a:pt x="16170" y="18155"/>
                </a:cubicBezTo>
                <a:lnTo>
                  <a:pt x="14508" y="18155"/>
                </a:lnTo>
                <a:cubicBezTo>
                  <a:pt x="11740" y="18155"/>
                  <a:pt x="9164" y="15596"/>
                  <a:pt x="9164" y="12828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9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5" descr="E:\Надя\картинки\Изображение 567.jpg"/>
          <p:cNvPicPr/>
          <p:nvPr/>
        </p:nvPicPr>
        <p:blipFill>
          <a:blip r:embed="rId1"/>
          <a:stretch/>
        </p:blipFill>
        <p:spPr>
          <a:xfrm>
            <a:off x="-285840" y="-500040"/>
            <a:ext cx="10058400" cy="77724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24000" y="404280"/>
            <a:ext cx="8640720" cy="223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4200" spc="-1" strike="noStrike">
                <a:solidFill>
                  <a:srgbClr val="000000"/>
                </a:solidFill>
                <a:latin typeface="Comic Sans MS"/>
              </a:rPr>
              <a:t>Кто автор эпиграфа к повести  «Метель»?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5785920" y="2571840"/>
            <a:ext cx="3357720" cy="27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32523"/>
                </a:solidFill>
                <a:latin typeface="Calibri"/>
              </a:rPr>
              <a:t> </a:t>
            </a:r>
            <a:r>
              <a:rPr b="1" lang="ru-RU" sz="4400" spc="-1" strike="noStrike">
                <a:solidFill>
                  <a:srgbClr val="632523"/>
                </a:solidFill>
                <a:latin typeface="Calibri"/>
              </a:rPr>
              <a:t>В. А. Жуковский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Пятно 1 3"/>
          <p:cNvSpPr/>
          <p:nvPr/>
        </p:nvSpPr>
        <p:spPr>
          <a:xfrm>
            <a:off x="2500200" y="3286080"/>
            <a:ext cx="3667320" cy="3378240"/>
          </a:xfrm>
          <a:prstGeom prst="irregularSeal1">
            <a:avLst/>
          </a:prstGeom>
          <a:solidFill>
            <a:srgbClr val="ffcc6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3 балл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Управляющая кнопка: возврат 4"/>
          <p:cNvSpPr/>
          <p:nvPr/>
        </p:nvSpPr>
        <p:spPr>
          <a:xfrm>
            <a:off x="7740720" y="5732640"/>
            <a:ext cx="1079280" cy="720720"/>
          </a:xfrm>
          <a:custGeom>
            <a:avLst/>
            <a:gdLst>
              <a:gd name="textAreaLeft" fmla="*/ 46440 w 1079280"/>
              <a:gd name="textAreaRight" fmla="*/ 1032840 w 107928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32341" h="21600">
                <a:moveTo>
                  <a:pt x="0" y="0"/>
                </a:moveTo>
                <a:lnTo>
                  <a:pt x="32341" y="0"/>
                </a:lnTo>
                <a:lnTo>
                  <a:pt x="32341" y="21600"/>
                </a:lnTo>
                <a:lnTo>
                  <a:pt x="0" y="21600"/>
                </a:lnTo>
                <a:close/>
              </a:path>
              <a:path fill="lightenLess" w="32341" h="21600">
                <a:moveTo>
                  <a:pt x="0" y="0"/>
                </a:moveTo>
                <a:lnTo>
                  <a:pt x="32341" y="0"/>
                </a:lnTo>
                <a:lnTo>
                  <a:pt x="30941" y="1400"/>
                </a:lnTo>
                <a:lnTo>
                  <a:pt x="1400" y="1400"/>
                </a:lnTo>
                <a:close/>
              </a:path>
              <a:path fill="darken" w="32341" h="21600">
                <a:moveTo>
                  <a:pt x="32341" y="0"/>
                </a:moveTo>
                <a:lnTo>
                  <a:pt x="32341" y="21600"/>
                </a:lnTo>
                <a:lnTo>
                  <a:pt x="30941" y="20200"/>
                </a:lnTo>
                <a:lnTo>
                  <a:pt x="30941" y="1400"/>
                </a:lnTo>
                <a:close/>
              </a:path>
              <a:path fill="darkenLess" w="32341" h="21600">
                <a:moveTo>
                  <a:pt x="323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41" y="20200"/>
                </a:lnTo>
                <a:close/>
              </a:path>
              <a:path fill="lighten" w="323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41" h="21600">
                <a:moveTo>
                  <a:pt x="9164" y="7493"/>
                </a:moveTo>
                <a:lnTo>
                  <a:pt x="12671" y="7493"/>
                </a:lnTo>
                <a:lnTo>
                  <a:pt x="12671" y="12828"/>
                </a:lnTo>
                <a:cubicBezTo>
                  <a:pt x="12671" y="13751"/>
                  <a:pt x="13472" y="14482"/>
                  <a:pt x="14508" y="14482"/>
                </a:cubicBezTo>
                <a:lnTo>
                  <a:pt x="16170" y="14482"/>
                </a:lnTo>
                <a:cubicBezTo>
                  <a:pt x="17206" y="14482"/>
                  <a:pt x="18007" y="13751"/>
                  <a:pt x="18007" y="12828"/>
                </a:cubicBezTo>
                <a:lnTo>
                  <a:pt x="18007" y="7493"/>
                </a:lnTo>
                <a:lnTo>
                  <a:pt x="16170" y="7493"/>
                </a:lnTo>
                <a:lnTo>
                  <a:pt x="19678" y="3985"/>
                </a:lnTo>
                <a:lnTo>
                  <a:pt x="23351" y="7493"/>
                </a:lnTo>
                <a:lnTo>
                  <a:pt x="21514" y="7493"/>
                </a:lnTo>
                <a:lnTo>
                  <a:pt x="21514" y="12828"/>
                </a:lnTo>
                <a:cubicBezTo>
                  <a:pt x="21514" y="15596"/>
                  <a:pt x="18938" y="18155"/>
                  <a:pt x="16170" y="18155"/>
                </a:cubicBezTo>
                <a:lnTo>
                  <a:pt x="14508" y="18155"/>
                </a:lnTo>
                <a:cubicBezTo>
                  <a:pt x="11740" y="18155"/>
                  <a:pt x="9164" y="15596"/>
                  <a:pt x="9164" y="12828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5" descr="E:\Надя\картинки\Изображение 567.jpg"/>
          <p:cNvPicPr/>
          <p:nvPr/>
        </p:nvPicPr>
        <p:blipFill>
          <a:blip r:embed="rId1"/>
          <a:stretch/>
        </p:blipFill>
        <p:spPr>
          <a:xfrm>
            <a:off x="-457200" y="-457200"/>
            <a:ext cx="10058400" cy="777240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18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Что приснилось Адриану Прохорову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214680" y="3285720"/>
            <a:ext cx="2714760" cy="24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632523"/>
                </a:solidFill>
                <a:latin typeface="Calibri"/>
              </a:rPr>
              <a:t>Пётр Курилки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Пятно 1 3"/>
          <p:cNvSpPr/>
          <p:nvPr/>
        </p:nvSpPr>
        <p:spPr>
          <a:xfrm>
            <a:off x="2286000" y="3214800"/>
            <a:ext cx="4000680" cy="3857400"/>
          </a:xfrm>
          <a:prstGeom prst="irregularSeal1">
            <a:avLst/>
          </a:prstGeom>
          <a:solidFill>
            <a:srgbClr val="ffcc6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4 бал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Управляющая кнопка: возврат 4"/>
          <p:cNvSpPr/>
          <p:nvPr/>
        </p:nvSpPr>
        <p:spPr>
          <a:xfrm>
            <a:off x="7740720" y="5877000"/>
            <a:ext cx="1079280" cy="720720"/>
          </a:xfrm>
          <a:custGeom>
            <a:avLst/>
            <a:gdLst>
              <a:gd name="textAreaLeft" fmla="*/ 46440 w 1079280"/>
              <a:gd name="textAreaRight" fmla="*/ 1032840 w 107928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32341" h="21600">
                <a:moveTo>
                  <a:pt x="0" y="0"/>
                </a:moveTo>
                <a:lnTo>
                  <a:pt x="32341" y="0"/>
                </a:lnTo>
                <a:lnTo>
                  <a:pt x="32341" y="21600"/>
                </a:lnTo>
                <a:lnTo>
                  <a:pt x="0" y="21600"/>
                </a:lnTo>
                <a:close/>
              </a:path>
              <a:path fill="lightenLess" w="32341" h="21600">
                <a:moveTo>
                  <a:pt x="0" y="0"/>
                </a:moveTo>
                <a:lnTo>
                  <a:pt x="32341" y="0"/>
                </a:lnTo>
                <a:lnTo>
                  <a:pt x="30941" y="1400"/>
                </a:lnTo>
                <a:lnTo>
                  <a:pt x="1400" y="1400"/>
                </a:lnTo>
                <a:close/>
              </a:path>
              <a:path fill="darken" w="32341" h="21600">
                <a:moveTo>
                  <a:pt x="32341" y="0"/>
                </a:moveTo>
                <a:lnTo>
                  <a:pt x="32341" y="21600"/>
                </a:lnTo>
                <a:lnTo>
                  <a:pt x="30941" y="20200"/>
                </a:lnTo>
                <a:lnTo>
                  <a:pt x="30941" y="1400"/>
                </a:lnTo>
                <a:close/>
              </a:path>
              <a:path fill="darkenLess" w="32341" h="21600">
                <a:moveTo>
                  <a:pt x="323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41" y="20200"/>
                </a:lnTo>
                <a:close/>
              </a:path>
              <a:path fill="lighten" w="323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41" h="21600">
                <a:moveTo>
                  <a:pt x="9164" y="7493"/>
                </a:moveTo>
                <a:lnTo>
                  <a:pt x="12671" y="7493"/>
                </a:lnTo>
                <a:lnTo>
                  <a:pt x="12671" y="12828"/>
                </a:lnTo>
                <a:cubicBezTo>
                  <a:pt x="12671" y="13751"/>
                  <a:pt x="13472" y="14482"/>
                  <a:pt x="14508" y="14482"/>
                </a:cubicBezTo>
                <a:lnTo>
                  <a:pt x="16170" y="14482"/>
                </a:lnTo>
                <a:cubicBezTo>
                  <a:pt x="17206" y="14482"/>
                  <a:pt x="18007" y="13751"/>
                  <a:pt x="18007" y="12828"/>
                </a:cubicBezTo>
                <a:lnTo>
                  <a:pt x="18007" y="7493"/>
                </a:lnTo>
                <a:lnTo>
                  <a:pt x="16170" y="7493"/>
                </a:lnTo>
                <a:lnTo>
                  <a:pt x="19678" y="3985"/>
                </a:lnTo>
                <a:lnTo>
                  <a:pt x="23351" y="7493"/>
                </a:lnTo>
                <a:lnTo>
                  <a:pt x="21514" y="7493"/>
                </a:lnTo>
                <a:lnTo>
                  <a:pt x="21514" y="12828"/>
                </a:lnTo>
                <a:cubicBezTo>
                  <a:pt x="21514" y="15596"/>
                  <a:pt x="18938" y="18155"/>
                  <a:pt x="16170" y="18155"/>
                </a:cubicBezTo>
                <a:lnTo>
                  <a:pt x="14508" y="18155"/>
                </a:lnTo>
                <a:cubicBezTo>
                  <a:pt x="11740" y="18155"/>
                  <a:pt x="9164" y="15596"/>
                  <a:pt x="9164" y="12828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7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2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5" descr="E:\Надя\картинки\Изображение 567.jpg"/>
          <p:cNvPicPr/>
          <p:nvPr/>
        </p:nvPicPr>
        <p:blipFill>
          <a:blip r:embed="rId1"/>
          <a:stretch/>
        </p:blipFill>
        <p:spPr>
          <a:xfrm>
            <a:off x="-357120" y="-571680"/>
            <a:ext cx="10058400" cy="777276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250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Вспомните описание картинок, украшавших смиренную, но опрятную обитель станционного смотрителя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357960" y="3571920"/>
            <a:ext cx="2571840" cy="275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632523"/>
                </a:solidFill>
                <a:latin typeface="Calibri"/>
              </a:rPr>
              <a:t>Истор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632523"/>
                </a:solidFill>
                <a:latin typeface="Calibri"/>
              </a:rPr>
              <a:t>блудного сын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Пятно 2 3"/>
          <p:cNvSpPr/>
          <p:nvPr/>
        </p:nvSpPr>
        <p:spPr>
          <a:xfrm>
            <a:off x="2500200" y="4000680"/>
            <a:ext cx="3786480" cy="2857320"/>
          </a:xfrm>
          <a:prstGeom prst="irregularSeal2">
            <a:avLst/>
          </a:prstGeom>
          <a:solidFill>
            <a:srgbClr val="ffcc6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4 бал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Управляющая кнопка: возврат 4"/>
          <p:cNvSpPr/>
          <p:nvPr/>
        </p:nvSpPr>
        <p:spPr>
          <a:xfrm>
            <a:off x="7740720" y="5732640"/>
            <a:ext cx="1079280" cy="720720"/>
          </a:xfrm>
          <a:custGeom>
            <a:avLst/>
            <a:gdLst>
              <a:gd name="textAreaLeft" fmla="*/ 46440 w 1079280"/>
              <a:gd name="textAreaRight" fmla="*/ 1032840 w 107928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32341" h="21600">
                <a:moveTo>
                  <a:pt x="0" y="0"/>
                </a:moveTo>
                <a:lnTo>
                  <a:pt x="32341" y="0"/>
                </a:lnTo>
                <a:lnTo>
                  <a:pt x="32341" y="21600"/>
                </a:lnTo>
                <a:lnTo>
                  <a:pt x="0" y="21600"/>
                </a:lnTo>
                <a:close/>
              </a:path>
              <a:path fill="lightenLess" w="32341" h="21600">
                <a:moveTo>
                  <a:pt x="0" y="0"/>
                </a:moveTo>
                <a:lnTo>
                  <a:pt x="32341" y="0"/>
                </a:lnTo>
                <a:lnTo>
                  <a:pt x="30941" y="1400"/>
                </a:lnTo>
                <a:lnTo>
                  <a:pt x="1400" y="1400"/>
                </a:lnTo>
                <a:close/>
              </a:path>
              <a:path fill="darken" w="32341" h="21600">
                <a:moveTo>
                  <a:pt x="32341" y="0"/>
                </a:moveTo>
                <a:lnTo>
                  <a:pt x="32341" y="21600"/>
                </a:lnTo>
                <a:lnTo>
                  <a:pt x="30941" y="20200"/>
                </a:lnTo>
                <a:lnTo>
                  <a:pt x="30941" y="1400"/>
                </a:lnTo>
                <a:close/>
              </a:path>
              <a:path fill="darkenLess" w="32341" h="21600">
                <a:moveTo>
                  <a:pt x="323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41" y="20200"/>
                </a:lnTo>
                <a:close/>
              </a:path>
              <a:path fill="lighten" w="323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41" h="21600">
                <a:moveTo>
                  <a:pt x="9164" y="7493"/>
                </a:moveTo>
                <a:lnTo>
                  <a:pt x="12671" y="7493"/>
                </a:lnTo>
                <a:lnTo>
                  <a:pt x="12671" y="12828"/>
                </a:lnTo>
                <a:cubicBezTo>
                  <a:pt x="12671" y="13751"/>
                  <a:pt x="13472" y="14482"/>
                  <a:pt x="14508" y="14482"/>
                </a:cubicBezTo>
                <a:lnTo>
                  <a:pt x="16170" y="14482"/>
                </a:lnTo>
                <a:cubicBezTo>
                  <a:pt x="17206" y="14482"/>
                  <a:pt x="18007" y="13751"/>
                  <a:pt x="18007" y="12828"/>
                </a:cubicBezTo>
                <a:lnTo>
                  <a:pt x="18007" y="7493"/>
                </a:lnTo>
                <a:lnTo>
                  <a:pt x="16170" y="7493"/>
                </a:lnTo>
                <a:lnTo>
                  <a:pt x="19678" y="3985"/>
                </a:lnTo>
                <a:lnTo>
                  <a:pt x="23351" y="7493"/>
                </a:lnTo>
                <a:lnTo>
                  <a:pt x="21514" y="7493"/>
                </a:lnTo>
                <a:lnTo>
                  <a:pt x="21514" y="12828"/>
                </a:lnTo>
                <a:cubicBezTo>
                  <a:pt x="21514" y="15596"/>
                  <a:pt x="18938" y="18155"/>
                  <a:pt x="16170" y="18155"/>
                </a:cubicBezTo>
                <a:lnTo>
                  <a:pt x="14508" y="18155"/>
                </a:lnTo>
                <a:cubicBezTo>
                  <a:pt x="11740" y="18155"/>
                  <a:pt x="9164" y="15596"/>
                  <a:pt x="9164" y="12828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5" descr="E:\Надя\картинки\Изображение 567.jpg"/>
          <p:cNvPicPr/>
          <p:nvPr/>
        </p:nvPicPr>
        <p:blipFill>
          <a:blip r:embed="rId1"/>
          <a:stretch/>
        </p:blipFill>
        <p:spPr>
          <a:xfrm>
            <a:off x="-500040" y="-571680"/>
            <a:ext cx="10058400" cy="777276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50920" y="704520"/>
            <a:ext cx="8642160" cy="795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Что такое композиция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286240" y="1714320"/>
            <a:ext cx="3857760" cy="460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32523"/>
                </a:solidFill>
                <a:latin typeface="Calibri"/>
              </a:rPr>
              <a:t>- построение художественного произведения, расположение и взаимосвязь всех его частей, эпизодо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Пятно 2 3"/>
          <p:cNvSpPr/>
          <p:nvPr/>
        </p:nvSpPr>
        <p:spPr>
          <a:xfrm>
            <a:off x="2143080" y="3286080"/>
            <a:ext cx="3643200" cy="3571920"/>
          </a:xfrm>
          <a:prstGeom prst="irregularSeal2">
            <a:avLst/>
          </a:prstGeom>
          <a:solidFill>
            <a:srgbClr val="ff996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3 бал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Управляющая кнопка: возврат 4"/>
          <p:cNvSpPr/>
          <p:nvPr/>
        </p:nvSpPr>
        <p:spPr>
          <a:xfrm>
            <a:off x="7740720" y="5732640"/>
            <a:ext cx="1079280" cy="720720"/>
          </a:xfrm>
          <a:custGeom>
            <a:avLst/>
            <a:gdLst>
              <a:gd name="textAreaLeft" fmla="*/ 46440 w 1079280"/>
              <a:gd name="textAreaRight" fmla="*/ 1032840 w 107928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32341" h="21600">
                <a:moveTo>
                  <a:pt x="0" y="0"/>
                </a:moveTo>
                <a:lnTo>
                  <a:pt x="32341" y="0"/>
                </a:lnTo>
                <a:lnTo>
                  <a:pt x="32341" y="21600"/>
                </a:lnTo>
                <a:lnTo>
                  <a:pt x="0" y="21600"/>
                </a:lnTo>
                <a:close/>
              </a:path>
              <a:path fill="lightenLess" w="32341" h="21600">
                <a:moveTo>
                  <a:pt x="0" y="0"/>
                </a:moveTo>
                <a:lnTo>
                  <a:pt x="32341" y="0"/>
                </a:lnTo>
                <a:lnTo>
                  <a:pt x="30941" y="1400"/>
                </a:lnTo>
                <a:lnTo>
                  <a:pt x="1400" y="1400"/>
                </a:lnTo>
                <a:close/>
              </a:path>
              <a:path fill="darken" w="32341" h="21600">
                <a:moveTo>
                  <a:pt x="32341" y="0"/>
                </a:moveTo>
                <a:lnTo>
                  <a:pt x="32341" y="21600"/>
                </a:lnTo>
                <a:lnTo>
                  <a:pt x="30941" y="20200"/>
                </a:lnTo>
                <a:lnTo>
                  <a:pt x="30941" y="1400"/>
                </a:lnTo>
                <a:close/>
              </a:path>
              <a:path fill="darkenLess" w="32341" h="21600">
                <a:moveTo>
                  <a:pt x="323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41" y="20200"/>
                </a:lnTo>
                <a:close/>
              </a:path>
              <a:path fill="lighten" w="323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41" h="21600">
                <a:moveTo>
                  <a:pt x="9164" y="7493"/>
                </a:moveTo>
                <a:lnTo>
                  <a:pt x="12671" y="7493"/>
                </a:lnTo>
                <a:lnTo>
                  <a:pt x="12671" y="12828"/>
                </a:lnTo>
                <a:cubicBezTo>
                  <a:pt x="12671" y="13751"/>
                  <a:pt x="13472" y="14482"/>
                  <a:pt x="14508" y="14482"/>
                </a:cubicBezTo>
                <a:lnTo>
                  <a:pt x="16170" y="14482"/>
                </a:lnTo>
                <a:cubicBezTo>
                  <a:pt x="17206" y="14482"/>
                  <a:pt x="18007" y="13751"/>
                  <a:pt x="18007" y="12828"/>
                </a:cubicBezTo>
                <a:lnTo>
                  <a:pt x="18007" y="7493"/>
                </a:lnTo>
                <a:lnTo>
                  <a:pt x="16170" y="7493"/>
                </a:lnTo>
                <a:lnTo>
                  <a:pt x="19678" y="3985"/>
                </a:lnTo>
                <a:lnTo>
                  <a:pt x="23351" y="7493"/>
                </a:lnTo>
                <a:lnTo>
                  <a:pt x="21514" y="7493"/>
                </a:lnTo>
                <a:lnTo>
                  <a:pt x="21514" y="12828"/>
                </a:lnTo>
                <a:cubicBezTo>
                  <a:pt x="21514" y="15596"/>
                  <a:pt x="18938" y="18155"/>
                  <a:pt x="16170" y="18155"/>
                </a:cubicBezTo>
                <a:lnTo>
                  <a:pt x="14508" y="18155"/>
                </a:lnTo>
                <a:cubicBezTo>
                  <a:pt x="11740" y="18155"/>
                  <a:pt x="9164" y="15596"/>
                  <a:pt x="9164" y="12828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9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E:\Надя\картинки\Изображение 567.jpg"/>
          <p:cNvPicPr/>
          <p:nvPr/>
        </p:nvPicPr>
        <p:blipFill>
          <a:blip r:embed="rId1"/>
          <a:stretch/>
        </p:blipFill>
        <p:spPr>
          <a:xfrm>
            <a:off x="-457200" y="-457200"/>
            <a:ext cx="10058400" cy="77724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78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«Проезжий в черкесской шапке, в военной шинели, окутанный шалью, вошёл в комнату, требуя лошадей.» Кто это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6643800" y="2852280"/>
            <a:ext cx="2357280" cy="28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32523"/>
                </a:solidFill>
                <a:latin typeface="Calibri"/>
              </a:rPr>
              <a:t>Ротмистр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32523"/>
                </a:solidFill>
                <a:latin typeface="Calibri"/>
              </a:rPr>
              <a:t>Минский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Управляющая кнопка: возврат 3"/>
          <p:cNvSpPr/>
          <p:nvPr/>
        </p:nvSpPr>
        <p:spPr>
          <a:xfrm>
            <a:off x="7740720" y="5877000"/>
            <a:ext cx="1079280" cy="720720"/>
          </a:xfrm>
          <a:custGeom>
            <a:avLst/>
            <a:gdLst>
              <a:gd name="textAreaLeft" fmla="*/ 46440 w 1079280"/>
              <a:gd name="textAreaRight" fmla="*/ 1032840 w 107928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32341" h="21600">
                <a:moveTo>
                  <a:pt x="0" y="0"/>
                </a:moveTo>
                <a:lnTo>
                  <a:pt x="32341" y="0"/>
                </a:lnTo>
                <a:lnTo>
                  <a:pt x="32341" y="21600"/>
                </a:lnTo>
                <a:lnTo>
                  <a:pt x="0" y="21600"/>
                </a:lnTo>
                <a:close/>
              </a:path>
              <a:path fill="lightenLess" w="32341" h="21600">
                <a:moveTo>
                  <a:pt x="0" y="0"/>
                </a:moveTo>
                <a:lnTo>
                  <a:pt x="32341" y="0"/>
                </a:lnTo>
                <a:lnTo>
                  <a:pt x="30941" y="1400"/>
                </a:lnTo>
                <a:lnTo>
                  <a:pt x="1400" y="1400"/>
                </a:lnTo>
                <a:close/>
              </a:path>
              <a:path fill="darken" w="32341" h="21600">
                <a:moveTo>
                  <a:pt x="32341" y="0"/>
                </a:moveTo>
                <a:lnTo>
                  <a:pt x="32341" y="21600"/>
                </a:lnTo>
                <a:lnTo>
                  <a:pt x="30941" y="20200"/>
                </a:lnTo>
                <a:lnTo>
                  <a:pt x="30941" y="1400"/>
                </a:lnTo>
                <a:close/>
              </a:path>
              <a:path fill="darkenLess" w="32341" h="21600">
                <a:moveTo>
                  <a:pt x="323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41" y="20200"/>
                </a:lnTo>
                <a:close/>
              </a:path>
              <a:path fill="lighten" w="323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41" h="21600">
                <a:moveTo>
                  <a:pt x="9164" y="7493"/>
                </a:moveTo>
                <a:lnTo>
                  <a:pt x="12671" y="7493"/>
                </a:lnTo>
                <a:lnTo>
                  <a:pt x="12671" y="12828"/>
                </a:lnTo>
                <a:cubicBezTo>
                  <a:pt x="12671" y="13751"/>
                  <a:pt x="13472" y="14482"/>
                  <a:pt x="14508" y="14482"/>
                </a:cubicBezTo>
                <a:lnTo>
                  <a:pt x="16170" y="14482"/>
                </a:lnTo>
                <a:cubicBezTo>
                  <a:pt x="17206" y="14482"/>
                  <a:pt x="18007" y="13751"/>
                  <a:pt x="18007" y="12828"/>
                </a:cubicBezTo>
                <a:lnTo>
                  <a:pt x="18007" y="7493"/>
                </a:lnTo>
                <a:lnTo>
                  <a:pt x="16170" y="7493"/>
                </a:lnTo>
                <a:lnTo>
                  <a:pt x="19678" y="3985"/>
                </a:lnTo>
                <a:lnTo>
                  <a:pt x="23351" y="7493"/>
                </a:lnTo>
                <a:lnTo>
                  <a:pt x="21514" y="7493"/>
                </a:lnTo>
                <a:lnTo>
                  <a:pt x="21514" y="12828"/>
                </a:lnTo>
                <a:cubicBezTo>
                  <a:pt x="21514" y="15596"/>
                  <a:pt x="18938" y="18155"/>
                  <a:pt x="16170" y="18155"/>
                </a:cubicBezTo>
                <a:lnTo>
                  <a:pt x="14508" y="18155"/>
                </a:lnTo>
                <a:cubicBezTo>
                  <a:pt x="11740" y="18155"/>
                  <a:pt x="9164" y="15596"/>
                  <a:pt x="9164" y="12828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ятно 1 4"/>
          <p:cNvSpPr/>
          <p:nvPr/>
        </p:nvSpPr>
        <p:spPr>
          <a:xfrm>
            <a:off x="2357280" y="3143160"/>
            <a:ext cx="3714840" cy="3429000"/>
          </a:xfrm>
          <a:prstGeom prst="irregularSeal1">
            <a:avLst/>
          </a:prstGeom>
          <a:solidFill>
            <a:srgbClr val="c4bd9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2 балл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1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5" descr="E:\Надя\картинки\Изображение 567.jpg"/>
          <p:cNvPicPr/>
          <p:nvPr/>
        </p:nvPicPr>
        <p:blipFill>
          <a:blip r:embed="rId1"/>
          <a:stretch/>
        </p:blipFill>
        <p:spPr>
          <a:xfrm>
            <a:off x="-457200" y="-457200"/>
            <a:ext cx="10058400" cy="77724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79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Сколько дочерей было у Адриана Прохорова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5572080" y="2357280"/>
            <a:ext cx="318600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632523"/>
                </a:solidFill>
                <a:latin typeface="Calibri"/>
              </a:rPr>
              <a:t>Две дочери: Акулина и Дарья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Управляющая кнопка: возврат 3"/>
          <p:cNvSpPr/>
          <p:nvPr/>
        </p:nvSpPr>
        <p:spPr>
          <a:xfrm>
            <a:off x="7740720" y="5661000"/>
            <a:ext cx="1079280" cy="720720"/>
          </a:xfrm>
          <a:custGeom>
            <a:avLst/>
            <a:gdLst>
              <a:gd name="textAreaLeft" fmla="*/ 46440 w 1079280"/>
              <a:gd name="textAreaRight" fmla="*/ 1032840 w 107928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32341" h="21600">
                <a:moveTo>
                  <a:pt x="0" y="0"/>
                </a:moveTo>
                <a:lnTo>
                  <a:pt x="32341" y="0"/>
                </a:lnTo>
                <a:lnTo>
                  <a:pt x="32341" y="21600"/>
                </a:lnTo>
                <a:lnTo>
                  <a:pt x="0" y="21600"/>
                </a:lnTo>
                <a:close/>
              </a:path>
              <a:path fill="lightenLess" w="32341" h="21600">
                <a:moveTo>
                  <a:pt x="0" y="0"/>
                </a:moveTo>
                <a:lnTo>
                  <a:pt x="32341" y="0"/>
                </a:lnTo>
                <a:lnTo>
                  <a:pt x="30941" y="1400"/>
                </a:lnTo>
                <a:lnTo>
                  <a:pt x="1400" y="1400"/>
                </a:lnTo>
                <a:close/>
              </a:path>
              <a:path fill="darken" w="32341" h="21600">
                <a:moveTo>
                  <a:pt x="32341" y="0"/>
                </a:moveTo>
                <a:lnTo>
                  <a:pt x="32341" y="21600"/>
                </a:lnTo>
                <a:lnTo>
                  <a:pt x="30941" y="20200"/>
                </a:lnTo>
                <a:lnTo>
                  <a:pt x="30941" y="1400"/>
                </a:lnTo>
                <a:close/>
              </a:path>
              <a:path fill="darkenLess" w="32341" h="21600">
                <a:moveTo>
                  <a:pt x="323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41" y="20200"/>
                </a:lnTo>
                <a:close/>
              </a:path>
              <a:path fill="lighten" w="323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41" h="21600">
                <a:moveTo>
                  <a:pt x="9164" y="7493"/>
                </a:moveTo>
                <a:lnTo>
                  <a:pt x="12671" y="7493"/>
                </a:lnTo>
                <a:lnTo>
                  <a:pt x="12671" y="12828"/>
                </a:lnTo>
                <a:cubicBezTo>
                  <a:pt x="12671" y="13751"/>
                  <a:pt x="13472" y="14482"/>
                  <a:pt x="14508" y="14482"/>
                </a:cubicBezTo>
                <a:lnTo>
                  <a:pt x="16170" y="14482"/>
                </a:lnTo>
                <a:cubicBezTo>
                  <a:pt x="17206" y="14482"/>
                  <a:pt x="18007" y="13751"/>
                  <a:pt x="18007" y="12828"/>
                </a:cubicBezTo>
                <a:lnTo>
                  <a:pt x="18007" y="7493"/>
                </a:lnTo>
                <a:lnTo>
                  <a:pt x="16170" y="7493"/>
                </a:lnTo>
                <a:lnTo>
                  <a:pt x="19678" y="3985"/>
                </a:lnTo>
                <a:lnTo>
                  <a:pt x="23351" y="7493"/>
                </a:lnTo>
                <a:lnTo>
                  <a:pt x="21514" y="7493"/>
                </a:lnTo>
                <a:lnTo>
                  <a:pt x="21514" y="12828"/>
                </a:lnTo>
                <a:cubicBezTo>
                  <a:pt x="21514" y="15596"/>
                  <a:pt x="18938" y="18155"/>
                  <a:pt x="16170" y="18155"/>
                </a:cubicBezTo>
                <a:lnTo>
                  <a:pt x="14508" y="18155"/>
                </a:lnTo>
                <a:cubicBezTo>
                  <a:pt x="11740" y="18155"/>
                  <a:pt x="9164" y="15596"/>
                  <a:pt x="9164" y="12828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Пятно 1 4"/>
          <p:cNvSpPr/>
          <p:nvPr/>
        </p:nvSpPr>
        <p:spPr>
          <a:xfrm>
            <a:off x="2071800" y="3143160"/>
            <a:ext cx="3643200" cy="3500640"/>
          </a:xfrm>
          <a:prstGeom prst="irregularSeal1">
            <a:avLst/>
          </a:prstGeom>
          <a:solidFill>
            <a:srgbClr val="ffcc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1 бал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8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5" descr="E:\Надя\картинки\Изображение 567.jpg"/>
          <p:cNvPicPr/>
          <p:nvPr/>
        </p:nvPicPr>
        <p:blipFill>
          <a:blip r:embed="rId1"/>
          <a:stretch/>
        </p:blipFill>
        <p:spPr>
          <a:xfrm>
            <a:off x="-285840" y="-357120"/>
            <a:ext cx="10058400" cy="777240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2076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Comic Sans MS"/>
              </a:rPr>
              <a:t>Почему Сильвио не вызвал на дуэль офицера, с которым играл в карты в начале повести «Выстрел»?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929200" y="2571840"/>
            <a:ext cx="2757600" cy="375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32523"/>
                </a:solidFill>
                <a:latin typeface="Calibri"/>
              </a:rPr>
              <a:t>Ждал своего выстрела с графом Б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Управляющая кнопка: возврат 3"/>
          <p:cNvSpPr/>
          <p:nvPr/>
        </p:nvSpPr>
        <p:spPr>
          <a:xfrm>
            <a:off x="7740720" y="5877000"/>
            <a:ext cx="1079280" cy="720720"/>
          </a:xfrm>
          <a:custGeom>
            <a:avLst/>
            <a:gdLst>
              <a:gd name="textAreaLeft" fmla="*/ 46440 w 1079280"/>
              <a:gd name="textAreaRight" fmla="*/ 1032840 w 107928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32341" h="21600">
                <a:moveTo>
                  <a:pt x="0" y="0"/>
                </a:moveTo>
                <a:lnTo>
                  <a:pt x="32341" y="0"/>
                </a:lnTo>
                <a:lnTo>
                  <a:pt x="32341" y="21600"/>
                </a:lnTo>
                <a:lnTo>
                  <a:pt x="0" y="21600"/>
                </a:lnTo>
                <a:close/>
              </a:path>
              <a:path fill="lightenLess" w="32341" h="21600">
                <a:moveTo>
                  <a:pt x="0" y="0"/>
                </a:moveTo>
                <a:lnTo>
                  <a:pt x="32341" y="0"/>
                </a:lnTo>
                <a:lnTo>
                  <a:pt x="30941" y="1400"/>
                </a:lnTo>
                <a:lnTo>
                  <a:pt x="1400" y="1400"/>
                </a:lnTo>
                <a:close/>
              </a:path>
              <a:path fill="darken" w="32341" h="21600">
                <a:moveTo>
                  <a:pt x="32341" y="0"/>
                </a:moveTo>
                <a:lnTo>
                  <a:pt x="32341" y="21600"/>
                </a:lnTo>
                <a:lnTo>
                  <a:pt x="30941" y="20200"/>
                </a:lnTo>
                <a:lnTo>
                  <a:pt x="30941" y="1400"/>
                </a:lnTo>
                <a:close/>
              </a:path>
              <a:path fill="darkenLess" w="32341" h="21600">
                <a:moveTo>
                  <a:pt x="323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41" y="20200"/>
                </a:lnTo>
                <a:close/>
              </a:path>
              <a:path fill="lighten" w="323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41" h="21600">
                <a:moveTo>
                  <a:pt x="9164" y="7493"/>
                </a:moveTo>
                <a:lnTo>
                  <a:pt x="12671" y="7493"/>
                </a:lnTo>
                <a:lnTo>
                  <a:pt x="12671" y="12828"/>
                </a:lnTo>
                <a:cubicBezTo>
                  <a:pt x="12671" y="13751"/>
                  <a:pt x="13472" y="14482"/>
                  <a:pt x="14508" y="14482"/>
                </a:cubicBezTo>
                <a:lnTo>
                  <a:pt x="16170" y="14482"/>
                </a:lnTo>
                <a:cubicBezTo>
                  <a:pt x="17206" y="14482"/>
                  <a:pt x="18007" y="13751"/>
                  <a:pt x="18007" y="12828"/>
                </a:cubicBezTo>
                <a:lnTo>
                  <a:pt x="18007" y="7493"/>
                </a:lnTo>
                <a:lnTo>
                  <a:pt x="16170" y="7493"/>
                </a:lnTo>
                <a:lnTo>
                  <a:pt x="19678" y="3985"/>
                </a:lnTo>
                <a:lnTo>
                  <a:pt x="23351" y="7493"/>
                </a:lnTo>
                <a:lnTo>
                  <a:pt x="21514" y="7493"/>
                </a:lnTo>
                <a:lnTo>
                  <a:pt x="21514" y="12828"/>
                </a:lnTo>
                <a:cubicBezTo>
                  <a:pt x="21514" y="15596"/>
                  <a:pt x="18938" y="18155"/>
                  <a:pt x="16170" y="18155"/>
                </a:cubicBezTo>
                <a:lnTo>
                  <a:pt x="14508" y="18155"/>
                </a:lnTo>
                <a:cubicBezTo>
                  <a:pt x="11740" y="18155"/>
                  <a:pt x="9164" y="15596"/>
                  <a:pt x="9164" y="12828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Пятно 1 4"/>
          <p:cNvSpPr/>
          <p:nvPr/>
        </p:nvSpPr>
        <p:spPr>
          <a:xfrm>
            <a:off x="2428920" y="3716280"/>
            <a:ext cx="3786120" cy="3141720"/>
          </a:xfrm>
          <a:prstGeom prst="irregularSeal1">
            <a:avLst/>
          </a:prstGeom>
          <a:solidFill>
            <a:srgbClr val="ff996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3 балл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5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0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5" descr="E:\Надя\картинки\Изображение 567.jpg"/>
          <p:cNvPicPr/>
          <p:nvPr/>
        </p:nvPicPr>
        <p:blipFill>
          <a:blip r:embed="rId1"/>
          <a:stretch/>
        </p:blipFill>
        <p:spPr>
          <a:xfrm>
            <a:off x="-428760" y="-428760"/>
            <a:ext cx="10058400" cy="77724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686800" cy="15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Comic Sans MS"/>
              </a:rPr>
              <a:t>Какую тайну открыл Бурмин Марье Гавриловне у пруда под ивами?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5857920" y="2000160"/>
            <a:ext cx="282888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632523"/>
                </a:solidFill>
                <a:latin typeface="Calibri"/>
              </a:rPr>
              <a:t>Женат,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632523"/>
                </a:solidFill>
                <a:latin typeface="Calibri"/>
              </a:rPr>
              <a:t>но не знает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632523"/>
                </a:solidFill>
                <a:latin typeface="Calibri"/>
              </a:rPr>
              <a:t>на ком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Управляющая кнопка: возврат 3"/>
          <p:cNvSpPr/>
          <p:nvPr/>
        </p:nvSpPr>
        <p:spPr>
          <a:xfrm>
            <a:off x="7740720" y="5877000"/>
            <a:ext cx="1079280" cy="720720"/>
          </a:xfrm>
          <a:custGeom>
            <a:avLst/>
            <a:gdLst>
              <a:gd name="textAreaLeft" fmla="*/ 46440 w 1079280"/>
              <a:gd name="textAreaRight" fmla="*/ 1032840 w 107928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32341" h="21600">
                <a:moveTo>
                  <a:pt x="0" y="0"/>
                </a:moveTo>
                <a:lnTo>
                  <a:pt x="32341" y="0"/>
                </a:lnTo>
                <a:lnTo>
                  <a:pt x="32341" y="21600"/>
                </a:lnTo>
                <a:lnTo>
                  <a:pt x="0" y="21600"/>
                </a:lnTo>
                <a:close/>
              </a:path>
              <a:path fill="lightenLess" w="32341" h="21600">
                <a:moveTo>
                  <a:pt x="0" y="0"/>
                </a:moveTo>
                <a:lnTo>
                  <a:pt x="32341" y="0"/>
                </a:lnTo>
                <a:lnTo>
                  <a:pt x="30941" y="1400"/>
                </a:lnTo>
                <a:lnTo>
                  <a:pt x="1400" y="1400"/>
                </a:lnTo>
                <a:close/>
              </a:path>
              <a:path fill="darken" w="32341" h="21600">
                <a:moveTo>
                  <a:pt x="32341" y="0"/>
                </a:moveTo>
                <a:lnTo>
                  <a:pt x="32341" y="21600"/>
                </a:lnTo>
                <a:lnTo>
                  <a:pt x="30941" y="20200"/>
                </a:lnTo>
                <a:lnTo>
                  <a:pt x="30941" y="1400"/>
                </a:lnTo>
                <a:close/>
              </a:path>
              <a:path fill="darkenLess" w="32341" h="21600">
                <a:moveTo>
                  <a:pt x="323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41" y="20200"/>
                </a:lnTo>
                <a:close/>
              </a:path>
              <a:path fill="lighten" w="323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41" h="21600">
                <a:moveTo>
                  <a:pt x="9164" y="7493"/>
                </a:moveTo>
                <a:lnTo>
                  <a:pt x="12671" y="7493"/>
                </a:lnTo>
                <a:lnTo>
                  <a:pt x="12671" y="12828"/>
                </a:lnTo>
                <a:cubicBezTo>
                  <a:pt x="12671" y="13751"/>
                  <a:pt x="13472" y="14482"/>
                  <a:pt x="14508" y="14482"/>
                </a:cubicBezTo>
                <a:lnTo>
                  <a:pt x="16170" y="14482"/>
                </a:lnTo>
                <a:cubicBezTo>
                  <a:pt x="17206" y="14482"/>
                  <a:pt x="18007" y="13751"/>
                  <a:pt x="18007" y="12828"/>
                </a:cubicBezTo>
                <a:lnTo>
                  <a:pt x="18007" y="7493"/>
                </a:lnTo>
                <a:lnTo>
                  <a:pt x="16170" y="7493"/>
                </a:lnTo>
                <a:lnTo>
                  <a:pt x="19678" y="3985"/>
                </a:lnTo>
                <a:lnTo>
                  <a:pt x="23351" y="7493"/>
                </a:lnTo>
                <a:lnTo>
                  <a:pt x="21514" y="7493"/>
                </a:lnTo>
                <a:lnTo>
                  <a:pt x="21514" y="12828"/>
                </a:lnTo>
                <a:cubicBezTo>
                  <a:pt x="21514" y="15596"/>
                  <a:pt x="18938" y="18155"/>
                  <a:pt x="16170" y="18155"/>
                </a:cubicBezTo>
                <a:lnTo>
                  <a:pt x="14508" y="18155"/>
                </a:lnTo>
                <a:cubicBezTo>
                  <a:pt x="11740" y="18155"/>
                  <a:pt x="9164" y="15596"/>
                  <a:pt x="9164" y="12828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ятно 1 4"/>
          <p:cNvSpPr/>
          <p:nvPr/>
        </p:nvSpPr>
        <p:spPr>
          <a:xfrm>
            <a:off x="2071800" y="3071880"/>
            <a:ext cx="3643200" cy="3500280"/>
          </a:xfrm>
          <a:prstGeom prst="irregularSeal1">
            <a:avLst/>
          </a:prstGeom>
          <a:solidFill>
            <a:srgbClr val="fac09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4 балл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7" dur="5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2" dur="5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5" descr="E:\Надя\картинки\Изображение 567.jpg"/>
          <p:cNvPicPr/>
          <p:nvPr/>
        </p:nvPicPr>
        <p:blipFill>
          <a:blip r:embed="rId1"/>
          <a:stretch/>
        </p:blipFill>
        <p:spPr>
          <a:xfrm>
            <a:off x="-457200" y="-457200"/>
            <a:ext cx="10058400" cy="777240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15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Чем закончилась вторая дуэль Сильвио и графа Б.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5714640" y="2636640"/>
            <a:ext cx="2971800" cy="368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32523"/>
                </a:solidFill>
                <a:latin typeface="Calibri"/>
              </a:rPr>
              <a:t>Вбежала жена, граф был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32523"/>
                </a:solidFill>
                <a:latin typeface="Calibri"/>
              </a:rPr>
              <a:t>в смятени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Управляющая кнопка: возврат 3"/>
          <p:cNvSpPr/>
          <p:nvPr/>
        </p:nvSpPr>
        <p:spPr>
          <a:xfrm>
            <a:off x="7740720" y="5877000"/>
            <a:ext cx="1079280" cy="720720"/>
          </a:xfrm>
          <a:custGeom>
            <a:avLst/>
            <a:gdLst>
              <a:gd name="textAreaLeft" fmla="*/ 46440 w 1079280"/>
              <a:gd name="textAreaRight" fmla="*/ 1032840 w 107928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32341" h="21600">
                <a:moveTo>
                  <a:pt x="0" y="0"/>
                </a:moveTo>
                <a:lnTo>
                  <a:pt x="32341" y="0"/>
                </a:lnTo>
                <a:lnTo>
                  <a:pt x="32341" y="21600"/>
                </a:lnTo>
                <a:lnTo>
                  <a:pt x="0" y="21600"/>
                </a:lnTo>
                <a:close/>
              </a:path>
              <a:path fill="lightenLess" w="32341" h="21600">
                <a:moveTo>
                  <a:pt x="0" y="0"/>
                </a:moveTo>
                <a:lnTo>
                  <a:pt x="32341" y="0"/>
                </a:lnTo>
                <a:lnTo>
                  <a:pt x="30941" y="1400"/>
                </a:lnTo>
                <a:lnTo>
                  <a:pt x="1400" y="1400"/>
                </a:lnTo>
                <a:close/>
              </a:path>
              <a:path fill="darken" w="32341" h="21600">
                <a:moveTo>
                  <a:pt x="32341" y="0"/>
                </a:moveTo>
                <a:lnTo>
                  <a:pt x="32341" y="21600"/>
                </a:lnTo>
                <a:lnTo>
                  <a:pt x="30941" y="20200"/>
                </a:lnTo>
                <a:lnTo>
                  <a:pt x="30941" y="1400"/>
                </a:lnTo>
                <a:close/>
              </a:path>
              <a:path fill="darkenLess" w="32341" h="21600">
                <a:moveTo>
                  <a:pt x="323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41" y="20200"/>
                </a:lnTo>
                <a:close/>
              </a:path>
              <a:path fill="lighten" w="323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41" h="21600">
                <a:moveTo>
                  <a:pt x="9164" y="7493"/>
                </a:moveTo>
                <a:lnTo>
                  <a:pt x="12671" y="7493"/>
                </a:lnTo>
                <a:lnTo>
                  <a:pt x="12671" y="12828"/>
                </a:lnTo>
                <a:cubicBezTo>
                  <a:pt x="12671" y="13751"/>
                  <a:pt x="13472" y="14482"/>
                  <a:pt x="14508" y="14482"/>
                </a:cubicBezTo>
                <a:lnTo>
                  <a:pt x="16170" y="14482"/>
                </a:lnTo>
                <a:cubicBezTo>
                  <a:pt x="17206" y="14482"/>
                  <a:pt x="18007" y="13751"/>
                  <a:pt x="18007" y="12828"/>
                </a:cubicBezTo>
                <a:lnTo>
                  <a:pt x="18007" y="7493"/>
                </a:lnTo>
                <a:lnTo>
                  <a:pt x="16170" y="7493"/>
                </a:lnTo>
                <a:lnTo>
                  <a:pt x="19678" y="3985"/>
                </a:lnTo>
                <a:lnTo>
                  <a:pt x="23351" y="7493"/>
                </a:lnTo>
                <a:lnTo>
                  <a:pt x="21514" y="7493"/>
                </a:lnTo>
                <a:lnTo>
                  <a:pt x="21514" y="12828"/>
                </a:lnTo>
                <a:cubicBezTo>
                  <a:pt x="21514" y="15596"/>
                  <a:pt x="18938" y="18155"/>
                  <a:pt x="16170" y="18155"/>
                </a:cubicBezTo>
                <a:lnTo>
                  <a:pt x="14508" y="18155"/>
                </a:lnTo>
                <a:cubicBezTo>
                  <a:pt x="11740" y="18155"/>
                  <a:pt x="9164" y="15596"/>
                  <a:pt x="9164" y="12828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Пятно 1 4"/>
          <p:cNvSpPr/>
          <p:nvPr/>
        </p:nvSpPr>
        <p:spPr>
          <a:xfrm>
            <a:off x="2214720" y="2997360"/>
            <a:ext cx="3357360" cy="3431880"/>
          </a:xfrm>
          <a:prstGeom prst="irregularSeal1">
            <a:avLst/>
          </a:prstGeom>
          <a:solidFill>
            <a:srgbClr val="fac09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4 балл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4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9" dur="5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4" dur="5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3" descr="E:\Надя\картинки\Изображение 567.jpg"/>
          <p:cNvPicPr/>
          <p:nvPr/>
        </p:nvPicPr>
        <p:blipFill>
          <a:blip r:embed="rId1"/>
          <a:stretch/>
        </p:blipFill>
        <p:spPr>
          <a:xfrm>
            <a:off x="-843120" y="-428760"/>
            <a:ext cx="9987120" cy="777240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Болдинская осень. 1830 год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4" descr="Точечный%20рисунок"/>
          <p:cNvPicPr/>
          <p:nvPr/>
        </p:nvPicPr>
        <p:blipFill>
          <a:blip r:embed="rId2"/>
          <a:stretch/>
        </p:blipFill>
        <p:spPr>
          <a:xfrm>
            <a:off x="4946760" y="1500120"/>
            <a:ext cx="4197240" cy="5616720"/>
          </a:xfrm>
          <a:prstGeom prst="rect">
            <a:avLst/>
          </a:prstGeom>
          <a:ln w="0">
            <a:noFill/>
          </a:ln>
        </p:spPr>
      </p:pic>
      <p:sp>
        <p:nvSpPr>
          <p:cNvPr id="57" name="Прямоугольник 4"/>
          <p:cNvSpPr/>
          <p:nvPr/>
        </p:nvSpPr>
        <p:spPr>
          <a:xfrm>
            <a:off x="0" y="1000080"/>
            <a:ext cx="5000760" cy="54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« Нигде мне так хорошо не пишется, как осенью в деревне,» -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исал А. Пушк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e1c11"/>
                </a:solidFill>
                <a:latin typeface="Arial"/>
              </a:rPr>
              <a:t>«Повести Белкина» </a:t>
            </a:r>
            <a:r>
              <a:rPr b="1" lang="ru-RU" sz="2400" spc="-1" strike="noStrike">
                <a:solidFill>
                  <a:srgbClr val="1e1c11"/>
                </a:solidFill>
                <a:latin typeface="Arial"/>
              </a:rPr>
              <a:t>- первое законченное прозаическое произведение А.С.Пушкин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e1c1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e1c11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1e1c11"/>
                </a:solidFill>
                <a:latin typeface="Arial"/>
              </a:rPr>
              <a:t>« Выстрел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e1c1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e1c11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1e1c11"/>
                </a:solidFill>
                <a:latin typeface="Arial"/>
              </a:rPr>
              <a:t>«Метель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e1c1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e1c11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1e1c11"/>
                </a:solidFill>
                <a:latin typeface="Arial"/>
              </a:rPr>
              <a:t>«Станционный смотритель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e1c1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e1c11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1e1c11"/>
                </a:solidFill>
                <a:latin typeface="Arial"/>
              </a:rPr>
              <a:t>«Гробовщик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e1c1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e1c11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1e1c11"/>
                </a:solidFill>
                <a:latin typeface="Arial"/>
              </a:rPr>
              <a:t>«Барышня-крестьянк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6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7" dur="2000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2" dur="2000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7" dur="2000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2" dur="2000"/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7" dur="2000"/>
                                        <p:tgtEl>
                                          <p:spTgt spid="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5" descr="E:\Надя\картинки\Изображение 567.jpg"/>
          <p:cNvPicPr/>
          <p:nvPr/>
        </p:nvPicPr>
        <p:blipFill>
          <a:blip r:embed="rId1"/>
          <a:stretch/>
        </p:blipFill>
        <p:spPr>
          <a:xfrm>
            <a:off x="-457200" y="-457200"/>
            <a:ext cx="10058400" cy="777240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71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Как называлось имение Берестовых и как – имение Муромских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5214960" y="2071800"/>
            <a:ext cx="3471840" cy="400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32523"/>
                </a:solidFill>
                <a:latin typeface="Calibri"/>
              </a:rPr>
              <a:t>Берестовы жили в Тугилове, а Муромские – в Прилучин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Управляющая кнопка: возврат 3"/>
          <p:cNvSpPr/>
          <p:nvPr/>
        </p:nvSpPr>
        <p:spPr>
          <a:xfrm>
            <a:off x="7740720" y="5877000"/>
            <a:ext cx="1079280" cy="720720"/>
          </a:xfrm>
          <a:custGeom>
            <a:avLst/>
            <a:gdLst>
              <a:gd name="textAreaLeft" fmla="*/ 46440 w 1079280"/>
              <a:gd name="textAreaRight" fmla="*/ 1032840 w 107928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32341" h="21600">
                <a:moveTo>
                  <a:pt x="0" y="0"/>
                </a:moveTo>
                <a:lnTo>
                  <a:pt x="32341" y="0"/>
                </a:lnTo>
                <a:lnTo>
                  <a:pt x="32341" y="21600"/>
                </a:lnTo>
                <a:lnTo>
                  <a:pt x="0" y="21600"/>
                </a:lnTo>
                <a:close/>
              </a:path>
              <a:path fill="lightenLess" w="32341" h="21600">
                <a:moveTo>
                  <a:pt x="0" y="0"/>
                </a:moveTo>
                <a:lnTo>
                  <a:pt x="32341" y="0"/>
                </a:lnTo>
                <a:lnTo>
                  <a:pt x="30941" y="1400"/>
                </a:lnTo>
                <a:lnTo>
                  <a:pt x="1400" y="1400"/>
                </a:lnTo>
                <a:close/>
              </a:path>
              <a:path fill="darken" w="32341" h="21600">
                <a:moveTo>
                  <a:pt x="32341" y="0"/>
                </a:moveTo>
                <a:lnTo>
                  <a:pt x="32341" y="21600"/>
                </a:lnTo>
                <a:lnTo>
                  <a:pt x="30941" y="20200"/>
                </a:lnTo>
                <a:lnTo>
                  <a:pt x="30941" y="1400"/>
                </a:lnTo>
                <a:close/>
              </a:path>
              <a:path fill="darkenLess" w="32341" h="21600">
                <a:moveTo>
                  <a:pt x="323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41" y="20200"/>
                </a:lnTo>
                <a:close/>
              </a:path>
              <a:path fill="lighten" w="323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41" h="21600">
                <a:moveTo>
                  <a:pt x="9164" y="7493"/>
                </a:moveTo>
                <a:lnTo>
                  <a:pt x="12671" y="7493"/>
                </a:lnTo>
                <a:lnTo>
                  <a:pt x="12671" y="12828"/>
                </a:lnTo>
                <a:cubicBezTo>
                  <a:pt x="12671" y="13751"/>
                  <a:pt x="13472" y="14482"/>
                  <a:pt x="14508" y="14482"/>
                </a:cubicBezTo>
                <a:lnTo>
                  <a:pt x="16170" y="14482"/>
                </a:lnTo>
                <a:cubicBezTo>
                  <a:pt x="17206" y="14482"/>
                  <a:pt x="18007" y="13751"/>
                  <a:pt x="18007" y="12828"/>
                </a:cubicBezTo>
                <a:lnTo>
                  <a:pt x="18007" y="7493"/>
                </a:lnTo>
                <a:lnTo>
                  <a:pt x="16170" y="7493"/>
                </a:lnTo>
                <a:lnTo>
                  <a:pt x="19678" y="3985"/>
                </a:lnTo>
                <a:lnTo>
                  <a:pt x="23351" y="7493"/>
                </a:lnTo>
                <a:lnTo>
                  <a:pt x="21514" y="7493"/>
                </a:lnTo>
                <a:lnTo>
                  <a:pt x="21514" y="12828"/>
                </a:lnTo>
                <a:cubicBezTo>
                  <a:pt x="21514" y="15596"/>
                  <a:pt x="18938" y="18155"/>
                  <a:pt x="16170" y="18155"/>
                </a:cubicBezTo>
                <a:lnTo>
                  <a:pt x="14508" y="18155"/>
                </a:lnTo>
                <a:cubicBezTo>
                  <a:pt x="11740" y="18155"/>
                  <a:pt x="9164" y="15596"/>
                  <a:pt x="9164" y="12828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Пятно 2 4"/>
          <p:cNvSpPr/>
          <p:nvPr/>
        </p:nvSpPr>
        <p:spPr>
          <a:xfrm>
            <a:off x="2214720" y="4071960"/>
            <a:ext cx="3429000" cy="2571840"/>
          </a:xfrm>
          <a:prstGeom prst="irregularSeal2">
            <a:avLst/>
          </a:prstGeom>
          <a:solidFill>
            <a:srgbClr val="fac09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4 бал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10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9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5" descr="E:\Надя\картинки\Изображение 567.jpg"/>
          <p:cNvPicPr/>
          <p:nvPr/>
        </p:nvPicPr>
        <p:blipFill>
          <a:blip r:embed="rId1"/>
          <a:stretch/>
        </p:blipFill>
        <p:spPr>
          <a:xfrm>
            <a:off x="-457200" y="-457200"/>
            <a:ext cx="10058400" cy="777240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78920" y="333360"/>
            <a:ext cx="8713800" cy="25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Когда и где происходят события повести «Метель»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929200" y="2142720"/>
            <a:ext cx="2757600" cy="418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32523"/>
                </a:solidFill>
                <a:latin typeface="Calibri"/>
              </a:rPr>
              <a:t>В поместье Ненарадово в 1811-1812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Управляющая кнопка: возврат 3"/>
          <p:cNvSpPr/>
          <p:nvPr/>
        </p:nvSpPr>
        <p:spPr>
          <a:xfrm>
            <a:off x="7740720" y="5877000"/>
            <a:ext cx="1079280" cy="720720"/>
          </a:xfrm>
          <a:custGeom>
            <a:avLst/>
            <a:gdLst>
              <a:gd name="textAreaLeft" fmla="*/ 46440 w 1079280"/>
              <a:gd name="textAreaRight" fmla="*/ 1032840 w 107928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32341" h="21600">
                <a:moveTo>
                  <a:pt x="0" y="0"/>
                </a:moveTo>
                <a:lnTo>
                  <a:pt x="32341" y="0"/>
                </a:lnTo>
                <a:lnTo>
                  <a:pt x="32341" y="21600"/>
                </a:lnTo>
                <a:lnTo>
                  <a:pt x="0" y="21600"/>
                </a:lnTo>
                <a:close/>
              </a:path>
              <a:path fill="lightenLess" w="32341" h="21600">
                <a:moveTo>
                  <a:pt x="0" y="0"/>
                </a:moveTo>
                <a:lnTo>
                  <a:pt x="32341" y="0"/>
                </a:lnTo>
                <a:lnTo>
                  <a:pt x="30941" y="1400"/>
                </a:lnTo>
                <a:lnTo>
                  <a:pt x="1400" y="1400"/>
                </a:lnTo>
                <a:close/>
              </a:path>
              <a:path fill="darken" w="32341" h="21600">
                <a:moveTo>
                  <a:pt x="32341" y="0"/>
                </a:moveTo>
                <a:lnTo>
                  <a:pt x="32341" y="21600"/>
                </a:lnTo>
                <a:lnTo>
                  <a:pt x="30941" y="20200"/>
                </a:lnTo>
                <a:lnTo>
                  <a:pt x="30941" y="1400"/>
                </a:lnTo>
                <a:close/>
              </a:path>
              <a:path fill="darkenLess" w="32341" h="21600">
                <a:moveTo>
                  <a:pt x="323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41" y="20200"/>
                </a:lnTo>
                <a:close/>
              </a:path>
              <a:path fill="lighten" w="323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41" h="21600">
                <a:moveTo>
                  <a:pt x="9164" y="7493"/>
                </a:moveTo>
                <a:lnTo>
                  <a:pt x="12671" y="7493"/>
                </a:lnTo>
                <a:lnTo>
                  <a:pt x="12671" y="12828"/>
                </a:lnTo>
                <a:cubicBezTo>
                  <a:pt x="12671" y="13751"/>
                  <a:pt x="13472" y="14482"/>
                  <a:pt x="14508" y="14482"/>
                </a:cubicBezTo>
                <a:lnTo>
                  <a:pt x="16170" y="14482"/>
                </a:lnTo>
                <a:cubicBezTo>
                  <a:pt x="17206" y="14482"/>
                  <a:pt x="18007" y="13751"/>
                  <a:pt x="18007" y="12828"/>
                </a:cubicBezTo>
                <a:lnTo>
                  <a:pt x="18007" y="7493"/>
                </a:lnTo>
                <a:lnTo>
                  <a:pt x="16170" y="7493"/>
                </a:lnTo>
                <a:lnTo>
                  <a:pt x="19678" y="3985"/>
                </a:lnTo>
                <a:lnTo>
                  <a:pt x="23351" y="7493"/>
                </a:lnTo>
                <a:lnTo>
                  <a:pt x="21514" y="7493"/>
                </a:lnTo>
                <a:lnTo>
                  <a:pt x="21514" y="12828"/>
                </a:lnTo>
                <a:cubicBezTo>
                  <a:pt x="21514" y="15596"/>
                  <a:pt x="18938" y="18155"/>
                  <a:pt x="16170" y="18155"/>
                </a:cubicBezTo>
                <a:lnTo>
                  <a:pt x="14508" y="18155"/>
                </a:lnTo>
                <a:cubicBezTo>
                  <a:pt x="11740" y="18155"/>
                  <a:pt x="9164" y="15596"/>
                  <a:pt x="9164" y="12828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Пятно 2 4"/>
          <p:cNvSpPr/>
          <p:nvPr/>
        </p:nvSpPr>
        <p:spPr>
          <a:xfrm>
            <a:off x="2000160" y="3500280"/>
            <a:ext cx="4143600" cy="3071880"/>
          </a:xfrm>
          <a:prstGeom prst="irregularSeal2">
            <a:avLst/>
          </a:prstGeom>
          <a:solidFill>
            <a:srgbClr val="ffcc6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2 бал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81" dur="20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5" descr="E:\Надя\картинки\Изображение 567.jpg"/>
          <p:cNvPicPr/>
          <p:nvPr/>
        </p:nvPicPr>
        <p:blipFill>
          <a:blip r:embed="rId1"/>
          <a:stretch/>
        </p:blipFill>
        <p:spPr>
          <a:xfrm>
            <a:off x="0" y="-642960"/>
            <a:ext cx="10058400" cy="777240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71280" y="704880"/>
            <a:ext cx="7715160" cy="229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Что произошло с Сильвио в конце повести «Выстрел»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5857560" y="2642760"/>
            <a:ext cx="30718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632523"/>
                </a:solidFill>
                <a:latin typeface="Calibri"/>
              </a:rPr>
              <a:t>Был убит в сражении под Скулянами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Управляющая кнопка: возврат 3"/>
          <p:cNvSpPr/>
          <p:nvPr/>
        </p:nvSpPr>
        <p:spPr>
          <a:xfrm>
            <a:off x="7740720" y="5877000"/>
            <a:ext cx="1079280" cy="720720"/>
          </a:xfrm>
          <a:custGeom>
            <a:avLst/>
            <a:gdLst>
              <a:gd name="textAreaLeft" fmla="*/ 46440 w 1079280"/>
              <a:gd name="textAreaRight" fmla="*/ 1032840 w 107928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32341" h="21600">
                <a:moveTo>
                  <a:pt x="0" y="0"/>
                </a:moveTo>
                <a:lnTo>
                  <a:pt x="32341" y="0"/>
                </a:lnTo>
                <a:lnTo>
                  <a:pt x="32341" y="21600"/>
                </a:lnTo>
                <a:lnTo>
                  <a:pt x="0" y="21600"/>
                </a:lnTo>
                <a:close/>
              </a:path>
              <a:path fill="lightenLess" w="32341" h="21600">
                <a:moveTo>
                  <a:pt x="0" y="0"/>
                </a:moveTo>
                <a:lnTo>
                  <a:pt x="32341" y="0"/>
                </a:lnTo>
                <a:lnTo>
                  <a:pt x="30941" y="1400"/>
                </a:lnTo>
                <a:lnTo>
                  <a:pt x="1400" y="1400"/>
                </a:lnTo>
                <a:close/>
              </a:path>
              <a:path fill="darken" w="32341" h="21600">
                <a:moveTo>
                  <a:pt x="32341" y="0"/>
                </a:moveTo>
                <a:lnTo>
                  <a:pt x="32341" y="21600"/>
                </a:lnTo>
                <a:lnTo>
                  <a:pt x="30941" y="20200"/>
                </a:lnTo>
                <a:lnTo>
                  <a:pt x="30941" y="1400"/>
                </a:lnTo>
                <a:close/>
              </a:path>
              <a:path fill="darkenLess" w="32341" h="21600">
                <a:moveTo>
                  <a:pt x="323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41" y="20200"/>
                </a:lnTo>
                <a:close/>
              </a:path>
              <a:path fill="lighten" w="323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41" h="21600">
                <a:moveTo>
                  <a:pt x="9164" y="7493"/>
                </a:moveTo>
                <a:lnTo>
                  <a:pt x="12671" y="7493"/>
                </a:lnTo>
                <a:lnTo>
                  <a:pt x="12671" y="12828"/>
                </a:lnTo>
                <a:cubicBezTo>
                  <a:pt x="12671" y="13751"/>
                  <a:pt x="13472" y="14482"/>
                  <a:pt x="14508" y="14482"/>
                </a:cubicBezTo>
                <a:lnTo>
                  <a:pt x="16170" y="14482"/>
                </a:lnTo>
                <a:cubicBezTo>
                  <a:pt x="17206" y="14482"/>
                  <a:pt x="18007" y="13751"/>
                  <a:pt x="18007" y="12828"/>
                </a:cubicBezTo>
                <a:lnTo>
                  <a:pt x="18007" y="7493"/>
                </a:lnTo>
                <a:lnTo>
                  <a:pt x="16170" y="7493"/>
                </a:lnTo>
                <a:lnTo>
                  <a:pt x="19678" y="3985"/>
                </a:lnTo>
                <a:lnTo>
                  <a:pt x="23351" y="7493"/>
                </a:lnTo>
                <a:lnTo>
                  <a:pt x="21514" y="7493"/>
                </a:lnTo>
                <a:lnTo>
                  <a:pt x="21514" y="12828"/>
                </a:lnTo>
                <a:cubicBezTo>
                  <a:pt x="21514" y="15596"/>
                  <a:pt x="18938" y="18155"/>
                  <a:pt x="16170" y="18155"/>
                </a:cubicBezTo>
                <a:lnTo>
                  <a:pt x="14508" y="18155"/>
                </a:lnTo>
                <a:cubicBezTo>
                  <a:pt x="11740" y="18155"/>
                  <a:pt x="9164" y="15596"/>
                  <a:pt x="9164" y="12828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ятно 1 4"/>
          <p:cNvSpPr/>
          <p:nvPr/>
        </p:nvSpPr>
        <p:spPr>
          <a:xfrm>
            <a:off x="2000160" y="3071880"/>
            <a:ext cx="4071960" cy="3357360"/>
          </a:xfrm>
          <a:prstGeom prst="irregularSeal1">
            <a:avLst/>
          </a:prstGeom>
          <a:solidFill>
            <a:srgbClr val="fac09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3 балл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8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3" dur="5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5" descr="E:\Надя\картинки\Изображение 567.jpg"/>
          <p:cNvPicPr/>
          <p:nvPr/>
        </p:nvPicPr>
        <p:blipFill>
          <a:blip r:embed="rId1"/>
          <a:stretch/>
        </p:blipFill>
        <p:spPr>
          <a:xfrm>
            <a:off x="-357120" y="-500040"/>
            <a:ext cx="10058400" cy="77724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71280" y="704520"/>
            <a:ext cx="7715160" cy="200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Кем представлялась Лиза Муромская Алексею Берестову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857920" y="2428560"/>
            <a:ext cx="2828880" cy="389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32523"/>
                </a:solidFill>
                <a:latin typeface="Calibri"/>
              </a:rPr>
              <a:t>Акулиною, дочерью Василия-кузнец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Управляющая кнопка: возврат 3"/>
          <p:cNvSpPr/>
          <p:nvPr/>
        </p:nvSpPr>
        <p:spPr>
          <a:xfrm>
            <a:off x="7740720" y="5877000"/>
            <a:ext cx="1079280" cy="720720"/>
          </a:xfrm>
          <a:custGeom>
            <a:avLst/>
            <a:gdLst>
              <a:gd name="textAreaLeft" fmla="*/ 46440 w 1079280"/>
              <a:gd name="textAreaRight" fmla="*/ 1032840 w 107928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32341" h="21600">
                <a:moveTo>
                  <a:pt x="0" y="0"/>
                </a:moveTo>
                <a:lnTo>
                  <a:pt x="32341" y="0"/>
                </a:lnTo>
                <a:lnTo>
                  <a:pt x="32341" y="21600"/>
                </a:lnTo>
                <a:lnTo>
                  <a:pt x="0" y="21600"/>
                </a:lnTo>
                <a:close/>
              </a:path>
              <a:path fill="lightenLess" w="32341" h="21600">
                <a:moveTo>
                  <a:pt x="0" y="0"/>
                </a:moveTo>
                <a:lnTo>
                  <a:pt x="32341" y="0"/>
                </a:lnTo>
                <a:lnTo>
                  <a:pt x="30941" y="1400"/>
                </a:lnTo>
                <a:lnTo>
                  <a:pt x="1400" y="1400"/>
                </a:lnTo>
                <a:close/>
              </a:path>
              <a:path fill="darken" w="32341" h="21600">
                <a:moveTo>
                  <a:pt x="32341" y="0"/>
                </a:moveTo>
                <a:lnTo>
                  <a:pt x="32341" y="21600"/>
                </a:lnTo>
                <a:lnTo>
                  <a:pt x="30941" y="20200"/>
                </a:lnTo>
                <a:lnTo>
                  <a:pt x="30941" y="1400"/>
                </a:lnTo>
                <a:close/>
              </a:path>
              <a:path fill="darkenLess" w="32341" h="21600">
                <a:moveTo>
                  <a:pt x="323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41" y="20200"/>
                </a:lnTo>
                <a:close/>
              </a:path>
              <a:path fill="lighten" w="323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41" h="21600">
                <a:moveTo>
                  <a:pt x="9164" y="7493"/>
                </a:moveTo>
                <a:lnTo>
                  <a:pt x="12671" y="7493"/>
                </a:lnTo>
                <a:lnTo>
                  <a:pt x="12671" y="12828"/>
                </a:lnTo>
                <a:cubicBezTo>
                  <a:pt x="12671" y="13751"/>
                  <a:pt x="13472" y="14482"/>
                  <a:pt x="14508" y="14482"/>
                </a:cubicBezTo>
                <a:lnTo>
                  <a:pt x="16170" y="14482"/>
                </a:lnTo>
                <a:cubicBezTo>
                  <a:pt x="17206" y="14482"/>
                  <a:pt x="18007" y="13751"/>
                  <a:pt x="18007" y="12828"/>
                </a:cubicBezTo>
                <a:lnTo>
                  <a:pt x="18007" y="7493"/>
                </a:lnTo>
                <a:lnTo>
                  <a:pt x="16170" y="7493"/>
                </a:lnTo>
                <a:lnTo>
                  <a:pt x="19678" y="3985"/>
                </a:lnTo>
                <a:lnTo>
                  <a:pt x="23351" y="7493"/>
                </a:lnTo>
                <a:lnTo>
                  <a:pt x="21514" y="7493"/>
                </a:lnTo>
                <a:lnTo>
                  <a:pt x="21514" y="12828"/>
                </a:lnTo>
                <a:cubicBezTo>
                  <a:pt x="21514" y="15596"/>
                  <a:pt x="18938" y="18155"/>
                  <a:pt x="16170" y="18155"/>
                </a:cubicBezTo>
                <a:lnTo>
                  <a:pt x="14508" y="18155"/>
                </a:lnTo>
                <a:cubicBezTo>
                  <a:pt x="11740" y="18155"/>
                  <a:pt x="9164" y="15596"/>
                  <a:pt x="9164" y="12828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ятно 1 4"/>
          <p:cNvSpPr/>
          <p:nvPr/>
        </p:nvSpPr>
        <p:spPr>
          <a:xfrm>
            <a:off x="2357280" y="3214800"/>
            <a:ext cx="4071960" cy="3500280"/>
          </a:xfrm>
          <a:prstGeom prst="irregularSeal1">
            <a:avLst/>
          </a:prstGeom>
          <a:solidFill>
            <a:srgbClr val="ffcc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2 бал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05" dur="20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5" descr="E:\Надя\картинки\Изображение 567.jpg"/>
          <p:cNvPicPr/>
          <p:nvPr/>
        </p:nvPicPr>
        <p:blipFill>
          <a:blip r:embed="rId1"/>
          <a:stretch/>
        </p:blipFill>
        <p:spPr>
          <a:xfrm>
            <a:off x="-457200" y="-457200"/>
            <a:ext cx="10058400" cy="777240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85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Узнайте героя: «…был в самом деле очень милый молодой человек. Он имел именно тот ум, который нравился женщинам. Поведение его с Марьей Гавриловной было просто и свободно…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6857640" y="3285720"/>
            <a:ext cx="2043000" cy="271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32523"/>
                </a:solidFill>
                <a:latin typeface="Calibri"/>
              </a:rPr>
              <a:t>Бурмин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Управляющая кнопка: возврат 3"/>
          <p:cNvSpPr/>
          <p:nvPr/>
        </p:nvSpPr>
        <p:spPr>
          <a:xfrm>
            <a:off x="7740720" y="5877000"/>
            <a:ext cx="1079280" cy="720720"/>
          </a:xfrm>
          <a:custGeom>
            <a:avLst/>
            <a:gdLst>
              <a:gd name="textAreaLeft" fmla="*/ 46440 w 1079280"/>
              <a:gd name="textAreaRight" fmla="*/ 1032840 w 107928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32341" h="21600">
                <a:moveTo>
                  <a:pt x="0" y="0"/>
                </a:moveTo>
                <a:lnTo>
                  <a:pt x="32341" y="0"/>
                </a:lnTo>
                <a:lnTo>
                  <a:pt x="32341" y="21600"/>
                </a:lnTo>
                <a:lnTo>
                  <a:pt x="0" y="21600"/>
                </a:lnTo>
                <a:close/>
              </a:path>
              <a:path fill="lightenLess" w="32341" h="21600">
                <a:moveTo>
                  <a:pt x="0" y="0"/>
                </a:moveTo>
                <a:lnTo>
                  <a:pt x="32341" y="0"/>
                </a:lnTo>
                <a:lnTo>
                  <a:pt x="30941" y="1400"/>
                </a:lnTo>
                <a:lnTo>
                  <a:pt x="1400" y="1400"/>
                </a:lnTo>
                <a:close/>
              </a:path>
              <a:path fill="darken" w="32341" h="21600">
                <a:moveTo>
                  <a:pt x="32341" y="0"/>
                </a:moveTo>
                <a:lnTo>
                  <a:pt x="32341" y="21600"/>
                </a:lnTo>
                <a:lnTo>
                  <a:pt x="30941" y="20200"/>
                </a:lnTo>
                <a:lnTo>
                  <a:pt x="30941" y="1400"/>
                </a:lnTo>
                <a:close/>
              </a:path>
              <a:path fill="darkenLess" w="32341" h="21600">
                <a:moveTo>
                  <a:pt x="323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41" y="20200"/>
                </a:lnTo>
                <a:close/>
              </a:path>
              <a:path fill="lighten" w="323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41" h="21600">
                <a:moveTo>
                  <a:pt x="9164" y="7493"/>
                </a:moveTo>
                <a:lnTo>
                  <a:pt x="12671" y="7493"/>
                </a:lnTo>
                <a:lnTo>
                  <a:pt x="12671" y="12828"/>
                </a:lnTo>
                <a:cubicBezTo>
                  <a:pt x="12671" y="13751"/>
                  <a:pt x="13472" y="14482"/>
                  <a:pt x="14508" y="14482"/>
                </a:cubicBezTo>
                <a:lnTo>
                  <a:pt x="16170" y="14482"/>
                </a:lnTo>
                <a:cubicBezTo>
                  <a:pt x="17206" y="14482"/>
                  <a:pt x="18007" y="13751"/>
                  <a:pt x="18007" y="12828"/>
                </a:cubicBezTo>
                <a:lnTo>
                  <a:pt x="18007" y="7493"/>
                </a:lnTo>
                <a:lnTo>
                  <a:pt x="16170" y="7493"/>
                </a:lnTo>
                <a:lnTo>
                  <a:pt x="19678" y="3985"/>
                </a:lnTo>
                <a:lnTo>
                  <a:pt x="23351" y="7493"/>
                </a:lnTo>
                <a:lnTo>
                  <a:pt x="21514" y="7493"/>
                </a:lnTo>
                <a:lnTo>
                  <a:pt x="21514" y="12828"/>
                </a:lnTo>
                <a:cubicBezTo>
                  <a:pt x="21514" y="15596"/>
                  <a:pt x="18938" y="18155"/>
                  <a:pt x="16170" y="18155"/>
                </a:cubicBezTo>
                <a:lnTo>
                  <a:pt x="14508" y="18155"/>
                </a:lnTo>
                <a:cubicBezTo>
                  <a:pt x="11740" y="18155"/>
                  <a:pt x="9164" y="15596"/>
                  <a:pt x="9164" y="12828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ятно 2 4"/>
          <p:cNvSpPr/>
          <p:nvPr/>
        </p:nvSpPr>
        <p:spPr>
          <a:xfrm>
            <a:off x="2000160" y="4071960"/>
            <a:ext cx="5072040" cy="2786040"/>
          </a:xfrm>
          <a:prstGeom prst="irregularSeal2">
            <a:avLst/>
          </a:prstGeom>
          <a:solidFill>
            <a:srgbClr val="f7964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2 бал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7" dur="5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5" descr="E:\Надя\картинки\Изображение 567.jpg"/>
          <p:cNvPicPr/>
          <p:nvPr/>
        </p:nvPicPr>
        <p:blipFill>
          <a:blip r:embed="rId1"/>
          <a:stretch/>
        </p:blipFill>
        <p:spPr>
          <a:xfrm>
            <a:off x="-500040" y="-428760"/>
            <a:ext cx="10058400" cy="777240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Что произошло в Жадринской церкви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5428800" y="1600200"/>
            <a:ext cx="3257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32523"/>
                </a:solidFill>
                <a:latin typeface="Calibri"/>
              </a:rPr>
              <a:t>Марья Гавриловна обвенчалась с незнакомце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Управляющая кнопка: возврат 3"/>
          <p:cNvSpPr/>
          <p:nvPr/>
        </p:nvSpPr>
        <p:spPr>
          <a:xfrm>
            <a:off x="7740720" y="5877000"/>
            <a:ext cx="1079280" cy="720720"/>
          </a:xfrm>
          <a:custGeom>
            <a:avLst/>
            <a:gdLst>
              <a:gd name="textAreaLeft" fmla="*/ 46440 w 1079280"/>
              <a:gd name="textAreaRight" fmla="*/ 1032840 w 107928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32341" h="21600">
                <a:moveTo>
                  <a:pt x="0" y="0"/>
                </a:moveTo>
                <a:lnTo>
                  <a:pt x="32341" y="0"/>
                </a:lnTo>
                <a:lnTo>
                  <a:pt x="32341" y="21600"/>
                </a:lnTo>
                <a:lnTo>
                  <a:pt x="0" y="21600"/>
                </a:lnTo>
                <a:close/>
              </a:path>
              <a:path fill="lightenLess" w="32341" h="21600">
                <a:moveTo>
                  <a:pt x="0" y="0"/>
                </a:moveTo>
                <a:lnTo>
                  <a:pt x="32341" y="0"/>
                </a:lnTo>
                <a:lnTo>
                  <a:pt x="30941" y="1400"/>
                </a:lnTo>
                <a:lnTo>
                  <a:pt x="1400" y="1400"/>
                </a:lnTo>
                <a:close/>
              </a:path>
              <a:path fill="darken" w="32341" h="21600">
                <a:moveTo>
                  <a:pt x="32341" y="0"/>
                </a:moveTo>
                <a:lnTo>
                  <a:pt x="32341" y="21600"/>
                </a:lnTo>
                <a:lnTo>
                  <a:pt x="30941" y="20200"/>
                </a:lnTo>
                <a:lnTo>
                  <a:pt x="30941" y="1400"/>
                </a:lnTo>
                <a:close/>
              </a:path>
              <a:path fill="darkenLess" w="32341" h="21600">
                <a:moveTo>
                  <a:pt x="323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41" y="20200"/>
                </a:lnTo>
                <a:close/>
              </a:path>
              <a:path fill="lighten" w="323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41" h="21600">
                <a:moveTo>
                  <a:pt x="9164" y="7493"/>
                </a:moveTo>
                <a:lnTo>
                  <a:pt x="12671" y="7493"/>
                </a:lnTo>
                <a:lnTo>
                  <a:pt x="12671" y="12828"/>
                </a:lnTo>
                <a:cubicBezTo>
                  <a:pt x="12671" y="13751"/>
                  <a:pt x="13472" y="14482"/>
                  <a:pt x="14508" y="14482"/>
                </a:cubicBezTo>
                <a:lnTo>
                  <a:pt x="16170" y="14482"/>
                </a:lnTo>
                <a:cubicBezTo>
                  <a:pt x="17206" y="14482"/>
                  <a:pt x="18007" y="13751"/>
                  <a:pt x="18007" y="12828"/>
                </a:cubicBezTo>
                <a:lnTo>
                  <a:pt x="18007" y="7493"/>
                </a:lnTo>
                <a:lnTo>
                  <a:pt x="16170" y="7493"/>
                </a:lnTo>
                <a:lnTo>
                  <a:pt x="19678" y="3985"/>
                </a:lnTo>
                <a:lnTo>
                  <a:pt x="23351" y="7493"/>
                </a:lnTo>
                <a:lnTo>
                  <a:pt x="21514" y="7493"/>
                </a:lnTo>
                <a:lnTo>
                  <a:pt x="21514" y="12828"/>
                </a:lnTo>
                <a:cubicBezTo>
                  <a:pt x="21514" y="15596"/>
                  <a:pt x="18938" y="18155"/>
                  <a:pt x="16170" y="18155"/>
                </a:cubicBezTo>
                <a:lnTo>
                  <a:pt x="14508" y="18155"/>
                </a:lnTo>
                <a:cubicBezTo>
                  <a:pt x="11740" y="18155"/>
                  <a:pt x="9164" y="15596"/>
                  <a:pt x="9164" y="12828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ятно 1 4"/>
          <p:cNvSpPr/>
          <p:nvPr/>
        </p:nvSpPr>
        <p:spPr>
          <a:xfrm>
            <a:off x="2000160" y="2571840"/>
            <a:ext cx="3786120" cy="3714840"/>
          </a:xfrm>
          <a:prstGeom prst="irregularSeal1">
            <a:avLst/>
          </a:prstGeom>
          <a:solidFill>
            <a:srgbClr val="ffcc6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1 бал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4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9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5" descr="E:\Надя\картинки\Изображение 567.jpg"/>
          <p:cNvPicPr/>
          <p:nvPr/>
        </p:nvPicPr>
        <p:blipFill>
          <a:blip r:embed="rId1"/>
          <a:stretch/>
        </p:blipFill>
        <p:spPr>
          <a:xfrm>
            <a:off x="-428760" y="-914400"/>
            <a:ext cx="10058400" cy="777240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58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В каком виде предстала Лиза перед Берестовыми, когда они приехали к Муромским на обед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8143920" y="1600200"/>
            <a:ext cx="542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Управляющая кнопка: возврат 3"/>
          <p:cNvSpPr/>
          <p:nvPr/>
        </p:nvSpPr>
        <p:spPr>
          <a:xfrm>
            <a:off x="7740720" y="5877000"/>
            <a:ext cx="1079280" cy="720720"/>
          </a:xfrm>
          <a:custGeom>
            <a:avLst/>
            <a:gdLst>
              <a:gd name="textAreaLeft" fmla="*/ 46440 w 1079280"/>
              <a:gd name="textAreaRight" fmla="*/ 1032840 w 107928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32341" h="21600">
                <a:moveTo>
                  <a:pt x="0" y="0"/>
                </a:moveTo>
                <a:lnTo>
                  <a:pt x="32341" y="0"/>
                </a:lnTo>
                <a:lnTo>
                  <a:pt x="32341" y="21600"/>
                </a:lnTo>
                <a:lnTo>
                  <a:pt x="0" y="21600"/>
                </a:lnTo>
                <a:close/>
              </a:path>
              <a:path fill="lightenLess" w="32341" h="21600">
                <a:moveTo>
                  <a:pt x="0" y="0"/>
                </a:moveTo>
                <a:lnTo>
                  <a:pt x="32341" y="0"/>
                </a:lnTo>
                <a:lnTo>
                  <a:pt x="30941" y="1400"/>
                </a:lnTo>
                <a:lnTo>
                  <a:pt x="1400" y="1400"/>
                </a:lnTo>
                <a:close/>
              </a:path>
              <a:path fill="darken" w="32341" h="21600">
                <a:moveTo>
                  <a:pt x="32341" y="0"/>
                </a:moveTo>
                <a:lnTo>
                  <a:pt x="32341" y="21600"/>
                </a:lnTo>
                <a:lnTo>
                  <a:pt x="30941" y="20200"/>
                </a:lnTo>
                <a:lnTo>
                  <a:pt x="30941" y="1400"/>
                </a:lnTo>
                <a:close/>
              </a:path>
              <a:path fill="darkenLess" w="32341" h="21600">
                <a:moveTo>
                  <a:pt x="323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41" y="20200"/>
                </a:lnTo>
                <a:close/>
              </a:path>
              <a:path fill="lighten" w="323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41" h="21600">
                <a:moveTo>
                  <a:pt x="9164" y="7493"/>
                </a:moveTo>
                <a:lnTo>
                  <a:pt x="12671" y="7493"/>
                </a:lnTo>
                <a:lnTo>
                  <a:pt x="12671" y="12828"/>
                </a:lnTo>
                <a:cubicBezTo>
                  <a:pt x="12671" y="13751"/>
                  <a:pt x="13472" y="14482"/>
                  <a:pt x="14508" y="14482"/>
                </a:cubicBezTo>
                <a:lnTo>
                  <a:pt x="16170" y="14482"/>
                </a:lnTo>
                <a:cubicBezTo>
                  <a:pt x="17206" y="14482"/>
                  <a:pt x="18007" y="13751"/>
                  <a:pt x="18007" y="12828"/>
                </a:cubicBezTo>
                <a:lnTo>
                  <a:pt x="18007" y="7493"/>
                </a:lnTo>
                <a:lnTo>
                  <a:pt x="16170" y="7493"/>
                </a:lnTo>
                <a:lnTo>
                  <a:pt x="19678" y="3985"/>
                </a:lnTo>
                <a:lnTo>
                  <a:pt x="23351" y="7493"/>
                </a:lnTo>
                <a:lnTo>
                  <a:pt x="21514" y="7493"/>
                </a:lnTo>
                <a:lnTo>
                  <a:pt x="21514" y="12828"/>
                </a:lnTo>
                <a:cubicBezTo>
                  <a:pt x="21514" y="15596"/>
                  <a:pt x="18938" y="18155"/>
                  <a:pt x="16170" y="18155"/>
                </a:cubicBezTo>
                <a:lnTo>
                  <a:pt x="14508" y="18155"/>
                </a:lnTo>
                <a:cubicBezTo>
                  <a:pt x="11740" y="18155"/>
                  <a:pt x="9164" y="15596"/>
                  <a:pt x="9164" y="12828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Пятно 1 4"/>
          <p:cNvSpPr/>
          <p:nvPr/>
        </p:nvSpPr>
        <p:spPr>
          <a:xfrm>
            <a:off x="2928960" y="3214800"/>
            <a:ext cx="4286160" cy="3143160"/>
          </a:xfrm>
          <a:prstGeom prst="irregularSeal1">
            <a:avLst/>
          </a:prstGeom>
          <a:solidFill>
            <a:srgbClr val="ffcc6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4 бал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6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5" descr="E:\Надя\картинки\Изображение 567.jpg"/>
          <p:cNvPicPr/>
          <p:nvPr/>
        </p:nvPicPr>
        <p:blipFill>
          <a:blip r:embed="rId1"/>
          <a:stretch/>
        </p:blipFill>
        <p:spPr>
          <a:xfrm>
            <a:off x="-357120" y="-428760"/>
            <a:ext cx="10058400" cy="777240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45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Что такое эпиграф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785760" y="1142640"/>
            <a:ext cx="49006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32523"/>
                </a:solidFill>
                <a:latin typeface="Calibri"/>
              </a:rPr>
              <a:t>- краткое изречение (пословица, цитата),которое автор помещает перед произведением, чтобы понять его смысл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Управляющая кнопка: возврат 3"/>
          <p:cNvSpPr/>
          <p:nvPr/>
        </p:nvSpPr>
        <p:spPr>
          <a:xfrm>
            <a:off x="7740720" y="5877000"/>
            <a:ext cx="1079280" cy="720720"/>
          </a:xfrm>
          <a:custGeom>
            <a:avLst/>
            <a:gdLst>
              <a:gd name="textAreaLeft" fmla="*/ 46440 w 1079280"/>
              <a:gd name="textAreaRight" fmla="*/ 1032840 w 107928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32341" h="21600">
                <a:moveTo>
                  <a:pt x="0" y="0"/>
                </a:moveTo>
                <a:lnTo>
                  <a:pt x="32341" y="0"/>
                </a:lnTo>
                <a:lnTo>
                  <a:pt x="32341" y="21600"/>
                </a:lnTo>
                <a:lnTo>
                  <a:pt x="0" y="21600"/>
                </a:lnTo>
                <a:close/>
              </a:path>
              <a:path fill="lightenLess" w="32341" h="21600">
                <a:moveTo>
                  <a:pt x="0" y="0"/>
                </a:moveTo>
                <a:lnTo>
                  <a:pt x="32341" y="0"/>
                </a:lnTo>
                <a:lnTo>
                  <a:pt x="30941" y="1400"/>
                </a:lnTo>
                <a:lnTo>
                  <a:pt x="1400" y="1400"/>
                </a:lnTo>
                <a:close/>
              </a:path>
              <a:path fill="darken" w="32341" h="21600">
                <a:moveTo>
                  <a:pt x="32341" y="0"/>
                </a:moveTo>
                <a:lnTo>
                  <a:pt x="32341" y="21600"/>
                </a:lnTo>
                <a:lnTo>
                  <a:pt x="30941" y="20200"/>
                </a:lnTo>
                <a:lnTo>
                  <a:pt x="30941" y="1400"/>
                </a:lnTo>
                <a:close/>
              </a:path>
              <a:path fill="darkenLess" w="32341" h="21600">
                <a:moveTo>
                  <a:pt x="323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41" y="20200"/>
                </a:lnTo>
                <a:close/>
              </a:path>
              <a:path fill="lighten" w="323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41" h="21600">
                <a:moveTo>
                  <a:pt x="9164" y="7493"/>
                </a:moveTo>
                <a:lnTo>
                  <a:pt x="12671" y="7493"/>
                </a:lnTo>
                <a:lnTo>
                  <a:pt x="12671" y="12828"/>
                </a:lnTo>
                <a:cubicBezTo>
                  <a:pt x="12671" y="13751"/>
                  <a:pt x="13472" y="14482"/>
                  <a:pt x="14508" y="14482"/>
                </a:cubicBezTo>
                <a:lnTo>
                  <a:pt x="16170" y="14482"/>
                </a:lnTo>
                <a:cubicBezTo>
                  <a:pt x="17206" y="14482"/>
                  <a:pt x="18007" y="13751"/>
                  <a:pt x="18007" y="12828"/>
                </a:cubicBezTo>
                <a:lnTo>
                  <a:pt x="18007" y="7493"/>
                </a:lnTo>
                <a:lnTo>
                  <a:pt x="16170" y="7493"/>
                </a:lnTo>
                <a:lnTo>
                  <a:pt x="19678" y="3985"/>
                </a:lnTo>
                <a:lnTo>
                  <a:pt x="23351" y="7493"/>
                </a:lnTo>
                <a:lnTo>
                  <a:pt x="21514" y="7493"/>
                </a:lnTo>
                <a:lnTo>
                  <a:pt x="21514" y="12828"/>
                </a:lnTo>
                <a:cubicBezTo>
                  <a:pt x="21514" y="15596"/>
                  <a:pt x="18938" y="18155"/>
                  <a:pt x="16170" y="18155"/>
                </a:cubicBezTo>
                <a:lnTo>
                  <a:pt x="14508" y="18155"/>
                </a:lnTo>
                <a:cubicBezTo>
                  <a:pt x="11740" y="18155"/>
                  <a:pt x="9164" y="15596"/>
                  <a:pt x="9164" y="12828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ятно 2 4"/>
          <p:cNvSpPr/>
          <p:nvPr/>
        </p:nvSpPr>
        <p:spPr>
          <a:xfrm>
            <a:off x="785880" y="1928880"/>
            <a:ext cx="4429080" cy="3714840"/>
          </a:xfrm>
          <a:prstGeom prst="irregularSeal2">
            <a:avLst/>
          </a:prstGeom>
          <a:solidFill>
            <a:srgbClr val="c4bd9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4 бал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5" descr="E:\Надя\картинки\Изображение 567.jpg"/>
          <p:cNvPicPr/>
          <p:nvPr/>
        </p:nvPicPr>
        <p:blipFill>
          <a:blip r:embed="rId1"/>
          <a:stretch/>
        </p:blipFill>
        <p:spPr>
          <a:xfrm>
            <a:off x="-428760" y="-500040"/>
            <a:ext cx="10058400" cy="777240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200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Счастливо ли сложилась судьба Дуни, героини «Станционного смотрителя»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5143680" y="3428640"/>
            <a:ext cx="354312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32523"/>
                </a:solidFill>
                <a:latin typeface="Calibri"/>
              </a:rPr>
              <a:t>Ду</a:t>
            </a:r>
            <a:r>
              <a:rPr b="1" i="1" lang="ru-RU" sz="3200" spc="-1" strike="noStrike">
                <a:solidFill>
                  <a:srgbClr val="632523"/>
                </a:solidFill>
                <a:latin typeface="Calibri"/>
              </a:rPr>
              <a:t>ня приезжала в карете в 6 лошаде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Управляющая кнопка: возврат 3"/>
          <p:cNvSpPr/>
          <p:nvPr/>
        </p:nvSpPr>
        <p:spPr>
          <a:xfrm>
            <a:off x="7740720" y="5877000"/>
            <a:ext cx="1079280" cy="720720"/>
          </a:xfrm>
          <a:custGeom>
            <a:avLst/>
            <a:gdLst>
              <a:gd name="textAreaLeft" fmla="*/ 46440 w 1079280"/>
              <a:gd name="textAreaRight" fmla="*/ 1032840 w 107928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32341" h="21600">
                <a:moveTo>
                  <a:pt x="0" y="0"/>
                </a:moveTo>
                <a:lnTo>
                  <a:pt x="32341" y="0"/>
                </a:lnTo>
                <a:lnTo>
                  <a:pt x="32341" y="21600"/>
                </a:lnTo>
                <a:lnTo>
                  <a:pt x="0" y="21600"/>
                </a:lnTo>
                <a:close/>
              </a:path>
              <a:path fill="lightenLess" w="32341" h="21600">
                <a:moveTo>
                  <a:pt x="0" y="0"/>
                </a:moveTo>
                <a:lnTo>
                  <a:pt x="32341" y="0"/>
                </a:lnTo>
                <a:lnTo>
                  <a:pt x="30941" y="1400"/>
                </a:lnTo>
                <a:lnTo>
                  <a:pt x="1400" y="1400"/>
                </a:lnTo>
                <a:close/>
              </a:path>
              <a:path fill="darken" w="32341" h="21600">
                <a:moveTo>
                  <a:pt x="32341" y="0"/>
                </a:moveTo>
                <a:lnTo>
                  <a:pt x="32341" y="21600"/>
                </a:lnTo>
                <a:lnTo>
                  <a:pt x="30941" y="20200"/>
                </a:lnTo>
                <a:lnTo>
                  <a:pt x="30941" y="1400"/>
                </a:lnTo>
                <a:close/>
              </a:path>
              <a:path fill="darkenLess" w="32341" h="21600">
                <a:moveTo>
                  <a:pt x="323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41" y="20200"/>
                </a:lnTo>
                <a:close/>
              </a:path>
              <a:path fill="lighten" w="323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41" h="21600">
                <a:moveTo>
                  <a:pt x="9164" y="7493"/>
                </a:moveTo>
                <a:lnTo>
                  <a:pt x="12671" y="7493"/>
                </a:lnTo>
                <a:lnTo>
                  <a:pt x="12671" y="12828"/>
                </a:lnTo>
                <a:cubicBezTo>
                  <a:pt x="12671" y="13751"/>
                  <a:pt x="13472" y="14482"/>
                  <a:pt x="14508" y="14482"/>
                </a:cubicBezTo>
                <a:lnTo>
                  <a:pt x="16170" y="14482"/>
                </a:lnTo>
                <a:cubicBezTo>
                  <a:pt x="17206" y="14482"/>
                  <a:pt x="18007" y="13751"/>
                  <a:pt x="18007" y="12828"/>
                </a:cubicBezTo>
                <a:lnTo>
                  <a:pt x="18007" y="7493"/>
                </a:lnTo>
                <a:lnTo>
                  <a:pt x="16170" y="7493"/>
                </a:lnTo>
                <a:lnTo>
                  <a:pt x="19678" y="3985"/>
                </a:lnTo>
                <a:lnTo>
                  <a:pt x="23351" y="7493"/>
                </a:lnTo>
                <a:lnTo>
                  <a:pt x="21514" y="7493"/>
                </a:lnTo>
                <a:lnTo>
                  <a:pt x="21514" y="12828"/>
                </a:lnTo>
                <a:cubicBezTo>
                  <a:pt x="21514" y="15596"/>
                  <a:pt x="18938" y="18155"/>
                  <a:pt x="16170" y="18155"/>
                </a:cubicBezTo>
                <a:lnTo>
                  <a:pt x="14508" y="18155"/>
                </a:lnTo>
                <a:cubicBezTo>
                  <a:pt x="11740" y="18155"/>
                  <a:pt x="9164" y="15596"/>
                  <a:pt x="9164" y="12828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Пятно 1 4"/>
          <p:cNvSpPr/>
          <p:nvPr/>
        </p:nvSpPr>
        <p:spPr>
          <a:xfrm>
            <a:off x="1785960" y="3286080"/>
            <a:ext cx="4500720" cy="3357720"/>
          </a:xfrm>
          <a:prstGeom prst="irregularSeal1">
            <a:avLst/>
          </a:prstGeom>
          <a:solidFill>
            <a:srgbClr val="e5af2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4 бал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6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1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5" descr="E:\Надя\картинки\Изображение 567.jpg"/>
          <p:cNvPicPr/>
          <p:nvPr/>
        </p:nvPicPr>
        <p:blipFill>
          <a:blip r:embed="rId1"/>
          <a:stretch/>
        </p:blipFill>
        <p:spPr>
          <a:xfrm>
            <a:off x="0" y="-914400"/>
            <a:ext cx="9858240" cy="7772400"/>
          </a:xfrm>
          <a:prstGeom prst="rect">
            <a:avLst/>
          </a:prstGeom>
          <a:ln w="0">
            <a:noFill/>
          </a:ln>
        </p:spPr>
      </p:pic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57120" y="142920"/>
            <a:ext cx="9144000" cy="30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В каком историческом событии участвовал Владимир и был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тяжело ранен?(повесть «Метель»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000840" y="3428640"/>
            <a:ext cx="2928960" cy="253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32523"/>
                </a:solidFill>
                <a:latin typeface="Calibri"/>
              </a:rPr>
              <a:t>В Бородинском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32523"/>
                </a:solidFill>
                <a:latin typeface="Calibri"/>
              </a:rPr>
              <a:t>сражен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Управляющая кнопка: возврат 3"/>
          <p:cNvSpPr/>
          <p:nvPr/>
        </p:nvSpPr>
        <p:spPr>
          <a:xfrm>
            <a:off x="7740720" y="5877000"/>
            <a:ext cx="1079280" cy="720720"/>
          </a:xfrm>
          <a:custGeom>
            <a:avLst/>
            <a:gdLst>
              <a:gd name="textAreaLeft" fmla="*/ 46440 w 1079280"/>
              <a:gd name="textAreaRight" fmla="*/ 1032840 w 107928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32341" h="21600">
                <a:moveTo>
                  <a:pt x="0" y="0"/>
                </a:moveTo>
                <a:lnTo>
                  <a:pt x="32341" y="0"/>
                </a:lnTo>
                <a:lnTo>
                  <a:pt x="32341" y="21600"/>
                </a:lnTo>
                <a:lnTo>
                  <a:pt x="0" y="21600"/>
                </a:lnTo>
                <a:close/>
              </a:path>
              <a:path fill="lightenLess" w="32341" h="21600">
                <a:moveTo>
                  <a:pt x="0" y="0"/>
                </a:moveTo>
                <a:lnTo>
                  <a:pt x="32341" y="0"/>
                </a:lnTo>
                <a:lnTo>
                  <a:pt x="30941" y="1400"/>
                </a:lnTo>
                <a:lnTo>
                  <a:pt x="1400" y="1400"/>
                </a:lnTo>
                <a:close/>
              </a:path>
              <a:path fill="darken" w="32341" h="21600">
                <a:moveTo>
                  <a:pt x="32341" y="0"/>
                </a:moveTo>
                <a:lnTo>
                  <a:pt x="32341" y="21600"/>
                </a:lnTo>
                <a:lnTo>
                  <a:pt x="30941" y="20200"/>
                </a:lnTo>
                <a:lnTo>
                  <a:pt x="30941" y="1400"/>
                </a:lnTo>
                <a:close/>
              </a:path>
              <a:path fill="darkenLess" w="32341" h="21600">
                <a:moveTo>
                  <a:pt x="323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41" y="20200"/>
                </a:lnTo>
                <a:close/>
              </a:path>
              <a:path fill="lighten" w="323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41" h="21600">
                <a:moveTo>
                  <a:pt x="9164" y="7493"/>
                </a:moveTo>
                <a:lnTo>
                  <a:pt x="12671" y="7493"/>
                </a:lnTo>
                <a:lnTo>
                  <a:pt x="12671" y="12828"/>
                </a:lnTo>
                <a:cubicBezTo>
                  <a:pt x="12671" y="13751"/>
                  <a:pt x="13472" y="14482"/>
                  <a:pt x="14508" y="14482"/>
                </a:cubicBezTo>
                <a:lnTo>
                  <a:pt x="16170" y="14482"/>
                </a:lnTo>
                <a:cubicBezTo>
                  <a:pt x="17206" y="14482"/>
                  <a:pt x="18007" y="13751"/>
                  <a:pt x="18007" y="12828"/>
                </a:cubicBezTo>
                <a:lnTo>
                  <a:pt x="18007" y="7493"/>
                </a:lnTo>
                <a:lnTo>
                  <a:pt x="16170" y="7493"/>
                </a:lnTo>
                <a:lnTo>
                  <a:pt x="19678" y="3985"/>
                </a:lnTo>
                <a:lnTo>
                  <a:pt x="23351" y="7493"/>
                </a:lnTo>
                <a:lnTo>
                  <a:pt x="21514" y="7493"/>
                </a:lnTo>
                <a:lnTo>
                  <a:pt x="21514" y="12828"/>
                </a:lnTo>
                <a:cubicBezTo>
                  <a:pt x="21514" y="15596"/>
                  <a:pt x="18938" y="18155"/>
                  <a:pt x="16170" y="18155"/>
                </a:cubicBezTo>
                <a:lnTo>
                  <a:pt x="14508" y="18155"/>
                </a:lnTo>
                <a:cubicBezTo>
                  <a:pt x="11740" y="18155"/>
                  <a:pt x="9164" y="15596"/>
                  <a:pt x="9164" y="12828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Пятно 1 4"/>
          <p:cNvSpPr/>
          <p:nvPr/>
        </p:nvSpPr>
        <p:spPr>
          <a:xfrm>
            <a:off x="2286000" y="3214800"/>
            <a:ext cx="3929040" cy="3214440"/>
          </a:xfrm>
          <a:prstGeom prst="irregularSeal1">
            <a:avLst/>
          </a:prstGeom>
          <a:solidFill>
            <a:srgbClr val="e5af2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2 бал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8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3" dur="5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8" dur="500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3" descr="E:\Надя\картинки\Изображение 567.jpg"/>
          <p:cNvPicPr/>
          <p:nvPr/>
        </p:nvPicPr>
        <p:blipFill>
          <a:blip r:embed="rId1"/>
          <a:stretch/>
        </p:blipFill>
        <p:spPr>
          <a:xfrm>
            <a:off x="0" y="0"/>
            <a:ext cx="10058400" cy="77724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92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e46c0a"/>
                </a:solidFill>
                <a:latin typeface="Comic Sans MS"/>
              </a:rPr>
              <a:t>Рассказчики истори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19" descr="biblecornerleftup"/>
          <p:cNvPicPr/>
          <p:nvPr/>
        </p:nvPicPr>
        <p:blipFill>
          <a:blip r:embed="rId2"/>
          <a:stretch/>
        </p:blipFill>
        <p:spPr>
          <a:xfrm>
            <a:off x="4229280" y="3502080"/>
            <a:ext cx="685800" cy="722160"/>
          </a:xfrm>
          <a:prstGeom prst="rect">
            <a:avLst/>
          </a:prstGeom>
          <a:ln w="0">
            <a:noFill/>
          </a:ln>
        </p:spPr>
      </p:pic>
      <p:sp>
        <p:nvSpPr>
          <p:cNvPr id="61" name="Облако 4"/>
          <p:cNvSpPr/>
          <p:nvPr/>
        </p:nvSpPr>
        <p:spPr>
          <a:xfrm>
            <a:off x="214200" y="1357200"/>
            <a:ext cx="2643480" cy="2571840"/>
          </a:xfrm>
          <a:prstGeom prst="pie">
            <a:avLst/>
          </a:prstGeom>
          <a:solidFill>
            <a:srgbClr val="ffc000"/>
          </a:solidFill>
          <a:ln w="25560">
            <a:solidFill>
              <a:srgbClr val="c6d9f1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53735"/>
                </a:solidFill>
                <a:latin typeface="Comic Sans MS"/>
              </a:rPr>
              <a:t>Девица  К.И.Т. рассказала историю «Барышни-крестьянк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блако 6"/>
          <p:cNvSpPr/>
          <p:nvPr/>
        </p:nvSpPr>
        <p:spPr>
          <a:xfrm>
            <a:off x="5327640" y="981000"/>
            <a:ext cx="3816360" cy="2664000"/>
          </a:xfrm>
          <a:prstGeom prst="pie">
            <a:avLst/>
          </a:prstGeom>
          <a:solidFill>
            <a:srgbClr val="ffcc66"/>
          </a:solidFill>
          <a:ln w="25560">
            <a:solidFill>
              <a:srgbClr val="c6d9f1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53735"/>
                </a:solidFill>
                <a:latin typeface="Comic Sans MS"/>
              </a:rPr>
              <a:t>Девица  К.И.Т. рассказчица в «Метели 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Облако 7"/>
          <p:cNvSpPr/>
          <p:nvPr/>
        </p:nvSpPr>
        <p:spPr>
          <a:xfrm>
            <a:off x="2286000" y="3789360"/>
            <a:ext cx="3643200" cy="2925720"/>
          </a:xfrm>
          <a:prstGeom prst="pie">
            <a:avLst/>
          </a:prstGeom>
          <a:solidFill>
            <a:srgbClr val="ff9933"/>
          </a:solidFill>
          <a:ln w="25560">
            <a:solidFill>
              <a:srgbClr val="c6d9f1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53735"/>
                </a:solidFill>
                <a:latin typeface="Comic Sans MS"/>
              </a:rPr>
              <a:t>Титулярный советник  А.Г.Н. рассказал «Станционного смотрителя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Облако 8"/>
          <p:cNvSpPr/>
          <p:nvPr/>
        </p:nvSpPr>
        <p:spPr>
          <a:xfrm>
            <a:off x="5357880" y="3500280"/>
            <a:ext cx="4176720" cy="3357720"/>
          </a:xfrm>
          <a:prstGeom prst="pie">
            <a:avLst/>
          </a:prstGeom>
          <a:solidFill>
            <a:srgbClr val="ff9966"/>
          </a:solidFill>
          <a:ln w="25560">
            <a:solidFill>
              <a:srgbClr val="c6d9f1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53735"/>
                </a:solidFill>
                <a:latin typeface="Comic Sans MS"/>
              </a:rPr>
              <a:t>Приказчик Б.В. повествует о «Гробовщике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Облако 9"/>
          <p:cNvSpPr/>
          <p:nvPr/>
        </p:nvSpPr>
        <p:spPr>
          <a:xfrm>
            <a:off x="2340000" y="1285920"/>
            <a:ext cx="3527280" cy="2935080"/>
          </a:xfrm>
          <a:prstGeom prst="pie">
            <a:avLst/>
          </a:prstGeom>
          <a:solidFill>
            <a:srgbClr val="fac090"/>
          </a:solidFill>
          <a:ln w="25560">
            <a:solidFill>
              <a:srgbClr val="c6d9f1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53735"/>
                </a:solidFill>
                <a:latin typeface="Comic Sans MS"/>
              </a:rPr>
              <a:t>Подполковник И.Л.П. рассказывает повесть  «Выстрел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4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9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4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9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4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5" descr="E:\Надя\картинки\Изображение 567.jpg"/>
          <p:cNvPicPr/>
          <p:nvPr/>
        </p:nvPicPr>
        <p:blipFill>
          <a:blip r:embed="rId1"/>
          <a:stretch/>
        </p:blipFill>
        <p:spPr>
          <a:xfrm>
            <a:off x="0" y="-500040"/>
            <a:ext cx="10058400" cy="7772400"/>
          </a:xfrm>
          <a:prstGeom prst="rect">
            <a:avLst/>
          </a:prstGeom>
          <a:ln w="0">
            <a:noFill/>
          </a:ln>
        </p:spPr>
      </p:pic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78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Каким способом организована была переписка между Алексеем и Лизой-Акулиной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6500880" y="2928600"/>
            <a:ext cx="2286000" cy="332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632523"/>
                </a:solidFill>
                <a:latin typeface="Calibri"/>
              </a:rPr>
              <a:t>В дупле старого дуб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Управляющая кнопка: возврат 3"/>
          <p:cNvSpPr/>
          <p:nvPr/>
        </p:nvSpPr>
        <p:spPr>
          <a:xfrm>
            <a:off x="7740720" y="5877000"/>
            <a:ext cx="1079280" cy="720720"/>
          </a:xfrm>
          <a:custGeom>
            <a:avLst/>
            <a:gdLst>
              <a:gd name="textAreaLeft" fmla="*/ 46440 w 1079280"/>
              <a:gd name="textAreaRight" fmla="*/ 1032840 w 107928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32341" h="21600">
                <a:moveTo>
                  <a:pt x="0" y="0"/>
                </a:moveTo>
                <a:lnTo>
                  <a:pt x="32341" y="0"/>
                </a:lnTo>
                <a:lnTo>
                  <a:pt x="32341" y="21600"/>
                </a:lnTo>
                <a:lnTo>
                  <a:pt x="0" y="21600"/>
                </a:lnTo>
                <a:close/>
              </a:path>
              <a:path fill="lightenLess" w="32341" h="21600">
                <a:moveTo>
                  <a:pt x="0" y="0"/>
                </a:moveTo>
                <a:lnTo>
                  <a:pt x="32341" y="0"/>
                </a:lnTo>
                <a:lnTo>
                  <a:pt x="30941" y="1400"/>
                </a:lnTo>
                <a:lnTo>
                  <a:pt x="1400" y="1400"/>
                </a:lnTo>
                <a:close/>
              </a:path>
              <a:path fill="darken" w="32341" h="21600">
                <a:moveTo>
                  <a:pt x="32341" y="0"/>
                </a:moveTo>
                <a:lnTo>
                  <a:pt x="32341" y="21600"/>
                </a:lnTo>
                <a:lnTo>
                  <a:pt x="30941" y="20200"/>
                </a:lnTo>
                <a:lnTo>
                  <a:pt x="30941" y="1400"/>
                </a:lnTo>
                <a:close/>
              </a:path>
              <a:path fill="darkenLess" w="32341" h="21600">
                <a:moveTo>
                  <a:pt x="323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41" y="20200"/>
                </a:lnTo>
                <a:close/>
              </a:path>
              <a:path fill="lighten" w="323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41" h="21600">
                <a:moveTo>
                  <a:pt x="9164" y="7493"/>
                </a:moveTo>
                <a:lnTo>
                  <a:pt x="12671" y="7493"/>
                </a:lnTo>
                <a:lnTo>
                  <a:pt x="12671" y="12828"/>
                </a:lnTo>
                <a:cubicBezTo>
                  <a:pt x="12671" y="13751"/>
                  <a:pt x="13472" y="14482"/>
                  <a:pt x="14508" y="14482"/>
                </a:cubicBezTo>
                <a:lnTo>
                  <a:pt x="16170" y="14482"/>
                </a:lnTo>
                <a:cubicBezTo>
                  <a:pt x="17206" y="14482"/>
                  <a:pt x="18007" y="13751"/>
                  <a:pt x="18007" y="12828"/>
                </a:cubicBezTo>
                <a:lnTo>
                  <a:pt x="18007" y="7493"/>
                </a:lnTo>
                <a:lnTo>
                  <a:pt x="16170" y="7493"/>
                </a:lnTo>
                <a:lnTo>
                  <a:pt x="19678" y="3985"/>
                </a:lnTo>
                <a:lnTo>
                  <a:pt x="23351" y="7493"/>
                </a:lnTo>
                <a:lnTo>
                  <a:pt x="21514" y="7493"/>
                </a:lnTo>
                <a:lnTo>
                  <a:pt x="21514" y="12828"/>
                </a:lnTo>
                <a:cubicBezTo>
                  <a:pt x="21514" y="15596"/>
                  <a:pt x="18938" y="18155"/>
                  <a:pt x="16170" y="18155"/>
                </a:cubicBezTo>
                <a:lnTo>
                  <a:pt x="14508" y="18155"/>
                </a:lnTo>
                <a:cubicBezTo>
                  <a:pt x="11740" y="18155"/>
                  <a:pt x="9164" y="15596"/>
                  <a:pt x="9164" y="12828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Пятно 1 4"/>
          <p:cNvSpPr/>
          <p:nvPr/>
        </p:nvSpPr>
        <p:spPr>
          <a:xfrm>
            <a:off x="3071880" y="3286080"/>
            <a:ext cx="4000320" cy="3357720"/>
          </a:xfrm>
          <a:prstGeom prst="irregularSeal1">
            <a:avLst/>
          </a:prstGeom>
          <a:solidFill>
            <a:srgbClr val="e5af2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3 бал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0" dur="5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5" descr="E:\Надя\картинки\Изображение 567.jpg"/>
          <p:cNvPicPr/>
          <p:nvPr/>
        </p:nvPicPr>
        <p:blipFill>
          <a:blip r:embed="rId1"/>
          <a:stretch/>
        </p:blipFill>
        <p:spPr>
          <a:xfrm>
            <a:off x="-285840" y="-500040"/>
            <a:ext cx="10058400" cy="7772400"/>
          </a:xfrm>
          <a:prstGeom prst="rect">
            <a:avLst/>
          </a:prstGeom>
          <a:ln w="0">
            <a:noFill/>
          </a:ln>
        </p:spPr>
      </p:pic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164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Кто  сообщил Самсону Вырину, что его дочь не вернется обратно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6643800" y="3141360"/>
            <a:ext cx="2286000" cy="318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32523"/>
                </a:solidFill>
                <a:latin typeface="Calibri"/>
              </a:rPr>
              <a:t>Ямщи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Управляющая кнопка: возврат 3"/>
          <p:cNvSpPr/>
          <p:nvPr/>
        </p:nvSpPr>
        <p:spPr>
          <a:xfrm>
            <a:off x="7740720" y="5877000"/>
            <a:ext cx="1079280" cy="720720"/>
          </a:xfrm>
          <a:custGeom>
            <a:avLst/>
            <a:gdLst>
              <a:gd name="textAreaLeft" fmla="*/ 46440 w 1079280"/>
              <a:gd name="textAreaRight" fmla="*/ 1032840 w 107928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32341" h="21600">
                <a:moveTo>
                  <a:pt x="0" y="0"/>
                </a:moveTo>
                <a:lnTo>
                  <a:pt x="32341" y="0"/>
                </a:lnTo>
                <a:lnTo>
                  <a:pt x="32341" y="21600"/>
                </a:lnTo>
                <a:lnTo>
                  <a:pt x="0" y="21600"/>
                </a:lnTo>
                <a:close/>
              </a:path>
              <a:path fill="lightenLess" w="32341" h="21600">
                <a:moveTo>
                  <a:pt x="0" y="0"/>
                </a:moveTo>
                <a:lnTo>
                  <a:pt x="32341" y="0"/>
                </a:lnTo>
                <a:lnTo>
                  <a:pt x="30941" y="1400"/>
                </a:lnTo>
                <a:lnTo>
                  <a:pt x="1400" y="1400"/>
                </a:lnTo>
                <a:close/>
              </a:path>
              <a:path fill="darken" w="32341" h="21600">
                <a:moveTo>
                  <a:pt x="32341" y="0"/>
                </a:moveTo>
                <a:lnTo>
                  <a:pt x="32341" y="21600"/>
                </a:lnTo>
                <a:lnTo>
                  <a:pt x="30941" y="20200"/>
                </a:lnTo>
                <a:lnTo>
                  <a:pt x="30941" y="1400"/>
                </a:lnTo>
                <a:close/>
              </a:path>
              <a:path fill="darkenLess" w="32341" h="21600">
                <a:moveTo>
                  <a:pt x="323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41" y="20200"/>
                </a:lnTo>
                <a:close/>
              </a:path>
              <a:path fill="lighten" w="323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41" h="21600">
                <a:moveTo>
                  <a:pt x="9164" y="7493"/>
                </a:moveTo>
                <a:lnTo>
                  <a:pt x="12671" y="7493"/>
                </a:lnTo>
                <a:lnTo>
                  <a:pt x="12671" y="12828"/>
                </a:lnTo>
                <a:cubicBezTo>
                  <a:pt x="12671" y="13751"/>
                  <a:pt x="13472" y="14482"/>
                  <a:pt x="14508" y="14482"/>
                </a:cubicBezTo>
                <a:lnTo>
                  <a:pt x="16170" y="14482"/>
                </a:lnTo>
                <a:cubicBezTo>
                  <a:pt x="17206" y="14482"/>
                  <a:pt x="18007" y="13751"/>
                  <a:pt x="18007" y="12828"/>
                </a:cubicBezTo>
                <a:lnTo>
                  <a:pt x="18007" y="7493"/>
                </a:lnTo>
                <a:lnTo>
                  <a:pt x="16170" y="7493"/>
                </a:lnTo>
                <a:lnTo>
                  <a:pt x="19678" y="3985"/>
                </a:lnTo>
                <a:lnTo>
                  <a:pt x="23351" y="7493"/>
                </a:lnTo>
                <a:lnTo>
                  <a:pt x="21514" y="7493"/>
                </a:lnTo>
                <a:lnTo>
                  <a:pt x="21514" y="12828"/>
                </a:lnTo>
                <a:cubicBezTo>
                  <a:pt x="21514" y="15596"/>
                  <a:pt x="18938" y="18155"/>
                  <a:pt x="16170" y="18155"/>
                </a:cubicBezTo>
                <a:lnTo>
                  <a:pt x="14508" y="18155"/>
                </a:lnTo>
                <a:cubicBezTo>
                  <a:pt x="11740" y="18155"/>
                  <a:pt x="9164" y="15596"/>
                  <a:pt x="9164" y="12828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Пятно 1 4"/>
          <p:cNvSpPr/>
          <p:nvPr/>
        </p:nvSpPr>
        <p:spPr>
          <a:xfrm>
            <a:off x="2500200" y="2500200"/>
            <a:ext cx="4143600" cy="3929040"/>
          </a:xfrm>
          <a:prstGeom prst="irregularSeal1">
            <a:avLst/>
          </a:prstGeom>
          <a:solidFill>
            <a:srgbClr val="e5af2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1 бал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7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2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5" descr="E:\Надя\картинки\Изображение 567.jpg"/>
          <p:cNvPicPr/>
          <p:nvPr/>
        </p:nvPicPr>
        <p:blipFill>
          <a:blip r:embed="rId1"/>
          <a:stretch/>
        </p:blipFill>
        <p:spPr>
          <a:xfrm>
            <a:off x="-457200" y="-457200"/>
            <a:ext cx="10058400" cy="777240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2" descr="C:\Users\алексей\Desktop\анимация 3.gif"/>
          <p:cNvPicPr/>
          <p:nvPr/>
        </p:nvPicPr>
        <p:blipFill>
          <a:blip r:embed="rId2"/>
          <a:stretch/>
        </p:blipFill>
        <p:spPr>
          <a:xfrm>
            <a:off x="1547640" y="260280"/>
            <a:ext cx="5353200" cy="4381560"/>
          </a:xfrm>
          <a:prstGeom prst="rect">
            <a:avLst/>
          </a:prstGeom>
          <a:ln w="0">
            <a:noFill/>
          </a:ln>
        </p:spPr>
      </p:pic>
      <p:pic>
        <p:nvPicPr>
          <p:cNvPr id="201" name="Полилиния 4" descr=""/>
          <p:cNvPicPr/>
          <p:nvPr/>
        </p:nvPicPr>
        <p:blipFill>
          <a:blip r:embed="rId3"/>
          <a:stretch/>
        </p:blipFill>
        <p:spPr>
          <a:xfrm>
            <a:off x="2189160" y="4773600"/>
            <a:ext cx="6692760" cy="18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5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6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5" descr="E:\Надя\картинки\Изображение 567.jpg"/>
          <p:cNvPicPr/>
          <p:nvPr/>
        </p:nvPicPr>
        <p:blipFill>
          <a:blip r:embed="rId1"/>
          <a:stretch/>
        </p:blipFill>
        <p:spPr>
          <a:xfrm>
            <a:off x="-457200" y="-457200"/>
            <a:ext cx="10058400" cy="777240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Comic Sans MS"/>
              </a:rPr>
              <a:t>Найди героя повести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ru-RU" sz="3600" spc="-1" strike="noStrike">
                <a:solidFill>
                  <a:srgbClr val="000000"/>
                </a:solidFill>
                <a:latin typeface="Comic Sans MS"/>
              </a:rPr>
              <a:t>Вам были предложены перепутанные герои историй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omic Sans MS"/>
              </a:rPr>
              <a:t>Вы их соединили, и получилось 5 команд, носящих названия повестей. Та команда, которая справилась первая, получает право первой выбирать ход в игре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5" descr="E:\Надя\картинки\Изображение 567.jpg"/>
          <p:cNvPicPr/>
          <p:nvPr/>
        </p:nvPicPr>
        <p:blipFill>
          <a:blip r:embed="rId1"/>
          <a:stretch/>
        </p:blipFill>
        <p:spPr>
          <a:xfrm>
            <a:off x="-457200" y="-457200"/>
            <a:ext cx="10058400" cy="777240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Правила игры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1071720" y="1357200"/>
            <a:ext cx="762624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Вам будут предложены вопросы по содержанию «Повестей Белкина»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Право первого выбора имеет команда, которая первой собрала героев своей повест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За каждый правильный ответ на вопрос вы будете получать от 1 до 4 балло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В случае, если у команды нет ответа на вопрос, отвечать и получать баллы будет другая команд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457200" y="620640"/>
          <a:ext cx="8229600" cy="5688000"/>
        </p:xfrm>
        <a:graphic>
          <a:graphicData uri="http://schemas.openxmlformats.org/drawingml/2006/table">
            <a:tbl>
              <a:tblPr/>
              <a:tblGrid>
                <a:gridCol w="1646280"/>
                <a:gridCol w="1646280"/>
                <a:gridCol w="1644480"/>
                <a:gridCol w="1646280"/>
                <a:gridCol w="1646280"/>
              </a:tblGrid>
              <a:tr h="113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4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1" action="ppaction://hlinksldjump"/>
                        </a:rPr>
                        <a:t>1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4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2" action="ppaction://hlinksldjump"/>
                        </a:rPr>
                        <a:t>18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4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3" action="ppaction://hlinksldjump"/>
                        </a:rPr>
                        <a:t>10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4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4" action="ppaction://hlinksldjump"/>
                        </a:rPr>
                        <a:t>21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4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5" action="ppaction://hlinksldjump"/>
                        </a:rPr>
                        <a:t>6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136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4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6" action="ppaction://hlinksldjump"/>
                        </a:rPr>
                        <a:t>14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5406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4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7" action="ppaction://hlinksldjump"/>
                        </a:rPr>
                        <a:t>22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5406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4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8" action="ppaction://hlinksldjump"/>
                        </a:rPr>
                        <a:t>4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5406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4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9" action="ppaction://hlinksldjump"/>
                        </a:rPr>
                        <a:t>25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5406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4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10" action="ppaction://hlinksldjump"/>
                        </a:rPr>
                        <a:t>7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54061"/>
                    </a:solidFill>
                  </a:tcPr>
                </a:tc>
              </a:tr>
              <a:tr h="113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4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11" action="ppaction://hlinksldjump"/>
                        </a:rPr>
                        <a:t>20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4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12" action="ppaction://hlinksldjump"/>
                        </a:rPr>
                        <a:t>2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4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13" action="ppaction://hlinksldjump"/>
                        </a:rPr>
                        <a:t>24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13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5406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5406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5406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5406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54061"/>
                    </a:solidFill>
                  </a:tcPr>
                </a:tc>
              </a:tr>
              <a:tr h="1136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5" descr="E:\Надя\картинки\Изображение 567.jpg"/>
          <p:cNvPicPr/>
          <p:nvPr/>
        </p:nvPicPr>
        <p:blipFill>
          <a:blip r:embed="rId1"/>
          <a:stretch/>
        </p:blipFill>
        <p:spPr>
          <a:xfrm>
            <a:off x="-500040" y="-428760"/>
            <a:ext cx="10058400" cy="777240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291520" cy="295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Узнайте героя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: «Отроду не встречал счастливца столь блистательного! Вообразите себе молодость, ум, красоту, веселость самую бешеную, храбрость самую беспечную, громкое имя, деньги, которым он не знал счета и которые никогда у него не переводились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6804000" y="2636640"/>
            <a:ext cx="188280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32523"/>
                </a:solidFill>
                <a:latin typeface="Comic Sans MS"/>
              </a:rPr>
              <a:t>Граф Б., соперник Сильвио.</a:t>
            </a:r>
            <a:r>
              <a:rPr b="1" i="1" lang="ru-RU" sz="2400" spc="-1" strike="noStrike">
                <a:solidFill>
                  <a:srgbClr val="632523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Пятно 2 3"/>
          <p:cNvSpPr/>
          <p:nvPr/>
        </p:nvSpPr>
        <p:spPr>
          <a:xfrm>
            <a:off x="2428920" y="4143240"/>
            <a:ext cx="4071960" cy="2714760"/>
          </a:xfrm>
          <a:prstGeom prst="irregularSeal2">
            <a:avLst/>
          </a:prstGeom>
          <a:solidFill>
            <a:srgbClr val="ffcc6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балл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Управляющая кнопка: возврат 4"/>
          <p:cNvSpPr/>
          <p:nvPr/>
        </p:nvSpPr>
        <p:spPr>
          <a:xfrm>
            <a:off x="7740720" y="5877000"/>
            <a:ext cx="1079280" cy="720720"/>
          </a:xfrm>
          <a:custGeom>
            <a:avLst/>
            <a:gdLst>
              <a:gd name="textAreaLeft" fmla="*/ 46440 w 1079280"/>
              <a:gd name="textAreaRight" fmla="*/ 1032840 w 107928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32341" h="21600">
                <a:moveTo>
                  <a:pt x="0" y="0"/>
                </a:moveTo>
                <a:lnTo>
                  <a:pt x="32341" y="0"/>
                </a:lnTo>
                <a:lnTo>
                  <a:pt x="32341" y="21600"/>
                </a:lnTo>
                <a:lnTo>
                  <a:pt x="0" y="21600"/>
                </a:lnTo>
                <a:close/>
              </a:path>
              <a:path fill="lightenLess" w="32341" h="21600">
                <a:moveTo>
                  <a:pt x="0" y="0"/>
                </a:moveTo>
                <a:lnTo>
                  <a:pt x="32341" y="0"/>
                </a:lnTo>
                <a:lnTo>
                  <a:pt x="30941" y="1400"/>
                </a:lnTo>
                <a:lnTo>
                  <a:pt x="1400" y="1400"/>
                </a:lnTo>
                <a:close/>
              </a:path>
              <a:path fill="darken" w="32341" h="21600">
                <a:moveTo>
                  <a:pt x="32341" y="0"/>
                </a:moveTo>
                <a:lnTo>
                  <a:pt x="32341" y="21600"/>
                </a:lnTo>
                <a:lnTo>
                  <a:pt x="30941" y="20200"/>
                </a:lnTo>
                <a:lnTo>
                  <a:pt x="30941" y="1400"/>
                </a:lnTo>
                <a:close/>
              </a:path>
              <a:path fill="darkenLess" w="32341" h="21600">
                <a:moveTo>
                  <a:pt x="323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41" y="20200"/>
                </a:lnTo>
                <a:close/>
              </a:path>
              <a:path fill="lighten" w="323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41" h="21600">
                <a:moveTo>
                  <a:pt x="9164" y="7493"/>
                </a:moveTo>
                <a:lnTo>
                  <a:pt x="12671" y="7493"/>
                </a:lnTo>
                <a:lnTo>
                  <a:pt x="12671" y="12828"/>
                </a:lnTo>
                <a:cubicBezTo>
                  <a:pt x="12671" y="13751"/>
                  <a:pt x="13472" y="14482"/>
                  <a:pt x="14508" y="14482"/>
                </a:cubicBezTo>
                <a:lnTo>
                  <a:pt x="16170" y="14482"/>
                </a:lnTo>
                <a:cubicBezTo>
                  <a:pt x="17206" y="14482"/>
                  <a:pt x="18007" y="13751"/>
                  <a:pt x="18007" y="12828"/>
                </a:cubicBezTo>
                <a:lnTo>
                  <a:pt x="18007" y="7493"/>
                </a:lnTo>
                <a:lnTo>
                  <a:pt x="16170" y="7493"/>
                </a:lnTo>
                <a:lnTo>
                  <a:pt x="19678" y="3985"/>
                </a:lnTo>
                <a:lnTo>
                  <a:pt x="23351" y="7493"/>
                </a:lnTo>
                <a:lnTo>
                  <a:pt x="21514" y="7493"/>
                </a:lnTo>
                <a:lnTo>
                  <a:pt x="21514" y="12828"/>
                </a:lnTo>
                <a:cubicBezTo>
                  <a:pt x="21514" y="15596"/>
                  <a:pt x="18938" y="18155"/>
                  <a:pt x="16170" y="18155"/>
                </a:cubicBezTo>
                <a:lnTo>
                  <a:pt x="14508" y="18155"/>
                </a:lnTo>
                <a:cubicBezTo>
                  <a:pt x="11740" y="18155"/>
                  <a:pt x="9164" y="15596"/>
                  <a:pt x="9164" y="12828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5" descr="E:\Надя\картинки\Изображение 567.jpg"/>
          <p:cNvPicPr/>
          <p:nvPr/>
        </p:nvPicPr>
        <p:blipFill>
          <a:blip r:embed="rId1"/>
          <a:stretch/>
        </p:blipFill>
        <p:spPr>
          <a:xfrm>
            <a:off x="-285840" y="-642960"/>
            <a:ext cx="10058400" cy="777240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10920" y="1267920"/>
            <a:ext cx="8064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Назовите эпиграф к повести « Барышня- крестьянка »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2339280" y="4471560"/>
            <a:ext cx="1593720" cy="1384560"/>
          </a:xfrm>
          <a:prstGeom prst="rect">
            <a:avLst/>
          </a:prstGeom>
          <a:solidFill>
            <a:srgbClr val="ffcc66"/>
          </a:solidFill>
          <a:ln w="25560">
            <a:solidFill>
              <a:srgbClr val="385d8a"/>
            </a:solidFill>
            <a:miter/>
          </a:ln>
        </p:spPr>
        <p:txBody>
          <a:bodyPr anchor="ctr">
            <a:normAutofit/>
          </a:bodyPr>
          <a:p>
            <a:pPr marL="272880" indent="-272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4 бал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Заголовок 1"/>
          <p:cNvSpPr/>
          <p:nvPr/>
        </p:nvSpPr>
        <p:spPr>
          <a:xfrm>
            <a:off x="5857920" y="2714760"/>
            <a:ext cx="3000240" cy="29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i="1" lang="ru-RU" sz="3500" spc="-1" strike="noStrike">
                <a:solidFill>
                  <a:srgbClr val="632523"/>
                </a:solidFill>
                <a:latin typeface="Calibri"/>
              </a:rPr>
              <a:t>«Во всех ты, Душенька, нарядах хороша»            Богданович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Управляющая кнопка: возврат 6"/>
          <p:cNvSpPr/>
          <p:nvPr/>
        </p:nvSpPr>
        <p:spPr>
          <a:xfrm>
            <a:off x="7667640" y="5805360"/>
            <a:ext cx="1081080" cy="719280"/>
          </a:xfrm>
          <a:custGeom>
            <a:avLst/>
            <a:gdLst>
              <a:gd name="textAreaLeft" fmla="*/ 46440 w 1081080"/>
              <a:gd name="textAreaRight" fmla="*/ 1034640 w 108108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32459" h="21600">
                <a:moveTo>
                  <a:pt x="0" y="0"/>
                </a:moveTo>
                <a:lnTo>
                  <a:pt x="32459" y="0"/>
                </a:lnTo>
                <a:lnTo>
                  <a:pt x="32459" y="21600"/>
                </a:lnTo>
                <a:lnTo>
                  <a:pt x="0" y="21600"/>
                </a:lnTo>
                <a:close/>
              </a:path>
              <a:path fill="lightenLess" w="32459" h="21600">
                <a:moveTo>
                  <a:pt x="0" y="0"/>
                </a:moveTo>
                <a:lnTo>
                  <a:pt x="32459" y="0"/>
                </a:lnTo>
                <a:lnTo>
                  <a:pt x="31059" y="1400"/>
                </a:lnTo>
                <a:lnTo>
                  <a:pt x="1400" y="1400"/>
                </a:lnTo>
                <a:close/>
              </a:path>
              <a:path fill="darken" w="32459" h="21600">
                <a:moveTo>
                  <a:pt x="32459" y="0"/>
                </a:moveTo>
                <a:lnTo>
                  <a:pt x="32459" y="21600"/>
                </a:lnTo>
                <a:lnTo>
                  <a:pt x="31059" y="20200"/>
                </a:lnTo>
                <a:lnTo>
                  <a:pt x="31059" y="1400"/>
                </a:lnTo>
                <a:close/>
              </a:path>
              <a:path fill="darkenLess" w="32459" h="21600">
                <a:moveTo>
                  <a:pt x="324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59" y="20200"/>
                </a:lnTo>
                <a:close/>
              </a:path>
              <a:path fill="lighten" w="324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59" h="21600">
                <a:moveTo>
                  <a:pt x="9223" y="7493"/>
                </a:moveTo>
                <a:lnTo>
                  <a:pt x="12731" y="7493"/>
                </a:lnTo>
                <a:lnTo>
                  <a:pt x="12731" y="12828"/>
                </a:lnTo>
                <a:cubicBezTo>
                  <a:pt x="12731" y="13751"/>
                  <a:pt x="13532" y="14482"/>
                  <a:pt x="14567" y="14482"/>
                </a:cubicBezTo>
                <a:lnTo>
                  <a:pt x="16230" y="14482"/>
                </a:lnTo>
                <a:cubicBezTo>
                  <a:pt x="17265" y="14482"/>
                  <a:pt x="18066" y="13751"/>
                  <a:pt x="18066" y="12828"/>
                </a:cubicBezTo>
                <a:lnTo>
                  <a:pt x="18066" y="7493"/>
                </a:lnTo>
                <a:lnTo>
                  <a:pt x="16230" y="7493"/>
                </a:lnTo>
                <a:lnTo>
                  <a:pt x="19737" y="3985"/>
                </a:lnTo>
                <a:lnTo>
                  <a:pt x="23410" y="7493"/>
                </a:lnTo>
                <a:lnTo>
                  <a:pt x="21574" y="7493"/>
                </a:lnTo>
                <a:lnTo>
                  <a:pt x="21574" y="12828"/>
                </a:lnTo>
                <a:cubicBezTo>
                  <a:pt x="21574" y="15596"/>
                  <a:pt x="18997" y="18155"/>
                  <a:pt x="16230" y="18155"/>
                </a:cubicBezTo>
                <a:lnTo>
                  <a:pt x="14567" y="18155"/>
                </a:lnTo>
                <a:cubicBezTo>
                  <a:pt x="11800" y="18155"/>
                  <a:pt x="9223" y="15596"/>
                  <a:pt x="9223" y="12828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3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9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5" descr="E:\Надя\картинки\Изображение 567.jpg"/>
          <p:cNvPicPr/>
          <p:nvPr/>
        </p:nvPicPr>
        <p:blipFill>
          <a:blip r:embed="rId1"/>
          <a:stretch/>
        </p:blipFill>
        <p:spPr>
          <a:xfrm>
            <a:off x="-571680" y="-428760"/>
            <a:ext cx="10058760" cy="77724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56760"/>
            <a:ext cx="8229600" cy="278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Почему не состоялась первая дуэль, по словам Сильвио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929120" y="3286080"/>
            <a:ext cx="4035600" cy="223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32523"/>
                </a:solidFill>
                <a:latin typeface="Calibri"/>
              </a:rPr>
              <a:t>Граф Б. равнодушно не дорожил своей жизнью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Пятно 2 3"/>
          <p:cNvSpPr/>
          <p:nvPr/>
        </p:nvSpPr>
        <p:spPr>
          <a:xfrm>
            <a:off x="2214720" y="4500720"/>
            <a:ext cx="3571560" cy="2571480"/>
          </a:xfrm>
          <a:prstGeom prst="irregularSeal2">
            <a:avLst/>
          </a:prstGeom>
          <a:solidFill>
            <a:srgbClr val="ffcc6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3 балл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Управляющая кнопка: возврат 4"/>
          <p:cNvSpPr/>
          <p:nvPr/>
        </p:nvSpPr>
        <p:spPr>
          <a:xfrm>
            <a:off x="7740720" y="5877000"/>
            <a:ext cx="1079280" cy="720720"/>
          </a:xfrm>
          <a:custGeom>
            <a:avLst/>
            <a:gdLst>
              <a:gd name="textAreaLeft" fmla="*/ 46440 w 1079280"/>
              <a:gd name="textAreaRight" fmla="*/ 1032840 w 107928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32341" h="21600">
                <a:moveTo>
                  <a:pt x="0" y="0"/>
                </a:moveTo>
                <a:lnTo>
                  <a:pt x="32341" y="0"/>
                </a:lnTo>
                <a:lnTo>
                  <a:pt x="32341" y="21600"/>
                </a:lnTo>
                <a:lnTo>
                  <a:pt x="0" y="21600"/>
                </a:lnTo>
                <a:close/>
              </a:path>
              <a:path fill="lightenLess" w="32341" h="21600">
                <a:moveTo>
                  <a:pt x="0" y="0"/>
                </a:moveTo>
                <a:lnTo>
                  <a:pt x="32341" y="0"/>
                </a:lnTo>
                <a:lnTo>
                  <a:pt x="30941" y="1400"/>
                </a:lnTo>
                <a:lnTo>
                  <a:pt x="1400" y="1400"/>
                </a:lnTo>
                <a:close/>
              </a:path>
              <a:path fill="darken" w="32341" h="21600">
                <a:moveTo>
                  <a:pt x="32341" y="0"/>
                </a:moveTo>
                <a:lnTo>
                  <a:pt x="32341" y="21600"/>
                </a:lnTo>
                <a:lnTo>
                  <a:pt x="30941" y="20200"/>
                </a:lnTo>
                <a:lnTo>
                  <a:pt x="30941" y="1400"/>
                </a:lnTo>
                <a:close/>
              </a:path>
              <a:path fill="darkenLess" w="32341" h="21600">
                <a:moveTo>
                  <a:pt x="323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41" y="20200"/>
                </a:lnTo>
                <a:close/>
              </a:path>
              <a:path fill="lighten" w="323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41" h="21600">
                <a:moveTo>
                  <a:pt x="9164" y="7493"/>
                </a:moveTo>
                <a:lnTo>
                  <a:pt x="12671" y="7493"/>
                </a:lnTo>
                <a:lnTo>
                  <a:pt x="12671" y="12828"/>
                </a:lnTo>
                <a:cubicBezTo>
                  <a:pt x="12671" y="13751"/>
                  <a:pt x="13472" y="14482"/>
                  <a:pt x="14508" y="14482"/>
                </a:cubicBezTo>
                <a:lnTo>
                  <a:pt x="16170" y="14482"/>
                </a:lnTo>
                <a:cubicBezTo>
                  <a:pt x="17206" y="14482"/>
                  <a:pt x="18007" y="13751"/>
                  <a:pt x="18007" y="12828"/>
                </a:cubicBezTo>
                <a:lnTo>
                  <a:pt x="18007" y="7493"/>
                </a:lnTo>
                <a:lnTo>
                  <a:pt x="16170" y="7493"/>
                </a:lnTo>
                <a:lnTo>
                  <a:pt x="19678" y="3985"/>
                </a:lnTo>
                <a:lnTo>
                  <a:pt x="23351" y="7493"/>
                </a:lnTo>
                <a:lnTo>
                  <a:pt x="21514" y="7493"/>
                </a:lnTo>
                <a:lnTo>
                  <a:pt x="21514" y="12828"/>
                </a:lnTo>
                <a:cubicBezTo>
                  <a:pt x="21514" y="15596"/>
                  <a:pt x="18938" y="18155"/>
                  <a:pt x="16170" y="18155"/>
                </a:cubicBezTo>
                <a:lnTo>
                  <a:pt x="14508" y="18155"/>
                </a:lnTo>
                <a:cubicBezTo>
                  <a:pt x="11740" y="18155"/>
                  <a:pt x="9164" y="15596"/>
                  <a:pt x="9164" y="12828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8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3T17:18:18Z</dcterms:created>
  <dc:creator>алексей</dc:creator>
  <dc:description/>
  <dc:language>en-US</dc:language>
  <cp:lastModifiedBy>Игорь</cp:lastModifiedBy>
  <dcterms:modified xsi:type="dcterms:W3CDTF">2010-11-12T20:57:13Z</dcterms:modified>
  <cp:revision>78</cp:revision>
  <dc:subject/>
  <dc:title>Итоговый урок по теме: «Фольклор»</dc:title>
</cp:coreProperties>
</file>