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2E669-9AB6-41ED-B913-69DEB430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F1CC6-DFBF-4B9B-B589-CD9D245A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CD8AE-15D6-4868-B4FB-81A1E200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0E55D-7CC6-4B37-A461-73C9AF07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4D26-2549-40AD-A2AF-A7BEBFD2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8EAE-F98F-49A7-99EC-808660FF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7546-F646-4FFB-B960-5D41D751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1C86-2A8A-470C-881B-B18552F6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4A36-7D58-4D0E-A6BD-64E35F1C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211E-56C3-4F24-A72D-EB26D7FE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D496-2C35-48FF-8580-E7184CD3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3EC48-ACA2-497F-9DAF-56C28B38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8B6F-6DF5-47EB-B6DE-47374301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C634-EAB8-4AF3-8218-A53D1EED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1D91-E43F-4183-BED8-1DB80741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D193-7B8D-4AB7-BBC1-CAEFFCF9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371C-343E-4F03-A766-6986D70E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04C51-5190-4755-9286-77D38FD8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07950-C436-4FAF-B4A4-BF5D3E0C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51B6F-B1E2-4D48-A3CD-22420803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37A9F-E31E-4465-BA57-194D4BA7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8258F-F36D-4AF2-B412-F95BD6B3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441A4-B308-42C6-AB59-B3785C41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2833D-530C-4D3E-8F54-53F12DBE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2392-C858-4DE2-94E7-696BA350267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B386-D9F1-4FF4-BD24-00D0A603EB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Имя прилагательное обозначает признак предмета, его качество и отвечает на вопросы: Какой? Ч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32000" y="4267080"/>
            <a:ext cx="66960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мена прилагательные изменяется по родам, по числам, по падежам. Грамматические категории зависят от существительного, с которым оно согласуется. В предложении чаще всего выступает в роли определения, а может так же входить в состав сказуем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пр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Образуйте краткие прилагательные м. р ед. 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средственный, существенный, мужественный, невежественный, безнравственный, острый, полный, бесчувственный, воинственный, безжизненный, естественный, безнравственный, посредственный, тождественный, явстве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еход имен прилагательных из         одного разряда в друг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носительные и притяжательные прилагательные могут переходить в разряд качественных: каменный дом- каменное сердце, отцовский дом- отцовские чув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тяжательные прилагательные могут переходить в разряд относительных: заячий хвост- заячий тулу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авописание окончаний имен прилага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561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мена прилагательные в им. падеже ед. числе м.р. Под ударением всегда имеют окончание –ой, без ударения –ый или –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притяжательных прилагательных на –ий во всех формах, кроме им. и вин. падежа м.р., перед окончание пишется «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авописание суффиксов имен прилага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     С суффиксом –к- пишется качественные прилагательные, образующие краткую форму. С суффиксом –ск- пишется относительные прилага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д суффиксом –ск- конечные согласные основы существительного сохраняются без изменения, чередуются или исчез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храняются конечные согласные основы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, т, з, с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храняется буква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,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перед ней стоит любая согласная, кром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основа существительного оканчивается на согласны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то они чередуются с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,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в прилагательном пишется суффикс –к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основа существительного оканчивается на –с, которой предшествует согласная, то конечная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опуск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усские географические названия на –ск- образуют прилагательные без помощи суффикса –ск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основа существительного оканчивается на –сс, то перед –ск- одно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опуск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   В суффиксах –ев-, -ив- под ударением пишется буква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без ударения буква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   В суффиксах –лив-, -чив- всегда пишется буква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.   В суффиксах –ов-, -оват-, -овит- после твердых согласных пишется буква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; после мягких согласных, шипящих и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пишется буква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.   Суффиксы –инск-, -ин- + -ск- характерны для прилагательных, образованных от основ на –ин. В остальных прилагательных пишется суффикс –енск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.   Суффикс –еньк- служит для образования прилагательных от слов, основа которых оканчивается на любой согласный, кром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, к, х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суффикс –оньк- употребляется после основы на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, к, х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.    Если производящая основа оканчивается на –ск ( воск, доска), то при образовании прилагательных это сочетание заменяется на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щ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щаной, дощат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.    Если производящая основа оканчивается на –к, то при образовании прилагательных посредством суффикса –ат- наблюдается чередование к//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.    Если производящая основа оканчивается на –ц, то при образовании прилагательных посредством суффикса –чат- наблюдается чередование ц//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р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424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Образуйте имена прилагательные с суффиксами –к- и -ск-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арнас, Бордо, Спасск, Реймс, ткач, таджик, Курск, Голландия, Сан-Франциско, Ницца, черкес, кабак, рыбак, баск, монастырь, курд, немец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468360" y="2421000"/>
            <a:ext cx="82296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р.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68360" y="3141720"/>
            <a:ext cx="842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Образуйте имена прилагательные с суффиксами -ск-, -инск-, -еньк-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рюсов, Химки, Пушкин, Охта, междуречья, Сочи, кладбище, Екатерина, Коломна, Талдом, грозный, Ельня, нищи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68360" y="4437000"/>
            <a:ext cx="82296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р.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5229360"/>
            <a:ext cx="83516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Образуйте имена прилагательные с суффиксами –ев-, -ив-, -ов-, -лив-, -чив-, -ат-, -чат-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ороздка, брусок, клетка, эмаль, корень, плакса, веснушки, образец, удача, губа, доверие, кость, доска, крупица, милост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пр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351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Образуйте имена прилагательные с суффиксами –оват-, -еват-, -овит-, -евит-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елесый, чёрный, дом, жесткий, желтый, глянец, синий, соленый, угол, яд, дар, грязный, рыж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95280" y="2997360"/>
            <a:ext cx="82296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пр.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95280" y="4149720"/>
            <a:ext cx="8352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Образуйте имена прилагательные с суффиксами –оньк-, -еньк-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егкий, теплый, тонкий, высокий, голубой, толстый, сухой, дешевый, младший, убогий, старший, средний, добры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авописание Н и НН в суффиксах          имен прилага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на буква Н пишется в суффиксах –ан- (-ян-), -ын- (-ин-). Исключения: стеклянный, оловянный, деревя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ве буквы НН пиш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отыменных прилагательных, образованных от основ на   -н, -мя при помощи суффикса –н-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уффиксах –енн-, -онн- отыменных прилагатель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.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 кратких прилагательных пишется столько же Н, сколько их было в полн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пр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Образуйте имена прилагательные от существитель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ина, солома, семя, голубь, серебро, олово, полотно, время, цена, клюква, истина, дрова, платье, дерево, кожа, стек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авописание сложных имен прилага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итно пишу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мена прилагательные, образованные от сложных существительных, пишущихся сли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лагательные, у которых одна из составляющих частей отдельно не употребля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лагательные, образованные из сочетаний слов с подчинительной связ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лагательные, первой частью которых является наречие  на 0 или 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лагательные, первой частью которых является имя числитель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ексико-грамматические разряды имён прилагательн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2124000" y="2276640"/>
            <a:ext cx="482436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мя прилагательно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900000" y="4005360"/>
            <a:ext cx="237672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чественно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5867280" y="3933720"/>
            <a:ext cx="237672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тяжательно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Oval 7"/>
          <p:cNvSpPr/>
          <p:nvPr/>
        </p:nvSpPr>
        <p:spPr>
          <a:xfrm>
            <a:off x="3276720" y="5157720"/>
            <a:ext cx="237636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носительно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8"/>
          <p:cNvSpPr/>
          <p:nvPr/>
        </p:nvSpPr>
        <p:spPr>
          <a:xfrm flipH="1">
            <a:off x="2916000" y="2997360"/>
            <a:ext cx="11509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10"/>
          <p:cNvSpPr/>
          <p:nvPr/>
        </p:nvSpPr>
        <p:spPr>
          <a:xfrm>
            <a:off x="5076720" y="299736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11"/>
          <p:cNvSpPr/>
          <p:nvPr/>
        </p:nvSpPr>
        <p:spPr>
          <a:xfrm flipH="1">
            <a:off x="4427280" y="2997360"/>
            <a:ext cx="7308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ерез дефис пишу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лагательные, обозначающие оттенки цветов, дополнительные оттенки качества или призн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лагательные, образованные из сочетаний слов с сочинительной связ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лагательные, образованные от существительных, которые пишутся через деф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лагательные, начинающиеся со слов юго-, южно-, западно-, восточно-, северо-, северно-. Если подобные прилагательные являются нарицательными, то они пишутся слитно и со строчной бук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ожные прилагательные, образованные от сочетаний имени и фамилии, имени и от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ожные прилагательные, основа первой части которых оканчивается на –и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ожные прилагательные, части которых указывают на неоднородные призна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пр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43588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Перепишите прилагательные, раскрывая скобки. Объясните их правопис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Норд)вестовый, (военно)морской, (англо)русский, (военно)полевой, (Западно)Сахалинские горы, (каше)образный, (лимонно)желтый, (жаро)понижающий, (отчётно)выборный, (общественно)трудовой, (историко)архивный, (естественно)исторический, (горно)буровой, (горно)добывающий, (горно)спасательный, (бело)каменный, (железо)бетонный, (высоко)нравственный, (бледно)голубой, (жюль)верновский, (западно)сахалин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. Какое из данных прилагательных является качественны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зелёное раст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лисья но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золотая свадьб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институтское зд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2. Какое из данных прилагательных является относительным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стальной трос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серебряный ша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материнский инстинк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белый сне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. Какое из данных прилагательных является притяжательны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сердечная болезн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лисья улыб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морской возду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бабушкины о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4. Прилагательное имеет суффикс -к-, если оно образованно от существительно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таджи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узбе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гиган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неме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5. Прилагательное имеет суффикс –ск-, если оно образованно от существительно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Омс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Череповец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Ницц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тка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6. Какое из данных прилагательных имеет суффикс –ев-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игр_в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юрод_в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тен_во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 крас_в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7. Какое из данных прилагательных имеет суффикс –евит-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глянц_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желт_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дом_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рыж_т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8. Какое из данных прилагательных имеет суффикс –оньк-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красив_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лег_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тепл_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средн_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9. В каком из данных прилагательных на месте пропуска пишется –н-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ледя_о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каме_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исти_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весе_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0. В каком из данных прилагательных на месте пропуска пишется –нн-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ветре_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деревя_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песча_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лебеди_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1. Какое из данных прилагательных пишется слитн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(военно)морско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(англо)русск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(каше)образн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(желто)си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2. Какое из данных прилагательных пишется через дефис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) (жаро)понижающ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б) (заподно)сибирские ре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) (общественно)полезны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) (официально)делов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чественные прилагательные обозначают признак предмета, определяющий его качества: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асивы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цветок,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жарк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день. Лексическое значение качественных прилагательных разнообразно: они могут обозначать цвет, физические свойства, вкус, запах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гут употребляться с уменьшительно-ласкательными суффиксами и с наречиями меры и степ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 качественных прилагательных можно образовывать наречия на –о (-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носительные имена прилагательные называют признак по отношению к материалу, месту, действию, отвлеченному понятию: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железна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дверь,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орско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оздух,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городска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ро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носительные прилагательные имеют параллельные синонимические формы, выраженные предложно-именными сочетаниями: каменный дом-дом из камня; институтское здание- здание институ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носительные прилагательные не имеют степеней сравнения и кратких фо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тяжательные имена прилагательные обозначают принадлежность предмета к какому-либо лицу или животному: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тцо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дом,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лис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хв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тяжательные прилагательные образуются только от одушевленных существительных с помощью суффиксов –ий, -ов (-ев), -ин (-ын), -овск- (-евск-), -инск- (-ынск-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равнительная и превосходная степени имен прилаг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к сравнительная, так и превосходная степень могут быть простыми (синтетическими)  и сложными (аналитически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стая форма сравнительной степени образуется при помощи суффиксов –ее (-ей), -е; синтетическая форма превосходной – при помощи суффиксов –ейш, -ай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жная форма сравнительной степени сочетает слов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оле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не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начальную форму прилагательного; сложная форма превосходной степени может быть образована присоединением к прилагательным в начальной формы слов: самый, наиболее, наименее; присоединением слов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сего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сех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к прилагательному в простой форме сравнительной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пр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Образуйте степени сравнения (простые и сложные) от имён прилагатель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итрый, бойкий, крутой, низкий, высокий, маленький, высокий, емкий, упругий, хороший, плохой, сладкий, звонкий, гладкий, колкий, гибкий, простой, пылкий, тяжелый, хлесткий, красивый, ловкий, стой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териал по стилисти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1980720"/>
            <a:ext cx="7777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лагательные в простой форме сравнительной степени с суффиксом –ее являются стилистически нейтральными, с суффиксом –ей – разговор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жные формы сравнительной степени являются книж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лагательные в простой форме превосходной степени являются книж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жные формы превосходной степени являются: нейтральными, книжными, разговор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аткие формы имен прилаг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аткие прилагательные образуются от полных путём отбрасывания окончаний. У прилагательных с основой на шипящую в им. и вин. падежах ед. числа «ь» не пиш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лагательные на –енн образуют краткую форму двояко: тождественный- тождествен, тождествен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!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стрый- остёр и остр, достойный- достоин, но:  удостоенный- удостоен (причаст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аткие прилагательные изменяются только по числам и имеют форму рода. В современном русском языке они не склоняются, поэтому выступают только в роли сказуемого.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9:19:12Z</dcterms:created>
  <dc:creator>Пользователь</dc:creator>
  <dc:description/>
  <dc:language>en-US</dc:language>
  <cp:lastModifiedBy>asd</cp:lastModifiedBy>
  <dcterms:modified xsi:type="dcterms:W3CDTF">2011-12-15T09:52:49Z</dcterms:modified>
  <cp:revision>6</cp:revision>
  <dc:subject/>
  <dc:title>Имя прилагательное обозначает признак предмета, его качество и отвечает на вопросы: Какой? Чей?</dc:title>
</cp:coreProperties>
</file>