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1CAF2-C6AF-44C2-8185-834759FFD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EB77E-9AFD-4B71-B956-6591F902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EDE0D-F8BD-41E8-B712-AEB81D6F7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6C36E-A1B9-4375-A078-6E99C3E95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0554-B2F7-4CF5-BC1B-04EF44EBB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0ADE-2149-4D1E-B9FD-FCB61389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E563-7F6C-4387-A8B6-923CFC2C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8E53-3D74-494D-8B33-06D46E0E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CE41-A08A-4179-87A1-5AC9B362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5E4F4-36C0-4939-BDD1-1A18B0D5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3AD68-5692-4225-AE75-285C9A8D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7B962-885D-4258-8F10-20FB5138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4995A-C835-46F0-9DF7-C8F9525A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939A0-DC7C-4675-905F-4BD6D756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DD7D-6B79-4073-9C4B-BABCB509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BF9D-754D-4B23-87DC-394FDFCB9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BE01-E682-4C01-B4F9-90F489539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BAB1B-46A0-409A-AC28-D7F48450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82357-F151-46C8-8393-82E3CA5A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7C147-83B1-4045-A36F-4E3D069B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65A6E-F694-4A3A-A1FD-E42AB5FD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4A195-C973-4CE2-8F63-EFD7A180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74C8D-8079-41C0-8A60-EB5195C1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7A4A2-135D-432E-AC29-129240A7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B2F1-EE15-42AD-8E11-9994865674E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1CA1-2F26-4259-AC28-9E4E8CF45A5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Имя прилагательное обозначает признак предмета, его качество и отвечает на вопросы: Какой? Ч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32000" y="4267080"/>
            <a:ext cx="6696000" cy="23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мена прилагательные изменяется по родам, по числам, по падежам. Грамматические категории зависят от существительного, с которым оно согласуется. В предложении чаще всего выступает в роли определения, а может так же входить в состав сказуем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Упр.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Образуйте краткие прилагательные м. р ед. 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средственный, существенный, мужественный, невежественный, безнравственный, острый, полный, бесчувственный, воинственный, безжизненный, естественный, безнравственный, посредственный, тождественный, явствен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ереход имен прилагательных из         одного разряда в друг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тносительные и притяжательные прилагательные могут переходить в разряд качественных: каменный дом- каменное сердце, отцовский дом- отцовские чув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тяжательные прилагательные могут переходить в разряд относительных: заячий хвост- заячий тулу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авописание окончаний имен прилагатель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561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мена прилагательные в им. падеже ед. числе м.р. Под ударением всегда имеют окончание –ой, без ударения –ый или –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притяжательных прилагательных на –ий во всех формах, кроме им. и вин. падежа м.р., перед окончание пишется «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авописание суффиксов имен прилагатель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07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.     С суффиксом –к- пишется качественные прилагательные, образующие краткую форму. С суффиксом –ск- пишется относительные прилагатель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ред суффиксом –ск- конечные согласные основы существительного сохраняются без изменения, чередуются или исчеза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охраняются конечные согласные основы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д, т, з, с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охраняется буква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ц,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если перед ней стоит любая согласная, кроме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ц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Если основа существительного оканчивается на согласные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ч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, то они чередуются с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ц,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 в прилагательном пишется суффикс –к-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Если основа существительного оканчивается на –с, которой предшествует согласная, то конечная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опуск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усские географические названия на –ск- образуют прилагательные без помощи суффикса –ск-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Если основа существительного оканчивается на –сс, то перед –ск- одно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опуск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.   В суффиксах –ев-, -ив- под ударением пишется буква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, без ударения буква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.   В суффиксах –лив-, -чив- всегда пишется буква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4.   В суффиксах –ов-, -оват-, -овит- после твердых согласных пишется буква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; после мягких согласных, шипящих и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ц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пишется буква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5.   Суффиксы –инск-, -ин- + -ск- характерны для прилагательных, образованных от основ на –ин. В остальных прилагательных пишется суффикс –енск-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6.   Суффикс –еньк- служит для образования прилагательных от слов, основа которых оканчивается на любой согласный, кроме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г, к, х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суффикс –оньк- употребляется после основы на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г, к, х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7.    Если производящая основа оканчивается на –ск ( воск, доска), то при образовании прилагательных это сочетание заменяется на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щ: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ощаной, дощат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8.    Если производящая основа оканчивается на –к, то при образовании прилагательных посредством суффикса –ат- наблюдается чередование к//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9.    Если производящая основа оканчивается на –ц, то при образовании прилагательных посредством суффикса –чат- наблюдается чередование ц//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пр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42472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Образуйте имена прилагательные с суффиксами –к- и -ск-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арнас, Бордо, Спасск, Реймс, ткач, таджик, Курск, Голландия, Сан-Франциско, Ницца, черкес, кабак, рыбак, баск, монастырь, курд, немец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468360" y="2421000"/>
            <a:ext cx="822960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пр.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468360" y="3141720"/>
            <a:ext cx="8424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Образуйте имена прилагательные с суффиксами -ск-, -инск-, -еньк-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Брюсов, Химки, Пушкин, Охта, междуречья, Сочи, кладбище, Екатерина, Коломна, Талдом, грозный, Ельня, нищий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468360" y="4437000"/>
            <a:ext cx="82296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пр.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68360" y="5229360"/>
            <a:ext cx="835164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Образуйте имена прилагательные с суффиксами –ев-, -ив-, -ов-, -лив-, -чив-, -ат-, -чат-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Бороздка, брусок, клетка, эмаль, корень, плакса, веснушки, образец, удача, губа, доверие, кость, доска, крупица, милость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пр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3516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Образуйте имена прилагательные с суффиксами –оват-, -еват-, -овит-, -евит-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елесый, чёрный, дом, жесткий, желтый, глянец, синий, соленый, угол, яд, дар, грязный, рыж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395280" y="2997360"/>
            <a:ext cx="82296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пр.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395280" y="4149720"/>
            <a:ext cx="8352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Образуйте имена прилагательные с суффиксами –оньк-, -еньк-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Легкий, теплый, тонкий, высокий, голубой, толстый, сухой, дешевый, младший, убогий, старший, средний, добры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авописание Н и НН в суффиксах          имен прилагатель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дна буква Н пишется в суффиксах –ан- (-ян-), -ын- (-ин-). Исключения: стеклянный, оловянный, деревян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ве буквы НН пишетс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отыменных прилагательных, образованных от основ на   -н, -мя при помощи суффикса –н-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суффиксах –енн-, -онн- отыменных прилагательны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3. 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В кратких прилагательных пишется столько же Н, сколько их было в полной фор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пр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Образуйте имена прилагательные от существитель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лина, солома, семя, голубь, серебро, олово, полотно, время, цена, клюква, истина, дрова, платье, дерево, кожа, стекл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авописание сложных имен прилагатель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итно пишутс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мена прилагательные, образованные от сложных существительных, пишущихся слит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лагательные, у которых одна из составляющих частей отдельно не употребля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лагательные, образованные из сочетаний слов с подчинительной связ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лагательные, первой частью которых является наречие  на 0 или 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лагательные, первой частью которых является имя числитель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Лексико-грамматические разряды имён прилагательны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4"/>
          <p:cNvSpPr/>
          <p:nvPr/>
        </p:nvSpPr>
        <p:spPr>
          <a:xfrm>
            <a:off x="2124000" y="2276640"/>
            <a:ext cx="4824360" cy="720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мя прилагательно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Oval 5"/>
          <p:cNvSpPr/>
          <p:nvPr/>
        </p:nvSpPr>
        <p:spPr>
          <a:xfrm>
            <a:off x="900000" y="4005360"/>
            <a:ext cx="2376720" cy="647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ачественно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Oval 6"/>
          <p:cNvSpPr/>
          <p:nvPr/>
        </p:nvSpPr>
        <p:spPr>
          <a:xfrm>
            <a:off x="5867280" y="3933720"/>
            <a:ext cx="2376720" cy="647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тяжательно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Oval 7"/>
          <p:cNvSpPr/>
          <p:nvPr/>
        </p:nvSpPr>
        <p:spPr>
          <a:xfrm>
            <a:off x="3276720" y="5157720"/>
            <a:ext cx="2376360" cy="647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тносительно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Line 8"/>
          <p:cNvSpPr/>
          <p:nvPr/>
        </p:nvSpPr>
        <p:spPr>
          <a:xfrm flipH="1">
            <a:off x="2916000" y="2997360"/>
            <a:ext cx="11509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Line 10"/>
          <p:cNvSpPr/>
          <p:nvPr/>
        </p:nvSpPr>
        <p:spPr>
          <a:xfrm>
            <a:off x="5076720" y="2997360"/>
            <a:ext cx="1008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Line 11"/>
          <p:cNvSpPr/>
          <p:nvPr/>
        </p:nvSpPr>
        <p:spPr>
          <a:xfrm flipH="1">
            <a:off x="4427280" y="2997360"/>
            <a:ext cx="73080" cy="20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ерез дефис пишу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илагательные, обозначающие оттенки цветов, дополнительные оттенки качества или призна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илагательные, образованные из сочетаний слов с сочинительной связ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илагательные, образованные от существительных, которые пишутся через дефи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илагательные, начинающиеся со слов юго-, южно-, западно-, восточно-, северо-, северно-. Если подобные прилагательные являются нарицательными, то они пишутся слитно и со строчной бук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ложные прилагательные, образованные от сочетаний имени и фамилии, имени и от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ложные прилагательные, основа первой части которых оканчивается на –ик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ложные прилагательные, части которых указывают на неоднородные призна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пр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435880" cy="42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Перепишите прилагательные, раскрывая скобки. Объясните их правопис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Норд)вестовый, (военно)морской, (англо)русский, (военно)полевой, (Западно)Сахалинские горы, (каше)образный, (лимонно)желтый, (жаро)понижающий, (отчётно)выборный, (общественно)трудовой, (историко)архивный, (естественно)исторический, (горно)буровой, (горно)добывающий, (горно)спасательный, (бело)каменный, (железо)бетонный, (высоко)нравственный, (бледно)голубой, (жюль)верновский, (западно)сахалинс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е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1. Какое из данных прилагательных является качественным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а) зелёное расте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б) лисья нор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) золотая свадьб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г) институтское зд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2. Какое из данных прилагательных является относительным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а) стальной трос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б) серебряный шар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) материнский инстинк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г) белый сне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3. Какое из данных прилагательных является притяжательным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а) сердечная болезн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б) лисья улыбк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) морской возду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г) бабушкины оч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4. Прилагательное имеет суффикс -к-, если оно образованно от существительног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а) таджи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б) узбе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) гиган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г) немец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5. Прилагательное имеет суффикс –ск-, если оно образованно от существительног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а) Омс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б) Череповец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) Ницц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г) ткач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6. Какое из данных прилагательных имеет суффикс –ев-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а) игр_вы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б) юрод_вы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) тен_во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г)  крас_вы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7. Какое из данных прилагательных имеет суффикс –евит-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а) глянц_ы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б) желт_ы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) дом_ы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г) рыж_ты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8. Какое из данных прилагательных имеет суффикс –оньк-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а) красив_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б) лег_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) тепл_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г) средн_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5280" y="98100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9. В каком из данных прилагательных на месте пропуска пишется –н-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а) ледя_о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б) каме_ы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) исти_ы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г) весе_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10. В каком из данных прилагательных на месте пропуска пишется –нн-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а) ветре_ы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б) деревя_ы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) песча_ы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г) лебеди_ы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11. Какое из данных прилагательных пишется слитно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а) (военно)морско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б) (англо)русск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) (каше)образны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г) (желто)си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12. Какое из данных прилагательных пишется через дефис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а) (жаро)понижающ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б) (заподно)сибирские рек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) (общественно)полезны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г) (официально)делов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ачественные прилагательные обозначают признак предмета, определяющий его качества: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расивый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цветок,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жаркий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день. Лексическое значение качественных прилагательных разнообразно: они могут обозначать цвет, физические свойства, вкус, запах и т.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огут употребляться с уменьшительно-ласкательными суффиксами и с наречиями меры и степе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т качественных прилагательных можно образовывать наречия на –о (-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тносительные имена прилагательные называют признак по отношению к материалу, месту, действию, отвлеченному понятию: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железная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дверь,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орской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воздух,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городская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рощ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тносительные прилагательные имеют параллельные синонимические формы, выраженные предложно-именными сочетаниями: каменный дом-дом из камня; институтское здание- здание институ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тносительные прилагательные не имеют степеней сравнения и кратких фор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тяжательные имена прилагательные обозначают принадлежность предмета к какому-либо лицу или животному: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тцов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дом,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лисий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хво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тяжательные прилагательные образуются только от одушевленных существительных с помощью суффиксов –ий, -ов (-ев), -ин (-ын), -овск- (-евск-), -инск- (-ынск-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равнительная и превосходная степени имен прилага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ак сравнительная, так и превосходная степень могут быть простыми (синтетическими)  и сложными (аналитическим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остая форма сравнительной степени образуется при помощи суффиксов –ее (-ей), -е; синтетическая форма превосходной – при помощи суффиксов –ейш, -айш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жная форма сравнительной степени сочетает слова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более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ли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енее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начальную форму прилагательного; сложная форма превосходной степени может быть образована присоединением к прилагательным в начальной формы слов: самый, наиболее, наименее; присоединением слов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сего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ли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сех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к прилагательному в простой форме сравнительной степ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Упр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Образуйте степени сравнения (простые и сложные) от имён прилагатель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итрый, бойкий, крутой, низкий, высокий, маленький, высокий, емкий, упругий, хороший, плохой, сладкий, звонкий, гладкий, колкий, гибкий, простой, пылкий, тяжелый, хлесткий, красивый, ловкий, стой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атериал по стилистик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0920" y="1980720"/>
            <a:ext cx="7777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лагательные в простой форме сравнительной степени с суффиксом –ее являются стилистически нейтральными, с суффиксом –ей – разговор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жные формы сравнительной степени являются книж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лагательные в простой форме превосходной степени являются книж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жные формы превосходной степени являются: нейтральными, книжными, разговор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раткие формы имен прилага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раткие прилагательные образуются от полных путём отбрасывания окончаний. У прилагательных с основой на шипящую в им. и вин. падежах ед. числа «ь» не пиш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лагательные на –енн образуют краткую форму двояко: тождественный- тождествен, тождествен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!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стрый- остёр и остр, достойный- достоин, но:  удостоенный- удостоен (причаст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раткие прилагательные изменяются только по числам и имеют форму рода. В современном русском языке они не склоняются, поэтому выступают только в роли сказуемого.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09:19:12Z</dcterms:created>
  <dc:creator>Пользователь</dc:creator>
  <dc:description/>
  <dc:language>en-US</dc:language>
  <cp:lastModifiedBy>asd</cp:lastModifiedBy>
  <dcterms:modified xsi:type="dcterms:W3CDTF">2011-12-15T09:52:49Z</dcterms:modified>
  <cp:revision>6</cp:revision>
  <dc:subject/>
  <dc:title>Имя прилагательное обозначает признак предмета, его качество и отвечает на вопросы: Какой? Чей?</dc:title>
</cp:coreProperties>
</file>