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E6E2-7BC3-47A2-80F4-FA6E5B3A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1C9-696C-43A6-BADC-1EE3417E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4DDD-206F-40EC-8E30-D3E8467E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81B-620C-492F-8E20-386C966D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DF4D-1F8F-4160-86AA-41AB5F7D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A014-9C3E-458B-BBF0-8CC704D0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8FEF-DEA1-4614-B2FB-202555AA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B178-087D-450B-AE26-8131BB21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DDB2-80F3-4E4B-BD3F-6DF526BD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6926-1EDF-40A4-B2ED-760298DF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38A6-D2F7-4FD3-80FC-9A2CE517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FF5-AB9A-42EB-8AE8-E323D211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9115-CB18-46F9-8EC6-B4091A71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4437-0012-44FD-BF6E-78405729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04C2-BD0B-418D-8908-12C902E9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5EA3-DE4A-4EE6-9F00-9ED6E144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C650-1E5A-4B9E-8AD8-6B51AE82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CF4A-AFFA-4130-8A3B-97C25701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60A-B77E-4E48-85FC-BE2177E2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B30-FBCB-4CE9-A89F-FE2FED26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0831-20B5-4EC3-B3A3-B3E4A9C1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DF1-8332-457C-AD37-AEA0EDC7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F413-BDA4-429E-8366-6B66291D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7909-39CB-49F8-ACF5-17F7A49F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7B2D-643B-408A-8EFA-09C1067842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93FD-E5F5-4B9E-837F-EB276ADA5A70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Тема проект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6421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755640" y="2276640"/>
            <a:ext cx="777708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блемы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циально-эмоционального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спитания дошкольников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4" descr="P1010040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50920" y="549360"/>
            <a:ext cx="8569080" cy="61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2.   </a:t>
            </a:r>
            <a:r>
              <a:rPr b="1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Организация и проведение спланированных занятий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Отражение в зеркале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Какого цвета твои глаза?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Ребята и зверята. Дикие животные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Какой подарок ты хочешь получить?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Как мы выражаем свои чувства?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Грусть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Спокойствие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Взаимопомощь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Плохо быть одному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Никого роднее мамы в целом мире нет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Этикет для малышей»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3. </a:t>
            </a:r>
            <a:r>
              <a:rPr b="1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Внедрение элементов театрализованной игры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плоскостной театр на фланелеграфе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игрушки из конусов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игрушки-дергунчики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театр игрушек из ложек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игрушки из коробок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театр кукол «Живая рука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театр игрушек из яичной скорлуп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4. </a:t>
            </a:r>
            <a:r>
              <a:rPr b="1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Проведение родительских собраний и консультаций: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Развитие эмоционально-нравственной сферы детей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Игра – мир ребёнка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Общение родителей и детей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Что такое хорошо и что такое плохо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В человеке всё должно быть прекрасно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Как наказывать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Почему он рвёт книжк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Самооценка ребёнка дошкольного возраста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Роль отца в воспитании детей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Папа и дочка: любовь на все времена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Влияние биоритмов на эмоциональное состояние ребёнка»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Результаты проект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79280" y="1125360"/>
            <a:ext cx="84456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а основе анкетирования для родителей «Как изменился мой ребёнок?», проведённого в конце учебного года, были выявлены следующие положительные изменения в поведении и психо-эмоциональном состоянии детей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- возросли коммуникативные способности (желание идти на контакт и умение общаться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- почти полностью исчезли нежелательные формы поведения (проявление грубости и недоброжелательности к окружающим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- появилось желание выражать преимущественно положительные эмоции (радость, восторг, удивление, восхищение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Arial"/>
              </a:rPr>
              <a:t>Результаты коррекции неконструктивного поведения детей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8" name="Object 15"/>
          <p:cNvGraphicFramePr/>
          <p:nvPr/>
        </p:nvGraphicFramePr>
        <p:xfrm>
          <a:off x="457200" y="2517840"/>
          <a:ext cx="403848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7840"/>
                    <a:ext cx="40384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8"/>
          <p:cNvGraphicFramePr/>
          <p:nvPr/>
        </p:nvGraphicFramePr>
        <p:xfrm>
          <a:off x="4795920" y="1600200"/>
          <a:ext cx="3741480" cy="21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95920" y="1600200"/>
                    <a:ext cx="374148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21"/>
          <p:cNvGraphicFramePr/>
          <p:nvPr/>
        </p:nvGraphicFramePr>
        <p:xfrm>
          <a:off x="1042920" y="1700280"/>
          <a:ext cx="6832800" cy="450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1700280"/>
                    <a:ext cx="683280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Информационные ресурсы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Васильева, М.А., Гербова В.В., Комарова Т.С. Программа воспитания и обучения в детском саду. – М.: Мозаика-Синтез, 2007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Дурова Н.В. Очень важный разговор. – М.: Мозаика-Синтез, 2001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Зацепина М.Б. Воспитание и обучение во второй младшей группе детского сада. – М.: Мозаика-Синтез, 2008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нязева, О.Л., Стеркина, Р.Б. Я, ты, мы: Социально-эмоциональное развитие детей от 3 до 6 лет. – М.: Просвещение, 2005.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ольцова, О.В., Шедько, С.Н. Создание образовательной и предметно-развивающей среды в жизнедеятельности детей дошкольного возраста. – Тамбов: ИПКРО, 2009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57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рюкова С.В., Слободяник, Н.П. Удивляюсь, злюсь, боюсь, хвастаюсь и радуюсь. – М.: ГЕНЕЗИС, 2006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Мирилова, Т.Л. Эмоциональное развитие ребёнка. – Волгоград: Корифей, 2009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оломенникова, О.А. Занятия по формированию элементарных экологических представлений. – М.: Мозаика-Синтез, 2008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ушкова, И.В. Социально-личностное развитие. – М.: Сфера, 2008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Теплюк, С.Н. Занятия на прогулках с детьми младшего дошкольного возраста. – М.: ВЛАДОС, 2001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Шорыгина, Т.А. Вежливые сказки. – М.: Книголюб, 2002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Шорыгина, Т.А. Красивые сказки. – М.: Книголюб, 2003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Шипицына, Л.М. Азбука общения. – СПб.: Детство Пресс, 2004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Юрчук, Е.Н. Эмоциональное развитие дошкольников. – М.: Сфера, 2008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Автор проекта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Воспитатель МДОУ «Детский сад «Берёзка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пос. Первомайский Первомайского райо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Тамбовской област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Щавелева Ольга Анатольевна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Творческое название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547640" y="2421000"/>
            <a:ext cx="6120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ир эмоций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41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Verdana"/>
              </a:rPr>
              <a:t>Типология проект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исследовательски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Verdana"/>
              </a:rPr>
              <a:t>Участники проект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воспитатель, дети второй младшей группы, родител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Verdana"/>
              </a:rPr>
              <a:t>Сроки реализации проект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учебный год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Аннотация проект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Данный педагогический проект разработан с учётом программы «Я, ты, мы: Социально-эмоциональное развитие детей от трёх до шести лет» О.Л. Князевой, Р.Б. Стеркиной. В последнее время в жизни нашего общества материальные ценности стали преобладать над духовными. Поэтому наряду с акцентом на интеллектуальное развитие необходимо уделить должное внимание и эмоциональному миру дошкольника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Предполагается реализация данного проекта как во время занятий с детьми, так и в свободное от них время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Результатом проекта будут: презентация, цикл занятий, комплексы психогимнастики, сконструированный вместе с детьми настольный театр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Гипотез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324000" y="1557360"/>
            <a:ext cx="849600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ри правильной организации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работы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о социально-эмоциональному воспитанию в ДО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можно реши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роблему вхождения ребён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в реальный м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Основополагающий вопро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468360" y="1628640"/>
            <a:ext cx="813600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Как спланирова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учебно-воспитательную деятельнос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для максимально успешного достижен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оставленных целей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Задачи проекта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Определить основные направления работы по социально-эмоциональному воспитанию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Разработать комплекс занятий и упражнений по теме проект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Составить план взаимодействия с семьями дете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Внедрить в практику учебно-воспитательного процесса разработанные мероприят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Проверить результативность педагогической деятельност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Этапы работы над проектом: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Подготовительны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Практический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Заключительный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Содержание проект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1.  </a:t>
            </a:r>
            <a:r>
              <a:rPr b="1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Создание комплекса психогимнастических упражнений на основе поэтических текстов: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Нам солнце улыбается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Родител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Наши алые цветк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Мы летим под облакам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На лугу растут цветы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Ветер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Лягушк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Прогулка в лес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Ёжик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Мыши»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08:07:04Z</dcterms:created>
  <dc:creator>Сашок</dc:creator>
  <dc:description/>
  <dc:language>en-US</dc:language>
  <cp:lastModifiedBy>Никита</cp:lastModifiedBy>
  <dcterms:modified xsi:type="dcterms:W3CDTF">2011-12-15T05:27:08Z</dcterms:modified>
  <cp:revision>10</cp:revision>
  <dc:subject/>
  <dc:title>Тема проекта</dc:title>
</cp:coreProperties>
</file>