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12.jpeg" ContentType="image/jpeg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A15C-E904-4AB8-95F9-FE64579F4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4B77-75AB-4702-A1F5-E63F283C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A4A4-CC71-4701-82A0-0A055DBB9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386F-EDAB-485D-B68C-6F392342D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15A4-59C2-4162-A106-30815F11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B3B9-5FA3-4E46-A206-8442AC08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2EAA-7897-4E3A-919C-4977C3C1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AE7A-A822-43A6-88B7-A786BA76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23E1-7053-4BD2-9BF6-39784F19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FF81-073C-48F7-9648-CFC61520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9229-0C63-40C7-8C8D-C9CDE879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9FB5-26BB-4A70-A626-C2D56457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BD6E-7B88-4CC4-B70C-87B0B632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4B9E-C326-4698-B092-2E798708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F434-74B3-4681-A202-5570EA14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9017-9F77-4089-AD94-9F89171E4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ADC8-327A-4756-BE6B-64EBA8365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FEA1-562B-4A9E-B14F-98121B56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8A86-574F-4E8B-B632-79FE42E9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7354-58C1-49CB-B440-166852DE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0987-9861-4483-B1A3-C32865F6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CEBF-1471-4C1E-BB3B-C823486B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FC93-7515-487C-9D63-C9BF8D65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7847-723B-49EA-98B5-117CD6EA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25DA-0104-4EA8-866B-786D315C9C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1EC3-59D7-4AE1-92E4-4350332AB48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2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WordArt 5"/>
          <p:cNvSpPr txBox="1"/>
          <p:nvPr/>
        </p:nvSpPr>
        <p:spPr>
          <a:xfrm>
            <a:off x="1447920" y="380880"/>
            <a:ext cx="4464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a3c145"/>
                  </a:solidFill>
                  <a:miter/>
                </a:ln>
                <a:solidFill>
                  <a:srgbClr val="cc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рень</a:t>
            </a:r>
            <a:endParaRPr b="0" lang="en-US" sz="1800" spc="1" strike="noStrike">
              <a:ln w="12600">
                <a:solidFill>
                  <a:srgbClr val="a3c145"/>
                </a:solidFill>
                <a:miter/>
              </a:ln>
              <a:solidFill>
                <a:srgbClr val="cc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304920" y="2133720"/>
            <a:ext cx="6553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f24"/>
                </a:solidFill>
                <a:latin typeface="Tahoma"/>
              </a:rPr>
              <a:t>Подземная часть растения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f24"/>
                </a:solidFill>
                <a:latin typeface="Tahoma"/>
              </a:rPr>
              <a:t>Внутренняя, находящаяся 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1e1f24"/>
                </a:solidFill>
                <a:latin typeface="Tahoma"/>
              </a:rPr>
              <a:t>теле часть зуба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ahoma"/>
              </a:rPr>
              <a:t>Основная, значимая часть слова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Picture 7" descr="zub1"/>
          <p:cNvPicPr/>
          <p:nvPr/>
        </p:nvPicPr>
        <p:blipFill>
          <a:blip r:embed="rId2"/>
          <a:stretch/>
        </p:blipFill>
        <p:spPr>
          <a:xfrm>
            <a:off x="6248520" y="3429000"/>
            <a:ext cx="1028520" cy="1297080"/>
          </a:xfrm>
          <a:prstGeom prst="rect">
            <a:avLst/>
          </a:prstGeom>
          <a:ln w="0">
            <a:noFill/>
          </a:ln>
        </p:spPr>
      </p:pic>
      <p:sp>
        <p:nvSpPr>
          <p:cNvPr id="390" name="Arc 12"/>
          <p:cNvSpPr/>
          <p:nvPr/>
        </p:nvSpPr>
        <p:spPr>
          <a:xfrm>
            <a:off x="6248520" y="5562720"/>
            <a:ext cx="1218960" cy="304560"/>
          </a:xfrm>
          <a:prstGeom prst="pie">
            <a:avLst/>
          </a:prstGeom>
          <a:noFill/>
          <a:ln w="7632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6705720" y="1066680"/>
            <a:ext cx="144468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-304920" y="228600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3"/>
          <a:srcRect l="0" t="5902" r="0" b="0"/>
          <a:stretch/>
        </p:blipFill>
        <p:spPr>
          <a:xfrm>
            <a:off x="5562720" y="3505320"/>
            <a:ext cx="3962160" cy="355104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152280" y="685800"/>
            <a:ext cx="28195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e1f24"/>
                </a:solidFill>
                <a:latin typeface="Tahoma"/>
              </a:rPr>
              <a:t>Медна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0066"/>
                </a:solidFill>
                <a:latin typeface="Times New Roman"/>
              </a:rPr>
              <a:t>монет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19520" y="76212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4400" spc="-1" strike="noStrike">
                <a:solidFill>
                  <a:srgbClr val="1e1f24"/>
                </a:solidFill>
                <a:latin typeface="Arial"/>
              </a:rPr>
              <a:t>мед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19513200">
            <a:off x="3033360" y="697680"/>
            <a:ext cx="172332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59449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594494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rot="19383000">
            <a:off x="111240" y="563760"/>
            <a:ext cx="18810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58480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584803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038480" y="2743200"/>
            <a:ext cx="37339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e1f24"/>
                </a:solidFill>
                <a:latin typeface="Tahoma"/>
              </a:rPr>
              <a:t>Медовы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4800" spc="-1" strike="noStrike">
                <a:solidFill>
                  <a:srgbClr val="ff0066"/>
                </a:solidFill>
                <a:latin typeface="Times New Roman"/>
              </a:rPr>
              <a:t>пряни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4320" y="274320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4800" spc="-1" strike="noStrike">
                <a:solidFill>
                  <a:srgbClr val="1e1f24"/>
                </a:solidFill>
                <a:latin typeface="Arial"/>
              </a:rPr>
              <a:t>мё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9609800">
            <a:off x="3706920" y="2620080"/>
            <a:ext cx="1880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58667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586678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8239400">
            <a:off x="7237800" y="2693880"/>
            <a:ext cx="1675800" cy="179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679" y="721"/>
                </a:moveTo>
                <a:arcTo wR="10800" hR="10800" stAng="-4136997" swAng="4136997"/>
                <a:lnTo>
                  <a:pt x="10800" y="10800"/>
                </a:lnTo>
                <a:close/>
              </a:path>
              <a:path fill="none" w="21600" h="21600">
                <a:moveTo>
                  <a:pt x="14679" y="721"/>
                </a:moveTo>
                <a:arcTo wR="10800" hR="10800" stAng="-4136997" swAng="4136997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5943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99"/>
                </a:solidFill>
                <a:latin typeface="Tahoma"/>
              </a:rPr>
              <a:t>Родственные слов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403848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e1f24"/>
                </a:solidFill>
                <a:latin typeface="Times New Roman"/>
              </a:rPr>
              <a:t>Общая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1e1f24"/>
                </a:solidFill>
                <a:latin typeface="Times New Roman"/>
              </a:rPr>
              <a:t>часть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4800" spc="-1" strike="noStrike">
                <a:solidFill>
                  <a:srgbClr val="1e1f24"/>
                </a:solidFill>
                <a:latin typeface="Times New Roman"/>
              </a:rPr>
              <a:t>корень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48320" y="2332080"/>
            <a:ext cx="449568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e1f24"/>
                </a:solidFill>
                <a:latin typeface="Times New Roman"/>
              </a:rPr>
              <a:t>Общее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e1f24"/>
                </a:solidFill>
                <a:latin typeface="Times New Roman"/>
              </a:rPr>
              <a:t>значени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1980720" y="1600200"/>
            <a:ext cx="1295640" cy="685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029200" y="1600200"/>
            <a:ext cx="1066680" cy="685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9383000">
            <a:off x="949320" y="4145400"/>
            <a:ext cx="18810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58480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584803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523880" y="228600"/>
            <a:ext cx="6019920" cy="12952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523880" y="838080"/>
            <a:ext cx="60199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28600" y="2362320"/>
            <a:ext cx="3581280" cy="22860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876920" y="2362320"/>
            <a:ext cx="4038480" cy="22860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523880" y="76212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99"/>
                </a:solidFill>
                <a:latin typeface="Arial"/>
              </a:rPr>
              <a:t>(однокоренные слова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Заголовок 1"/>
          <p:cNvSpPr/>
          <p:nvPr/>
        </p:nvSpPr>
        <p:spPr>
          <a:xfrm>
            <a:off x="762120" y="1066680"/>
            <a:ext cx="6858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Подзаголовок 2"/>
          <p:cNvSpPr/>
          <p:nvPr/>
        </p:nvSpPr>
        <p:spPr>
          <a:xfrm>
            <a:off x="609480" y="1523880"/>
            <a:ext cx="7934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1e1f24"/>
                </a:solidFill>
                <a:latin typeface="Tahoma"/>
              </a:rPr>
              <a:t>Какое слово здесь лишнее?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Box 3"/>
          <p:cNvSpPr/>
          <p:nvPr/>
        </p:nvSpPr>
        <p:spPr>
          <a:xfrm>
            <a:off x="4857840" y="3357720"/>
            <a:ext cx="375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.  </a:t>
            </a:r>
            <a:r>
              <a:rPr b="0" lang="en-US" sz="2800" spc="-1" strike="noStrike">
                <a:solidFill>
                  <a:srgbClr val="1e1f24"/>
                </a:solidFill>
                <a:latin typeface="Verdana"/>
              </a:rPr>
              <a:t>НОСИЛЬЩ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4"/>
          <p:cNvSpPr/>
          <p:nvPr/>
        </p:nvSpPr>
        <p:spPr>
          <a:xfrm>
            <a:off x="4929120" y="407196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5c6c"/>
                </a:solidFill>
                <a:latin typeface="Verdana"/>
              </a:rPr>
              <a:t>2.  </a:t>
            </a:r>
            <a:r>
              <a:rPr b="0" lang="en-US" sz="2800" spc="-1" strike="noStrike">
                <a:solidFill>
                  <a:srgbClr val="1e1f24"/>
                </a:solidFill>
                <a:latin typeface="Verdana"/>
              </a:rPr>
              <a:t>НОСАТ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Box 5"/>
          <p:cNvSpPr/>
          <p:nvPr/>
        </p:nvSpPr>
        <p:spPr>
          <a:xfrm>
            <a:off x="4929120" y="48578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5c6c"/>
                </a:solidFill>
                <a:latin typeface="Verdana"/>
              </a:rPr>
              <a:t>3.  </a:t>
            </a:r>
            <a:r>
              <a:rPr b="0" lang="en-US" sz="2800" spc="-1" strike="noStrike">
                <a:solidFill>
                  <a:srgbClr val="1e1f24"/>
                </a:solidFill>
                <a:latin typeface="Verdana"/>
              </a:rPr>
              <a:t>Н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Box 6"/>
          <p:cNvSpPr/>
          <p:nvPr/>
        </p:nvSpPr>
        <p:spPr>
          <a:xfrm>
            <a:off x="4929120" y="564372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.  </a:t>
            </a:r>
            <a:r>
              <a:rPr b="0" lang="en-US" sz="2800" spc="-1" strike="noStrike">
                <a:solidFill>
                  <a:srgbClr val="1e1f24"/>
                </a:solidFill>
                <a:latin typeface="Verdana"/>
              </a:rPr>
              <a:t>НОСИШК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19513200">
            <a:off x="5476320" y="5556240"/>
            <a:ext cx="10508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784" y="190"/>
                </a:moveTo>
                <a:arcTo wR="10800" hR="10800" stAng="-6045461" swAng="5239955"/>
                <a:lnTo>
                  <a:pt x="10800" y="10800"/>
                </a:lnTo>
                <a:close/>
              </a:path>
              <a:path fill="none" w="21600" h="21600">
                <a:moveTo>
                  <a:pt x="8784" y="190"/>
                </a:moveTo>
                <a:arcTo wR="10800" hR="10800" stAng="-6045461" swAng="5239955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rot="19513200">
            <a:off x="5552640" y="4718160"/>
            <a:ext cx="105084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784" y="190"/>
                </a:moveTo>
                <a:arcTo wR="10800" hR="10800" stAng="-6045461" swAng="5239955"/>
                <a:lnTo>
                  <a:pt x="10800" y="10800"/>
                </a:lnTo>
                <a:close/>
              </a:path>
              <a:path fill="none" w="21600" h="21600">
                <a:moveTo>
                  <a:pt x="8784" y="190"/>
                </a:moveTo>
                <a:arcTo wR="10800" hR="10800" stAng="-6045461" swAng="5239955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rot="19513200">
            <a:off x="5476320" y="3956040"/>
            <a:ext cx="10508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784" y="190"/>
                </a:moveTo>
                <a:arcTo wR="10800" hR="10800" stAng="-6045461" swAng="5239955"/>
                <a:lnTo>
                  <a:pt x="10800" y="10800"/>
                </a:lnTo>
                <a:close/>
              </a:path>
              <a:path fill="none" w="21600" h="21600">
                <a:moveTo>
                  <a:pt x="8784" y="190"/>
                </a:moveTo>
                <a:arcTo wR="10800" hR="10800" stAng="-6045461" swAng="5239955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Picture 8" descr=""/>
          <p:cNvPicPr/>
          <p:nvPr/>
        </p:nvPicPr>
        <p:blipFill>
          <a:blip r:embed="rId2"/>
          <a:stretch/>
        </p:blipFill>
        <p:spPr>
          <a:xfrm>
            <a:off x="357120" y="2857680"/>
            <a:ext cx="43722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4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7" name="Подзаголовок 2"/>
          <p:cNvSpPr/>
          <p:nvPr/>
        </p:nvSpPr>
        <p:spPr>
          <a:xfrm>
            <a:off x="838080" y="1676520"/>
            <a:ext cx="78487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1e1f24"/>
                </a:solidFill>
                <a:latin typeface="Tahoma"/>
              </a:rPr>
              <a:t>Какое слово здесь лишнее?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Box 3"/>
          <p:cNvSpPr/>
          <p:nvPr/>
        </p:nvSpPr>
        <p:spPr>
          <a:xfrm>
            <a:off x="4857840" y="3357720"/>
            <a:ext cx="35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.  </a:t>
            </a:r>
            <a:r>
              <a:rPr b="0" lang="en-US" sz="2800" spc="-1" strike="noStrike">
                <a:solidFill>
                  <a:srgbClr val="1e1f24"/>
                </a:solidFill>
                <a:latin typeface="Verdana"/>
              </a:rPr>
              <a:t>ПЕЧУР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Box 4"/>
          <p:cNvSpPr/>
          <p:nvPr/>
        </p:nvSpPr>
        <p:spPr>
          <a:xfrm>
            <a:off x="4929120" y="407196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f24"/>
                </a:solidFill>
                <a:latin typeface="Verdana"/>
              </a:rPr>
              <a:t>2.  ПЕЧАТ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Box 5"/>
          <p:cNvSpPr/>
          <p:nvPr/>
        </p:nvSpPr>
        <p:spPr>
          <a:xfrm>
            <a:off x="4929120" y="48578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1e1f24"/>
                </a:solidFill>
                <a:latin typeface="Verdana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1e1f24"/>
                </a:solidFill>
                <a:latin typeface="Verdana"/>
              </a:rPr>
              <a:t>ПЕЧ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Box 6"/>
          <p:cNvSpPr/>
          <p:nvPr/>
        </p:nvSpPr>
        <p:spPr>
          <a:xfrm>
            <a:off x="4929120" y="564372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.  </a:t>
            </a:r>
            <a:r>
              <a:rPr b="0" lang="en-US" sz="2800" spc="-1" strike="noStrike">
                <a:solidFill>
                  <a:srgbClr val="1e1f24"/>
                </a:solidFill>
                <a:latin typeface="Verdana"/>
              </a:rPr>
              <a:t>ПЕЧ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19513200">
            <a:off x="5476320" y="5479920"/>
            <a:ext cx="10508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784" y="190"/>
                </a:moveTo>
                <a:arcTo wR="10800" hR="10800" stAng="-6045461" swAng="5239955"/>
                <a:lnTo>
                  <a:pt x="10800" y="10800"/>
                </a:lnTo>
                <a:close/>
              </a:path>
              <a:path fill="none" w="21600" h="21600">
                <a:moveTo>
                  <a:pt x="8784" y="190"/>
                </a:moveTo>
                <a:arcTo wR="10800" hR="10800" stAng="-6045461" swAng="5239955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rot="19513200">
            <a:off x="5476320" y="4718160"/>
            <a:ext cx="105084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784" y="190"/>
                </a:moveTo>
                <a:arcTo wR="10800" hR="10800" stAng="-6045461" swAng="5239955"/>
                <a:lnTo>
                  <a:pt x="10800" y="10800"/>
                </a:lnTo>
                <a:close/>
              </a:path>
              <a:path fill="none" w="21600" h="21600">
                <a:moveTo>
                  <a:pt x="8784" y="190"/>
                </a:moveTo>
                <a:arcTo wR="10800" hR="10800" stAng="-6045461" swAng="5239955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19513200">
            <a:off x="5400000" y="3270600"/>
            <a:ext cx="105156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784" y="190"/>
                </a:moveTo>
                <a:arcTo wR="10800" hR="10800" stAng="-6045461" swAng="5239955"/>
                <a:lnTo>
                  <a:pt x="10800" y="10800"/>
                </a:lnTo>
                <a:close/>
              </a:path>
              <a:path fill="none" w="21600" h="21600">
                <a:moveTo>
                  <a:pt x="8784" y="190"/>
                </a:moveTo>
                <a:arcTo wR="10800" hR="10800" stAng="-6045461" swAng="5239955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152280" y="2971800"/>
            <a:ext cx="48006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9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7" name="Заголовок 1"/>
          <p:cNvSpPr/>
          <p:nvPr/>
        </p:nvSpPr>
        <p:spPr>
          <a:xfrm>
            <a:off x="457200" y="152280"/>
            <a:ext cx="8153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Подзаголовок 2"/>
          <p:cNvSpPr/>
          <p:nvPr/>
        </p:nvSpPr>
        <p:spPr>
          <a:xfrm>
            <a:off x="609480" y="1523880"/>
            <a:ext cx="7934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1e1f24"/>
                </a:solidFill>
                <a:latin typeface="Tahoma"/>
              </a:rPr>
              <a:t>Какое слово здесь лишнее?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Box 3"/>
          <p:cNvSpPr/>
          <p:nvPr/>
        </p:nvSpPr>
        <p:spPr>
          <a:xfrm>
            <a:off x="4857840" y="3357720"/>
            <a:ext cx="375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.  </a:t>
            </a:r>
            <a:r>
              <a:rPr b="0" lang="en-US" sz="3600" spc="-1" strike="noStrike">
                <a:solidFill>
                  <a:srgbClr val="1e1f24"/>
                </a:solidFill>
                <a:latin typeface="Verdana"/>
              </a:rPr>
              <a:t>лиси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Box 4"/>
          <p:cNvSpPr/>
          <p:nvPr/>
        </p:nvSpPr>
        <p:spPr>
          <a:xfrm>
            <a:off x="4929120" y="4071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  </a:t>
            </a:r>
            <a:r>
              <a:rPr b="0" lang="en-US" sz="3600" spc="-1" strike="noStrike">
                <a:solidFill>
                  <a:srgbClr val="1e1f24"/>
                </a:solidFill>
                <a:latin typeface="Verdana"/>
              </a:rPr>
              <a:t>лись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Box 5"/>
          <p:cNvSpPr/>
          <p:nvPr/>
        </p:nvSpPr>
        <p:spPr>
          <a:xfrm>
            <a:off x="4929120" y="485784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.  </a:t>
            </a:r>
            <a:r>
              <a:rPr b="0" lang="en-US" sz="3600" spc="-1" strike="noStrike">
                <a:solidFill>
                  <a:srgbClr val="1e1f24"/>
                </a:solidFill>
                <a:latin typeface="Verdana"/>
              </a:rPr>
              <a:t>лисён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Box 6"/>
          <p:cNvSpPr/>
          <p:nvPr/>
        </p:nvSpPr>
        <p:spPr>
          <a:xfrm>
            <a:off x="4929120" y="564372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.  </a:t>
            </a:r>
            <a:r>
              <a:rPr b="0" lang="en-US" sz="3600" spc="-1" strike="noStrike">
                <a:solidFill>
                  <a:srgbClr val="1e1f24"/>
                </a:solidFill>
                <a:latin typeface="Verdana"/>
              </a:rPr>
              <a:t>листи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rot="19513200">
            <a:off x="5476320" y="3346560"/>
            <a:ext cx="105084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784" y="190"/>
                </a:moveTo>
                <a:arcTo wR="10800" hR="10800" stAng="-6045461" swAng="5239955"/>
                <a:lnTo>
                  <a:pt x="10800" y="10800"/>
                </a:lnTo>
                <a:close/>
              </a:path>
              <a:path fill="none" w="21600" h="21600">
                <a:moveTo>
                  <a:pt x="8784" y="190"/>
                </a:moveTo>
                <a:arcTo wR="10800" hR="10800" stAng="-6045461" swAng="5239955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rot="19513200">
            <a:off x="5552640" y="4718160"/>
            <a:ext cx="105084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784" y="190"/>
                </a:moveTo>
                <a:arcTo wR="10800" hR="10800" stAng="-6045461" swAng="5239955"/>
                <a:lnTo>
                  <a:pt x="10800" y="10800"/>
                </a:lnTo>
                <a:close/>
              </a:path>
              <a:path fill="none" w="21600" h="21600">
                <a:moveTo>
                  <a:pt x="8784" y="190"/>
                </a:moveTo>
                <a:arcTo wR="10800" hR="10800" stAng="-6045461" swAng="5239955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rot="19513200">
            <a:off x="5476320" y="3956040"/>
            <a:ext cx="10508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784" y="190"/>
                </a:moveTo>
                <a:arcTo wR="10800" hR="10800" stAng="-6045461" swAng="5239955"/>
                <a:lnTo>
                  <a:pt x="10800" y="10800"/>
                </a:lnTo>
                <a:close/>
              </a:path>
              <a:path fill="none" w="21600" h="21600">
                <a:moveTo>
                  <a:pt x="8784" y="190"/>
                </a:moveTo>
                <a:arcTo wR="10800" hR="10800" stAng="-6045461" swAng="5239955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380880" y="2448000"/>
            <a:ext cx="403884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Веселый – радость - веселье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4197240" y="2989440"/>
            <a:ext cx="4192560" cy="310356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761760" y="1987200"/>
            <a:ext cx="80802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рад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">
            <a:hlinkClick r:id="rId2" action="ppaction://hlinksldjump"/>
          </p:cNvPr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9261" y="3794"/>
                </a:moveTo>
                <a:lnTo>
                  <a:pt x="23274" y="10800"/>
                </a:lnTo>
                <a:lnTo>
                  <a:pt x="926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1547640" y="2133720"/>
            <a:ext cx="2202120" cy="37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Родня ли гусеница гусю?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(Шутка)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ы кто так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Я гусь, это гусыня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а это наши гуся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А ты кто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А я ваша родственница – гусениц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Есть ли в этом текст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родственные слова ?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">
            <a:hlinkClick r:id="rId1" action="ppaction://hlinksldjump"/>
          </p:cNvPr>
          <p:cNvSpPr/>
          <p:nvPr/>
        </p:nvSpPr>
        <p:spPr>
          <a:xfrm>
            <a:off x="0" y="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1138" y="10800"/>
                </a:moveTo>
                <a:lnTo>
                  <a:pt x="25150" y="3794"/>
                </a:lnTo>
                <a:lnTo>
                  <a:pt x="2515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>
            <a:hlinkClick r:id="rId2" action="ppaction://hlinksldjump"/>
          </p:cNvPr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1138" y="3794"/>
                </a:moveTo>
                <a:lnTo>
                  <a:pt x="25150" y="10800"/>
                </a:lnTo>
                <a:lnTo>
                  <a:pt x="1113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3"/>
          <a:stretch/>
        </p:blipFill>
        <p:spPr>
          <a:xfrm>
            <a:off x="5508720" y="1413000"/>
            <a:ext cx="2730240" cy="190188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4"/>
          <a:stretch/>
        </p:blipFill>
        <p:spPr>
          <a:xfrm>
            <a:off x="5435640" y="4437000"/>
            <a:ext cx="273060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2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5" dur="5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8" dur="5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1" dur="500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4" dur="500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500"/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500"/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--</cp:lastModifiedBy>
  <dcterms:modified xsi:type="dcterms:W3CDTF">2011-04-27T15:56:33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