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119-FFE5-4333-B181-C2A0569C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048-802C-4E99-B76B-F6116D42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D47-8B98-49F7-AEA6-ABAA6D24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3CC-3E00-4760-B0EF-45C6ACEB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22A5-1E66-4F5E-92B4-0005C428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E8CD-EB55-4967-B24B-C0AB7D36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2A7F-2F5F-41AA-A2DD-08E3B02E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B41F-0F44-4AC1-8DD0-1BE97484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3FC2-2D9B-4546-A38D-BAE05F60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A224-4744-4119-B904-F73D999C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113D-BD6D-4E93-A078-1CB7903B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94C-5791-48BC-92AA-B7404152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6CC0-DC10-4962-BF8F-C1BD20BF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829F-1939-4B70-AC34-10AADDD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1711-A30E-4A80-8A25-721F0433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24C9-427B-48AE-AC51-24224925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2B6F-F103-4794-A26A-4B916080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000-0A61-4CC9-BB4F-F893D04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192-D53D-4C01-A8C2-C89C77FF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002-3DCF-48FA-A771-740D524B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DE3-126D-4E2B-BF4E-FB786364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93E-2687-4DC4-B530-DE6F7DA3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BDA-A2B5-4536-B9FD-E4DE19F7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9D1-061B-4D11-8DD4-169FF46E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2D08-B279-4239-98BA-60CED9B6EB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1789-4F5B-4DD3-9158-C515185D56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WordArt 5"/>
          <p:cNvSpPr txBox="1"/>
          <p:nvPr/>
        </p:nvSpPr>
        <p:spPr>
          <a:xfrm>
            <a:off x="1447920" y="38088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a3c145"/>
                  </a:solidFill>
                  <a:miter/>
                </a:ln>
                <a:solidFill>
                  <a:srgbClr val="cc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рень</a:t>
            </a:r>
            <a:endParaRPr b="0" lang="en-US" sz="1800" spc="1" strike="noStrike">
              <a:ln w="12600">
                <a:solidFill>
                  <a:srgbClr val="a3c145"/>
                </a:solidFill>
                <a:miter/>
              </a:ln>
              <a:solidFill>
                <a:srgbClr val="cc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04920" y="2133720"/>
            <a:ext cx="655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f24"/>
                </a:solidFill>
                <a:latin typeface="Tahoma"/>
              </a:rPr>
              <a:t>Подземная часть раст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f24"/>
                </a:solidFill>
                <a:latin typeface="Tahoma"/>
              </a:rPr>
              <a:t>Внутренняя, находящаяся 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1e1f24"/>
                </a:solidFill>
                <a:latin typeface="Tahoma"/>
              </a:rPr>
              <a:t>теле часть зуб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ahoma"/>
              </a:rPr>
              <a:t>Основная, значимая часть слова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7" descr="zub1"/>
          <p:cNvPicPr/>
          <p:nvPr/>
        </p:nvPicPr>
        <p:blipFill>
          <a:blip r:embed="rId2"/>
          <a:stretch/>
        </p:blipFill>
        <p:spPr>
          <a:xfrm>
            <a:off x="6248520" y="3429000"/>
            <a:ext cx="1028520" cy="1297080"/>
          </a:xfrm>
          <a:prstGeom prst="rect">
            <a:avLst/>
          </a:prstGeom>
          <a:ln w="0">
            <a:noFill/>
          </a:ln>
        </p:spPr>
      </p:pic>
      <p:sp>
        <p:nvSpPr>
          <p:cNvPr id="390" name="Arc 12"/>
          <p:cNvSpPr/>
          <p:nvPr/>
        </p:nvSpPr>
        <p:spPr>
          <a:xfrm>
            <a:off x="6248520" y="5562720"/>
            <a:ext cx="1218960" cy="304560"/>
          </a:xfrm>
          <a:prstGeom prst="pie">
            <a:avLst/>
          </a:pr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6705720" y="1066680"/>
            <a:ext cx="14446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-304920" y="22860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0" t="5902" r="0" b="0"/>
          <a:stretch/>
        </p:blipFill>
        <p:spPr>
          <a:xfrm>
            <a:off x="5562720" y="3505320"/>
            <a:ext cx="3962160" cy="35510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52280" y="685800"/>
            <a:ext cx="2819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1f24"/>
                </a:solidFill>
                <a:latin typeface="Tahoma"/>
              </a:rPr>
              <a:t>Медна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Times New Roman"/>
              </a:rPr>
              <a:t>монет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7621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4400" spc="-1" strike="noStrike">
                <a:solidFill>
                  <a:srgbClr val="1e1f24"/>
                </a:solidFill>
                <a:latin typeface="Arial"/>
              </a:rPr>
              <a:t>мед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9513200">
            <a:off x="3033360" y="697680"/>
            <a:ext cx="17233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944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94494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9383000">
            <a:off x="111240" y="563760"/>
            <a:ext cx="18810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848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84803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38480" y="274320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1f24"/>
                </a:solidFill>
                <a:latin typeface="Tahoma"/>
              </a:rPr>
              <a:t>Медов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800" spc="-1" strike="noStrike">
                <a:solidFill>
                  <a:srgbClr val="ff0066"/>
                </a:solidFill>
                <a:latin typeface="Times New Roman"/>
              </a:rPr>
              <a:t>пряни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4320" y="27432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4800" spc="-1" strike="noStrike">
                <a:solidFill>
                  <a:srgbClr val="1e1f24"/>
                </a:solidFill>
                <a:latin typeface="Arial"/>
              </a:rPr>
              <a:t>мё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09800">
            <a:off x="3706920" y="2620080"/>
            <a:ext cx="18806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866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86678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8239400">
            <a:off x="7237800" y="2693880"/>
            <a:ext cx="1675800" cy="179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79" y="721"/>
                </a:moveTo>
                <a:arcTo wR="10800" hR="10800" stAng="-4136997" swAng="4136997"/>
                <a:lnTo>
                  <a:pt x="10800" y="10800"/>
                </a:lnTo>
                <a:close/>
              </a:path>
              <a:path fill="none" w="21600" h="21600">
                <a:moveTo>
                  <a:pt x="14679" y="721"/>
                </a:moveTo>
                <a:arcTo wR="10800" hR="10800" stAng="-4136997" swAng="4136997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943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Tahoma"/>
              </a:rPr>
              <a:t>Родственные сло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40384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e1f24"/>
                </a:solidFill>
                <a:latin typeface="Times New Roman"/>
              </a:rPr>
              <a:t>Общая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1e1f24"/>
                </a:solidFill>
                <a:latin typeface="Times New Roman"/>
              </a:rPr>
              <a:t>часть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1e1f24"/>
                </a:solidFill>
                <a:latin typeface="Times New Roman"/>
              </a:rPr>
              <a:t>корень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2332080"/>
            <a:ext cx="44956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1f24"/>
                </a:solidFill>
                <a:latin typeface="Times New Roman"/>
              </a:rPr>
              <a:t>Обще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1f24"/>
                </a:solidFill>
                <a:latin typeface="Times New Roman"/>
              </a:rPr>
              <a:t>знач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980720" y="1600200"/>
            <a:ext cx="129564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1600200"/>
            <a:ext cx="106668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9383000">
            <a:off x="949320" y="4145400"/>
            <a:ext cx="18810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8480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84803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28600"/>
            <a:ext cx="6019920" cy="1295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23880" y="838080"/>
            <a:ext cx="6019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2362320"/>
            <a:ext cx="3581280" cy="2286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2362320"/>
            <a:ext cx="4038480" cy="2286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388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Arial"/>
              </a:rPr>
              <a:t>(однокоренные слов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Заголовок 1"/>
          <p:cNvSpPr/>
          <p:nvPr/>
        </p:nvSpPr>
        <p:spPr>
          <a:xfrm>
            <a:off x="762120" y="1066680"/>
            <a:ext cx="6858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одзаголовок 2"/>
          <p:cNvSpPr/>
          <p:nvPr/>
        </p:nvSpPr>
        <p:spPr>
          <a:xfrm>
            <a:off x="609480" y="1523880"/>
            <a:ext cx="793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e1f24"/>
                </a:solidFill>
                <a:latin typeface="Tahoma"/>
              </a:rPr>
              <a:t>Какое слово здесь лишнее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3"/>
          <p:cNvSpPr/>
          <p:nvPr/>
        </p:nvSpPr>
        <p:spPr>
          <a:xfrm>
            <a:off x="4857840" y="3357720"/>
            <a:ext cx="37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НОСИЛЬЩ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492912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Verdana"/>
              </a:rPr>
              <a:t>2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НОСА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5"/>
          <p:cNvSpPr/>
          <p:nvPr/>
        </p:nvSpPr>
        <p:spPr>
          <a:xfrm>
            <a:off x="4929120" y="4857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Verdana"/>
              </a:rPr>
              <a:t>3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Н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4929120" y="56437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НОСИШ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9513200">
            <a:off x="5476320" y="5556240"/>
            <a:ext cx="1050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513200">
            <a:off x="5552640" y="4718160"/>
            <a:ext cx="10508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9513200">
            <a:off x="5476320" y="3956040"/>
            <a:ext cx="1050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8" descr=""/>
          <p:cNvPicPr/>
          <p:nvPr/>
        </p:nvPicPr>
        <p:blipFill>
          <a:blip r:embed="rId2"/>
          <a:stretch/>
        </p:blipFill>
        <p:spPr>
          <a:xfrm>
            <a:off x="357120" y="2857680"/>
            <a:ext cx="4372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Подзаголовок 2"/>
          <p:cNvSpPr/>
          <p:nvPr/>
        </p:nvSpPr>
        <p:spPr>
          <a:xfrm>
            <a:off x="838080" y="1676520"/>
            <a:ext cx="7848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e1f24"/>
                </a:solidFill>
                <a:latin typeface="Tahoma"/>
              </a:rPr>
              <a:t>Какое слово здесь лишнее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4857840" y="33577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ПЕЧУ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492912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2.  ПЕЧАТ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4929120" y="48578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ПЕ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4929120" y="56437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</a:t>
            </a:r>
            <a:r>
              <a:rPr b="0" lang="en-US" sz="2800" spc="-1" strike="noStrike">
                <a:solidFill>
                  <a:srgbClr val="1e1f24"/>
                </a:solidFill>
                <a:latin typeface="Verdana"/>
              </a:rPr>
              <a:t>ПЕЧ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9513200">
            <a:off x="5476320" y="5479920"/>
            <a:ext cx="1050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9513200">
            <a:off x="5476320" y="4718160"/>
            <a:ext cx="10508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9513200">
            <a:off x="5400000" y="3270600"/>
            <a:ext cx="105156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48006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Заголовок 1"/>
          <p:cNvSpPr/>
          <p:nvPr/>
        </p:nvSpPr>
        <p:spPr>
          <a:xfrm>
            <a:off x="45720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одзаголовок 2"/>
          <p:cNvSpPr/>
          <p:nvPr/>
        </p:nvSpPr>
        <p:spPr>
          <a:xfrm>
            <a:off x="609480" y="1523880"/>
            <a:ext cx="793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1e1f24"/>
                </a:solidFill>
                <a:latin typeface="Tahoma"/>
              </a:rPr>
              <a:t>Какое слово здесь лишнее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4857840" y="3357720"/>
            <a:ext cx="37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en-US" sz="3600" spc="-1" strike="noStrike">
                <a:solidFill>
                  <a:srgbClr val="1e1f24"/>
                </a:solidFill>
                <a:latin typeface="Verdana"/>
              </a:rPr>
              <a:t>лис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4929120" y="4071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0" lang="en-US" sz="3600" spc="-1" strike="noStrike">
                <a:solidFill>
                  <a:srgbClr val="1e1f24"/>
                </a:solidFill>
                <a:latin typeface="Verdana"/>
              </a:rPr>
              <a:t>лись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4929120" y="485784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</a:t>
            </a:r>
            <a:r>
              <a:rPr b="0" lang="en-US" sz="3600" spc="-1" strike="noStrike">
                <a:solidFill>
                  <a:srgbClr val="1e1f24"/>
                </a:solidFill>
                <a:latin typeface="Verdana"/>
              </a:rPr>
              <a:t>лисё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6"/>
          <p:cNvSpPr/>
          <p:nvPr/>
        </p:nvSpPr>
        <p:spPr>
          <a:xfrm>
            <a:off x="4929120" y="56437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</a:t>
            </a:r>
            <a:r>
              <a:rPr b="0" lang="en-US" sz="3600" spc="-1" strike="noStrike">
                <a:solidFill>
                  <a:srgbClr val="1e1f24"/>
                </a:solidFill>
                <a:latin typeface="Verdana"/>
              </a:rPr>
              <a:t>лист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9513200">
            <a:off x="5476320" y="3346560"/>
            <a:ext cx="10508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9513200">
            <a:off x="5552640" y="4718160"/>
            <a:ext cx="105084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9513200">
            <a:off x="5476320" y="3956040"/>
            <a:ext cx="1050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4" y="190"/>
                </a:moveTo>
                <a:arcTo wR="10800" hR="10800" stAng="-6045461" swAng="5239955"/>
                <a:lnTo>
                  <a:pt x="10800" y="10800"/>
                </a:lnTo>
                <a:close/>
              </a:path>
              <a:path fill="none" w="21600" h="21600">
                <a:moveTo>
                  <a:pt x="8784" y="190"/>
                </a:moveTo>
                <a:arcTo wR="10800" hR="10800" stAng="-6045461" swAng="5239955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380880" y="2448000"/>
            <a:ext cx="40388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Веселый – радость - весель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197240" y="2989440"/>
            <a:ext cx="4192560" cy="31035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1760" y="1987200"/>
            <a:ext cx="80802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ад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>
            <a:hlinkClick r:id="rId2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23274" y="10800"/>
                </a:lnTo>
                <a:lnTo>
                  <a:pt x="92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22021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Родня ли гусеница гусю?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(Шутка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 кто так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гусь, это гусын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 это наши гуся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 ты кто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 я ваша родственница – гусени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Есть ли в этом текст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родственные слова 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0" y="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1138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25150" y="10800"/>
                </a:lnTo>
                <a:lnTo>
                  <a:pt x="111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2730240" cy="19018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5435640" y="4437000"/>
            <a:ext cx="27306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-</cp:lastModifiedBy>
  <dcterms:modified xsi:type="dcterms:W3CDTF">2011-04-27T15:56:3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