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DEC-62E9-4265-8DA9-675B0CD6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8CF0-8C1C-43E2-951B-0453907C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6E17-0F46-44D7-8698-536DB393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1B3B-5010-4A61-BB32-3218F93C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7854-716B-4C0F-8282-1DDCC0E4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7217-AF50-4704-BD5A-C2769E13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673-9766-44C6-93B1-F99A42BC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C75E-77E0-471D-9991-24355677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5E2B-16E7-4790-82C0-DCFA5FF8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913D-0F20-4DBD-8CEF-9FA06CE3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251C-BA0F-48F5-BBCB-58132BEA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3777-1C44-44E3-B240-14F7C2BA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82E1-4136-4A99-8628-C277527250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Скругленный прямоугольник 3"/>
          <p:cNvGrpSpPr/>
          <p:nvPr/>
        </p:nvGrpSpPr>
        <p:grpSpPr>
          <a:xfrm>
            <a:off x="-30240" y="-30240"/>
            <a:ext cx="9198000" cy="6912000"/>
            <a:chOff x="-30240" y="-30240"/>
            <a:chExt cx="9198000" cy="6912000"/>
          </a:xfrm>
        </p:grpSpPr>
        <p:pic>
          <p:nvPicPr>
            <p:cNvPr id="46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198000" cy="69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34800" y="334800"/>
              <a:ext cx="8474400" cy="61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1T06:08:58Z</dcterms:created>
  <dc:creator>Admin</dc:creator>
  <dc:description/>
  <dc:language>en-US</dc:language>
  <cp:lastModifiedBy>Admin</cp:lastModifiedBy>
  <dcterms:modified xsi:type="dcterms:W3CDTF">2010-09-16T20:33:00Z</dcterms:modified>
  <cp:revision>2</cp:revision>
  <dc:subject/>
  <dc:title>Слайд 1</dc:title>
</cp:coreProperties>
</file>