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184-7190-4BDE-845D-0BEBA64F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C5D-8631-4E0D-B6B3-49080E5B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B9C-F8B1-4DB1-B76C-8A4C3B9B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CC0-2A0B-4A7A-8AD5-527BDF82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5E1-8416-4708-871A-75C5DBB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DC3-1105-4788-A3E5-23442CF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226-4510-472E-8FBF-CE4905C8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F75-4D92-4F33-A478-95C576D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42-1E77-441B-8864-336C783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B5A-9D84-4883-8561-4A11D7E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676-AB2D-4194-B353-C69E812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64B-B377-4958-818C-73C38F7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4119-4B8B-4244-9DFE-F1DC40924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Скругленный прямоугольник 3"/>
          <p:cNvGrpSpPr/>
          <p:nvPr/>
        </p:nvGrpSpPr>
        <p:grpSpPr>
          <a:xfrm>
            <a:off x="-30240" y="-30240"/>
            <a:ext cx="9198000" cy="6912000"/>
            <a:chOff x="-30240" y="-30240"/>
            <a:chExt cx="9198000" cy="6912000"/>
          </a:xfrm>
        </p:grpSpPr>
        <p:pic>
          <p:nvPicPr>
            <p:cNvPr id="4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30240" y="-30240"/>
              <a:ext cx="919800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4800" y="334800"/>
              <a:ext cx="847440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08:58Z</dcterms:created>
  <dc:creator>Admin</dc:creator>
  <dc:description/>
  <dc:language>en-US</dc:language>
  <cp:lastModifiedBy>Admin</cp:lastModifiedBy>
  <dcterms:modified xsi:type="dcterms:W3CDTF">2010-09-16T20:33:00Z</dcterms:modified>
  <cp:revision>2</cp:revision>
  <dc:subject/>
  <dc:title>Слайд 1</dc:title>
</cp:coreProperties>
</file>