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CCD-6696-446E-B8DC-E4BA15C0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FD7-B365-4008-9007-5DC48566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8AA-FDE8-4E41-B4FA-1B33020C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EC3-C56C-4E35-A0E7-4DF88E0E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867-1257-4524-A83F-B4742320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0B5-AEDA-404C-BCB4-65C54D72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3E7-D48A-48DD-94EC-AE67BC5D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16E-A2C3-480D-BC4F-228DD1C4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DE7-9E1B-4E5D-A8AD-6892FB70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6FE-45CA-47FD-A0D3-C080596F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F76-CF30-4B52-A2FC-2D9A927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DD7-F835-448F-BEE9-A248A4F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91350-7878-4A58-9AB2-D1E9BBD456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7:38:58Z</dcterms:created>
  <dc:creator/>
  <dc:description/>
  <dc:language>en-US</dc:language>
  <cp:lastModifiedBy/>
  <cp:revision>1</cp:revision>
  <dc:subject/>
  <dc:title/>
</cp:coreProperties>
</file>