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470-B858-476C-9D22-CAEA5BA2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9AB-13D6-4E0E-9B61-950642B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DBE-538A-4709-A832-6088C8DE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15D-FFBD-4849-BEFD-46751B86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FD1-D2A6-4D17-B645-6650F4B4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B4F-A2B1-4B9A-90E9-DFE125D3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C03-15F7-4E50-9C7E-676FEEFC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F38-71E9-476E-9779-2FD429A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DA9-FA30-4490-80CF-6AAC353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D90-360B-405A-8F51-224F1F2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854-F5F3-4B5B-AB44-3E5B61F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B87-CF26-4FBF-BCA2-493AB9F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B995-00D2-44D2-800F-BEA9060615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/>
  <dc:description/>
  <dc:language>en-US</dc:language>
  <cp:lastModifiedBy/>
  <cp:revision>1</cp:revision>
  <dc:subject/>
  <dc:title/>
</cp:coreProperties>
</file>