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7.gif" ContentType="image/gif"/>
  <Override PartName="/ppt/media/image2.wmf" ContentType="image/x-wmf"/>
  <Override PartName="/ppt/media/image15.gif" ContentType="image/gif"/>
  <Override PartName="/ppt/media/image1.gif" ContentType="image/gif"/>
  <Override PartName="/ppt/media/image4.wmf" ContentType="image/x-wmf"/>
  <Override PartName="/ppt/media/image3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E0FC-1D8E-45FA-9D9A-87BF3142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8F9A-A8CA-436E-A686-8517A58E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5C6D-587E-4788-9EBD-2A93FBA3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AB44-73FD-4FAB-A7C8-0F09D9E2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7C7F-2F38-481E-ACBF-BD486568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FA97-38C4-48ED-92F5-786DC617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37F-4534-466F-9FE3-566A3B22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6847-CA9C-403D-B71D-57B8E88A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F65-4744-4708-BD46-CB28E26E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8090-C8A8-4D6E-9BAB-9D99CC98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A787-DF8B-465D-8DCF-3366F33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DD9E-3924-4F71-BAAE-DC37458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AB77-3D11-43B2-951C-59C68692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FA50-9EE2-4FD1-A005-1055C38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CD14-13D0-48CB-BFBE-7EC2D265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82E3-2544-4666-87DC-DA1143D1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D70D-7EA6-4138-A997-D09A717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A6A9-D7F4-410E-BF82-F71C4516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BAF0-8677-4097-8E3C-4C480BC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DBEF-6BC5-4107-9ED1-CF8C31D5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14A6-5FA0-4B5B-85B8-18345C0A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4389-E0FB-4CBB-95A6-A1EB37FA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BC9B-0F6E-4C2E-AA64-AED80A40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270E-6C0A-42A3-B157-D2986E79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9E0E-8834-4DF7-A5D2-1C1FCA236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2708-EAD2-4B8A-993E-A21BC4B6A1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Bookman Old Style"/>
              </a:rPr>
              <a:t>Молодежный сленг как компонент речевой культуры учащихся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199872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Л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029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РУ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3505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ИШТ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809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ТП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9797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514600" y="304920"/>
            <a:ext cx="3657240" cy="2391480"/>
            <a:chOff x="2514600" y="304920"/>
            <a:chExt cx="3657240" cy="2391480"/>
          </a:xfrm>
        </p:grpSpPr>
        <p:cxnSp>
          <p:nvCxnSpPr>
            <p:cNvPr id="107" name="_s47116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4596120" y="1007640"/>
              <a:ext cx="478800" cy="984960"/>
            </a:xfrm>
            <a:prstGeom prst="bentConnector3">
              <a:avLst>
                <a:gd name="adj1" fmla="val 238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47115"/>
            <p:cNvCxnSpPr>
              <a:stCxn id="111" idx="0"/>
              <a:endCxn id="109" idx="2"/>
            </p:cNvCxnSpPr>
            <p:nvPr/>
          </p:nvCxnSpPr>
          <p:spPr>
            <a:xfrm flipH="1" flipV="1" rot="5400000">
              <a:off x="3611160" y="1007640"/>
              <a:ext cx="478800" cy="985320"/>
            </a:xfrm>
            <a:prstGeom prst="bentConnector3">
              <a:avLst>
                <a:gd name="adj1" fmla="val 238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9" name="_s47111"/>
            <p:cNvSpPr/>
            <p:nvPr/>
          </p:nvSpPr>
          <p:spPr>
            <a:xfrm>
              <a:off x="3499200" y="304920"/>
              <a:ext cx="1688040" cy="9565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Знаешь ли 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слова молодежн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сленга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47112"/>
            <p:cNvSpPr/>
            <p:nvPr/>
          </p:nvSpPr>
          <p:spPr>
            <a:xfrm>
              <a:off x="2514600" y="1739880"/>
              <a:ext cx="1688040" cy="9565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55 че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47113"/>
            <p:cNvSpPr/>
            <p:nvPr/>
          </p:nvSpPr>
          <p:spPr>
            <a:xfrm>
              <a:off x="4483800" y="1739880"/>
              <a:ext cx="1688040" cy="9565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2 че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600200" y="3124080"/>
            <a:ext cx="5333760" cy="2696400"/>
            <a:chOff x="1600200" y="3124080"/>
            <a:chExt cx="5333760" cy="2696400"/>
          </a:xfrm>
        </p:grpSpPr>
        <p:cxnSp>
          <p:nvCxnSpPr>
            <p:cNvPr id="113" name="_s47133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4931280" y="3537360"/>
              <a:ext cx="540000" cy="1869120"/>
            </a:xfrm>
            <a:prstGeom prst="bentConnector3">
              <a:avLst>
                <a:gd name="adj1" fmla="val 212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47123"/>
            <p:cNvCxnSpPr>
              <a:stCxn id="117" idx="0"/>
              <a:endCxn id="115" idx="2"/>
            </p:cNvCxnSpPr>
            <p:nvPr/>
          </p:nvCxnSpPr>
          <p:spPr>
            <a:xfrm flipV="1">
              <a:off x="4267080" y="4202280"/>
              <a:ext cx="2160" cy="540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47124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3063240" y="3538440"/>
              <a:ext cx="540000" cy="1867320"/>
            </a:xfrm>
            <a:prstGeom prst="bentConnector3">
              <a:avLst>
                <a:gd name="adj1" fmla="val 212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5" name="_s47125"/>
            <p:cNvSpPr/>
            <p:nvPr/>
          </p:nvSpPr>
          <p:spPr>
            <a:xfrm>
              <a:off x="3466800" y="312408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aramond"/>
                </a:rPr>
                <a:t>Ты используеш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aramond"/>
                </a:rPr>
                <a:t>эти слов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aramond"/>
                </a:rPr>
                <a:t>в своей речи?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47126"/>
            <p:cNvSpPr/>
            <p:nvPr/>
          </p:nvSpPr>
          <p:spPr>
            <a:xfrm>
              <a:off x="1600200" y="474192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Garamond"/>
                </a:rPr>
                <a:t>ЧАСТ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29 чел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47127"/>
            <p:cNvSpPr/>
            <p:nvPr/>
          </p:nvSpPr>
          <p:spPr>
            <a:xfrm>
              <a:off x="3466800" y="474192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Garamond"/>
                </a:rPr>
                <a:t>РЕДК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24 чел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47132"/>
            <p:cNvSpPr/>
            <p:nvPr/>
          </p:nvSpPr>
          <p:spPr>
            <a:xfrm>
              <a:off x="5333760" y="474192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Garamond"/>
                </a:rPr>
                <a:t>НИКОГ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4 чел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2404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такое слен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900000" cy="116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676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883908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Сленг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- это вариант разговорной речи, не совпадающие с нормой литературного язы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Сленг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- это открытая система ненормативных лексико-фразеологических единиц разговорного просторечного языка, предназначенные для выражения усиленной экспрессии и особой оценочной окраски (обычно негативной)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Сленг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- речь какой-либо объединенной общими интересами группы, содержащая много отличающихся от общего языка слов и выражений, не вполне понятных окружающим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133720"/>
            <a:ext cx="2057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429000"/>
            <a:ext cx="25905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2819520"/>
            <a:ext cx="2057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3429000"/>
            <a:ext cx="2209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4191120"/>
            <a:ext cx="2438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181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Молодёжный сленг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— социальный диалект людей в возрасте 13 — 30 лет возникший из противопоставления себя старшему поколению и официальной системе, и отличающийся разговорной, а иногда и грубо-фамильярной окра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82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83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Почему подростки используют сленг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44792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средство укрепления групповой солидарност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2665440"/>
            <a:ext cx="274320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способ свободы выражения подрос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886200"/>
            <a:ext cx="274320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своего рода протест против взросл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388620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проявление интереса к какой-либо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266544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подражание определенному значимому ли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44792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одна из форм преодоления чувства соц. неполно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1081080" cy="107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43800" y="3676680"/>
            <a:ext cx="1017720" cy="1276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5286240"/>
            <a:ext cx="190512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е хватает литературного словарного зап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5257800"/>
            <a:ext cx="1981440" cy="146556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знообразие. Всегда говорить правильно - скуч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5257800"/>
            <a:ext cx="1905120" cy="1263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ремление к кратк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5257800"/>
            <a:ext cx="1904760" cy="150768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дает эмоциональ-ность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51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Почему подростки используют сленг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1522440" cy="1733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1523880"/>
            <a:ext cx="6858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Необъяснимая причин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Просто так,  Не знаю, Что в голову лезет, то и говор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Недостаточное развитие реч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Не могу сказать другими словами, не подобрать слово, не сказать по другому нет других с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Деятельностная причин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Чтобы обидеть; Когда пристают; Чтобы матом не руг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Развлекатель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= Можно посмеяться, для смеха, это прикольно, прикалываем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Группировани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Так хорошо разговаривать с друзь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Модн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Время такое, современ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ык так говор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краща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244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895480"/>
            <a:ext cx="2895480" cy="642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остра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114800"/>
            <a:ext cx="29718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нгизмы, связанные с наркотиками алкоголем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2743200" cy="642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обби и увлечения подрос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114800"/>
            <a:ext cx="289548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пьютерные игры, видео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ультфильм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895480"/>
            <a:ext cx="2819520" cy="642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головна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кс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1447920"/>
            <a:ext cx="281952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временная музыкальная куль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447920"/>
            <a:ext cx="289548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азвитие компьютер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1284120" cy="1317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1131840" cy="1207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238880" y="2590920"/>
            <a:ext cx="1663920" cy="1458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5b7c346b6680c5681888076a520bddf4.gif"/>
          <p:cNvPicPr/>
          <p:nvPr/>
        </p:nvPicPr>
        <p:blipFill>
          <a:blip r:embed="rId5"/>
          <a:stretch/>
        </p:blipFill>
        <p:spPr>
          <a:xfrm>
            <a:off x="7238880" y="426708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591320" y="1143000"/>
            <a:ext cx="1019160" cy="1171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Что влияет на развитие сленга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286000" y="5257800"/>
            <a:ext cx="103968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500" autoRev="1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16" dur="500" autoRev="1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17" dur="500" autoRev="1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ловарь сленга учащихся шко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4" descr="0a4f488923716b024ee68941527cf924.gif"/>
          <p:cNvPicPr/>
          <p:nvPr/>
        </p:nvPicPr>
        <p:blipFill>
          <a:blip r:embed="rId1"/>
          <a:stretch/>
        </p:blipFill>
        <p:spPr>
          <a:xfrm flipH="1">
            <a:off x="304560" y="4648320"/>
            <a:ext cx="183996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166840" y="1246320"/>
          <a:ext cx="6748560" cy="5535360"/>
        </p:xfrm>
        <a:graphic>
          <a:graphicData uri="http://schemas.openxmlformats.org/drawingml/2006/table">
            <a:tbl>
              <a:tblPr/>
              <a:tblGrid>
                <a:gridCol w="1562040"/>
                <a:gridCol w="518652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ак, чел, дружбан, братела, браток, хамло, перец, пупс, кореш, челиус,  барыг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 тел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пши, клешня, лап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летк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шня, репа, чайник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пыта, подков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арю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гребень, в бубен, в шнопак, в глазюку, по щам,  в черешню, в чайник, в носяр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корбления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сь, тормоз, дурында, швабра, овца, стукло, очкозавр, клуха, чучундра, удод, попондопол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чага, молото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енькие дет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лкие, цыгане, шпана, малявки, мелочь, мале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ие дет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а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, музон, диска, компы, музон, музяк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пандос, бабло, быдл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108520" y="883080"/>
            <a:ext cx="2743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1. </a:t>
            </a:r>
            <a:r>
              <a:rPr b="1" lang="en-US" sz="19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Существительные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3760" y="1935720"/>
            <a:ext cx="1393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ечия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09680" y="2379600"/>
          <a:ext cx="5726160" cy="123840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ево, супер, круто, прикольно, класс, зашибись, ништяк, классно, все тип-топ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х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хло,  фуфлово, пипец, капец, отстой, облом, параша, невезуха, потеря-потерь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167560" y="3674160"/>
            <a:ext cx="1347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  <a:ea typeface="Times New Roman"/>
              </a:rPr>
              <a:t>3.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Глагол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43160" y="3979800"/>
          <a:ext cx="5726160" cy="112536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голы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куешь, хавать, не парься, понтуешься, гонишь, подставлять, достали,  не парься, убейся, фильтруй базар, понты попутал, втяну, всеку, ушатаю, накурю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000" y="2056320"/>
            <a:ext cx="541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  <a:ea typeface="Times New Roman"/>
              </a:rPr>
              <a:t>4.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Устойчивые словосочетания и предложения: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09680" y="2438280"/>
          <a:ext cx="5726160" cy="253836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стр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ще, крути педали, шевели копытами, шевели подковами, шевели батонами, шевели поршням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олч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рой палатку, уткнись в подушку, закрой варежку, смени пластинку, язык прикуси, заберись в кассу, закрой форточк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ход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пай, иди в баню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кого батон крошишь, куда бочку катишь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013120" y="4982040"/>
            <a:ext cx="3884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5.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Междометия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= блин, окей,  ты ч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85360" y="1985400"/>
            <a:ext cx="277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Ш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льный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 сленг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51160" y="2365200"/>
          <a:ext cx="5726160" cy="348012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кубатор, батор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а в школ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ловка, тубзик, кабинет задумчивости, толкан, общаг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еля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лка, питк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ра, матика, русич, чтеха, георгий, русиш, литерка, физра, матра, русиш, читалка, естеств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йкан, лебединое озеро, тройба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.дел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машка, контроха, контрошка, домашк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ж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тбик, баске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98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99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Признаки ре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на богата и разнообразна по использованным в нём лексическим и грамматическим средств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ет возможность точно передать  содержание высказыва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тены особенности ситуации общения, выдержан определённый стиль реч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7162920" y="5181480"/>
            <a:ext cx="1584360" cy="137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36" dur="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37" dur="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бъясняйте происхождение тех или иных сл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нтролируйте собственную реч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делить детским и молодежным передачам, книгам и журналам особое внима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обходимо показать подростку, что, кроме жаргона, в русском языке существует множество других изобразительных средс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пробуйте сыграть на стремлении подростка выделяться среди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оговоритесь с ребенком, в каких ситуациях он         не будет употреблять сле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делать?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0120" y="5029200"/>
            <a:ext cx="139068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74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75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0:38:40Z</dcterms:created>
  <dc:creator>Ф</dc:creator>
  <dc:description/>
  <dc:language>en-US</dc:language>
  <cp:lastModifiedBy>Ф</cp:lastModifiedBy>
  <dcterms:modified xsi:type="dcterms:W3CDTF">2011-03-24T04:46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