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0DD-E23A-4F70-B632-2D8E92F7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7B2-2F86-4044-BEAE-54746CF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F48-AEC1-4F89-B71C-974E289B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3CE-26D9-415C-BD75-F8756B62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CB9-D2A6-4281-A62A-FF77DD43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74E3-2998-480D-B227-EAB5F111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73AE-5A82-44C5-B409-810704C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1D4-07DE-493A-A6AE-0D7034EA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A3FB-04E9-4414-AAF8-20B68813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14B5-7530-4694-A91D-5ABF770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CCE1-5AB6-43FD-A2D5-4AFA85F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E27-DBB5-45F5-9AB7-ED19938A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76D-4745-497A-A31A-443A58F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5AA3-3F5C-42FE-BFE7-150D42D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A1A2-4566-46F1-966A-F190B247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BD8C-D892-4F13-ABDF-0CDD5B9D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EA6F-61E7-4109-B085-B2C9A0E6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7F42-44CD-4EF1-9FFA-BC7FAC1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08CC-58AE-4892-8C0E-B1792A9B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534F-8027-4180-BAD8-AE7E65F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F36E-24D5-43BC-AAAD-8577C4C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0E2C-6BB4-4097-B8A4-428A31D5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86A-42F7-444B-83BC-4429DFC0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152E-0920-4CB2-B884-2BE9FED1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5969D-C267-4066-8328-B6B16DC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159D-F2D2-4D80-BBFF-E856EBA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80DD-0524-423E-B2BB-BC20CB0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F91E-F915-4B29-9226-A46C791E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4F72-8123-45EF-9115-EB5CC7A2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9050-3B8D-4744-B0C8-D808862F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805B-4DCC-426C-AAA6-84CAF228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BD71-3336-4859-8334-394015F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A86E-513D-4A6E-BE85-E61ADA8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F0C-356D-49C2-9F0F-EADC5142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C809-DA92-47DD-98D8-B6F708A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1C19-1103-42A8-B7CB-AA226A2B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FF66-A3BF-4D07-A28F-BF552964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3AF5-B8FD-4E81-9623-E032B46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5B90-BE83-4359-8255-966CC8D9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0FFC-0484-41CE-8104-E856949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1CD2-ED14-486B-8D5F-8522B29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B767-0CD3-4EDF-8465-EEB6D0DF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B6B9-011A-4CEE-B357-5F84F92F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08D-E156-4449-A65A-56D2655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D95-5C06-496A-A358-7A8AD1D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55C-4D9A-419D-90B2-3364F6B1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A06-C81C-41F5-9730-DFD7CF4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8F3-6A1E-43C8-BFCA-200F499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B8F-A4D3-4DA4-9E77-738F626E86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D30-248B-4EDE-BBF4-F29427B57C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C981-F744-4B3F-87F2-EFF405F135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B77F-C44B-4C13-911F-17D2B9F811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92360" y="0"/>
            <a:ext cx="6264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лов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рылатых фр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498760" cy="338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rcRect l="0" t="3582" r="5654" b="7951"/>
          <a:stretch/>
        </p:blipFill>
        <p:spPr>
          <a:xfrm>
            <a:off x="971640" y="2060640"/>
            <a:ext cx="4535280" cy="3373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79640" y="56610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dff"/>
                </a:solidFill>
                <a:uFillTx/>
                <a:latin typeface="Arial Unicode MS"/>
              </a:rPr>
              <a:t> </a:t>
            </a:r>
            <a:r>
              <a:rPr b="1" lang="en-US" sz="3600" spc="-1" strike="noStrike" u="sng">
                <a:solidFill>
                  <a:srgbClr val="703dff"/>
                </a:solidFill>
                <a:uFillTx/>
                <a:latin typeface="Arial Unicode MS"/>
              </a:rPr>
              <a:t>Из  басен  И.А. Кр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419280" y="1752480"/>
            <a:ext cx="511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У сильного всегда бессильный винова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в своих несчастьях сильный винит слабого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из басни «Волк и Ягнёнок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Услужливый дурак опаснее враг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поступки глупого человека, даже самого преданного, могут испортить всё дело.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Это выражение взято из басни «Пустынник и Медвед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1482840" cy="165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00720" y="333360"/>
            <a:ext cx="71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565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1640" y="1752480"/>
            <a:ext cx="4032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Хоть видит око, да зуб неймёт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из басни «Лисица и виноград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цитируется с сожалением, когда осознают, что вожделённый предмет совершенно недоступен для говорящего по какой-то причине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Ходить на задних лапках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гождать кому-либо ради собственной выгоды, выслуживаться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а из басни «Две собак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1164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46720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Чем кумушек считать трудиться, не лучше ль на себя, кума, оборотиться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у фразу адресуют тем, кто самозабвенно и взахлёб обличает других и перечисляет их недостатки или проступки, забывая о том, что тоже не без греха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Цитата из басни «Зеркало и Обезьян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036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3713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Щука в карасином пруд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так говорят  о человеке, попавшем в благоприятную среду, туда, где он может безнаказанно творить беззакони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а из басни «Щук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500720" cy="2665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140360" y="33336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выпуском словаря работали ученики 6 класс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нглинская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ягалов Дмитр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ков Евг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блина Оль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воловая Анаста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</a:rPr>
              <a:t>Шулепова Наталия  Валентин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МОУ Верхнезейская СОШ, 2007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А Васька слушает да ес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говорят о человеке, который не обращает внимания на просьбы не делать того, чем он занимается в данный момент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от и пова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А вы, друзья, как ни садитесь, все в музыканты не годитес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в каждом деле надобно умение, а не поза или умный вид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вартет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2000" y="4221000"/>
            <a:ext cx="2906640" cy="1922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995640" y="404640"/>
            <a:ext cx="731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12319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558972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Ворона в павлиньих перьях</a:t>
            </a: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еловек, стремящийся казаться лучше, чем он есть, или желающий занять более высокое, несоответствующее ему поло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 Unicode MS"/>
              </a:rPr>
              <a:t>В сердце льстец всегда отыщет уголок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о способности  льстеца оказывать психологическое  воздействие на человека и о его умении руководить событиями. </a:t>
            </a:r>
            <a:r>
              <a:rPr b="1" i="1" lang="en-US" sz="1800" spc="-1" strike="noStrike">
                <a:solidFill>
                  <a:srgbClr val="336699"/>
                </a:solidFill>
                <a:latin typeface="Verdana"/>
              </a:rPr>
              <a:t>Строки из басни «Ворона и Лисиц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51814" t="20183" r="0" b="0"/>
          <a:stretch/>
        </p:blipFill>
        <p:spPr>
          <a:xfrm>
            <a:off x="6156360" y="1628640"/>
            <a:ext cx="2521080" cy="1986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020000" y="3789360"/>
            <a:ext cx="10015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Демьянова ух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выражение означает столь назойливое гостеприимство, идущее вразрез с желаниями и возможностями гостей, что результат будет отрицательным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Название басни «Демьянова ух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0360" y="47628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733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564000" y="1699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Коль выгонят в окно, так я влечу в друго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об упрямстве, навязчивом упорств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Муха и пчел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1368360" cy="119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140360" y="333360"/>
            <a:ext cx="1079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3429000"/>
            <a:ext cx="482436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 Unicode MS"/>
              </a:rPr>
              <a:t>Кукушка хвалит Петуха за то, что хвалит он Кукушк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эти слова употребляются в тех случаях, когда один человек хвалит другого только за то, что тот когда-то похвалил его.          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Кукушка и Пету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257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Мартышкин тру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нужная работа, бесполезные, ни к чему не приводящие усилия.            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Выражение взято из басни «Обезьян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210280" y="1752480"/>
            <a:ext cx="2790720" cy="426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140360" y="47628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Навозну кучу разрывая, Петух нашёл жемчужное зерн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а цитата употребляется, если хотят сказать, что в огромном количестве всякого хлама обнаружилось нечто весьма ценно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Цитата из басни «Петух и жемчужное зерн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00720" y="54936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511960" y="1773360"/>
            <a:ext cx="3632040" cy="426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68496" t="19785" r="2142" b="53565"/>
          <a:stretch/>
        </p:blipFill>
        <p:spPr>
          <a:xfrm>
            <a:off x="4788000" y="5661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465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Тришкин кафтан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 том, что исправляется лишь внешне, но не приносит пользы для дела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Название басни «Тришкин кафтан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Ты виноват лишь тем, что хочется мне кушат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авдание сильного в форме обвинения слабого за совершаемое преступление.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Строки из басни «Волк и Ягнёнок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749240" cy="31687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284720" y="476280"/>
            <a:ext cx="57456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Unicode MS"/>
              </a:rPr>
              <a:t>Слона-то я и не примети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000" spc="-1" strike="noStrike">
                <a:solidFill>
                  <a:srgbClr val="336699"/>
                </a:solidFill>
                <a:latin typeface="Verdana"/>
              </a:rPr>
              <a:t>эта цитата из басни «Любопытный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рименяется в значении пройти мимо и не заметить самого основного, главного в данном случа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24360" cy="3676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140360" y="47628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6:29:58Z</dcterms:created>
  <dc:creator>Игорь</dc:creator>
  <dc:description/>
  <dc:language>en-US</dc:language>
  <cp:lastModifiedBy>Игорь</cp:lastModifiedBy>
  <dcterms:modified xsi:type="dcterms:W3CDTF">2008-01-11T06:54:44Z</dcterms:modified>
  <cp:revision>5</cp:revision>
  <dc:subject/>
  <dc:title>Слайд 1</dc:title>
</cp:coreProperties>
</file>