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118-075D-4E6A-9DB4-FC364D57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C54-DF28-4585-B000-AC0C47B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553-4682-4079-A9BF-38145B02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6D8-1108-4C6C-8BE1-99820D77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005E-EEC2-4DD3-9B66-CE3C41A8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9C75-6E7A-420E-8B54-3D2DCB4C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411-F37F-43CD-84AD-DE47A80A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BD10-4BC5-4051-B119-DD88A10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1A8-5952-4785-8BFF-89D40BEC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CDC-F63C-46D5-82F4-DF79F32F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D084-D7BE-4477-8906-991D748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9C2-BDC6-4A04-8C5B-214DC9F7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082D-13BD-448B-ABB6-AE73FA5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6D64-D286-4CFA-A165-89F6690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ABC-3BB8-439A-8356-4232AA3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754F-1B59-4F96-9B93-76D0C683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83A1-E1BC-480F-8AEC-B0271CF6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0B77-005F-406C-9B1C-EEBC3B7F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4764-99F7-42F9-8925-C3C0A88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7861-4A2C-4585-8CE2-A013B69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11C8-31F8-4E2A-8587-3E685DA8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97CA-D3C5-4B0C-B6F4-B287D056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E52-FD4E-4677-A8C0-56F7F30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B591-90F2-4F8B-87F5-FF7D15F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34F2-A040-4DBB-B852-B36B949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1846-6516-4D29-B992-39990FA2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3DBD-CB28-4531-9A73-028EF08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2B1E-FF6E-4BFB-A8D4-8C497A5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F497-88CA-4754-8FE3-8F562316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64DC-5947-4A9E-924D-2BBA0F4F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3BC5-9F83-4E41-B48C-258EA305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FFDF-6329-40E4-9634-A4033A40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7BBD-EA82-4F74-B87F-67822DD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BB9-E745-4639-854B-E4C9A492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E251-A8B2-4FE0-BE4F-9F612C2A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20B0-8907-4A9F-9BB1-BB6EE1B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9CFA-78FB-442F-9EA0-7560190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682B-3D96-45C6-9722-63BDC4B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5E25-FA5A-403C-B837-3FC53A7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7C83-77A2-45D0-B590-9F5AB81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A78E-32E7-4426-9859-5A577FC3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9874-5323-441F-B0CE-281990A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DFD5-4906-4015-B65A-0B404F76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F49-0F34-4A0D-8633-A3216F7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E7C-EE68-4375-84E4-22CE9657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758-AA00-4D42-8ECD-6D7245B6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7A6-63DB-408C-B379-973544A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0DB-F436-4AA5-98E3-E723BFD5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2459-EBE3-473F-A950-30C375B7B4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88A3-0F46-4DF4-9B84-3327F01C7E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6373-2298-4CC3-B94D-0AB2DD5D8B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DED-602B-490D-803E-B5788F8A57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92360" y="0"/>
            <a:ext cx="626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лов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рылатых фр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498760" cy="3384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rcRect l="0" t="3582" r="5654" b="7951"/>
          <a:stretch/>
        </p:blipFill>
        <p:spPr>
          <a:xfrm>
            <a:off x="971640" y="2060640"/>
            <a:ext cx="4535280" cy="3373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79640" y="56610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dff"/>
                </a:solidFill>
                <a:uFillTx/>
                <a:latin typeface="Arial Unicode MS"/>
              </a:rPr>
              <a:t>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Arial Unicode MS"/>
              </a:rPr>
              <a:t>Из  басен  И.А. Кры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419280" y="1752480"/>
            <a:ext cx="511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У сильного всегда бессильный винова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в своих несчастьях сильный винит слабого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Выражение из басни «Волк и Ягнёнок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Услужливый дурак опаснее враг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поступки глупого человека, даже самого преданного, могут испортить всё дело. 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Это выражение взято из басни «Пустынник и Медвед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1482840" cy="165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00720" y="333360"/>
            <a:ext cx="71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565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1640" y="1752480"/>
            <a:ext cx="40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Хоть видит око, да зуб неймёт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выражение из басни «Лисица и виноград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цитируется с сожалением, когда осознают, что вожделённый предмет совершенно недоступен для говорящего по какой-то причине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Ходить на задних лапках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гождать кому-либо ради собственной выгоды, выслуживаться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а из басни «Две собак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11640" y="4762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46720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Чем кумушек считать трудиться, не лучше ль на себя, кума, оборотиться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у фразу адресуют тем, кто самозабвенно и взахлёб обличает других и перечисляет их недостатки или проступки, забывая о том, что тоже не без греха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Цитата из басни «Зеркало и Обезьян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0360" y="4762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71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Щука в карасином пруд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так говорят  о человеке, попавшем в благоприятную среду, туда, где он может безнаказанно творить беззакони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а из басни «Щук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500720" cy="2665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140360" y="33336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 выпуском словаря работали ученики 6 класс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нглинская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рягалов Дмитр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рков Евг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блина Оль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воловая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Шулепова Наталия  Валентин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МОУ Верхнезейская СОШ, 2007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А Васька слушает да ес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говорят о человеке, который не обращает внимания на просьбы не делать того, чем он занимается в данный момент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Кот и пова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А вы, друзья, как ни садитесь, все в музыканты не годитес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в каждом деле надобно умение, а не поза или умный вид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Квартет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2000" y="4221000"/>
            <a:ext cx="2906640" cy="1922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995640" y="404640"/>
            <a:ext cx="731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12319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558972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Ворона в павлиньих перьях</a:t>
            </a:r>
            <a:r>
              <a:rPr b="1" lang="en-US" sz="2400" spc="-1" strike="noStrike">
                <a:solidFill>
                  <a:srgbClr val="cc0000"/>
                </a:solidFill>
                <a:latin typeface="Arial Unicode MS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еловек, стремящийся казаться лучше, чем он есть, или желающий занять более высокое, несоответствующее ему поло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 Unicode MS"/>
              </a:rPr>
              <a:t>В сердце льстец всегда отыщет уголо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о способности  льстеца оказывать психологическое  воздействие на человека и о его умении руководить событиями. </a:t>
            </a:r>
            <a:r>
              <a:rPr b="1" i="1" lang="en-US" sz="1800" spc="-1" strike="noStrike">
                <a:solidFill>
                  <a:srgbClr val="336699"/>
                </a:solidFill>
                <a:latin typeface="Verdana"/>
              </a:rPr>
              <a:t>Строки из басни «Ворона и Лисиц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51814" t="20183" r="0" b="0"/>
          <a:stretch/>
        </p:blipFill>
        <p:spPr>
          <a:xfrm>
            <a:off x="6156360" y="1628640"/>
            <a:ext cx="2521080" cy="1986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020000" y="3789360"/>
            <a:ext cx="1001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Демьянова ух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выражение означает столь назойливое гостеприимство, идущее вразрез с желаниями и возможностями гостей, что результат будет отрицательным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Название басни «Демьянова ух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0360" y="47628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733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564000" y="1699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Коль выгонят в окно, так я влечу в друго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об упрямстве, навязчивом упорств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Муха и пчел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1368360" cy="119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140360" y="333360"/>
            <a:ext cx="1079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3429000"/>
            <a:ext cx="482436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 Unicode MS"/>
              </a:rPr>
              <a:t>Кукушка хвалит Петуха за то, что хвалит он Кукушк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эти слова употребляются в тех случаях, когда один человек хвалит другого только за то, что тот когда-то похвалил его.           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Кукушка и Пету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2570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Мартышкин тру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нужная работа, бесполезные, ни к чему не приводящие усилия.            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Выражение взято из басни «Обезьян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210280" y="1752480"/>
            <a:ext cx="2790720" cy="426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140360" y="47628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Навозну кучу разрывая, Петух нашёл жемчужное зерн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а цитата употребляется, если хотят сказать, что в огромном количестве всякого хлама обнаружилось нечто весьма ценно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Цитата из басни «Петух и жемчужное зерно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00720" y="54936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511960" y="1773360"/>
            <a:ext cx="3632040" cy="426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68496" t="19785" r="2142" b="53565"/>
          <a:stretch/>
        </p:blipFill>
        <p:spPr>
          <a:xfrm>
            <a:off x="4788000" y="5661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465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Тришкин кафта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 том, что исправляется лишь внешне, но не приносит пользы для дела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Название басни «Тришкин кафтан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Ты виноват лишь тем, что хочется мне кушат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авдание сильного в форме обвинения слабого за совершаемое преступлени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Волк и Ягнёнок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1749240" cy="3168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284720" y="476280"/>
            <a:ext cx="57456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Слона-то я и не примети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эта цитата из басни «Любопытный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рименяется в значении пройти мимо и не заметить самого основного, главного в данном случа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924360" cy="3676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140360" y="47628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6:29:58Z</dcterms:created>
  <dc:creator>Игорь</dc:creator>
  <dc:description/>
  <dc:language>en-US</dc:language>
  <cp:lastModifiedBy>Игорь</cp:lastModifiedBy>
  <dcterms:modified xsi:type="dcterms:W3CDTF">2008-01-11T06:54:44Z</dcterms:modified>
  <cp:revision>5</cp:revision>
  <dc:subject/>
  <dc:title>Слайд 1</dc:title>
</cp:coreProperties>
</file>