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5336-EFE0-4746-89C9-3463BCCFDA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63AD0-261A-4FAB-9989-734FF992A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F352-DC18-4C47-A839-EEBDF647E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F663C-C337-493C-A0A0-17FBAA99AC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68DC-9B4B-44F0-9E4F-00C7ED8F99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F29C9-D90D-4557-9927-5FBF75AD70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5B5F6-6E1E-4548-B6CB-E854A7FFA0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DB02B-A24F-4A5A-85E7-6F3D9EE5B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B310C-9128-477F-B593-B7385849E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13A17-7D22-452C-B63A-94DD6E2A1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E04C-FD9D-42B4-AD94-02A76023B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FC000-5F92-4DE6-85BA-44FF6496D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89F25-B8DE-440F-808E-8B49B7D5B5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" Target="slide16.xml"/><Relationship Id="rId11" Type="http://schemas.openxmlformats.org/officeDocument/2006/relationships/slide" Target="slide17.xml"/><Relationship Id="rId12" Type="http://schemas.openxmlformats.org/officeDocument/2006/relationships/slide" Target="slide18.xml"/><Relationship Id="rId13" Type="http://schemas.openxmlformats.org/officeDocument/2006/relationships/slide" Target="slide19.xml"/><Relationship Id="rId14" Type="http://schemas.openxmlformats.org/officeDocument/2006/relationships/slide" Target="slide20.xml"/><Relationship Id="rId15" Type="http://schemas.openxmlformats.org/officeDocument/2006/relationships/slide" Target="slide21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5.xml"/><Relationship Id="rId23" Type="http://schemas.openxmlformats.org/officeDocument/2006/relationships/slide" Target="slide5.xml"/><Relationship Id="rId24" Type="http://schemas.openxmlformats.org/officeDocument/2006/relationships/slide" Target="slide5.xml"/><Relationship Id="rId25" Type="http://schemas.openxmlformats.org/officeDocument/2006/relationships/slide" Target="slide5.xml"/><Relationship Id="rId26" Type="http://schemas.openxmlformats.org/officeDocument/2006/relationships/slide" Target="slide5.xml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420000">
            <a:off x="1022400" y="-236520"/>
            <a:ext cx="7200720" cy="518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5292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Monotype Corsiva"/>
              </a:rPr>
              <a:t>Своя игр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2700000"/>
              </a:gra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2" name=""/>
          <p:cNvSpPr/>
          <p:nvPr/>
        </p:nvSpPr>
        <p:spPr>
          <a:xfrm>
            <a:off x="546120" y="4871880"/>
            <a:ext cx="85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Fritz Quadrata Cyrillic"/>
              </a:rPr>
              <a:t>математическая  виктор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5773680"/>
            <a:ext cx="39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Monotype Corsiva"/>
              </a:rPr>
              <a:t>10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71480" y="473040"/>
            <a:ext cx="7721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Коле и Толе купили по 5 пирожных. Коля съел свои за 6 минут и стал сходить с ума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       от зависти глядя, как Толя ест каждое пирожное по 4 минуты. Долго ли будет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       сходить с ума от  зависти Коля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66120" y="56008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Baskerville Win95BT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229960" y="59022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Baskerville Win95BT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000" y="1981080"/>
            <a:ext cx="85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askerville Win95BT"/>
              </a:rPr>
              <a:t>Назовите, основ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askerville Win95BT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Baskerville Win95BT"/>
              </a:rPr>
              <a:t>тригонометрические</a:t>
            </a:r>
            <a:r>
              <a:rPr b="0" lang="ru-RU" sz="1800" spc="-1" strike="noStrike">
                <a:solidFill>
                  <a:srgbClr val="ff0000"/>
                </a:solidFill>
                <a:latin typeface="Baskerville Win95BT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Baskerville Win95BT"/>
              </a:rPr>
              <a:t>тождест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1484280"/>
            <a:ext cx="864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Baskerville Win95BT"/>
              </a:rPr>
              <a:t>Проверь написание формул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Baskerville Win95BT"/>
              </a:rPr>
              <a:t>со</a:t>
            </a:r>
            <a:r>
              <a:rPr b="0" lang="en-US" sz="3200" spc="-1" strike="noStrike">
                <a:solidFill>
                  <a:srgbClr val="ff0000"/>
                </a:solidFill>
                <a:latin typeface="Baskerville Win95BT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Baskerville Win95BT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Baskerville Win95BT"/>
              </a:rPr>
              <a:t>a-b</a:t>
            </a:r>
            <a:r>
              <a:rPr b="0" lang="ru-RU" sz="3200" spc="-1" strike="noStrike">
                <a:solidFill>
                  <a:srgbClr val="ff0000"/>
                </a:solidFill>
                <a:latin typeface="Baskerville Win95BT"/>
              </a:rPr>
              <a:t>)=</a:t>
            </a:r>
            <a:r>
              <a:rPr b="0" lang="en-US" sz="3200" spc="-1" strike="noStrike">
                <a:solidFill>
                  <a:srgbClr val="ff0000"/>
                </a:solidFill>
                <a:latin typeface="Baskerville Win95BT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Baskerville Win95BT"/>
              </a:rPr>
              <a:t>со</a:t>
            </a:r>
            <a:r>
              <a:rPr b="0" lang="en-US" sz="3200" spc="-1" strike="noStrike">
                <a:solidFill>
                  <a:srgbClr val="ff0000"/>
                </a:solidFill>
                <a:latin typeface="Baskerville Win95BT"/>
              </a:rPr>
              <a:t>sa cosb – sina sin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Baskerville Win95BT"/>
              </a:rPr>
              <a:t>со</a:t>
            </a:r>
            <a:r>
              <a:rPr b="0" lang="en-US" sz="3200" spc="-1" strike="noStrike">
                <a:solidFill>
                  <a:srgbClr val="ff0000"/>
                </a:solidFill>
                <a:latin typeface="Baskerville Win95BT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Baskerville Win95BT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Baskerville Win95BT"/>
              </a:rPr>
              <a:t>a+b</a:t>
            </a:r>
            <a:r>
              <a:rPr b="0" lang="ru-RU" sz="3200" spc="-1" strike="noStrike">
                <a:solidFill>
                  <a:srgbClr val="ff0000"/>
                </a:solidFill>
                <a:latin typeface="Baskerville Win95BT"/>
              </a:rPr>
              <a:t>)=</a:t>
            </a:r>
            <a:r>
              <a:rPr b="0" lang="en-US" sz="3200" spc="-1" strike="noStrike">
                <a:solidFill>
                  <a:srgbClr val="ff0000"/>
                </a:solidFill>
                <a:latin typeface="Baskerville Win95BT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Baskerville Win95BT"/>
              </a:rPr>
              <a:t>со</a:t>
            </a:r>
            <a:r>
              <a:rPr b="0" lang="en-US" sz="3200" spc="-1" strike="noStrike">
                <a:solidFill>
                  <a:srgbClr val="ff0000"/>
                </a:solidFill>
                <a:latin typeface="Baskerville Win95BT"/>
              </a:rPr>
              <a:t>sa cosb + sina sin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askerville Win95BT"/>
              </a:rPr>
              <a:t>sin(a-b) = sina cosb + sina co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askerville Win95BT"/>
              </a:rPr>
              <a:t>sin(a+b) = sina cosb - sina co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109360" y="59626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Baskerville Win95BT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988400" y="6022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Baskerville Win95BT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18440" y="1438200"/>
            <a:ext cx="745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askerville Win95BT"/>
              </a:rPr>
              <a:t>Расскажите способ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askerville Win95BT"/>
              </a:rPr>
              <a:t>получения формул приведе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askerville Win95BT"/>
              </a:rPr>
              <a:t>Напишите на доске формул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988400" y="59022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Baskerville Win95BT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6120" y="2343240"/>
            <a:ext cx="87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askerville Win95BT"/>
              </a:rPr>
              <a:t>Перечислите формулы двойного угл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867800" y="58420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Baskerville Win95BT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61360" y="1981080"/>
            <a:ext cx="70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askerville Win95BT"/>
              </a:rPr>
              <a:t>Перечислите формул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askerville Win95BT"/>
              </a:rPr>
              <a:t>суммы и разност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askerville Win95BT"/>
              </a:rPr>
              <a:t>тригонометрических функц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148428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К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от в мешке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87520" y="2425680"/>
            <a:ext cx="3784680" cy="3597120"/>
          </a:xfrm>
          <a:prstGeom prst="pie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54920" y="57816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7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219400" y="1981080"/>
                <a:ext cx="5111640" cy="24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7472520" y="54799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1484280"/>
            <a:ext cx="864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023840" y="1685880"/>
                <a:ext cx="7215120" cy="258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7834320" y="54198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0920" y="1484280"/>
            <a:ext cx="864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36560" y="1498680"/>
                <a:ext cx="770400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7713720" y="5661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3120" y="779400"/>
            <a:ext cx="8597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9840" indent="-339840" algn="ctr"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Цели математической викторин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ff0066"/>
              </a:buClr>
              <a:buFont typeface="Monotype Corsiva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Monotype Corsiva"/>
              </a:rPr>
              <a:t>Повышение познавательного интереса к предмету матема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ff0066"/>
              </a:buClr>
              <a:buFont typeface="Monotype Corsiva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Monotype Corsiva"/>
              </a:rPr>
              <a:t>Способствовать воспитанию "чувства локтя" и дружбы среди учащих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ff0066"/>
              </a:buClr>
              <a:buFont typeface="Monotype Corsiva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Monotype Corsiva"/>
              </a:rPr>
              <a:t>Способствовать побуждению каждого учащегося к творческому поиску и размышлениям, раскрытию своего творческого потенциа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ff0066"/>
              </a:buClr>
              <a:buFont typeface="Monotype Corsiva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Monotype Corsiva"/>
              </a:rPr>
              <a:t>Способствовать развитию кругозора учащихся, математической речи и грамот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82520" y="2346480"/>
            <a:ext cx="86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15°·со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15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136000" y="5661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228600" y="155880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осле того, как бегун пробежал треть всей дистанции и еще 400 м, ему осталось пробежать еще треть пути и еще 200 м. Чему равна длина дистанции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46880" y="61437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86000" y="2046240"/>
            <a:ext cx="6673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125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5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94800" y="57816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1484280"/>
            <a:ext cx="864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Груша тяжелее, чем яблоко, а яблоко тяжелее персика. Что тяжелее груша или персик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773840" y="5600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0920" y="1484280"/>
            <a:ext cx="864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Через шесть с половиной часов наступит полночь. А сейчас который час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53240" y="5721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89080" y="1378080"/>
            <a:ext cx="864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Два мальчика играли на гитарах, а один на балалайке. На чем играл Юра, если Миша с Петей и Петя с Юрой играли на разных инструментах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3600" y="4511520"/>
            <a:ext cx="847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15400" y="5842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1160" y="817560"/>
            <a:ext cx="8156520" cy="1895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148428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654120"/>
          <a:ext cx="7581960" cy="2611440"/>
        </p:xfrm>
        <a:graphic>
          <a:graphicData uri="http://schemas.openxmlformats.org/drawingml/2006/table">
            <a:tbl>
              <a:tblPr/>
              <a:tblGrid>
                <a:gridCol w="3016080"/>
                <a:gridCol w="1140120"/>
                <a:gridCol w="1141200"/>
                <a:gridCol w="1143000"/>
                <a:gridCol w="1141560"/>
              </a:tblGrid>
              <a:tr h="1307880">
                <a:tc>
                  <a:txBody>
                    <a:bodyPr lIns="90000" rIns="90000" tIns="1476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Числ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3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4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lIns="90000" rIns="90000" tIns="1274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Уравнения</a:t>
                      </a:r>
                      <a:r>
                        <a:rPr b="0" lang="ru-RU" sz="40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3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4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amond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02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 rot="21420000">
            <a:off x="898560" y="190080"/>
            <a:ext cx="7200720" cy="518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5292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2700000"/>
              </a:gra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20" name=""/>
          <p:cNvSpPr/>
          <p:nvPr/>
        </p:nvSpPr>
        <p:spPr>
          <a:xfrm>
            <a:off x="3560400" y="1558800"/>
            <a:ext cx="31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Кот в мешке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87520" y="2425680"/>
            <a:ext cx="3784680" cy="3597120"/>
          </a:xfrm>
          <a:prstGeom prst="pie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15400" y="5842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0920" y="148428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98800" y="14382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Эти числа появились в связи с необходимостью подсчета предмет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94800" y="57816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23720" y="243000"/>
            <a:ext cx="8477280" cy="75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itz Quadrata Cyrillic"/>
              </a:rPr>
              <a:t>Правила игры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В игре принимают участие 2 команды по 4человека. Задача каждой команды набрать как можно большее количество баллов. Для этого необходимо правильно ответить на вопросы 2 – х отборочных туров и в финальной игре не только правильно ответить, но и сделать большую ставку на свой отв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В отборочных турах каждый вопрос имеет свою стоимость, на обдумывание дается одна минута, отвечает та команда, которая быстрее поднимет руку. Если команда ответила правильно, то она выбирает следующий вопрос. Н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Monotype Corsiva"/>
              </a:rPr>
              <a:t>вопрос – аукцион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  право ответа имеет та команда, которая назначит большую сумму, если на счету игроков сумма, меньшая чем стоимость вопроса, то они могут предложить только номинал (стоимость вопроса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За каждой командой закреплены по 2 консультанта, они ведут подсчет баллов, если команда отвечает правильно –  баллы прибавляются, если неправильно – вычитаю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19400" y="14382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Что можно сказать о числах, которые оканчиваются нулем или четной цифрой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15400" y="5902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250920" y="148428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Какие числа делятся на 3 и на 9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834320" y="5721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79520" y="1378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Так называют квадратное уравнение, если в нем коэффициенты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и (или)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равны нулю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13720" y="5661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19400" y="10764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Бутылка с пробкой стоит 11 рублей. Бутылка на 10 рублей дороже пробки. Сколько стоит пробка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94800" y="5902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19400" y="7747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Этот способ решения уравнения не всегда дает точные значения корней и требует чертежных навыков от решающего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5520" y="5902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809720" y="1800360"/>
            <a:ext cx="5391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Найдите корни уравнени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954920" y="5902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19320" y="1116000"/>
            <a:ext cx="6997680" cy="33768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060640" y="593640"/>
            <a:ext cx="452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асшифруйте сло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и назовите лишне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38320" y="216216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Monotype Corsiva"/>
              </a:rPr>
              <a:t>б  к  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Monotype Corsiva"/>
              </a:rPr>
              <a:t>л  о  п  с  о  т  ь  к  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Monotype Corsiva"/>
              </a:rPr>
              <a:t>а  т  ч  о  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Monotype Corsiva"/>
              </a:rPr>
              <a:t>я м  а  я  п  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400480" y="1558800"/>
            <a:ext cx="45720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Спасибо за игру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Поздравляем победителей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17720" y="654120"/>
            <a:ext cx="59119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Baskerville Win95BT"/>
              </a:rPr>
              <a:t>Математическую викторину разработала и провел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Baskerville Win95BT"/>
              </a:rPr>
              <a:t>преподаватель математик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Baskerville Win95BT"/>
              </a:rPr>
              <a:t>МОУ «Тополинской СОШ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Baskerville Win95BT"/>
              </a:rPr>
              <a:t>Кульша Олеся Павлов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 rot="21420000">
            <a:off x="898560" y="190080"/>
            <a:ext cx="7200720" cy="518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5292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Monotype Corsiva"/>
              </a:rPr>
              <a:t>1 тур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2700000"/>
              </a:gra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50920" y="692280"/>
          <a:ext cx="8640720" cy="5279760"/>
        </p:xfrm>
        <a:graphic>
          <a:graphicData uri="http://schemas.openxmlformats.org/drawingml/2006/table">
            <a:tbl>
              <a:tblPr/>
              <a:tblGrid>
                <a:gridCol w="3016080"/>
                <a:gridCol w="1139760"/>
                <a:gridCol w="1141560"/>
                <a:gridCol w="1143000"/>
                <a:gridCol w="1141560"/>
                <a:gridCol w="1058760"/>
              </a:tblGrid>
              <a:tr h="1296720">
                <a:tc>
                  <a:txBody>
                    <a:bodyPr lIns="90000" rIns="90000" tIns="1476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Дет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1476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формул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</a:tr>
              <a:tr h="1312560">
                <a:tc>
                  <a:txBody>
                    <a:bodyPr lIns="90000" rIns="90000" tIns="1476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читаю устн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</a:tr>
              <a:tr h="1301760">
                <a:tc>
                  <a:txBody>
                    <a:bodyPr lIns="90000" rIns="90000" tIns="1476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cc9900"/>
                          </a:solidFill>
                          <a:latin typeface="Times New Roman"/>
                        </a:rPr>
                        <a:t>Логи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3348000" y="1052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4500720" y="1052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5" action="ppaction://hlinksldjump"/>
          </p:cNvPr>
          <p:cNvSpPr/>
          <p:nvPr/>
        </p:nvSpPr>
        <p:spPr>
          <a:xfrm>
            <a:off x="5651640" y="1052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7" action="ppaction://hlinksldjump"/>
          </p:cNvPr>
          <p:cNvSpPr/>
          <p:nvPr/>
        </p:nvSpPr>
        <p:spPr>
          <a:xfrm>
            <a:off x="6804000" y="1052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8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7885080" y="1052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1" action="ppaction://hlinksldjump"/>
          </p:cNvPr>
          <p:cNvSpPr/>
          <p:nvPr/>
        </p:nvSpPr>
        <p:spPr>
          <a:xfrm>
            <a:off x="3348000" y="2349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12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3" action="ppaction://hlinksldjump"/>
          </p:cNvPr>
          <p:cNvSpPr/>
          <p:nvPr/>
        </p:nvSpPr>
        <p:spPr>
          <a:xfrm>
            <a:off x="4500720" y="2349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5" action="ppaction://hlinksldjump"/>
          </p:cNvPr>
          <p:cNvSpPr/>
          <p:nvPr/>
        </p:nvSpPr>
        <p:spPr>
          <a:xfrm>
            <a:off x="5651640" y="2349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16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7" action="ppaction://hlinksldjump"/>
          </p:cNvPr>
          <p:cNvSpPr/>
          <p:nvPr/>
        </p:nvSpPr>
        <p:spPr>
          <a:xfrm>
            <a:off x="6804000" y="2349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18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9" action="ppaction://hlinksldjump"/>
          </p:cNvPr>
          <p:cNvSpPr/>
          <p:nvPr/>
        </p:nvSpPr>
        <p:spPr>
          <a:xfrm>
            <a:off x="7885080" y="2349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20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1" action="ppaction://hlinksldjump"/>
          </p:cNvPr>
          <p:cNvSpPr/>
          <p:nvPr/>
        </p:nvSpPr>
        <p:spPr>
          <a:xfrm>
            <a:off x="3348000" y="3645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22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3" action="ppaction://hlinksldjump"/>
          </p:cNvPr>
          <p:cNvSpPr/>
          <p:nvPr/>
        </p:nvSpPr>
        <p:spPr>
          <a:xfrm>
            <a:off x="4500720" y="3645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24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5" action="ppaction://hlinksldjump"/>
          </p:cNvPr>
          <p:cNvSpPr/>
          <p:nvPr/>
        </p:nvSpPr>
        <p:spPr>
          <a:xfrm>
            <a:off x="5651640" y="3645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26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04000" y="3645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ccff"/>
                </a:solidFill>
                <a:latin typeface="Arial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885080" y="3645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ccff"/>
                </a:solidFill>
                <a:latin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49482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ccff"/>
                </a:solidFill>
                <a:latin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00720" y="49482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ccff"/>
                </a:solidFill>
                <a:latin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51640" y="49482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ccff"/>
                </a:solidFill>
                <a:latin typeface="Arial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04000" y="49482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ccff"/>
                </a:solidFill>
                <a:latin typeface="Arial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85080" y="49482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ccff"/>
                </a:solidFill>
                <a:latin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46920" y="6308640"/>
            <a:ext cx="1297080" cy="549360"/>
          </a:xfrm>
          <a:custGeom>
            <a:avLst/>
            <a:gdLst>
              <a:gd name="textAreaLeft" fmla="*/ 35280 w 1297080"/>
              <a:gd name="textAreaRight" fmla="*/ 1261800 w 12970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0980" h="21600">
                <a:moveTo>
                  <a:pt x="0" y="0"/>
                </a:moveTo>
                <a:lnTo>
                  <a:pt x="50980" y="0"/>
                </a:lnTo>
                <a:lnTo>
                  <a:pt x="50980" y="21600"/>
                </a:lnTo>
                <a:lnTo>
                  <a:pt x="0" y="21600"/>
                </a:lnTo>
                <a:close/>
              </a:path>
              <a:path fill="lightenLess" w="50980" h="21600">
                <a:moveTo>
                  <a:pt x="0" y="0"/>
                </a:moveTo>
                <a:lnTo>
                  <a:pt x="50980" y="0"/>
                </a:lnTo>
                <a:lnTo>
                  <a:pt x="49580" y="1400"/>
                </a:lnTo>
                <a:lnTo>
                  <a:pt x="1400" y="1400"/>
                </a:lnTo>
                <a:close/>
              </a:path>
              <a:path fill="darken" w="50980" h="21600">
                <a:moveTo>
                  <a:pt x="50980" y="0"/>
                </a:moveTo>
                <a:lnTo>
                  <a:pt x="50980" y="21600"/>
                </a:lnTo>
                <a:lnTo>
                  <a:pt x="49580" y="20200"/>
                </a:lnTo>
                <a:lnTo>
                  <a:pt x="49580" y="1400"/>
                </a:lnTo>
                <a:close/>
              </a:path>
              <a:path fill="darkenLess" w="50980" h="21600">
                <a:moveTo>
                  <a:pt x="50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580" y="20200"/>
                </a:lnTo>
                <a:close/>
              </a:path>
              <a:path fill="lighten" w="50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Baskerville Win95BT"/>
              </a:rPr>
              <a:t>1 ту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48" dur="indefinite" restart="never" nodeType="tmRoot">
          <p:childTnLst>
            <p:par>
              <p:cTn id="49" nodeType="interactiveSeq" fill="hold">
                <p:childTnLst>
                  <p:par>
                    <p:cTn id="50" fill="hold"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55" nodeType="interactiveSeq" fill="hold">
                <p:childTnLst>
                  <p:par>
                    <p:cTn id="56" fill="hold"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61" nodeType="interactiveSeq" fill="hold">
                <p:childTnLst>
                  <p:par>
                    <p:cTn id="62" fill="hold"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67" nodeType="interactiveSeq" fill="hold">
                <p:childTnLst>
                  <p:par>
                    <p:cTn id="68" fill="hold"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73" nodeType="interactiveSeq" fill="hold">
                <p:childTnLst>
                  <p:par>
                    <p:cTn id="74" fill="hold"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79" nodeType="interactiveSeq" fill="hold">
                <p:childTnLst>
                  <p:par>
                    <p:cTn id="80" fill="hold"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85" nodeType="interactiveSeq" fill="hold">
                <p:childTnLst>
                  <p:par>
                    <p:cTn id="86" fill="hold"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91" nodeType="interactiveSeq" fill="hold">
                <p:childTnLst>
                  <p:par>
                    <p:cTn id="92" fill="hold"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97" nodeType="interactiveSeq" fill="hold">
                <p:childTnLst>
                  <p:par>
                    <p:cTn id="98" fill="hold"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03" nodeType="interactiveSeq" fill="hold">
                <p:childTnLst>
                  <p:par>
                    <p:cTn id="104" fill="hold"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09" nodeType="interactiveSeq" fill="hold">
                <p:childTnLst>
                  <p:par>
                    <p:cTn id="110" fill="hold"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15" nodeType="interactiveSeq" fill="hold">
                <p:childTnLst>
                  <p:par>
                    <p:cTn id="116" fill="hold"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21" nodeType="interactiveSeq" fill="hold">
                <p:childTnLst>
                  <p:par>
                    <p:cTn id="122" fill="hold"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27" nodeType="interactiveSeq" fill="hold">
                <p:childTnLst>
                  <p:par>
                    <p:cTn id="128" fill="hold"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33" nodeType="interactiveSeq" fill="hold">
                <p:childTnLst>
                  <p:par>
                    <p:cTn id="134" fill="hold"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39" nodeType="interactiveSeq" fill="hold">
                <p:childTnLst>
                  <p:par>
                    <p:cTn id="140" fill="hold"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45" nodeType="interactiveSeq" fill="hold">
                <p:childTnLst>
                  <p:par>
                    <p:cTn id="146" fill="hold"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51" nodeType="interactiveSeq" fill="hold">
                <p:childTnLst>
                  <p:par>
                    <p:cTn id="152" fill="hold"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57" nodeType="interactiveSeq" fill="hold">
                <p:childTnLst>
                  <p:par>
                    <p:cTn id="158" fill="hold"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63" nodeType="interactiveSeq" fill="hold">
                <p:childTnLst>
                  <p:par>
                    <p:cTn id="164" fill="hold"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1484280"/>
            <a:ext cx="864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В доме 12 чашек и 9 блюдечек. Дети разбили половину чашек и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7 блюдечек. Сколько чашек осталось без блюдечек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27960" y="614376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Times New Roman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148428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У старшего брата 2 конфеты, а у младшего 12 конфет. Сколько конфет должен отнять старший у младшего, чтобы справедливость восторжествовала, и между братьями наступило равенств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29440" y="7142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Baskerville Win95BT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907920"/>
            <a:ext cx="8640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Когда младенца Кузю поцарапала кошка, он орал 5 мин, когда его укусила оса, он орал на 3мин больше, но когда собственная мать набросилась на него и начала мыть с мылом Кузя орал в 2 раза дольше, чем после укуса осы. Мама мыла Кузю 11 минут. Сколько минут орал уже вымытый Кузя?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06840" y="59364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Times New Roman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981000"/>
            <a:ext cx="86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Один мальчик охотился в кухне на тараканов и убил пятерых, а ранил в три раза больше. Трех тараканов мальчик ранил смертельно и они погибли от ран, а остальные тараканы выздоровели, но обиделись на мальчика и навсегда ушли к соседям. Сколько тараканов ушло к соседям навсегда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87080" y="59626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Baskerville Win95BT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3T10:47:53Z</dcterms:created>
  <dc:creator>Женя</dc:creator>
  <dc:description/>
  <dc:language>en-US</dc:language>
  <cp:lastModifiedBy>User</cp:lastModifiedBy>
  <dcterms:modified xsi:type="dcterms:W3CDTF">2003-12-31T18:20:08Z</dcterms:modified>
  <cp:revision>52</cp:revision>
  <dc:subject/>
  <dc:title>Слайд 1</dc:title>
</cp:coreProperties>
</file>