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5483-BB81-4E00-A5A5-9BFF1BD78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7B10-7421-4924-B648-1C74603B8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430E-12AD-4A65-87BB-7A49C198C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33C9-6EC1-4280-8314-3378669B0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EA8F-AB4D-4E20-B165-23E5A3D05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BE59-6352-4158-89E9-FCB8F0BA1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2FA7-F3E1-4306-9308-7074853A4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2138-5F19-493D-8E53-91CC9B7E1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F19D-D8F0-4604-887E-817795E23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9948-FA8A-4C2E-AF23-08B0C43CB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0411-6C49-4BE4-9B1C-56DC209B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86F5-83B9-4E9F-8CEE-7EAB9EE4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9370B-56C1-486A-B79C-E8C700832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5.xml"/><Relationship Id="rId23" Type="http://schemas.openxmlformats.org/officeDocument/2006/relationships/slide" Target="slide5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420000">
            <a:off x="1022400" y="-23652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Своя иг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546120" y="487188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itz Quadrata Cyrillic"/>
              </a:rPr>
              <a:t>математическая  викто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577368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Monotype Corsiva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71480" y="473040"/>
            <a:ext cx="772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оле и Толе купили по 5 пирожных. Коля съел свои за 6 минут и стал сходить с ум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     от зависти глядя, как Толя ест каждое пирожное по 4 минуты. Долго ли будет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     сходить с ума от  зависти Кол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66120" y="5600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29960" y="590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askerville Win95BT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000" y="1981080"/>
            <a:ext cx="85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Назовите, основ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Baskerville Win95BT"/>
              </a:rPr>
              <a:t>тригонометрические</a:t>
            </a:r>
            <a:r>
              <a:rPr b="0" lang="ru-RU" sz="18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тожд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484280"/>
            <a:ext cx="86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Проверь написание формул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a-b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a cosb – sina si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a+b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со</a:t>
            </a: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a cosb + sina si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in(a-b) = sina cosb + sina co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skerville Win95BT"/>
              </a:rPr>
              <a:t>sin(a+b) = sina cosb - sina co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09360" y="596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988400" y="6022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askerville Win95BT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8440" y="1438200"/>
            <a:ext cx="74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Расскажите способ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олучения формул привед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Напишите на доске формул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88400" y="590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6120" y="2343240"/>
            <a:ext cx="87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еречислите формулы двойного уг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867800" y="5842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1360" y="1981080"/>
            <a:ext cx="70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Перечислите формул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суммы и разност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Baskerville Win95BT"/>
              </a:rPr>
              <a:t>тригонометрических фун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т в мешке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87520" y="2425680"/>
            <a:ext cx="3784680" cy="35971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5492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19400" y="1981080"/>
                <a:ext cx="51116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472520" y="5479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23840" y="1685880"/>
                <a:ext cx="721512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834320" y="5419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36560" y="1498680"/>
                <a:ext cx="7704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71372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3120" y="779400"/>
            <a:ext cx="8597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9840" indent="-339840" algn="ctr"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Цели математической виктор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Повышение познавательного интереса к предмету мате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воспитанию "чувства локтя" и дружбы среди учащих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побуждению каждого учащегося к творческому поиску и размышлениям, раскрытию своего творческого потенциа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ff0066"/>
              </a:buClr>
              <a:buFont typeface="Monotype Corsiva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Monotype Corsiva"/>
              </a:rPr>
              <a:t>Способствовать развитию кругозора учащихся, математической речи и грамот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520" y="234648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5°·со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15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3600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228600" y="15588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сле того, как бегун пробежал треть всей дистанции и еще 400 м, ему осталось пробежать еще треть пути и еще 200 м. Чему равна длина дистанции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46880" y="6143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86000" y="2046240"/>
            <a:ext cx="667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125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480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484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Груша тяжелее, чем яблоко, а яблоко тяжелее персика. Что тяжелее груша или перс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3840" y="5600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484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ерез шесть с половиной часов наступит полночь. А сейчас который ча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5324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080" y="13780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600" y="4511520"/>
            <a:ext cx="847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15400" y="5842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160" y="817560"/>
            <a:ext cx="815652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484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54120"/>
          <a:ext cx="7581960" cy="2611440"/>
        </p:xfrm>
        <a:graphic>
          <a:graphicData uri="http://schemas.openxmlformats.org/drawingml/2006/table">
            <a:tbl>
              <a:tblPr/>
              <a:tblGrid>
                <a:gridCol w="3016080"/>
                <a:gridCol w="1140120"/>
                <a:gridCol w="1141200"/>
                <a:gridCol w="1143000"/>
                <a:gridCol w="1141560"/>
              </a:tblGrid>
              <a:tr h="130788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ис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1274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Уравнения</a:t>
                      </a:r>
                      <a:r>
                        <a:rPr b="0" lang="ru-RU" sz="40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3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4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21420000">
            <a:off x="898560" y="19008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0" name=""/>
          <p:cNvSpPr/>
          <p:nvPr/>
        </p:nvSpPr>
        <p:spPr>
          <a:xfrm>
            <a:off x="3560400" y="1558800"/>
            <a:ext cx="31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7520" y="2425680"/>
            <a:ext cx="3784680" cy="35971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15400" y="5842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98800" y="1438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Эти числа появились в связи с необходимостью подсчета предме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94800" y="5781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243000"/>
            <a:ext cx="847728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Fritz Quadrata Cyrillic"/>
              </a:rPr>
              <a:t>Правила игр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игре принимают участие 2 команды по 4человека. Задача каждой команды набрать как можно большее количество баллов. Для этого необходимо правильно ответить на вопросы 2 – х отборочных туров и в финальной игре не только правильно ответить, но и сделать большую ставку на сво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отборочных турах каждый вопрос имеет свою стоимость, на обдумывание дается одна минута, отвечает та команда, которая быстрее поднимет руку. Если команда ответила правильно, то она выбирает следующий вопрос. 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Monotype Corsiva"/>
              </a:rPr>
              <a:t>вопрос – аукцион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За каждой командой закреплены по 2 консультанта, они ведут подсчет баллов, если команда отвечает правильно –  баллы прибавляются, если неправильно – вычит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9400" y="1438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можно сказать о числах, которые оканчиваются нулем или четной цифрой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1540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Какие числа делятся на 3 и на 9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34320" y="5721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9520" y="1378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к называют квадратное уравнение, если в нем коэффициенты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и (или)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равны нул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13720" y="566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19400" y="10764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утылка с пробкой стоит 11 рублей. Бутылка на 10 рублей дороже пробки. Сколько стоит пробк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9480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19400" y="77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Этот способ решения уравнения не всегда дает точные значения корней и требует чертежных навыков от решающего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552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09720" y="1800360"/>
            <a:ext cx="5391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йдите корни уравн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4920" y="5902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1116000"/>
            <a:ext cx="6997680" cy="3376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60640" y="593640"/>
            <a:ext cx="452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асшифруйте с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назовите лишне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8320" y="21621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б  к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л  о  п  с  о  т  ь  к  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а  т  ч  о  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Monotype Corsiva"/>
              </a:rPr>
              <a:t>я м  а  я  п  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400480" y="1558800"/>
            <a:ext cx="4572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игру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Поздравляем победителей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17720" y="654120"/>
            <a:ext cx="5911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Математическую викторину разработала и провел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преподаватель математ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МОУ «Тополинской СОШ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Baskerville Win95BT"/>
              </a:rPr>
              <a:t>Кульша Олеся Павл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420000">
            <a:off x="898560" y="190080"/>
            <a:ext cx="7200720" cy="51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1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692280"/>
          <a:ext cx="8640720" cy="5279760"/>
        </p:xfrm>
        <a:graphic>
          <a:graphicData uri="http://schemas.openxmlformats.org/drawingml/2006/table">
            <a:tbl>
              <a:tblPr/>
              <a:tblGrid>
                <a:gridCol w="3016080"/>
                <a:gridCol w="1139760"/>
                <a:gridCol w="1141560"/>
                <a:gridCol w="1143000"/>
                <a:gridCol w="1141560"/>
                <a:gridCol w="1058760"/>
              </a:tblGrid>
              <a:tr h="129672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е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формул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читаю устн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147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cc9900"/>
                          </a:solidFill>
                          <a:latin typeface="Times New Roman"/>
                        </a:rPr>
                        <a:t>Лог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  <a:tc>
                  <a:txBody>
                    <a:bodyPr lIns="90000" rIns="90000" tIns="117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cc00"/>
                      </a:solidFill>
                    </a:lnL>
                    <a:lnR w="13680">
                      <a:solidFill>
                        <a:srgbClr val="00cc00"/>
                      </a:solidFill>
                    </a:lnR>
                    <a:lnT w="13680">
                      <a:solidFill>
                        <a:srgbClr val="00cc00"/>
                      </a:solidFill>
                    </a:lnT>
                    <a:lnB w="13680">
                      <a:solidFill>
                        <a:srgbClr val="00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334800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450072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565164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680400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7885080" y="105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34800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3" action="ppaction://hlinksldjump"/>
          </p:cNvPr>
          <p:cNvSpPr/>
          <p:nvPr/>
        </p:nvSpPr>
        <p:spPr>
          <a:xfrm>
            <a:off x="450072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565164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680400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9" action="ppaction://hlinksldjump"/>
          </p:cNvPr>
          <p:cNvSpPr/>
          <p:nvPr/>
        </p:nvSpPr>
        <p:spPr>
          <a:xfrm>
            <a:off x="7885080" y="234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334800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3" action="ppaction://hlinksldjump"/>
          </p:cNvPr>
          <p:cNvSpPr/>
          <p:nvPr/>
        </p:nvSpPr>
        <p:spPr>
          <a:xfrm>
            <a:off x="450072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4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565164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ccccff"/>
                </a:solidFill>
                <a:uFillTx/>
                <a:latin typeface="Arial"/>
                <a:hlinkClick r:id="rId2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6920" y="6308640"/>
            <a:ext cx="1297080" cy="549360"/>
          </a:xfrm>
          <a:custGeom>
            <a:avLst/>
            <a:gdLst>
              <a:gd name="textAreaLeft" fmla="*/ 35280 w 1297080"/>
              <a:gd name="textAreaRight" fmla="*/ 1261800 w 1297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0980" h="21600">
                <a:moveTo>
                  <a:pt x="0" y="0"/>
                </a:moveTo>
                <a:lnTo>
                  <a:pt x="50980" y="0"/>
                </a:lnTo>
                <a:lnTo>
                  <a:pt x="50980" y="21600"/>
                </a:lnTo>
                <a:lnTo>
                  <a:pt x="0" y="21600"/>
                </a:lnTo>
                <a:close/>
              </a:path>
              <a:path fill="lightenLess" w="50980" h="21600">
                <a:moveTo>
                  <a:pt x="0" y="0"/>
                </a:moveTo>
                <a:lnTo>
                  <a:pt x="50980" y="0"/>
                </a:lnTo>
                <a:lnTo>
                  <a:pt x="49580" y="1400"/>
                </a:lnTo>
                <a:lnTo>
                  <a:pt x="1400" y="1400"/>
                </a:lnTo>
                <a:close/>
              </a:path>
              <a:path fill="darken" w="50980" h="21600">
                <a:moveTo>
                  <a:pt x="50980" y="0"/>
                </a:moveTo>
                <a:lnTo>
                  <a:pt x="50980" y="21600"/>
                </a:lnTo>
                <a:lnTo>
                  <a:pt x="49580" y="20200"/>
                </a:lnTo>
                <a:lnTo>
                  <a:pt x="49580" y="1400"/>
                </a:lnTo>
                <a:close/>
              </a:path>
              <a:path fill="darkenLess" w="50980" h="21600">
                <a:moveTo>
                  <a:pt x="5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80" y="20200"/>
                </a:lnTo>
                <a:close/>
              </a:path>
              <a:path fill="lighten" w="5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1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48" dur="indefinite" restart="never" nodeType="tmRoot">
          <p:childTnLst>
            <p:par>
              <p:cTn id="49" nodeType="interactiveSeq" fill="hold">
                <p:childTnLst>
                  <p:par>
                    <p:cTn id="50" fill="hold"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5" nodeType="interactiveSeq" fill="hold">
                <p:childTnLst>
                  <p:par>
                    <p:cTn id="56" fill="hold"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1" nodeType="interactiveSeq" fill="hold">
                <p:childTnLst>
                  <p:par>
                    <p:cTn id="62" fill="hold"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67" nodeType="interactiveSeq" fill="hold">
                <p:childTnLst>
                  <p:par>
                    <p:cTn id="68" fill="hold"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3" nodeType="interactiveSeq" fill="hold">
                <p:childTnLst>
                  <p:par>
                    <p:cTn id="74" fill="hold"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9" nodeType="interactiveSeq" fill="hold">
                <p:childTnLst>
                  <p:par>
                    <p:cTn id="80" fill="hold"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85" nodeType="interactiveSeq" fill="hold">
                <p:childTnLst>
                  <p:par>
                    <p:cTn id="86" fill="hold"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91" nodeType="interactiveSeq" fill="hold">
                <p:childTnLst>
                  <p:par>
                    <p:cTn id="92" fill="hold"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97" nodeType="interactiveSeq" fill="hold">
                <p:childTnLst>
                  <p:par>
                    <p:cTn id="98" fill="hold"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3" nodeType="interactiveSeq" fill="hold">
                <p:childTnLst>
                  <p:par>
                    <p:cTn id="104" fill="hold"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9" nodeType="interactiveSeq" fill="hold">
                <p:childTnLst>
                  <p:par>
                    <p:cTn id="110" fill="hold"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5" nodeType="interactiveSeq" fill="hold">
                <p:childTnLst>
                  <p:par>
                    <p:cTn id="116" fill="hold"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1" nodeType="interactiveSeq" fill="hold">
                <p:childTnLst>
                  <p:par>
                    <p:cTn id="122" fill="hold"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7" nodeType="interactiveSeq" fill="hold">
                <p:childTnLst>
                  <p:par>
                    <p:cTn id="128" fill="hold"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3" nodeType="interactiveSeq" fill="hold">
                <p:childTnLst>
                  <p:par>
                    <p:cTn id="134" fill="hold"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9" nodeType="interactiveSeq" fill="hold">
                <p:childTnLst>
                  <p:par>
                    <p:cTn id="140" fill="hold"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5" nodeType="interactiveSeq" fill="hold">
                <p:childTnLst>
                  <p:par>
                    <p:cTn id="146" fill="hold"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1" nodeType="interactiveSeq" fill="hold">
                <p:childTnLst>
                  <p:par>
                    <p:cTn id="152" fill="hold"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7" nodeType="interactiveSeq" fill="hold">
                <p:childTnLst>
                  <p:par>
                    <p:cTn id="158" fill="hold"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3" nodeType="interactiveSeq" fill="hold">
                <p:childTnLst>
                  <p:par>
                    <p:cTn id="164" fill="hold"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48428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 доме 12 чашек и 9 блюдечек. Дети разбили половину чашек 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7 блюдечек. Сколько чашек осталось без блюдече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27960" y="61437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4842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У старшего брата 2 конфеты, а у младшего 12 конфет. Сколько конфет должен отнять старший у младшего, чтобы справедливость восторжествовала, и между братьями наступило равенств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9440" y="7142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огда младенца Кузю поцарапала кошка, он орал 5 мин, когда его укусила оса, он орал на 3мин больше, но когда собственная мать набросилась на него и начала мыть с мылом Кузя орал в 2 раза дольше, чем после укуса осы. Мама мыла Кузю 11 минут. Сколько минут орал уже вымытый Кузя?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06840" y="59364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8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981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дин мальчик охотился в кухне на тараканов и убил пятерых, а ранил в три раза больше. Трех тараканов мальчик ранил смертельно и они погибли от ран, а остальные тараканы выздоровели, но обиделись на мальчика и навсегда ушли к соседям. Сколько тараканов ушло к соседям навсегд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7080" y="596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Baskerville Win95BT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>Женя</dc:creator>
  <dc:description/>
  <dc:language>en-US</dc:language>
  <cp:lastModifiedBy>User</cp:lastModifiedBy>
  <dcterms:modified xsi:type="dcterms:W3CDTF">2003-12-31T18:20:08Z</dcterms:modified>
  <cp:revision>52</cp:revision>
  <dc:subject/>
  <dc:title>Слайд 1</dc:title>
</cp:coreProperties>
</file>