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9AF-DF10-4454-B984-345B4CDB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71C-4577-4671-B263-92F52DA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D9E-905B-4209-84E4-467F45C5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6404-5767-4C9B-85A9-2E0C510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959F-779F-413A-A4CB-8976D0C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4F984-18C0-4D27-B60D-91B5FC26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38B43-ED36-41B0-9A96-EEBCC02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808C8-00F6-4927-BE81-F9B362E3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0FC2-E7BF-4609-AEDF-A4840798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8B73B-E11D-44F6-833C-E16A39A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B7174-4C42-45C4-A2CD-2EA6CB1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14E-833F-4065-B81B-A015377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83498-B9C6-493D-A850-CD61099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29B69-94E7-4415-A0FF-DCC808A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E17B3-9006-4DF6-911D-408BB800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29EE-0703-4B36-A3D2-28B77247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8E38B-CA29-49F5-A0CB-7FDE246B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53D-E17C-482D-93AE-363D9F3A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0F5-DBDA-41C3-86AC-A129AEDF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CB0-C48B-43BC-BEBD-FD18FD3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9E6-8582-4876-A524-B46B1BE8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AE2-4FC2-4847-8A3F-8E4CDCC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B1E-100E-4922-A17E-0DC4731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5AE-501F-4F65-BD65-D34A0629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4C0-0FA9-4E03-B482-E87D6CC3B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747-AE56-4CB7-9949-DBCE2A7E0C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арихи -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әдәби конференц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ема: Туган ягым </a:t>
            </a:r>
            <a:r>
              <a:rPr b="1" lang="tt-RU" sz="5400" spc="-1" strike="noStrike">
                <a:solidFill>
                  <a:srgbClr val="ffffff"/>
                </a:solidFill>
                <a:latin typeface="Tahoma"/>
              </a:rPr>
              <a:t>- Әлки төбәг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М.Ш.Шәймиев  әлкилеләр турын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Әлкилеләр – булдыклы, эшчән халы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республика йөген төпкә җигелеп тартыша торган халык. Ул яхшы тормышка ла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Туган ягың - Әлки турында беләсеңм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1.Районның гербы нәрсә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2. Районның бүгенге җитәкчесе к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3.Безнең районда нинди газета чыг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4. “ Әлкием, әллием, бәллием” шигыренең авторы к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5. Чирмешән, Ык, Актай. Бу елгаларның кайсысы безнең район аша акмы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6. Безнең район оешуга ничә ел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7. Көек, Күгеш,Әнҗерә. Бу авылларның кайсысы безнең районда урнашкан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8. Нинди пункт район үзәге булып тор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9. “Әлки” атамасы кем исеме белән бәйл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10.Карга авылының борынгы беренче исеме нинд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Җавапларыңны тикшер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1. АК атлы җайд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2. Ф.М. Дәүләтш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3. “ Әлки хәбәрләре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4. Н. Дәү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5. Ы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6. 80 е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7. Әнҗер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8. Базарлы Мат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9. Әлкәй Алкеш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10. Ахт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tt-RU" sz="6000" spc="-1" strike="noStrike">
                <a:solidFill>
                  <a:srgbClr val="ffffff"/>
                </a:solidFill>
                <a:latin typeface="Tahoma"/>
              </a:rPr>
              <a:t>Әлки җире – изге җир...”</a:t>
            </a:r>
            <a:br>
              <a:rPr sz="6000"/>
            </a:b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4005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tt-RU" sz="4000" spc="-1" strike="noStrike">
                <a:solidFill>
                  <a:srgbClr val="ffffff"/>
                </a:solidFill>
                <a:latin typeface="Tahoma"/>
              </a:rPr>
              <a:t>Бикә  Рәхимова.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Дәрес конфере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ияне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ң көн тәртиб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1. “Әлки” атамасының килеп чыгыш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2. Әлки төбәгенең иң борынгы тарих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3. Әлки ягы Болгар ханлыгы чорын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4. Алтын Урда вакытында Әлки җ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5. Туган ягыбыз рус хакимнәре кулында ча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6. Районның бүгенге хә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7. Җуелган авылл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8. Районыбыз горурлыгы булган сәнг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ь кешел</a:t>
            </a:r>
            <a:r>
              <a:rPr b="0" lang="tt-RU" sz="2800" spc="-1" strike="noStrike">
                <a:solidFill>
                  <a:srgbClr val="ffffff"/>
                </a:solidFill>
                <a:latin typeface="Tahoma"/>
              </a:rPr>
              <a:t>ә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Җуелган авыллар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1. Белозер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2. Петров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3. Якимово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стр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4. Старосе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Карак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ү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6.Александр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7.Консы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8. Красная ре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9. Болх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10.Батаг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Районыбыз символла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Флагыбы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news_42915"/>
          <p:cNvPicPr/>
          <p:nvPr/>
        </p:nvPicPr>
        <p:blipFill>
          <a:blip r:embed="rId1"/>
          <a:stretch/>
        </p:blipFill>
        <p:spPr>
          <a:xfrm>
            <a:off x="1643040" y="2643120"/>
            <a:ext cx="54500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Районыбыз символла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Гер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gerb"/>
          <p:cNvPicPr/>
          <p:nvPr/>
        </p:nvPicPr>
        <p:blipFill>
          <a:blip r:embed="rId1"/>
          <a:stretch/>
        </p:blipFill>
        <p:spPr>
          <a:xfrm>
            <a:off x="2143080" y="2133720"/>
            <a:ext cx="5092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Районыбызның бүгенге җитәкчес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Дәүләтшин Фердинант Мидхәт 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photo_57"/>
          <p:cNvPicPr/>
          <p:nvPr/>
        </p:nvPicPr>
        <p:blipFill>
          <a:blip r:embed="rId1"/>
          <a:stretch/>
        </p:blipFill>
        <p:spPr>
          <a:xfrm>
            <a:off x="2714760" y="171468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Әлкием, әллием, бәллием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ем,әллием,бәлли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м балачак бишег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Күңелдә мәңгелек исле гөл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Йөрәктә яши лә исеме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ем,әллием,бәллие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 таң белән уятты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змышым бу җирдә башлан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ин мине дө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ь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га озаттың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нкәем нан биргән кулы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у биргән Чирмешән елга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ктырак,җылырак шикел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нең үзенең кояш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Китсәм дә мин тагын каяды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Әлкине сагынып уйлармы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Гафу ит,туган як,улың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09160" indent="-20916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Яңадан кайтмаса юлларым.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Районыбызның танылган шәхеслә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Нәби Дәү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Шамил Маннап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Бикә Рәхим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Фаяз Дун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Фатыйх Сәйфи-Казан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Мирсәет Сөнгатул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Исламия Мәхмүт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Рузия Мотыйгулл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Резедә Төхвәтуллина һ.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7:50:54Z</dcterms:created>
  <dc:creator>Рашит</dc:creator>
  <dc:description/>
  <dc:language>en-US</dc:language>
  <cp:lastModifiedBy>Равия</cp:lastModifiedBy>
  <dcterms:modified xsi:type="dcterms:W3CDTF">2011-12-12T17:31:33Z</dcterms:modified>
  <cp:revision>9</cp:revision>
  <dc:subject/>
  <dc:title>Тарихи - әдәби конференция </dc:title>
</cp:coreProperties>
</file>