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73C-6984-4E55-B689-523B4402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998-5C65-4AA8-B4A9-8BCBFAEB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904-9D86-4E4A-BC1B-4DDCEDF5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8CA-AFB4-45E0-A0AB-33342FF0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98683-3033-43AD-9805-2017AC49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2B7FB-40D3-4A43-A028-6DE9EE3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966E6-9CD4-4FDE-9009-C12BD392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59616-A81E-4151-BADB-BE948C48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3E721-C478-4BBA-915D-F276C307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4A33C-CC5F-4882-A4F0-B49EBC57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F2BE6-3055-4064-95A1-224F9F41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C2E-4F99-40E4-A2FB-B9A8DC4C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09E9C-C9B9-456E-9695-A3391AD3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4AA43-D4FA-4154-A27A-03EA8FD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9B93C-4644-4A3C-A419-44EAE8D2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693AB-6C7A-429A-A4CF-A1AFE3CB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24A36-0AB1-4D18-8650-B29E42CB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A70-57ED-4D9E-A740-04DB288D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A9E-0A3D-4630-BE34-977E44D6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296-50A2-4093-9C1B-3E2D7B3B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315-1EDB-4A10-8ED5-B175F86D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E8A-4DE0-4156-8337-BB3ECE6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EE8-7F2A-4397-9ACA-7E2AC5A3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C5F-806F-48AD-8315-11DBC01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C467-1755-4B94-A9C9-D9851FD5A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29C4-5839-431C-862F-23DC0485CE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арихи - 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әдәби конференц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Тема: Туган ягым </a:t>
            </a:r>
            <a:r>
              <a:rPr b="1" lang="tt-RU" sz="5400" spc="-1" strike="noStrike">
                <a:solidFill>
                  <a:srgbClr val="ffffff"/>
                </a:solidFill>
                <a:latin typeface="Tahoma"/>
              </a:rPr>
              <a:t>- Әлки төбәг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М.Ш.Шәймиев  әлкилеләр турын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Әлкилеләр – булдыклы, эшчән халы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республика йөген төпкә җигелеп тартыша торган халык. Ул яхшы тормышка ла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Туган ягың - Әлки турында беләсеңм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1.Районның гербы нәрсә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2. Районның бүгенге җитәкчесе ке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3.Безнең районда нинди газета чыг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4. “ Әлкием, әллием, бәллием” шигыренең авторы ке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5. Чирмешән, Ык, Актай. Бу елгаларның кайсысы безнең район аша акмы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6. Безнең район оешуга ничә ел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7. Көек, Күгеш,Әнҗерә. Бу авылларның кайсысы безнең районда урнашкан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8. Нинди пункт район үзәге булып тор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9. “Әлки” атамасы кем исеме белән бәйл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10.Карга авылының борынгы беренче исеме нинд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Җавапларыңны тикшер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1. АК атлы җайд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2. Ф.М. Дәүләтш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3. “ Әлки хәбәрләре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4. Н. Дәү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5. Ы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6. 80 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7. Әнҗер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8. Базарлы Мат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9. Әлкәй Алкеш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10. Ахт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t-RU" sz="6000" spc="-1" strike="noStrike">
                <a:solidFill>
                  <a:srgbClr val="ffffff"/>
                </a:solidFill>
                <a:latin typeface="Tahoma"/>
              </a:rPr>
              <a:t>Әлки җире – изге җир...”</a:t>
            </a:r>
            <a:br>
              <a:rPr sz="6000"/>
            </a:b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400500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tt-RU" sz="4000" spc="-1" strike="noStrike">
                <a:solidFill>
                  <a:srgbClr val="ffffff"/>
                </a:solidFill>
                <a:latin typeface="Tahoma"/>
              </a:rPr>
              <a:t>Бикә  Рәхимова.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Дәрес конферен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ияне</a:t>
            </a: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ң көн тәртиб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1. “Әлки” атамасының килеп чыгыш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2. Әлки төбәгенең иң борынгы тарих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3. Әлки ягы Болгар ханлыгы чорын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4. Алтын Урда вакытында Әлки җи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5. Туган ягыбыз рус хакимнәре кулында ча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6. Районның бүгенге хә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7. Җуелган авылл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8. Районыбыз горурлыгы булган сәнга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ь кешел</a:t>
            </a: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әр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Җуелган авыллар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1. Белозер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2. Петров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3. Якимово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стрел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4. Старосе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ь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Карак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ү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6.Александров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7.Консы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8. Красная ре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9. Болхов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10.Батаг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Районыбыз символлар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Флагыбы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news_42915"/>
          <p:cNvPicPr/>
          <p:nvPr/>
        </p:nvPicPr>
        <p:blipFill>
          <a:blip r:embed="rId1"/>
          <a:stretch/>
        </p:blipFill>
        <p:spPr>
          <a:xfrm>
            <a:off x="1643040" y="2643120"/>
            <a:ext cx="54500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Районыбыз символлар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18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Гер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gerb"/>
          <p:cNvPicPr/>
          <p:nvPr/>
        </p:nvPicPr>
        <p:blipFill>
          <a:blip r:embed="rId1"/>
          <a:stretch/>
        </p:blipFill>
        <p:spPr>
          <a:xfrm>
            <a:off x="2143080" y="2133720"/>
            <a:ext cx="5092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Районыбызның бүгенге җитәкчес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Дәүләтшин Фердинант Мидхәт у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photo_57"/>
          <p:cNvPicPr/>
          <p:nvPr/>
        </p:nvPicPr>
        <p:blipFill>
          <a:blip r:embed="rId1"/>
          <a:stretch/>
        </p:blipFill>
        <p:spPr>
          <a:xfrm>
            <a:off x="2714760" y="1714680"/>
            <a:ext cx="3357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Әлкием, әллием, бәллием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лкием,әллием,бәлли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ин минем балачак бишег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Күңелдә мәңгелек исле гөл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Йөрәктә яши лә исемең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лкием,әллием,бәлли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ин мине таң белән уяттың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Язмышым бу җирдә башланд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ин мине дө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ь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яга озаттың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нкәем нан биргән кулы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у биргән Чирмешән елгас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Яктырак,җылырак шикел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лкинең үзенең кояш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Китсәм дә мин тагын каядыр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лкине сагынып уйлармы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Гафу ит,туган як,улыңн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Яңадан кайтмаса юлларым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Районыбызның танылган шәхесләр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Нәби Дәү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Шамил Маннап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Бикә Рәхим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Фаяз Дуна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Фатыйх Сәйфи-Казан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Мирсәет Сөнгатулл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Исламия Мәхмүт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Рузия Мотыйгул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Резедә Төхвәтуллина һ.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7:50:54Z</dcterms:created>
  <dc:creator>Рашит</dc:creator>
  <dc:description/>
  <dc:language>en-US</dc:language>
  <cp:lastModifiedBy>Равия</cp:lastModifiedBy>
  <dcterms:modified xsi:type="dcterms:W3CDTF">2011-12-12T17:31:33Z</dcterms:modified>
  <cp:revision>9</cp:revision>
  <dc:subject/>
  <dc:title>Тарихи - әдәби конференция </dc:title>
</cp:coreProperties>
</file>