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1A2E-19F5-4A5A-BA7E-6906D204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94C5-7A5E-4A6C-9AA3-249B111D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B3DF-469F-43B4-A814-F2E90C54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8496-23DD-48C6-A327-DE01DB91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E976-3895-44B5-ABE1-89955D08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3C60-77BA-4604-9B51-3CF48F54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3E98-57C8-4AB3-8600-9FD55300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972C-CDC9-490D-956A-F2E979C0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451D-F749-40F2-901C-56771090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CB7D-28AE-49AC-B27C-F26776DD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8175-1AB2-46FD-B546-290D7435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68E-5E11-4B02-B143-066D5DC9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C84B-682E-4D73-A815-F28344C4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9D14-33D9-4CB0-B202-FF435BE9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6A66-E837-4C76-9A29-7106B02F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574D-3BC4-49D6-BF4C-F35B5145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14F7-3ADC-4EBF-844B-36C5449F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519-121D-461C-93F5-E169CCA6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4B82-3D53-4DBE-8939-C3F8A7F1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40F1-9BD5-4ABA-8F96-B4662FD5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115E-BAA4-4F20-8481-8E9F90E3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EDE-A0BC-475D-B2B6-444B1FEF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FF1-6D18-4FDE-A87E-6A6705FE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B32-2505-4384-8DA8-DA6B3739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D4CC-30C7-4BE1-A75E-97E2134CAFB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EDFF-C6DE-4836-B82C-9B52A16CA67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Garamond"/>
              </a:rPr>
              <a:t>Государственное дошкольное образовательное учреждение детский сад комбинированного вида № 55</a:t>
            </a:r>
            <a:br>
              <a:rPr sz="2000"/>
            </a:br>
            <a:r>
              <a:rPr b="1" lang="en-US" sz="2000" spc="-1" strike="noStrike">
                <a:solidFill>
                  <a:srgbClr val="99cc00"/>
                </a:solidFill>
                <a:latin typeface="Garamond"/>
              </a:rPr>
              <a:t>Колпинского района Санкт-Петербурга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6600"/>
                </a:solidFill>
                <a:latin typeface="Verdana"/>
              </a:rPr>
              <a:t>Технолог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6600"/>
                </a:solidFill>
                <a:latin typeface="Verdana"/>
              </a:rPr>
              <a:t>«Введение дошкольник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6600"/>
                </a:solidFill>
                <a:latin typeface="Verdana"/>
              </a:rPr>
              <a:t>в мир искусства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999900"/>
                </a:solidFill>
                <a:latin typeface="Verdana"/>
              </a:rPr>
              <a:t>Воспитатель высшей квалификационной категории</a:t>
            </a:r>
            <a:r>
              <a:rPr b="1" lang="ru-RU" sz="1700" spc="-1" strike="noStrike">
                <a:solidFill>
                  <a:srgbClr val="999900"/>
                </a:solidFill>
                <a:latin typeface="Verdana"/>
              </a:rPr>
              <a:t> Куликова Елена Николаевн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Данная технология создана на основ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музейно-педагогической программ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«Здравствуй музей!»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Масловой С.Г., Соколовой Н.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СПб, апрель 20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Garamond"/>
              </a:rPr>
              <a:t>Результатив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362320" y="1676520"/>
          <a:ext cx="6416640" cy="16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76520"/>
                    <a:ext cx="641664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Замысе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Воплощ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Восприят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предме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искус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438280" y="3429000"/>
          <a:ext cx="6189840" cy="16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429000"/>
                    <a:ext cx="61898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209680" y="5113440"/>
          <a:ext cx="6553440" cy="174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5113440"/>
                    <a:ext cx="6553440" cy="17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Garamond"/>
              </a:rPr>
              <a:t>Выво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9504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Внедрение в образовательный процесс данной технологии способствуе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интеллектуально-личностному развитию ребёнка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раскрытию его творческого потенциал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воспитанию нравственных качеств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развитию эмоционально-волевой сферы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формированию изобразительных навыков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помогает формированию понятия «история» через приобщение к музейной среде и побуждает к изучению отечественной истор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Цель использования технолог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Интеллектуально-личностное развитие ребён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Раскрытие творческого потенциала де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Формирование изобразительных навы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2" descr="C:\Users\Любовь\Pictures\ВСЕ МОИ ФОТО\дети интернет\m_2321_0108[1].jpg"/>
          <p:cNvPicPr/>
          <p:nvPr/>
        </p:nvPicPr>
        <p:blipFill>
          <a:blip r:embed="rId1"/>
          <a:stretch/>
        </p:blipFill>
        <p:spPr>
          <a:xfrm>
            <a:off x="5486400" y="1981080"/>
            <a:ext cx="2717640" cy="853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Реализуемые группы задач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00240" y="167616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эмоционально-личностной сферы ребёнка в процессе восприятия произведений искусст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познавательных функций: память, внимание, мышление. Реч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Сенсорное развит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Приобщение детей к миру искусства через знакомство с предметами изобразительного искусства в рамках программы «Здравствуй, музей!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Использование предметов изобразительного искусства как стимулятора изобразительной деятельности дет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344680"/>
            <a:ext cx="403848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9328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Задачи музейной педагогик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визуальной грамотности: формирование навыков смотрения, детального рассмотрения, выделение главного в изображении, обобщение увиденног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Знакомство с некоторыми элементами языка изобразительного искусства, с видами и жанр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Приобщение к музейной среде, воспитание бережного отношения к памятник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творческих способност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Формирование навыков взаимного общения по поводу искусст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175360" y="1644480"/>
            <a:ext cx="2985840" cy="2327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05520" y="4191120"/>
            <a:ext cx="3124080" cy="23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Задачи музейной педагогик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1936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Воспитание нравственных качеств личности: доброты, отзывчивости, способности к сопереживани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психофизических качеств: наблюдательности, умения сосредоточиваться, формирование произвольного внимания, умение ориентироваться в пространстве и временных понятиях, развитие воображения, эмоциональной отзывчивости, сенсорных способностей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Знакомство с бытованием некоторых народных промыслов, формирование понятия «история» через произведения искусства, побуждение к изучению отечественной истор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2120" y="4248000"/>
            <a:ext cx="3047760" cy="22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Этапы развития технолог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62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I </a:t>
            </a:r>
            <a:r>
              <a:rPr b="1" lang="ru-RU" sz="1400" spc="-1" strike="noStrike">
                <a:solidFill>
                  <a:srgbClr val="666600"/>
                </a:solidFill>
                <a:latin typeface="Verdana"/>
              </a:rPr>
              <a:t>этап: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Внедрение музейно-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педагогической программы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«Здравствуй, музей!»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Масловой С.Г. и Соколовой Н.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0600" y="159984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II </a:t>
            </a:r>
            <a:r>
              <a:rPr b="1" lang="ru-RU" sz="1400" spc="-1" strike="noStrike">
                <a:solidFill>
                  <a:srgbClr val="666600"/>
                </a:solidFill>
                <a:latin typeface="Verdana"/>
              </a:rPr>
              <a:t>этап: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  Развитие технологии за  сче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Расширения сферы влияния учебного материала на все стороны развития ребён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Разработки системы планирования воспитательно-образовательной работы, касающейся не только восприятия предметов искусства, но и собственно изобразительной деятель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Наблюдение за динамикой развития детей и коррекция в построении работ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Анализ результативности на основе разработанных критериев усвоения программного материа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Введение родителей в образовательное пространст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1828800" cy="1376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95280" y="48006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743200" y="3124080"/>
            <a:ext cx="1752480" cy="13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Предметно-развивающая сред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73528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057400"/>
            <a:ext cx="198108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Материал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фор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о предм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2057400"/>
            <a:ext cx="2362320" cy="1752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Материал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ознавате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феры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енсо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2057400"/>
            <a:ext cx="2133360" cy="1523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Материал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изобразите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85640" y="1447920"/>
            <a:ext cx="19810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1447920"/>
            <a:ext cx="2210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152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4495680"/>
            <a:ext cx="2590920" cy="1600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Репродукции, слайд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скульптуры мал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форм, керамик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ТС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800600"/>
            <a:ext cx="2514600" cy="1828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Дидактические игр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 упражне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ллюстрации, детск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 специальная литера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4724280"/>
            <a:ext cx="2514600" cy="1295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зобразит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материал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нструм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676160" y="37339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67480" y="36576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Структура построения работы с использованием технолог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495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ривлечение внимания ребёнка к предмету искусства (объект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одготовка сенсорного аппарата для восприятия особенностей объек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одготовка эмоциональной сфер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Выбор приемов для активизации речевой активности детей в процессе восприят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Создание проблемной ситуации или поисковой задач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Организация выставок в групп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Рассматривание объекта с выделением средств художественной выразитель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Выбор вариантов погружения в объект (живопись, графика), действия с предмет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048120" cy="2297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4120" y="41911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Структура построения работы с использованием технолог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4114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Варианты использования музыкального и литературного материала, работа по развитию ассоциативного мыш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оездка в музей (старший возраст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Организация деятельности по отражению впечатлений об увиденном: рассказы детей, записанные с помощью родителей; изобразительная деятель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Организация выставок детских рабо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ромежуточные наблюдения за проявлением детей на каждом этапе с целью коррекции педагогического процесс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Ежегодный анализ динамики развития дет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2895480" cy="217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2971800" cy="22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сения</cp:lastModifiedBy>
  <dcterms:modified xsi:type="dcterms:W3CDTF">2011-12-14T08:57:0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