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F61-7A90-47DA-BB1E-769F8F67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BB4-4D81-43C0-B0B7-5974541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A22-9FF5-4039-9BAA-5920B749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624-46A8-422D-A589-919F75CE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FEA-9616-4DF7-AF9C-0CA2DFAD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241-D918-4899-B9D1-4A2DEDF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7E5-8730-49BF-AA3E-262BF8E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8C8-3E04-4FCA-BBDB-769C8794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DF1-9D16-4EF3-BD88-714E2C2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71D-B138-4A60-ADF3-58E6F0A5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7536-DD1F-4E57-BD48-65C55CC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C07-A9F3-4556-8070-3D5806D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EDC-116B-4EAE-84E9-671A3F0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CB16-52F8-471E-843B-506F49B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5174-8001-4D66-9912-E23E0EA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7CBE-5954-4E41-8A76-9A858FB6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35B0-15D2-49F6-AD20-0078AE25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7CD-FE98-4EF4-8A30-4EBE9E9A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BC8-710D-4655-B297-9A639C4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25A-D670-450A-8644-1733BC9F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7A1-AB55-4245-916B-5FE8058B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0E2-E70D-4AC9-AD98-3672279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BDE-2226-4226-98DA-8DE3703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321-7153-4F06-9038-1C32206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113-DB61-4B04-98E3-2F393807DA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52D1-6718-41AB-88A6-971C9C7C28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Государственное дошкольное образовательное учреждение детский сад комбинированного вида № 55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Garamond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6600"/>
                </a:solidFill>
                <a:latin typeface="Verdana"/>
              </a:rPr>
              <a:t>Технолог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«Введение дошкольни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66600"/>
                </a:solidFill>
                <a:latin typeface="Verdana"/>
              </a:rPr>
              <a:t>в мир искусства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9900"/>
                </a:solidFill>
                <a:latin typeface="Verdana"/>
              </a:rPr>
              <a:t>Воспитатель высшей квалификационной категории</a:t>
            </a:r>
            <a:r>
              <a:rPr b="1" lang="ru-RU" sz="1700" spc="-1" strike="noStrike">
                <a:solidFill>
                  <a:srgbClr val="999900"/>
                </a:solidFill>
                <a:latin typeface="Verdana"/>
              </a:rPr>
              <a:t> Куликова Елена Николаевн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Данная технология создана на основ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узейно-педагогической 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«Здравствуй музей!»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Масловой С.Г., Соколовой Н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Verdana"/>
              </a:rPr>
              <a:t>СПб, апрель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Garamond"/>
              </a:rPr>
              <a:t>Результатив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62320" y="1676520"/>
          <a:ext cx="641664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6416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Замы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пл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Восприят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предме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скус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3429000"/>
          <a:ext cx="6189840" cy="16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429000"/>
                    <a:ext cx="6189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209680" y="5113440"/>
          <a:ext cx="6553440" cy="17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113440"/>
                    <a:ext cx="655344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504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Внедрение в образовательный процесс данной технологии способству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интеллектуально-личностному развитию ребёнк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скрытию его творческого потенциал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воспитанию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развитию эмоционально-волевой сферы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формированию изобразительных навык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Verdana"/>
              </a:rPr>
              <a:t>помогает формированию понятия «история» через приобщение к музейной среде и побуждает к изучению отечественной истор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Цель использован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Интеллектуально-личностное развитие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Раскрытие творческого потенциала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00"/>
                </a:solidFill>
                <a:latin typeface="Verdana"/>
              </a:rPr>
              <a:t>Формирование изобразительных навы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" descr="C:\Users\Любовь\Pictures\ВСЕ МОИ ФОТО\дети интернет\m_2321_0108[1].jpg"/>
          <p:cNvPicPr/>
          <p:nvPr/>
        </p:nvPicPr>
        <p:blipFill>
          <a:blip r:embed="rId1"/>
          <a:stretch/>
        </p:blipFill>
        <p:spPr>
          <a:xfrm>
            <a:off x="5486400" y="1981080"/>
            <a:ext cx="2717640" cy="853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Реализуемые группы задач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эмоционально-личностной сферы ребёнка в процессе восприятия произведений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ознавательных функций: память, внимание, мышление. 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Сенсорное развит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детей к миру искусства через знакомство с предметами изобразительного искусства в рамках программы «Здравствуй, музей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Использование предметов изобразительного искусства как стимулятора изобразительной деятельности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4468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932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визуальной грамотности: формирование навыков смотрения, детального рассмотрения, выделение главного в изображении, обобщение увид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некоторыми элементами языка изобразительного искусства, с видами и жанр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Приобщение к музейной среде, воспитание бережного отношения к памятни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творческих способнос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Формирование навыков взаимного общения по поводу искус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75360" y="1644480"/>
            <a:ext cx="2985840" cy="232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2408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Задачи музейной педагоги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1936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Воспитание нравственных качеств личности: доброты, отзывчивости, способности к сопережи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Развитие психофизических качеств: наблюдательности, умения сосредоточиваться, формирование произвольного внимания, умение ориентироваться в пространстве и временных понятиях, развитие воображения, эмоциональной отзывчивости, сенсорных способностей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00"/>
                </a:solidFill>
                <a:latin typeface="Verdana"/>
              </a:rPr>
              <a:t>Знакомство с бытованием некоторых народных промыслов, формирование понятия «история» через произведения искусства, побуждение к изучению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248000"/>
            <a:ext cx="304776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Этапы развития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6216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Внедрение музейно-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педагогической программ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«Здравствуй, музей!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Масловой С.Г. и Соколовой Н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II </a:t>
            </a:r>
            <a:r>
              <a:rPr b="1" lang="ru-RU" sz="1400" spc="-1" strike="noStrike">
                <a:solidFill>
                  <a:srgbClr val="666600"/>
                </a:solidFill>
                <a:latin typeface="Verdana"/>
              </a:rPr>
              <a:t>этап: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  Развитие технологии за  сч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сширения сферы влияния учебного материала на все стороны развития ребён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Разработки системы планирования воспитательно-образовательной работы, касающейся не только восприятия предметов искусства, но и собственно изобразительной дея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Наблюдение за динамикой развития детей и коррекция в построении рабо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Анализ результативности на основе разработанных критериев усвоения программного матери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Введение родителей в образователь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1828800" cy="13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17524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Предметно-развивающая сред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352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198108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 предм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057400"/>
            <a:ext cx="2362320" cy="1752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знав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фер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енсо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2057400"/>
            <a:ext cx="213336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атериал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зи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85640" y="1447920"/>
            <a:ext cx="1981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1447920"/>
            <a:ext cx="2210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95680"/>
            <a:ext cx="2590920" cy="1600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Репродукции, слай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скульптуры ма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форм, керамик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Т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800600"/>
            <a:ext cx="251460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Дидактически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упражне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ллюстрации, дет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 специальная 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724280"/>
            <a:ext cx="251460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зобраз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материа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нстр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7616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ивлечение внимания ребёнка к предмету искусства (объек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сенсорного аппарата для восприятия особенностей объек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дготовка эмоциональной сфе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приемов для активизации речевой активности детей в процессе восприят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Создание проблемной ситуации или поисковой задач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в групп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Рассматривание объекта с выделением средств художественной выразитель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ыбор вариантов погружения в объект (живопись, графика), действия с предме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048120" cy="2297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Garamond"/>
              </a:rPr>
              <a:t>Структура построения работы с использованием технологи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Варианты использования музыкального и литературного материала, работа по развитию ассоциативного мыш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оездка в музей (старший возраст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деятельности по отражению впечатлений об увиденном: рассказы детей, записанные с помощью родителей; изобразительная 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Организация выставок детских раб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Промежуточные наблюдения за проявлением детей на каждом этапе с целью коррекции педагогического проце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00"/>
                </a:solidFill>
                <a:latin typeface="Verdana"/>
              </a:rPr>
              <a:t>Ежегодный анализ динамики развития дет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сения</cp:lastModifiedBy>
  <dcterms:modified xsi:type="dcterms:W3CDTF">2011-12-14T08:57:0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