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29.wmf" ContentType="image/x-wmf"/>
  <Override PartName="/ppt/media/image7.jpeg" ContentType="image/jpeg"/>
  <Override PartName="/ppt/media/image20.png" ContentType="image/png"/>
  <Override PartName="/ppt/media/image8.png" ContentType="image/png"/>
  <Override PartName="/ppt/media/image14.jpeg" ContentType="image/jpeg"/>
  <Override PartName="/ppt/media/image28.gif" ContentType="image/gif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22.jpeg" ContentType="image/jpeg"/>
  <Override PartName="/ppt/media/image1.jpeg" ContentType="image/jpeg"/>
  <Override PartName="/ppt/media/image15.png" ContentType="image/png"/>
  <Override PartName="/ppt/media/image3.jpeg" ContentType="image/jpeg"/>
  <Override PartName="/ppt/media/image24.jpeg" ContentType="image/jpeg"/>
  <Override PartName="/ppt/media/image2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ABAE-8935-4F9A-AA11-E2428422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0C56-09AE-41B2-A9C4-BC9CDBE8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4F16-F05F-4A24-8542-45C614CBD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2BB5-D261-4D1D-ABE8-EB8586625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3217-EFA2-472B-A663-6277CCBA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4D3C-8E57-4EF0-8EFE-76C26833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E95A-4FF8-4B7F-A7D4-91B39FFB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4C5F-E6AD-44AB-A404-1D345BE0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2A6B-7025-4062-A1D7-BC024BDF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6E8F-CD8C-449D-994D-F90BE84D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D74B-4E59-43C1-8A82-D9E95AE9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DBA3-6B43-4E61-B16D-655A4F33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73AF-8D76-4D84-9B70-19F3371B9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7.png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9.wmf"/><Relationship Id="rId3" Type="http://schemas.openxmlformats.org/officeDocument/2006/relationships/hyperlink" Target="http://www.google.kz/imgres?q=&#1082;&#1072;&#1088;&#1090;&#1080;&#1085;&#1082;&#1072;+&#1084;&#1086;&#1081;&#1076;&#1086;&#1076;&#1099;&#1088;&#1072;&amp;hl=ru&amp;sa=X&amp;biw=1024&amp;bih=677&amp;tbm=isch&amp;prmd=imvns&amp;tbnid=s8OtqMWJuOZiB" TargetMode="External"/><Relationship Id="rId4" Type="http://schemas.openxmlformats.org/officeDocument/2006/relationships/hyperlink" Target="http://www.google.kz/imgres?q=&#1082;&#1072;&#1088;&#1090;&#1080;&#1085;&#1082;&#1072;+&#1084;&#1086;&#1081;&#1076;&#1086;&#1076;&#1099;&#1088;&#1072;&amp;hl=ru&amp;sa=X&amp;biw=1024&amp;bih=677&amp;tbm=isch&amp;prmd=imvns&amp;tbnid=s8OtqMWJuOZiB" TargetMode="External"/><Relationship Id="rId5" Type="http://schemas.openxmlformats.org/officeDocument/2006/relationships/hyperlink" Target="http://www.google.kz/imgres?q=&#1082;&#1072;&#1088;&#1090;&#1080;&#1085;&#1082;&#1072;+&#1084;&#1086;&#1081;&#1076;&#1086;&#1076;&#1099;&#1088;&#1072;&amp;hl=ru&amp;sa=X&amp;biw=1024&amp;bih=677&amp;tbm=isch&amp;prmd=imvns&amp;tbnid=s8OtqMWJuOZiB" TargetMode="External"/><Relationship Id="rId6" Type="http://schemas.openxmlformats.org/officeDocument/2006/relationships/hyperlink" Target="http://www.google.kz/imgres?q=&#1082;&#1072;&#1088;&#1090;&#1080;&#1085;&#1082;&#1072;+&#1084;&#1086;&#1081;&#1076;&#1086;&#1076;&#1099;&#1088;&#1072;&amp;hl=ru&amp;sa=X&amp;biw=1024&amp;bih=677&amp;tbm=isch&amp;prmd=imvns&amp;tbnid=s8OtqMWJuOZiB" TargetMode="External"/><Relationship Id="rId7" Type="http://schemas.openxmlformats.org/officeDocument/2006/relationships/hyperlink" Target="http://www.google.kz/imgres?q=&#1082;&#1072;&#1088;&#1090;&#1080;&#1085;&#1082;&#1072;+&#1084;&#1086;&#1081;&#1076;&#1086;&#1076;&#1099;&#1088;&#1072;&amp;hl=ru&amp;sa=X&amp;biw=1024&amp;bih=677&amp;tbm=isch&amp;prmd=imvns&amp;tbnid=s8OtqMWJuOZiB" TargetMode="External"/><Relationship Id="rId8" Type="http://schemas.openxmlformats.org/officeDocument/2006/relationships/hyperlink" Target="http://www.google.kz/imgres?q=&#1089;&#1082;&#1072;&#1079;&#1086;&#1095;&#1085;&#1072;&#1103;+&#1082;&#1072;&#1088;&#1090;&#1072;&amp;hl=ru&amp;gbv=2&amp;biw=1024&amp;bih=677&amp;tbm=isch&amp;tbnid=QeCJ-Y7oV1AQoM:&amp;imgrefurl=http://www." TargetMode="External"/><Relationship Id="rId9" Type="http://schemas.openxmlformats.org/officeDocument/2006/relationships/hyperlink" Target="http://www.google.kz/imgres?q=&#1089;&#1082;&#1072;&#1079;&#1086;&#1095;&#1085;&#1072;&#1103;+&#1082;&#1072;&#1088;&#1090;&#1072;&amp;hl=ru&amp;gbv=2&amp;biw=1024&amp;bih=677&amp;tbm=isch&amp;tbnid=QeCJ-Y7oV1AQoM:&amp;imgrefurl=http://www." TargetMode="External"/><Relationship Id="rId10" Type="http://schemas.openxmlformats.org/officeDocument/2006/relationships/hyperlink" Target="http://www.google.kz/imgres?q=&#1089;&#1082;&#1072;&#1079;&#1086;&#1095;&#1085;&#1072;&#1103;+&#1082;&#1072;&#1088;&#1090;&#1072;&amp;hl=ru&amp;gbv=2&amp;biw=1024&amp;bih=677&amp;tbm=isch&amp;tbnid=QeCJ-Y7oV1AQoM:&amp;imgrefurl=http://www." TargetMode="External"/><Relationship Id="rId11" Type="http://schemas.openxmlformats.org/officeDocument/2006/relationships/hyperlink" Target="http://www.google.kz/imgres?q=&#1089;&#1082;&#1072;&#1079;&#1086;&#1095;&#1085;&#1072;&#1103;+&#1082;&#1072;&#1088;&#1090;&#1072;&amp;hl=ru&amp;gbv=2&amp;biw=1024&amp;bih=677&amp;tbm=isch&amp;tbnid=QeCJ-Y7oV1AQoM:&amp;imgrefurl=http://www." TargetMode="External"/><Relationship Id="rId12" Type="http://schemas.openxmlformats.org/officeDocument/2006/relationships/hyperlink" Target="http://www.google.kz/imgres?q=&#1089;&#1082;&#1072;&#1079;&#1086;&#1095;&#1085;&#1072;&#1103;+&#1082;&#1072;&#1088;&#1090;&#1072;&amp;hl=ru&amp;gbv=2&amp;biw=1024&amp;bih=677&amp;tbm=isch&amp;tbnid=QeCJ-Y7oV1AQoM:&amp;imgrefurl=http://www." TargetMode="External"/><Relationship Id="rId13" Type="http://schemas.openxmlformats.org/officeDocument/2006/relationships/hyperlink" Target="http://www.google.kz/imgres?q=&#1089;&#1082;&#1072;&#1079;&#1086;&#1095;&#1085;&#1072;&#1103;+&#1082;&#1072;&#1088;&#1090;&#1072;&amp;hl=ru&amp;gbv=2&amp;biw=1024&amp;bih=677&amp;tbm=isch&amp;tbnid=QeCJ-Y7oV1AQoM:&amp;imgrefurl=http://www." TargetMode="External"/><Relationship Id="rId14" Type="http://schemas.openxmlformats.org/officeDocument/2006/relationships/hyperlink" Target="http://www.google.kz/imgres?q=&#1089;&#1082;&#1072;&#1079;&#1086;&#1095;&#1085;&#1072;&#1103;+&#1082;&#1072;&#1088;&#1090;&#1072;&amp;hl=ru&amp;gbv=2&amp;biw=1024&amp;bih=677&amp;tbm=isch&amp;tbnid=QeCJ-Y7oV1AQoM:&amp;imgrefurl=http://www." TargetMode="External"/><Relationship Id="rId15" Type="http://schemas.openxmlformats.org/officeDocument/2006/relationships/hyperlink" Target="http://www.google.kz/imgres?q=&#1089;&#1082;&#1072;&#1079;&#1086;&#1095;&#1085;&#1072;&#1103;+&#1082;&#1072;&#1088;&#1090;&#1072;&amp;hl=ru&amp;gbv=2&amp;biw=1024&amp;bih=677&amp;tbm=isch&amp;tbnid=QeCJ-Y7oV1AQoM:&amp;imgrefurl=http://www." TargetMode="External"/><Relationship Id="rId16" Type="http://schemas.openxmlformats.org/officeDocument/2006/relationships/hyperlink" Target="http://www.google.kz/imgres?q=&#1075;&#1077;&#1088;&#1086;&#1080;+&#1080;&#1079;+&#1085;&#1077;&#1079;&#1085;&#1072;&#1081;&#1082;&#1080;&amp;num=10&amp;hl=ru&amp;gbv=2&amp;biw=1024&amp;bih=677&amp;tbm=isch&amp;tbnid=4dpQOnCBdSu1SM:&amp;imgrefu" TargetMode="External"/><Relationship Id="rId17" Type="http://schemas.openxmlformats.org/officeDocument/2006/relationships/hyperlink" Target="http://www.google.kz/imgres?q=&#1075;&#1077;&#1088;&#1086;&#1080;+&#1080;&#1079;+&#1085;&#1077;&#1079;&#1085;&#1072;&#1081;&#1082;&#1080;&amp;num=10&amp;hl=ru&amp;gbv=2&amp;biw=1024&amp;bih=677&amp;tbm=isch&amp;tbnid=4dpQOnCBdSu1SM:&amp;imgrefu" TargetMode="External"/><Relationship Id="rId18" Type="http://schemas.openxmlformats.org/officeDocument/2006/relationships/hyperlink" Target="http://www.google.kz/imgres?q=&#1075;&#1077;&#1088;&#1086;&#1080;+&#1080;&#1079;+&#1085;&#1077;&#1079;&#1085;&#1072;&#1081;&#1082;&#1080;&amp;num=10&amp;hl=ru&amp;gbv=2&amp;biw=1024&amp;bih=677&amp;tbm=isch&amp;tbnid=4dpQOnCBdSu1SM:&amp;imgrefu" TargetMode="External"/><Relationship Id="rId19" Type="http://schemas.openxmlformats.org/officeDocument/2006/relationships/hyperlink" Target="http://www.google.kz/imgres?q=&#1075;&#1077;&#1088;&#1086;&#1080;+&#1080;&#1079;+&#1085;&#1077;&#1079;&#1085;&#1072;&#1081;&#1082;&#1080;&amp;num=10&amp;hl=ru&amp;gbv=2&amp;biw=1024&amp;bih=677&amp;tbm=isch&amp;tbnid=4dpQOnCBdSu1SM:&amp;imgrefu" TargetMode="External"/><Relationship Id="rId20" Type="http://schemas.openxmlformats.org/officeDocument/2006/relationships/hyperlink" Target="http://www.google.kz/imgres?q=&#1075;&#1077;&#1088;&#1086;&#1080;+&#1080;&#1079;+&#1085;&#1077;&#1079;&#1085;&#1072;&#1081;&#1082;&#1080;&amp;num=10&amp;hl=ru&amp;gbv=2&amp;biw=1024&amp;bih=677&amp;tbm=isch&amp;tbnid=4dpQOnCBdSu1SM:&amp;imgrefu" TargetMode="External"/><Relationship Id="rId21" Type="http://schemas.openxmlformats.org/officeDocument/2006/relationships/hyperlink" Target="http://www.google.kz/imgres?q=&#1079;&#1085;&#1072;&#1081;&#1082;&#1072;&amp;num=10&amp;hl=ru&amp;gbv=2&amp;biw=1024&amp;bih=677&amp;tbm=isch&amp;tbnid=Bmtor5dGRdy9XM:&amp;imgrefurl=http://www.yarfo" TargetMode="External"/><Relationship Id="rId22" Type="http://schemas.openxmlformats.org/officeDocument/2006/relationships/hyperlink" Target="http://www.google.kz/imgres?q=&#1079;&#1085;&#1072;&#1081;&#1082;&#1072;&amp;num=10&amp;hl=ru&amp;gbv=2&amp;biw=1024&amp;bih=677&amp;tbm=isch&amp;tbnid=Bmtor5dGRdy9XM:&amp;imgrefurl=http://www.yarfo" TargetMode="External"/><Relationship Id="rId23" Type="http://schemas.openxmlformats.org/officeDocument/2006/relationships/hyperlink" Target="http://www.google.kz/imgres?q=&#1079;&#1085;&#1072;&#1081;&#1082;&#1072;&amp;num=10&amp;hl=ru&amp;gbv=2&amp;biw=1024&amp;bih=677&amp;tbm=isch&amp;tbnid=Bmtor5dGRdy9XM:&amp;imgrefurl=http://www.yarfo" TargetMode="External"/><Relationship Id="rId24" Type="http://schemas.openxmlformats.org/officeDocument/2006/relationships/hyperlink" Target="http://www.google.kz/imgres?q=&#1079;&#1085;&#1072;&#1081;&#1082;&#1072;&amp;num=10&amp;hl=ru&amp;gbv=2&amp;biw=1024&amp;bih=677&amp;tbm=isch&amp;tbnid=Bmtor5dGRdy9XM:&amp;imgrefurl=http://www.yarfo" TargetMode="External"/><Relationship Id="rId25" Type="http://schemas.openxmlformats.org/officeDocument/2006/relationships/hyperlink" Target="http://www.google.kz/imgres?q=&#1079;&#1085;&#1072;&#1081;&#1082;&#1072;&amp;num=10&amp;hl=ru&amp;gbv=2&amp;biw=1024&amp;bih=677&amp;tbm=isch&amp;tbnid=Bmtor5dGRdy9XM:&amp;imgrefurl=http://www.yarfo" TargetMode="External"/><Relationship Id="rId26" Type="http://schemas.openxmlformats.org/officeDocument/2006/relationships/hyperlink" Target="http://www.google.kz/imgres?q=&#1079;&#1085;&#1072;&#1081;&#1082;&#1072;&amp;num=10&amp;hl=ru&amp;gbv=2&amp;biw=1024&amp;bih=677&amp;tbm=isch&amp;tbnid=Bmtor5dGRdy9XM:&amp;imgrefurl=http://www.yarfo" TargetMode="External"/><Relationship Id="rId27" Type="http://schemas.openxmlformats.org/officeDocument/2006/relationships/hyperlink" Target="http://www.google.kz/imgres?q=&#1079;&#1085;&#1072;&#1081;&#1082;&#1072;&amp;num=10&amp;hl=ru&amp;gbv=2&amp;biw=1024&amp;bih=677&amp;tbm=isch&amp;tbnid=Bmtor5dGRdy9XM:&amp;imgrefurl=http://www.yarfo" TargetMode="External"/><Relationship Id="rId28" Type="http://schemas.openxmlformats.org/officeDocument/2006/relationships/hyperlink" Target="http://www.google.kz/imgres?q=&#1094;&#1074;&#1077;&#1090;&#1086;&#1095;&#1085;&#1099;&#1081;+&#1075;&#1086;&#1088;&#1086;&#1076;&amp;num=10&amp;hl=ru&amp;gbv=2&amp;biw=1024&amp;bih=677&amp;tbm=isch&amp;tbnid=vRW8GR8K4Sn-LM:&amp;imgrefurl=h" TargetMode="External"/><Relationship Id="rId29" Type="http://schemas.openxmlformats.org/officeDocument/2006/relationships/hyperlink" Target="http://www.google.kz/imgres?q=&#1094;&#1074;&#1077;&#1090;&#1086;&#1095;&#1085;&#1099;&#1081;+&#1075;&#1086;&#1088;&#1086;&#1076;&amp;num=10&amp;hl=ru&amp;gbv=2&amp;biw=1024&amp;bih=677&amp;tbm=isch&amp;tbnid=vRW8GR8K4Sn-LM:&amp;imgrefurl=h" TargetMode="External"/><Relationship Id="rId30" Type="http://schemas.openxmlformats.org/officeDocument/2006/relationships/hyperlink" Target="http://www.google.kz/imgres?q=&#1094;&#1074;&#1077;&#1090;&#1086;&#1095;&#1085;&#1099;&#1081;+&#1075;&#1086;&#1088;&#1086;&#1076;&amp;num=10&amp;hl=ru&amp;gbv=2&amp;biw=1024&amp;bih=677&amp;tbm=isch&amp;tbnid=vRW8GR8K4Sn-LM:&amp;imgrefurl=h" TargetMode="External"/><Relationship Id="rId31" Type="http://schemas.openxmlformats.org/officeDocument/2006/relationships/hyperlink" Target="http://www.google.kz/imgres?q=&#1094;&#1074;&#1077;&#1090;&#1086;&#1095;&#1085;&#1099;&#1081;+&#1075;&#1086;&#1088;&#1086;&#1076;&amp;num=10&amp;hl=ru&amp;gbv=2&amp;biw=1024&amp;bih=677&amp;tbm=isch&amp;tbnid=vRW8GR8K4Sn-LM:&amp;imgrefurl=h" TargetMode="External"/><Relationship Id="rId32" Type="http://schemas.openxmlformats.org/officeDocument/2006/relationships/hyperlink" Target="http://www.google.kz/imgres?q=&#1094;&#1074;&#1077;&#1090;&#1086;&#1095;&#1085;&#1099;&#1081;+&#1075;&#1086;&#1088;&#1086;&#1076;&amp;num=10&amp;hl=ru&amp;gbv=2&amp;biw=1024&amp;bih=677&amp;tbm=isch&amp;tbnid=vRW8GR8K4Sn-LM:&amp;imgrefurl=h" TargetMode="External"/><Relationship Id="rId33" Type="http://schemas.openxmlformats.org/officeDocument/2006/relationships/hyperlink" Target="http://www.google.kz/imgres?q=&#1076;&#1086;&#1082;&#1090;&#1086;&#1088;+&#1052;&#1077;&#1076;&#1091;&#1085;&#1080;&#1094;&#1072;+&#1080;&#1079;+&#1094;&#1074;&#1077;&#1090;&#1086;&#1095;&#1085;&#1086;&#1075;&#1086;+&#1075;&#1086;&#1088;&#1086;&#1076;&#1072;&amp;hl=ru&amp;gbv=2&amp;biw=1024&amp;bih=677&amp;tbm=isch&amp;tbnid=yiFGkiHuNP6YoM:&amp;imgrefurl=http://y" TargetMode="External"/><Relationship Id="rId34" Type="http://schemas.openxmlformats.org/officeDocument/2006/relationships/hyperlink" Target="http://www.google.kz/imgres?q=&#1076;&#1086;&#1082;&#1090;&#1086;&#1088;+&#1052;&#1077;&#1076;&#1091;&#1085;&#1080;&#1094;&#1072;+&#1080;&#1079;+&#1094;&#1074;&#1077;&#1090;&#1086;&#1095;&#1085;&#1086;&#1075;&#1086;+&#1075;&#1086;&#1088;&#1086;&#1076;&#1072;&amp;hl=ru&amp;gbv=2&amp;biw=1024&amp;bih=677&amp;tbm=isch&amp;tbnid=yiFGkiHuNP6YoM:&amp;imgrefurl=http://y" TargetMode="External"/><Relationship Id="rId35" Type="http://schemas.openxmlformats.org/officeDocument/2006/relationships/hyperlink" Target="http://www.google.kz/imgres?q=&#1076;&#1086;&#1082;&#1090;&#1086;&#1088;+&#1052;&#1077;&#1076;&#1091;&#1085;&#1080;&#1094;&#1072;+&#1080;&#1079;+&#1094;&#1074;&#1077;&#1090;&#1086;&#1095;&#1085;&#1086;&#1075;&#1086;+&#1075;&#1086;&#1088;&#1086;&#1076;&#1072;&amp;hl=ru&amp;gbv=2&amp;biw=1024&amp;bih=677&amp;tbm=isch&amp;tbnid=yiFGkiHuNP6YoM:&amp;imgrefurl=http://y" TargetMode="External"/><Relationship Id="rId36" Type="http://schemas.openxmlformats.org/officeDocument/2006/relationships/hyperlink" Target="http://www.google.kz/imgres?q=&#1076;&#1086;&#1082;&#1090;&#1086;&#1088;+&#1052;&#1077;&#1076;&#1091;&#1085;&#1080;&#1094;&#1072;+&#1080;&#1079;+&#1094;&#1074;&#1077;&#1090;&#1086;&#1095;&#1085;&#1086;&#1075;&#1086;+&#1075;&#1086;&#1088;&#1086;&#1076;&#1072;&amp;hl=ru&amp;gbv=2&amp;biw=1024&amp;bih=677&amp;tbm=isch&amp;tbnid=yiFGkiHuNP6YoM:&amp;imgrefurl=http://y" TargetMode="External"/><Relationship Id="rId37" Type="http://schemas.openxmlformats.org/officeDocument/2006/relationships/hyperlink" Target="http://www.google.kz/imgres?q=&#1076;&#1086;&#1082;&#1090;&#1086;&#1088;+&#1052;&#1077;&#1076;&#1091;&#1085;&#1080;&#1094;&#1072;+&#1080;&#1079;+&#1094;&#1074;&#1077;&#1090;&#1086;&#1095;&#1085;&#1086;&#1075;&#1086;+&#1075;&#1086;&#1088;&#1086;&#1076;&#1072;&amp;hl=ru&amp;gbv=2&amp;biw=1024&amp;bih=677&amp;tbm=isch&amp;tbnid=yiFGkiHuNP6YoM:&amp;imgrefurl=http://y" TargetMode="External"/><Relationship Id="rId38" Type="http://schemas.openxmlformats.org/officeDocument/2006/relationships/hyperlink" Target="http://www.google.kz/imgres?q=&#1076;&#1086;&#1082;&#1090;&#1086;&#1088;+&#1052;&#1077;&#1076;&#1091;&#1085;&#1080;&#1094;&#1072;+&#1080;&#1079;+&#1094;&#1074;&#1077;&#1090;&#1086;&#1095;&#1085;&#1086;&#1075;&#1086;+&#1075;&#1086;&#1088;&#1086;&#1076;&#1072;&amp;hl=ru&amp;gbv=2&amp;biw=1024&amp;bih=677&amp;tbm=isch&amp;tbnid=yiFGkiHuNP6YoM:&amp;imgrefurl=http://y" TargetMode="External"/><Relationship Id="rId39" Type="http://schemas.openxmlformats.org/officeDocument/2006/relationships/hyperlink" Target="http://www.google.kz/imgres?q=&#1088;&#1080;&#1089;&#1086;&#1074;&#1072;&#1085;&#1085;&#1099;&#1081;+&#1097;&#1077;&#1085;&#1086;&#1082;&amp;hl=ru&amp;gbv=2&amp;biw=1024&amp;bih=677&amp;tbm=isch&amp;tbnid=qcVknqOoqLjHSM:&amp;imgrefurl=http://dribs-n-drabs.ucoz" TargetMode="External"/><Relationship Id="rId40" Type="http://schemas.openxmlformats.org/officeDocument/2006/relationships/hyperlink" Target="http://www.google.kz/imgres?q=&#1088;&#1080;&#1089;&#1086;&#1074;&#1072;&#1085;&#1085;&#1099;&#1081;+&#1097;&#1077;&#1085;&#1086;&#1082;&amp;hl=ru&amp;gbv=2&amp;biw=1024&amp;bih=677&amp;tbm=isch&amp;tbnid=qcVknqOoqLjHSM:&amp;imgrefurl=http://dribs-n-drabs.ucoz" TargetMode="External"/><Relationship Id="rId41" Type="http://schemas.openxmlformats.org/officeDocument/2006/relationships/hyperlink" Target="http://www.google.kz/imgres?q=&#1088;&#1080;&#1089;&#1086;&#1074;&#1072;&#1085;&#1085;&#1099;&#1081;+&#1097;&#1077;&#1085;&#1086;&#1082;&amp;hl=ru&amp;gbv=2&amp;biw=1024&amp;bih=677&amp;tbm=isch&amp;tbnid=qcVknqOoqLjHSM:&amp;imgrefurl=http://dribs-n-drabs.ucoz" TargetMode="External"/><Relationship Id="rId42" Type="http://schemas.openxmlformats.org/officeDocument/2006/relationships/hyperlink" Target="http://www.google.kz/imgres?q=&#1088;&#1080;&#1089;&#1086;&#1074;&#1072;&#1085;&#1085;&#1099;&#1081;+&#1097;&#1077;&#1085;&#1086;&#1082;&amp;hl=ru&amp;gbv=2&amp;biw=1024&amp;bih=677&amp;tbm=isch&amp;tbnid=qcVknqOoqLjHSM:&amp;imgrefurl=http://dribs-n-drabs.ucoz" TargetMode="External"/><Relationship Id="rId43" Type="http://schemas.openxmlformats.org/officeDocument/2006/relationships/hyperlink" Target="http://www.google.kz/imgres?q=&#1088;&#1080;&#1089;&#1086;&#1074;&#1072;&#1085;&#1085;&#1099;&#1081;+&#1097;&#1077;&#1085;&#1086;&#1082;&amp;hl=ru&amp;gbv=2&amp;biw=1024&amp;bih=677&amp;tbm=isch&amp;tbnid=qcVknqOoqLjHSM:&amp;imgrefurl=http://dribs-n-drabs.ucoz" TargetMode="External"/><Relationship Id="rId44" Type="http://schemas.openxmlformats.org/officeDocument/2006/relationships/hyperlink" Target="http://www.google.kz/imgres?q=&#1088;&#1080;&#1089;&#1086;&#1074;&#1072;&#1085;&#1085;&#1099;&#1081;+&#1097;&#1077;&#1085;&#1086;&#1082;&amp;hl=ru&amp;gbv=2&amp;biw=1024&amp;bih=677&amp;tbm=isch&amp;tbnid=qcVknqOoqLjHSM:&amp;imgrefurl=http://dribs-n-drabs.ucoz" TargetMode="External"/><Relationship Id="rId45" Type="http://schemas.openxmlformats.org/officeDocument/2006/relationships/hyperlink" Target="http://www.google.kz/imgres?q=&#1088;&#1080;&#1089;&#1086;&#1074;&#1072;&#1085;&#1085;&#1099;&#1081;+&#1097;&#1077;&#1085;&#1086;&#1082;&amp;hl=ru&amp;gbv=2&amp;biw=1024&amp;bih=677&amp;tbm=isch&amp;tbnid=qcVknqOoqLjHSM:&amp;imgrefurl=http://dribs-n-drabs.ucoz" TargetMode="External"/><Relationship Id="rId46" Type="http://schemas.openxmlformats.org/officeDocument/2006/relationships/hyperlink" Target="http://www.google.ru/search?q=&#1082;&#1072;&#1088;&#1090;&#1080;&#1085;&#1082;&#1072;+&#1084;&#1091;&#1083;&#1100;&#1090;&#1103;&#1096;&#1085;&#1086;&#1075;&#1086;+&#1089;&#1087;&#1086;&#1088;&#1090;&#1089;&#1084;&#1077;&#1085;&#1072;&amp;hl=" TargetMode="External"/><Relationship Id="rId47" Type="http://schemas.openxmlformats.org/officeDocument/2006/relationships/hyperlink" Target="http://www.google.ru/search?q=&#1082;&#1072;&#1088;&#1090;&#1080;&#1085;&#1082;&#1072;+&#1084;&#1091;&#1083;&#1100;&#1090;&#1103;&#1096;&#1085;&#1086;&#1075;&#1086;+&#1089;&#1087;&#1086;&#1088;&#1090;&#1089;&#1084;&#1077;&#1085;&#1072;&amp;hl=" TargetMode="External"/><Relationship Id="rId48" Type="http://schemas.openxmlformats.org/officeDocument/2006/relationships/hyperlink" Target="http://www.google.ru/search?q=&#1082;&#1072;&#1088;&#1090;&#1080;&#1085;&#1082;&#1072;+&#1084;&#1091;&#1083;&#1100;&#1090;&#1103;&#1096;&#1085;&#1086;&#1075;&#1086;+&#1089;&#1087;&#1086;&#1088;&#1090;&#1089;&#1084;&#1077;&#1085;&#1072;&amp;hl=" TargetMode="External"/><Relationship Id="rId49" Type="http://schemas.openxmlformats.org/officeDocument/2006/relationships/hyperlink" Target="http://www.google.ru/search?q=&#1082;&#1072;&#1088;&#1090;&#1080;&#1085;&#1082;&#1072;+&#1084;&#1091;&#1083;&#1100;&#1090;&#1103;&#1096;&#1085;&#1086;&#1075;&#1086;+&#1089;&#1087;&#1086;&#1088;&#1090;&#1089;&#1084;&#1077;&#1085;&#1072;&amp;hl=" TargetMode="External"/><Relationship Id="rId50" Type="http://schemas.openxmlformats.org/officeDocument/2006/relationships/hyperlink" Target="http://www.google.ru/search?q=&#1082;&#1072;&#1088;&#1090;&#1080;&#1085;&#1082;&#1072;+&#1084;&#1091;&#1083;&#1100;&#1090;&#1103;&#1096;&#1085;&#1086;&#1075;&#1086;+&#1089;&#1087;&#1086;&#1088;&#1090;&#1089;&#1084;&#1077;&#1085;&#1072;&amp;hl=" TargetMode="External"/><Relationship Id="rId51" Type="http://schemas.openxmlformats.org/officeDocument/2006/relationships/hyperlink" Target="http://www.google.ru/search?q=&#1082;&#1072;&#1088;&#1090;&#1080;&#1085;&#1082;&#1072;+&#1084;&#1091;&#1083;&#1100;&#1090;&#1103;&#1096;&#1085;&#1086;&#1075;&#1086;+&#1089;&#1087;&#1086;&#1088;&#1090;&#1089;&#1084;&#1077;&#1085;&#1072;&amp;hl=" TargetMode="External"/><Relationship Id="rId52" Type="http://schemas.openxmlformats.org/officeDocument/2006/relationships/hyperlink" Target="http://www.google.ru/search?q=&#1082;&#1072;&#1088;&#1090;&#1080;&#1085;&#1082;&#1072;+&#1084;&#1091;&#1083;&#1100;&#1090;&#1103;&#1096;&#1085;&#1086;&#1075;&#1086;+&#1089;&#1087;&#1086;&#1088;&#1090;&#1089;&#1084;&#1077;&#1085;&#1072;&amp;hl=" TargetMode="External"/><Relationship Id="rId53" Type="http://schemas.openxmlformats.org/officeDocument/2006/relationships/hyperlink" Target="http://www.google.ru/search?q=&#1082;&#1072;&#1088;&#1090;&#1080;&#1085;&#1082;&#1072;+&#1042;&#1077;&#1089;&#1105;&#1083;&#1099;&#1081;+&#1087;&#1086;&#1074;&#1072;&#1088;&amp;hl=" TargetMode="External"/><Relationship Id="rId54" Type="http://schemas.openxmlformats.org/officeDocument/2006/relationships/hyperlink" Target="http://www.google.ru/search?q=&#1082;&#1072;&#1088;&#1090;&#1080;&#1085;&#1082;&#1072;+&#1042;&#1077;&#1089;&#1105;&#1083;&#1099;&#1081;+&#1087;&#1086;&#1074;&#1072;&#1088;&amp;hl=" TargetMode="External"/><Relationship Id="rId55" Type="http://schemas.openxmlformats.org/officeDocument/2006/relationships/hyperlink" Target="http://www.google.ru/search?q=&#1082;&#1072;&#1088;&#1090;&#1080;&#1085;&#1082;&#1072;+&#1042;&#1077;&#1089;&#1105;&#1083;&#1099;&#1081;+&#1087;&#1086;&#1074;&#1072;&#1088;&amp;hl=" TargetMode="External"/><Relationship Id="rId5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0"/>
          <p:cNvSpPr/>
          <p:nvPr/>
        </p:nvSpPr>
        <p:spPr>
          <a:xfrm>
            <a:off x="6443640" y="333360"/>
            <a:ext cx="14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3"/>
          <p:cNvSpPr/>
          <p:nvPr/>
        </p:nvSpPr>
        <p:spPr>
          <a:xfrm>
            <a:off x="6516720" y="5373720"/>
            <a:ext cx="90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1258920" y="5516640"/>
            <a:ext cx="698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одготовили Куринёва Л.А., Новожонова И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ГУ «Средняя школа № 5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г.Петропавлов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319320" y="620640"/>
            <a:ext cx="84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Я здоровье сберегу – сам себе я помог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916360" y="1413000"/>
            <a:ext cx="304632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article_image-image-article"/>
          <p:cNvPicPr/>
          <p:nvPr/>
        </p:nvPicPr>
        <p:blipFill>
          <a:blip r:embed="rId2"/>
          <a:stretch/>
        </p:blipFill>
        <p:spPr>
          <a:xfrm>
            <a:off x="-108000" y="190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853"/>
          <p:cNvPicPr/>
          <p:nvPr/>
        </p:nvPicPr>
        <p:blipFill>
          <a:blip r:embed="rId3"/>
          <a:stretch/>
        </p:blipFill>
        <p:spPr>
          <a:xfrm>
            <a:off x="4556160" y="19080"/>
            <a:ext cx="482580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77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770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7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9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3"/>
          <p:cNvGrpSpPr/>
          <p:nvPr/>
        </p:nvGrpSpPr>
        <p:grpSpPr>
          <a:xfrm>
            <a:off x="611280" y="260280"/>
            <a:ext cx="7200720" cy="6408360"/>
            <a:chOff x="611280" y="260280"/>
            <a:chExt cx="7200720" cy="6408360"/>
          </a:xfrm>
        </p:grpSpPr>
        <p:sp>
          <p:nvSpPr>
            <p:cNvPr id="92" name="Rectangle 4"/>
            <p:cNvSpPr/>
            <p:nvPr/>
          </p:nvSpPr>
          <p:spPr>
            <a:xfrm>
              <a:off x="1810800" y="26028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5"/>
            <p:cNvSpPr/>
            <p:nvPr/>
          </p:nvSpPr>
          <p:spPr>
            <a:xfrm>
              <a:off x="2410560" y="26028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6"/>
            <p:cNvSpPr/>
            <p:nvPr/>
          </p:nvSpPr>
          <p:spPr>
            <a:xfrm>
              <a:off x="3011760" y="26028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7"/>
            <p:cNvSpPr/>
            <p:nvPr/>
          </p:nvSpPr>
          <p:spPr>
            <a:xfrm>
              <a:off x="3611520" y="26028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8"/>
            <p:cNvSpPr/>
            <p:nvPr/>
          </p:nvSpPr>
          <p:spPr>
            <a:xfrm>
              <a:off x="3611520" y="90072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"/>
            <p:cNvSpPr/>
            <p:nvPr/>
          </p:nvSpPr>
          <p:spPr>
            <a:xfrm>
              <a:off x="3011760" y="90072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0"/>
            <p:cNvSpPr/>
            <p:nvPr/>
          </p:nvSpPr>
          <p:spPr>
            <a:xfrm>
              <a:off x="4211640" y="90072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1"/>
            <p:cNvSpPr/>
            <p:nvPr/>
          </p:nvSpPr>
          <p:spPr>
            <a:xfrm>
              <a:off x="4811400" y="90072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2"/>
            <p:cNvSpPr/>
            <p:nvPr/>
          </p:nvSpPr>
          <p:spPr>
            <a:xfrm>
              <a:off x="2410560" y="90072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3"/>
            <p:cNvSpPr/>
            <p:nvPr/>
          </p:nvSpPr>
          <p:spPr>
            <a:xfrm>
              <a:off x="1810800" y="90072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4"/>
            <p:cNvSpPr/>
            <p:nvPr/>
          </p:nvSpPr>
          <p:spPr>
            <a:xfrm>
              <a:off x="3611520" y="154116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5"/>
            <p:cNvSpPr/>
            <p:nvPr/>
          </p:nvSpPr>
          <p:spPr>
            <a:xfrm>
              <a:off x="4211640" y="154116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6"/>
            <p:cNvSpPr/>
            <p:nvPr/>
          </p:nvSpPr>
          <p:spPr>
            <a:xfrm>
              <a:off x="3011760" y="154116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7"/>
            <p:cNvSpPr/>
            <p:nvPr/>
          </p:nvSpPr>
          <p:spPr>
            <a:xfrm>
              <a:off x="2410560" y="154116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8"/>
            <p:cNvSpPr/>
            <p:nvPr/>
          </p:nvSpPr>
          <p:spPr>
            <a:xfrm>
              <a:off x="1810800" y="154116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9"/>
            <p:cNvSpPr/>
            <p:nvPr/>
          </p:nvSpPr>
          <p:spPr>
            <a:xfrm>
              <a:off x="1211040" y="154116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0"/>
            <p:cNvSpPr/>
            <p:nvPr/>
          </p:nvSpPr>
          <p:spPr>
            <a:xfrm>
              <a:off x="611280" y="154116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1"/>
            <p:cNvSpPr/>
            <p:nvPr/>
          </p:nvSpPr>
          <p:spPr>
            <a:xfrm>
              <a:off x="3611520" y="218340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2"/>
            <p:cNvSpPr/>
            <p:nvPr/>
          </p:nvSpPr>
          <p:spPr>
            <a:xfrm>
              <a:off x="4211640" y="218340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3"/>
            <p:cNvSpPr/>
            <p:nvPr/>
          </p:nvSpPr>
          <p:spPr>
            <a:xfrm>
              <a:off x="4811400" y="218340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4"/>
            <p:cNvSpPr/>
            <p:nvPr/>
          </p:nvSpPr>
          <p:spPr>
            <a:xfrm>
              <a:off x="3011760" y="218340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5"/>
            <p:cNvSpPr/>
            <p:nvPr/>
          </p:nvSpPr>
          <p:spPr>
            <a:xfrm>
              <a:off x="2410560" y="218340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6"/>
            <p:cNvSpPr/>
            <p:nvPr/>
          </p:nvSpPr>
          <p:spPr>
            <a:xfrm>
              <a:off x="3011760" y="282384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7"/>
            <p:cNvSpPr/>
            <p:nvPr/>
          </p:nvSpPr>
          <p:spPr>
            <a:xfrm>
              <a:off x="3611520" y="282384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8"/>
            <p:cNvSpPr/>
            <p:nvPr/>
          </p:nvSpPr>
          <p:spPr>
            <a:xfrm>
              <a:off x="4211640" y="282384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9"/>
            <p:cNvSpPr/>
            <p:nvPr/>
          </p:nvSpPr>
          <p:spPr>
            <a:xfrm>
              <a:off x="4811400" y="282384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0"/>
            <p:cNvSpPr/>
            <p:nvPr/>
          </p:nvSpPr>
          <p:spPr>
            <a:xfrm>
              <a:off x="3611520" y="346464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1"/>
            <p:cNvSpPr/>
            <p:nvPr/>
          </p:nvSpPr>
          <p:spPr>
            <a:xfrm>
              <a:off x="4211640" y="346464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2"/>
            <p:cNvSpPr/>
            <p:nvPr/>
          </p:nvSpPr>
          <p:spPr>
            <a:xfrm>
              <a:off x="3011760" y="346464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3"/>
            <p:cNvSpPr/>
            <p:nvPr/>
          </p:nvSpPr>
          <p:spPr>
            <a:xfrm>
              <a:off x="2410560" y="346464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34"/>
            <p:cNvSpPr/>
            <p:nvPr/>
          </p:nvSpPr>
          <p:spPr>
            <a:xfrm>
              <a:off x="1810800" y="346464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5"/>
            <p:cNvSpPr/>
            <p:nvPr/>
          </p:nvSpPr>
          <p:spPr>
            <a:xfrm>
              <a:off x="3611520" y="410508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36"/>
            <p:cNvSpPr/>
            <p:nvPr/>
          </p:nvSpPr>
          <p:spPr>
            <a:xfrm>
              <a:off x="3011760" y="410508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37"/>
            <p:cNvSpPr/>
            <p:nvPr/>
          </p:nvSpPr>
          <p:spPr>
            <a:xfrm>
              <a:off x="2410560" y="410508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38"/>
            <p:cNvSpPr/>
            <p:nvPr/>
          </p:nvSpPr>
          <p:spPr>
            <a:xfrm>
              <a:off x="1810800" y="410508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39"/>
            <p:cNvSpPr/>
            <p:nvPr/>
          </p:nvSpPr>
          <p:spPr>
            <a:xfrm>
              <a:off x="1211040" y="410508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0"/>
            <p:cNvSpPr/>
            <p:nvPr/>
          </p:nvSpPr>
          <p:spPr>
            <a:xfrm>
              <a:off x="611280" y="410508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41"/>
            <p:cNvSpPr/>
            <p:nvPr/>
          </p:nvSpPr>
          <p:spPr>
            <a:xfrm>
              <a:off x="3011760" y="474732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42"/>
            <p:cNvSpPr/>
            <p:nvPr/>
          </p:nvSpPr>
          <p:spPr>
            <a:xfrm>
              <a:off x="3611520" y="474732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3"/>
            <p:cNvSpPr/>
            <p:nvPr/>
          </p:nvSpPr>
          <p:spPr>
            <a:xfrm>
              <a:off x="4211640" y="474732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44"/>
            <p:cNvSpPr/>
            <p:nvPr/>
          </p:nvSpPr>
          <p:spPr>
            <a:xfrm>
              <a:off x="4811400" y="474732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45"/>
            <p:cNvSpPr/>
            <p:nvPr/>
          </p:nvSpPr>
          <p:spPr>
            <a:xfrm>
              <a:off x="5411160" y="474732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46"/>
            <p:cNvSpPr/>
            <p:nvPr/>
          </p:nvSpPr>
          <p:spPr>
            <a:xfrm>
              <a:off x="6012360" y="474732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47"/>
            <p:cNvSpPr/>
            <p:nvPr/>
          </p:nvSpPr>
          <p:spPr>
            <a:xfrm>
              <a:off x="6612120" y="474732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48"/>
            <p:cNvSpPr/>
            <p:nvPr/>
          </p:nvSpPr>
          <p:spPr>
            <a:xfrm>
              <a:off x="7212240" y="474732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49"/>
            <p:cNvSpPr/>
            <p:nvPr/>
          </p:nvSpPr>
          <p:spPr>
            <a:xfrm>
              <a:off x="3011760" y="538776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50"/>
            <p:cNvSpPr/>
            <p:nvPr/>
          </p:nvSpPr>
          <p:spPr>
            <a:xfrm>
              <a:off x="4211640" y="538776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51"/>
            <p:cNvSpPr/>
            <p:nvPr/>
          </p:nvSpPr>
          <p:spPr>
            <a:xfrm>
              <a:off x="3611520" y="538776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52"/>
            <p:cNvSpPr/>
            <p:nvPr/>
          </p:nvSpPr>
          <p:spPr>
            <a:xfrm>
              <a:off x="4811400" y="538776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53"/>
            <p:cNvSpPr/>
            <p:nvPr/>
          </p:nvSpPr>
          <p:spPr>
            <a:xfrm>
              <a:off x="5411160" y="538776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54"/>
            <p:cNvSpPr/>
            <p:nvPr/>
          </p:nvSpPr>
          <p:spPr>
            <a:xfrm>
              <a:off x="6012360" y="538776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55"/>
            <p:cNvSpPr/>
            <p:nvPr/>
          </p:nvSpPr>
          <p:spPr>
            <a:xfrm>
              <a:off x="3011760" y="538776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56"/>
            <p:cNvSpPr/>
            <p:nvPr/>
          </p:nvSpPr>
          <p:spPr>
            <a:xfrm>
              <a:off x="3611520" y="602820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57"/>
            <p:cNvSpPr/>
            <p:nvPr/>
          </p:nvSpPr>
          <p:spPr>
            <a:xfrm>
              <a:off x="3011760" y="602820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58"/>
            <p:cNvSpPr/>
            <p:nvPr/>
          </p:nvSpPr>
          <p:spPr>
            <a:xfrm>
              <a:off x="2410560" y="602820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59"/>
            <p:cNvSpPr/>
            <p:nvPr/>
          </p:nvSpPr>
          <p:spPr>
            <a:xfrm>
              <a:off x="1810800" y="6028200"/>
              <a:ext cx="599760" cy="64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Rectangle 60"/>
          <p:cNvSpPr/>
          <p:nvPr/>
        </p:nvSpPr>
        <p:spPr>
          <a:xfrm>
            <a:off x="1187280" y="404640"/>
            <a:ext cx="360360" cy="432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2"/>
          <p:cNvSpPr/>
          <p:nvPr/>
        </p:nvSpPr>
        <p:spPr>
          <a:xfrm>
            <a:off x="4572000" y="3933720"/>
            <a:ext cx="4211640" cy="2735280"/>
          </a:xfrm>
          <a:prstGeom prst="wedgeRoundRectCallout">
            <a:avLst>
              <a:gd name="adj1" fmla="val 50263"/>
              <a:gd name="adj2" fmla="val -7559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Вопрос №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С помощью какого органа люди получают самое большое количество сведений об окружающем ми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3"/>
          <p:cNvSpPr/>
          <p:nvPr/>
        </p:nvSpPr>
        <p:spPr>
          <a:xfrm>
            <a:off x="5277960" y="189000"/>
            <a:ext cx="1073880" cy="459720"/>
          </a:xfrm>
          <a:prstGeom prst="rect">
            <a:avLst/>
          </a:prstGeom>
          <a:noFill/>
          <a:ln w="9360">
            <a:solidFill>
              <a:srgbClr val="e41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68"/>
          <p:cNvGrpSpPr/>
          <p:nvPr/>
        </p:nvGrpSpPr>
        <p:grpSpPr>
          <a:xfrm>
            <a:off x="1909800" y="260280"/>
            <a:ext cx="2235240" cy="581400"/>
            <a:chOff x="1909800" y="260280"/>
            <a:chExt cx="2235240" cy="581400"/>
          </a:xfrm>
        </p:grpSpPr>
        <p:sp>
          <p:nvSpPr>
            <p:cNvPr id="152" name="Text Box 64"/>
            <p:cNvSpPr/>
            <p:nvPr/>
          </p:nvSpPr>
          <p:spPr>
            <a:xfrm>
              <a:off x="1909800" y="26028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65"/>
            <p:cNvSpPr/>
            <p:nvPr/>
          </p:nvSpPr>
          <p:spPr>
            <a:xfrm>
              <a:off x="2557440" y="260280"/>
              <a:ext cx="46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66"/>
            <p:cNvSpPr/>
            <p:nvPr/>
          </p:nvSpPr>
          <p:spPr>
            <a:xfrm>
              <a:off x="3132000" y="260280"/>
              <a:ext cx="47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67"/>
            <p:cNvSpPr/>
            <p:nvPr/>
          </p:nvSpPr>
          <p:spPr>
            <a:xfrm>
              <a:off x="3709800" y="260280"/>
              <a:ext cx="43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Rectangle 69"/>
          <p:cNvSpPr/>
          <p:nvPr/>
        </p:nvSpPr>
        <p:spPr>
          <a:xfrm>
            <a:off x="1187280" y="981000"/>
            <a:ext cx="360360" cy="432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70"/>
          <p:cNvSpPr/>
          <p:nvPr/>
        </p:nvSpPr>
        <p:spPr>
          <a:xfrm>
            <a:off x="4716360" y="4005360"/>
            <a:ext cx="3959280" cy="1512720"/>
          </a:xfrm>
          <a:prstGeom prst="wedgeRoundRectCallout">
            <a:avLst>
              <a:gd name="adj1" fmla="val 54611"/>
              <a:gd name="adj2" fmla="val -10078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Вопрос №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Не часы, а тик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Что эт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1"/>
          <p:cNvSpPr/>
          <p:nvPr/>
        </p:nvSpPr>
        <p:spPr>
          <a:xfrm>
            <a:off x="6449400" y="189000"/>
            <a:ext cx="1073880" cy="459720"/>
          </a:xfrm>
          <a:prstGeom prst="rect">
            <a:avLst/>
          </a:prstGeom>
          <a:noFill/>
          <a:ln w="9360">
            <a:solidFill>
              <a:srgbClr val="e41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79"/>
          <p:cNvGrpSpPr/>
          <p:nvPr/>
        </p:nvGrpSpPr>
        <p:grpSpPr>
          <a:xfrm>
            <a:off x="1980720" y="907920"/>
            <a:ext cx="3343320" cy="581400"/>
            <a:chOff x="1980720" y="907920"/>
            <a:chExt cx="3343320" cy="581400"/>
          </a:xfrm>
        </p:grpSpPr>
        <p:sp>
          <p:nvSpPr>
            <p:cNvPr id="160" name="Text Box 72"/>
            <p:cNvSpPr/>
            <p:nvPr/>
          </p:nvSpPr>
          <p:spPr>
            <a:xfrm>
              <a:off x="1980720" y="9079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73"/>
            <p:cNvSpPr/>
            <p:nvPr/>
          </p:nvSpPr>
          <p:spPr>
            <a:xfrm>
              <a:off x="2543760" y="907920"/>
              <a:ext cx="445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74"/>
            <p:cNvSpPr/>
            <p:nvPr/>
          </p:nvSpPr>
          <p:spPr>
            <a:xfrm>
              <a:off x="3109320" y="9079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75"/>
            <p:cNvSpPr/>
            <p:nvPr/>
          </p:nvSpPr>
          <p:spPr>
            <a:xfrm>
              <a:off x="3673080" y="907920"/>
              <a:ext cx="47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76"/>
            <p:cNvSpPr/>
            <p:nvPr/>
          </p:nvSpPr>
          <p:spPr>
            <a:xfrm>
              <a:off x="4238280" y="90792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77"/>
            <p:cNvSpPr/>
            <p:nvPr/>
          </p:nvSpPr>
          <p:spPr>
            <a:xfrm>
              <a:off x="4871880" y="9079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ctangle 80"/>
          <p:cNvSpPr/>
          <p:nvPr/>
        </p:nvSpPr>
        <p:spPr>
          <a:xfrm>
            <a:off x="0" y="1628640"/>
            <a:ext cx="431640" cy="5050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81"/>
          <p:cNvSpPr/>
          <p:nvPr/>
        </p:nvSpPr>
        <p:spPr>
          <a:xfrm>
            <a:off x="4356000" y="3933720"/>
            <a:ext cx="4537080" cy="1657440"/>
          </a:xfrm>
          <a:prstGeom prst="wedgeRoundRectCallout">
            <a:avLst>
              <a:gd name="adj1" fmla="val 49861"/>
              <a:gd name="adj2" fmla="val -10373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Вопрос №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Главное отделение «внутренней» кух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2"/>
          <p:cNvSpPr/>
          <p:nvPr/>
        </p:nvSpPr>
        <p:spPr>
          <a:xfrm>
            <a:off x="5692320" y="768240"/>
            <a:ext cx="1073880" cy="459720"/>
          </a:xfrm>
          <a:prstGeom prst="rect">
            <a:avLst/>
          </a:prstGeom>
          <a:noFill/>
          <a:ln w="9360">
            <a:solidFill>
              <a:srgbClr val="e41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90"/>
          <p:cNvGrpSpPr/>
          <p:nvPr/>
        </p:nvGrpSpPr>
        <p:grpSpPr>
          <a:xfrm>
            <a:off x="612720" y="1557360"/>
            <a:ext cx="4158000" cy="603720"/>
            <a:chOff x="612720" y="1557360"/>
            <a:chExt cx="4158000" cy="603720"/>
          </a:xfrm>
        </p:grpSpPr>
        <p:sp>
          <p:nvSpPr>
            <p:cNvPr id="170" name="Text Box 83"/>
            <p:cNvSpPr/>
            <p:nvPr/>
          </p:nvSpPr>
          <p:spPr>
            <a:xfrm>
              <a:off x="612720" y="1557360"/>
              <a:ext cx="5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84"/>
            <p:cNvSpPr/>
            <p:nvPr/>
          </p:nvSpPr>
          <p:spPr>
            <a:xfrm>
              <a:off x="1283400" y="1557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85"/>
            <p:cNvSpPr/>
            <p:nvPr/>
          </p:nvSpPr>
          <p:spPr>
            <a:xfrm>
              <a:off x="1807200" y="1557360"/>
              <a:ext cx="46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86"/>
            <p:cNvSpPr/>
            <p:nvPr/>
          </p:nvSpPr>
          <p:spPr>
            <a:xfrm>
              <a:off x="2477880" y="1557360"/>
              <a:ext cx="43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87"/>
            <p:cNvSpPr/>
            <p:nvPr/>
          </p:nvSpPr>
          <p:spPr>
            <a:xfrm>
              <a:off x="3074400" y="1557360"/>
              <a:ext cx="47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88"/>
            <p:cNvSpPr/>
            <p:nvPr/>
          </p:nvSpPr>
          <p:spPr>
            <a:xfrm>
              <a:off x="3670920" y="157968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89"/>
            <p:cNvSpPr/>
            <p:nvPr/>
          </p:nvSpPr>
          <p:spPr>
            <a:xfrm>
              <a:off x="4341600" y="155736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Rectangle 91"/>
          <p:cNvSpPr/>
          <p:nvPr/>
        </p:nvSpPr>
        <p:spPr>
          <a:xfrm>
            <a:off x="1979640" y="2349360"/>
            <a:ext cx="360360" cy="432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92"/>
          <p:cNvSpPr/>
          <p:nvPr/>
        </p:nvSpPr>
        <p:spPr>
          <a:xfrm>
            <a:off x="4572000" y="4005360"/>
            <a:ext cx="4321080" cy="1512720"/>
          </a:xfrm>
          <a:prstGeom prst="wedgeRoundRectCallout">
            <a:avLst>
              <a:gd name="adj1" fmla="val 47319"/>
              <a:gd name="adj2" fmla="val -11065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Вопрос №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Что защищает от повреждений головной мозг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3"/>
          <p:cNvSpPr/>
          <p:nvPr/>
        </p:nvSpPr>
        <p:spPr>
          <a:xfrm>
            <a:off x="5597640" y="1341360"/>
            <a:ext cx="1085760" cy="459720"/>
          </a:xfrm>
          <a:prstGeom prst="rect">
            <a:avLst/>
          </a:prstGeom>
          <a:noFill/>
          <a:ln w="9360">
            <a:solidFill>
              <a:srgbClr val="e41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99"/>
          <p:cNvGrpSpPr/>
          <p:nvPr/>
        </p:nvGrpSpPr>
        <p:grpSpPr>
          <a:xfrm>
            <a:off x="2485440" y="2205000"/>
            <a:ext cx="2968560" cy="581400"/>
            <a:chOff x="2485440" y="2205000"/>
            <a:chExt cx="2968560" cy="581400"/>
          </a:xfrm>
        </p:grpSpPr>
        <p:sp>
          <p:nvSpPr>
            <p:cNvPr id="181" name="Text Box 94"/>
            <p:cNvSpPr/>
            <p:nvPr/>
          </p:nvSpPr>
          <p:spPr>
            <a:xfrm>
              <a:off x="2485440" y="2205000"/>
              <a:ext cx="46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95"/>
            <p:cNvSpPr/>
            <p:nvPr/>
          </p:nvSpPr>
          <p:spPr>
            <a:xfrm>
              <a:off x="3090240" y="2205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96"/>
            <p:cNvSpPr/>
            <p:nvPr/>
          </p:nvSpPr>
          <p:spPr>
            <a:xfrm>
              <a:off x="3693960" y="2205000"/>
              <a:ext cx="47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97"/>
            <p:cNvSpPr/>
            <p:nvPr/>
          </p:nvSpPr>
          <p:spPr>
            <a:xfrm>
              <a:off x="4300920" y="2205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98"/>
            <p:cNvSpPr/>
            <p:nvPr/>
          </p:nvSpPr>
          <p:spPr>
            <a:xfrm>
              <a:off x="4980600" y="2205000"/>
              <a:ext cx="47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Rectangle 100"/>
          <p:cNvSpPr/>
          <p:nvPr/>
        </p:nvSpPr>
        <p:spPr>
          <a:xfrm>
            <a:off x="2556000" y="2924280"/>
            <a:ext cx="360360" cy="4334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01"/>
          <p:cNvSpPr/>
          <p:nvPr/>
        </p:nvSpPr>
        <p:spPr>
          <a:xfrm>
            <a:off x="3276720" y="3860640"/>
            <a:ext cx="5867280" cy="2737080"/>
          </a:xfrm>
          <a:prstGeom prst="wedgeRoundRectCallout">
            <a:avLst>
              <a:gd name="adj1" fmla="val 43398"/>
              <a:gd name="adj2" fmla="val -7557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Вопрос №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Этот орган заведует нашими мыслями и чувствами, следит за работой главных внутренних органов – сердцем и лёгкими. За это его называют «командным пунктом» орг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4"/>
          <p:cNvSpPr/>
          <p:nvPr/>
        </p:nvSpPr>
        <p:spPr>
          <a:xfrm>
            <a:off x="5867280" y="1916280"/>
            <a:ext cx="1152720" cy="459720"/>
          </a:xfrm>
          <a:prstGeom prst="rect">
            <a:avLst/>
          </a:prstGeom>
          <a:noFill/>
          <a:ln w="9360">
            <a:solidFill>
              <a:srgbClr val="e41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457"/>
          <p:cNvGrpSpPr/>
          <p:nvPr/>
        </p:nvGrpSpPr>
        <p:grpSpPr>
          <a:xfrm>
            <a:off x="3133440" y="2852640"/>
            <a:ext cx="2211480" cy="609840"/>
            <a:chOff x="3133440" y="2852640"/>
            <a:chExt cx="2211480" cy="609840"/>
          </a:xfrm>
        </p:grpSpPr>
        <p:sp>
          <p:nvSpPr>
            <p:cNvPr id="190" name="Text Box 105"/>
            <p:cNvSpPr/>
            <p:nvPr/>
          </p:nvSpPr>
          <p:spPr>
            <a:xfrm>
              <a:off x="3133440" y="288108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06"/>
            <p:cNvSpPr/>
            <p:nvPr/>
          </p:nvSpPr>
          <p:spPr>
            <a:xfrm>
              <a:off x="3709440" y="288108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07"/>
            <p:cNvSpPr/>
            <p:nvPr/>
          </p:nvSpPr>
          <p:spPr>
            <a:xfrm>
              <a:off x="4934160" y="288108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08"/>
            <p:cNvSpPr/>
            <p:nvPr/>
          </p:nvSpPr>
          <p:spPr>
            <a:xfrm>
              <a:off x="4357440" y="2852640"/>
              <a:ext cx="43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Rectangle 458"/>
          <p:cNvSpPr/>
          <p:nvPr/>
        </p:nvSpPr>
        <p:spPr>
          <a:xfrm>
            <a:off x="1403280" y="3573360"/>
            <a:ext cx="360360" cy="432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459"/>
          <p:cNvSpPr/>
          <p:nvPr/>
        </p:nvSpPr>
        <p:spPr>
          <a:xfrm>
            <a:off x="4140360" y="3860640"/>
            <a:ext cx="4787640" cy="2448000"/>
          </a:xfrm>
          <a:prstGeom prst="wedgeRoundRectCallout">
            <a:avLst>
              <a:gd name="adj1" fmla="val 47180"/>
              <a:gd name="adj2" fmla="val -8346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1ce9"/>
                </a:solidFill>
                <a:latin typeface="Arial"/>
              </a:rPr>
              <a:t>Вопрос №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1ce9"/>
                </a:solidFill>
                <a:latin typeface="Arial"/>
              </a:rPr>
              <a:t>Бесконечный поезд, развозящий по телу питательные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60"/>
          <p:cNvSpPr/>
          <p:nvPr/>
        </p:nvSpPr>
        <p:spPr>
          <a:xfrm>
            <a:off x="7812000" y="189000"/>
            <a:ext cx="1085760" cy="459720"/>
          </a:xfrm>
          <a:prstGeom prst="rect">
            <a:avLst/>
          </a:prstGeom>
          <a:noFill/>
          <a:ln w="9360">
            <a:solidFill>
              <a:srgbClr val="e41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466"/>
          <p:cNvGrpSpPr/>
          <p:nvPr/>
        </p:nvGrpSpPr>
        <p:grpSpPr>
          <a:xfrm>
            <a:off x="1980720" y="3500280"/>
            <a:ext cx="2850120" cy="581400"/>
            <a:chOff x="1980720" y="3500280"/>
            <a:chExt cx="2850120" cy="581400"/>
          </a:xfrm>
        </p:grpSpPr>
        <p:sp>
          <p:nvSpPr>
            <p:cNvPr id="198" name="Text Box 461"/>
            <p:cNvSpPr/>
            <p:nvPr/>
          </p:nvSpPr>
          <p:spPr>
            <a:xfrm>
              <a:off x="1980720" y="350028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462"/>
            <p:cNvSpPr/>
            <p:nvPr/>
          </p:nvSpPr>
          <p:spPr>
            <a:xfrm>
              <a:off x="2557440" y="3500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463"/>
            <p:cNvSpPr/>
            <p:nvPr/>
          </p:nvSpPr>
          <p:spPr>
            <a:xfrm>
              <a:off x="3133080" y="350028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464"/>
            <p:cNvSpPr/>
            <p:nvPr/>
          </p:nvSpPr>
          <p:spPr>
            <a:xfrm>
              <a:off x="3709800" y="35002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465"/>
            <p:cNvSpPr/>
            <p:nvPr/>
          </p:nvSpPr>
          <p:spPr>
            <a:xfrm>
              <a:off x="4357440" y="3500280"/>
              <a:ext cx="47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Rectangle 467"/>
          <p:cNvSpPr/>
          <p:nvPr/>
        </p:nvSpPr>
        <p:spPr>
          <a:xfrm>
            <a:off x="179280" y="4149720"/>
            <a:ext cx="395280" cy="5032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68"/>
          <p:cNvSpPr/>
          <p:nvPr/>
        </p:nvSpPr>
        <p:spPr>
          <a:xfrm>
            <a:off x="4425840" y="4005360"/>
            <a:ext cx="4718160" cy="1942920"/>
          </a:xfrm>
          <a:prstGeom prst="wedgeRoundRectCallout">
            <a:avLst>
              <a:gd name="adj1" fmla="val 46634"/>
              <a:gd name="adj2" fmla="val -9542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Вопрос №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Этот орган похож на две розовые губки. С помощью него человек дыш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69"/>
          <p:cNvSpPr/>
          <p:nvPr/>
        </p:nvSpPr>
        <p:spPr>
          <a:xfrm>
            <a:off x="6871680" y="731880"/>
            <a:ext cx="1073880" cy="459720"/>
          </a:xfrm>
          <a:prstGeom prst="rect">
            <a:avLst/>
          </a:prstGeom>
          <a:noFill/>
          <a:ln w="9360">
            <a:solidFill>
              <a:srgbClr val="e41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592"/>
          <p:cNvGrpSpPr/>
          <p:nvPr/>
        </p:nvGrpSpPr>
        <p:grpSpPr>
          <a:xfrm>
            <a:off x="757440" y="4149720"/>
            <a:ext cx="3404880" cy="581400"/>
            <a:chOff x="757440" y="4149720"/>
            <a:chExt cx="3404880" cy="581400"/>
          </a:xfrm>
        </p:grpSpPr>
        <p:sp>
          <p:nvSpPr>
            <p:cNvPr id="207" name="Text Box 470"/>
            <p:cNvSpPr/>
            <p:nvPr/>
          </p:nvSpPr>
          <p:spPr>
            <a:xfrm>
              <a:off x="757440" y="4149720"/>
              <a:ext cx="46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471"/>
            <p:cNvSpPr/>
            <p:nvPr/>
          </p:nvSpPr>
          <p:spPr>
            <a:xfrm>
              <a:off x="1332720" y="4149720"/>
              <a:ext cx="45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588"/>
            <p:cNvSpPr/>
            <p:nvPr/>
          </p:nvSpPr>
          <p:spPr>
            <a:xfrm>
              <a:off x="1981440" y="414972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589"/>
            <p:cNvSpPr/>
            <p:nvPr/>
          </p:nvSpPr>
          <p:spPr>
            <a:xfrm>
              <a:off x="2557080" y="414972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590"/>
            <p:cNvSpPr/>
            <p:nvPr/>
          </p:nvSpPr>
          <p:spPr>
            <a:xfrm>
              <a:off x="3133440" y="4149720"/>
              <a:ext cx="47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591"/>
            <p:cNvSpPr/>
            <p:nvPr/>
          </p:nvSpPr>
          <p:spPr>
            <a:xfrm>
              <a:off x="3710160" y="4149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Rectangle 593"/>
          <p:cNvSpPr/>
          <p:nvPr/>
        </p:nvSpPr>
        <p:spPr>
          <a:xfrm>
            <a:off x="2556000" y="4941720"/>
            <a:ext cx="360360" cy="432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594"/>
          <p:cNvSpPr/>
          <p:nvPr/>
        </p:nvSpPr>
        <p:spPr>
          <a:xfrm>
            <a:off x="4859280" y="1916280"/>
            <a:ext cx="4033800" cy="3168360"/>
          </a:xfrm>
          <a:prstGeom prst="wedgeRoundRectCallout">
            <a:avLst>
              <a:gd name="adj1" fmla="val 46694"/>
              <a:gd name="adj2" fmla="val -6849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Вопрос №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1ce9"/>
                </a:solidFill>
                <a:latin typeface="Arial"/>
              </a:rPr>
              <a:t>Орган пищеварения, который находится в брюшной пол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95"/>
          <p:cNvSpPr/>
          <p:nvPr/>
        </p:nvSpPr>
        <p:spPr>
          <a:xfrm>
            <a:off x="6827400" y="1366920"/>
            <a:ext cx="1073880" cy="459720"/>
          </a:xfrm>
          <a:prstGeom prst="rect">
            <a:avLst/>
          </a:prstGeom>
          <a:noFill/>
          <a:ln w="9360">
            <a:solidFill>
              <a:srgbClr val="e41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604"/>
          <p:cNvGrpSpPr/>
          <p:nvPr/>
        </p:nvGrpSpPr>
        <p:grpSpPr>
          <a:xfrm>
            <a:off x="3204720" y="4797360"/>
            <a:ext cx="4650120" cy="581400"/>
            <a:chOff x="3204720" y="4797360"/>
            <a:chExt cx="4650120" cy="581400"/>
          </a:xfrm>
        </p:grpSpPr>
        <p:sp>
          <p:nvSpPr>
            <p:cNvPr id="217" name="Text Box 596"/>
            <p:cNvSpPr/>
            <p:nvPr/>
          </p:nvSpPr>
          <p:spPr>
            <a:xfrm>
              <a:off x="3204720" y="479736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597"/>
            <p:cNvSpPr/>
            <p:nvPr/>
          </p:nvSpPr>
          <p:spPr>
            <a:xfrm>
              <a:off x="3708360" y="4797360"/>
              <a:ext cx="40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598"/>
            <p:cNvSpPr/>
            <p:nvPr/>
          </p:nvSpPr>
          <p:spPr>
            <a:xfrm>
              <a:off x="4284720" y="4797360"/>
              <a:ext cx="40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599"/>
            <p:cNvSpPr/>
            <p:nvPr/>
          </p:nvSpPr>
          <p:spPr>
            <a:xfrm>
              <a:off x="4932360" y="4797360"/>
              <a:ext cx="40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600"/>
            <p:cNvSpPr/>
            <p:nvPr/>
          </p:nvSpPr>
          <p:spPr>
            <a:xfrm>
              <a:off x="5508720" y="4797360"/>
              <a:ext cx="31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601"/>
            <p:cNvSpPr/>
            <p:nvPr/>
          </p:nvSpPr>
          <p:spPr>
            <a:xfrm>
              <a:off x="6084720" y="4797360"/>
              <a:ext cx="546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602"/>
            <p:cNvSpPr/>
            <p:nvPr/>
          </p:nvSpPr>
          <p:spPr>
            <a:xfrm>
              <a:off x="6732720" y="4797360"/>
              <a:ext cx="546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603"/>
            <p:cNvSpPr/>
            <p:nvPr/>
          </p:nvSpPr>
          <p:spPr>
            <a:xfrm>
              <a:off x="7308720" y="4797360"/>
              <a:ext cx="546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Rectangle 605"/>
          <p:cNvSpPr/>
          <p:nvPr/>
        </p:nvSpPr>
        <p:spPr>
          <a:xfrm>
            <a:off x="2556000" y="5516640"/>
            <a:ext cx="360360" cy="4334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06"/>
          <p:cNvSpPr/>
          <p:nvPr/>
        </p:nvSpPr>
        <p:spPr>
          <a:xfrm>
            <a:off x="4786200" y="3068640"/>
            <a:ext cx="4357800" cy="2087640"/>
          </a:xfrm>
          <a:prstGeom prst="wedgeRoundRectCallout">
            <a:avLst>
              <a:gd name="adj1" fmla="val 43879"/>
              <a:gd name="adj2" fmla="val -7494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Вопрос №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1ce9"/>
                </a:solidFill>
                <a:latin typeface="Arial"/>
              </a:rPr>
              <a:t>Каждому человеку нужно следить за своей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07"/>
          <p:cNvSpPr/>
          <p:nvPr/>
        </p:nvSpPr>
        <p:spPr>
          <a:xfrm>
            <a:off x="7968600" y="1341360"/>
            <a:ext cx="1073880" cy="459720"/>
          </a:xfrm>
          <a:prstGeom prst="rect">
            <a:avLst/>
          </a:prstGeom>
          <a:noFill/>
          <a:ln w="9360">
            <a:solidFill>
              <a:srgbClr val="e41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614"/>
          <p:cNvGrpSpPr/>
          <p:nvPr/>
        </p:nvGrpSpPr>
        <p:grpSpPr>
          <a:xfrm>
            <a:off x="3133080" y="5373720"/>
            <a:ext cx="3380400" cy="581400"/>
            <a:chOff x="3133080" y="5373720"/>
            <a:chExt cx="3380400" cy="581400"/>
          </a:xfrm>
        </p:grpSpPr>
        <p:sp>
          <p:nvSpPr>
            <p:cNvPr id="229" name="Text Box 608"/>
            <p:cNvSpPr/>
            <p:nvPr/>
          </p:nvSpPr>
          <p:spPr>
            <a:xfrm>
              <a:off x="3133080" y="53737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609"/>
            <p:cNvSpPr/>
            <p:nvPr/>
          </p:nvSpPr>
          <p:spPr>
            <a:xfrm>
              <a:off x="3709800" y="53737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610"/>
            <p:cNvSpPr/>
            <p:nvPr/>
          </p:nvSpPr>
          <p:spPr>
            <a:xfrm>
              <a:off x="4284720" y="5373720"/>
              <a:ext cx="501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611"/>
            <p:cNvSpPr/>
            <p:nvPr/>
          </p:nvSpPr>
          <p:spPr>
            <a:xfrm>
              <a:off x="4859280" y="5373720"/>
              <a:ext cx="50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612"/>
            <p:cNvSpPr/>
            <p:nvPr/>
          </p:nvSpPr>
          <p:spPr>
            <a:xfrm>
              <a:off x="5435640" y="5373720"/>
              <a:ext cx="501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613"/>
            <p:cNvSpPr/>
            <p:nvPr/>
          </p:nvSpPr>
          <p:spPr>
            <a:xfrm>
              <a:off x="6012000" y="5373720"/>
              <a:ext cx="501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Rectangle 615"/>
          <p:cNvSpPr/>
          <p:nvPr/>
        </p:nvSpPr>
        <p:spPr>
          <a:xfrm>
            <a:off x="1116000" y="6093000"/>
            <a:ext cx="503280" cy="431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616"/>
          <p:cNvSpPr/>
          <p:nvPr/>
        </p:nvSpPr>
        <p:spPr>
          <a:xfrm>
            <a:off x="4500720" y="4941720"/>
            <a:ext cx="4464000" cy="1440000"/>
          </a:xfrm>
          <a:prstGeom prst="wedgeRoundRectCallout">
            <a:avLst>
              <a:gd name="adj1" fmla="val 47120"/>
              <a:gd name="adj2" fmla="val -973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Вопрос №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1ce9"/>
                </a:solidFill>
                <a:latin typeface="Arial"/>
              </a:rPr>
              <a:t>Назовите орган вк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17"/>
          <p:cNvSpPr/>
          <p:nvPr/>
        </p:nvSpPr>
        <p:spPr>
          <a:xfrm>
            <a:off x="7885080" y="768240"/>
            <a:ext cx="1085760" cy="459720"/>
          </a:xfrm>
          <a:prstGeom prst="rect">
            <a:avLst/>
          </a:prstGeom>
          <a:noFill/>
          <a:ln w="9360">
            <a:solidFill>
              <a:srgbClr val="e41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1ce9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622"/>
          <p:cNvGrpSpPr/>
          <p:nvPr/>
        </p:nvGrpSpPr>
        <p:grpSpPr>
          <a:xfrm>
            <a:off x="1910160" y="6021360"/>
            <a:ext cx="2228760" cy="581400"/>
            <a:chOff x="1910160" y="6021360"/>
            <a:chExt cx="2228760" cy="581400"/>
          </a:xfrm>
        </p:grpSpPr>
        <p:sp>
          <p:nvSpPr>
            <p:cNvPr id="239" name="Text Box 618"/>
            <p:cNvSpPr/>
            <p:nvPr/>
          </p:nvSpPr>
          <p:spPr>
            <a:xfrm>
              <a:off x="1910160" y="6021360"/>
              <a:ext cx="47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619"/>
            <p:cNvSpPr/>
            <p:nvPr/>
          </p:nvSpPr>
          <p:spPr>
            <a:xfrm>
              <a:off x="2557440" y="6021360"/>
              <a:ext cx="43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620"/>
            <p:cNvSpPr/>
            <p:nvPr/>
          </p:nvSpPr>
          <p:spPr>
            <a:xfrm>
              <a:off x="3061080" y="6021360"/>
              <a:ext cx="57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1ce9"/>
                  </a:solidFill>
                  <a:latin typeface="Arial"/>
                </a:rPr>
                <a:t>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621"/>
            <p:cNvSpPr/>
            <p:nvPr/>
          </p:nvSpPr>
          <p:spPr>
            <a:xfrm>
              <a:off x="3709800" y="602136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3" name="Picture 156" descr="C:\Users\Acer\Pictures\Рисунок3.jpg"/>
          <p:cNvPicPr/>
          <p:nvPr/>
        </p:nvPicPr>
        <p:blipFill>
          <a:blip r:embed="rId2"/>
          <a:stretch/>
        </p:blipFill>
        <p:spPr>
          <a:xfrm>
            <a:off x="-287280" y="2401920"/>
            <a:ext cx="152064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29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42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51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64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73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86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95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308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317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330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39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352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361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374" nodeType="clickEffect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383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396" nodeType="clickEffect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405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418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427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4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200"/>
          <p:cNvPicPr/>
          <p:nvPr/>
        </p:nvPicPr>
        <p:blipFill>
          <a:blip r:embed="rId1"/>
          <a:stretch/>
        </p:blipFill>
        <p:spPr>
          <a:xfrm>
            <a:off x="250920" y="184320"/>
            <a:ext cx="8713800" cy="64641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69614617_03"/>
          <p:cNvPicPr/>
          <p:nvPr/>
        </p:nvPicPr>
        <p:blipFill>
          <a:blip r:embed="rId2"/>
          <a:stretch/>
        </p:blipFill>
        <p:spPr>
          <a:xfrm>
            <a:off x="3257640" y="549360"/>
            <a:ext cx="295884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3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5" descr="siren9"/>
          <p:cNvPicPr/>
          <p:nvPr/>
        </p:nvPicPr>
        <p:blipFill>
          <a:blip r:embed="rId1"/>
          <a:stretch/>
        </p:blipFill>
        <p:spPr>
          <a:xfrm>
            <a:off x="4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8"/>
          <p:cNvSpPr/>
          <p:nvPr/>
        </p:nvSpPr>
        <p:spPr>
          <a:xfrm>
            <a:off x="3995640" y="549360"/>
            <a:ext cx="475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Режим дня – это распорядок дел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действий, которые вы совершает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в течение дн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1"/>
          <p:cNvSpPr/>
          <p:nvPr/>
        </p:nvSpPr>
        <p:spPr>
          <a:xfrm>
            <a:off x="3732120" y="2160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Сове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доктора Пилюльк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"/>
          <p:cNvSpPr/>
          <p:nvPr/>
        </p:nvSpPr>
        <p:spPr>
          <a:xfrm>
            <a:off x="3017520" y="1279440"/>
            <a:ext cx="61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Спать не менее 8-9 часов в су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3"/>
          <p:cNvSpPr/>
          <p:nvPr/>
        </p:nvSpPr>
        <p:spPr>
          <a:xfrm>
            <a:off x="3540240" y="1968480"/>
            <a:ext cx="53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итаться в одно и то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время   4-5 раз в д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4"/>
          <p:cNvSpPr/>
          <p:nvPr/>
        </p:nvSpPr>
        <p:spPr>
          <a:xfrm>
            <a:off x="3265560" y="3141720"/>
            <a:ext cx="575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Находиться на свежем воздух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не меньше 2 ча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5"/>
          <p:cNvSpPr/>
          <p:nvPr/>
        </p:nvSpPr>
        <p:spPr>
          <a:xfrm>
            <a:off x="3265560" y="4245120"/>
            <a:ext cx="550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Чередовать учёбу или рабо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с отдых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6"/>
          <p:cNvSpPr/>
          <p:nvPr/>
        </p:nvSpPr>
        <p:spPr>
          <a:xfrm>
            <a:off x="3334320" y="5346720"/>
            <a:ext cx="55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Как можно больше двига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7" descr="69614617_03"/>
          <p:cNvPicPr/>
          <p:nvPr/>
        </p:nvPicPr>
        <p:blipFill>
          <a:blip r:embed="rId2"/>
          <a:stretch/>
        </p:blipFill>
        <p:spPr>
          <a:xfrm>
            <a:off x="0" y="1052640"/>
            <a:ext cx="3152880" cy="51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3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8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3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2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3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6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3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0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3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5" descr="siren9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ANd9GcQadv1LELzPbHi0ku-o1GSgWd7fYyDqUAIGG35_EwvehrMBGOAc4A"/>
          <p:cNvPicPr/>
          <p:nvPr/>
        </p:nvPicPr>
        <p:blipFill>
          <a:blip r:embed="rId2"/>
          <a:stretch/>
        </p:blipFill>
        <p:spPr>
          <a:xfrm>
            <a:off x="6084720" y="2852640"/>
            <a:ext cx="2621160" cy="352908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971640" y="1052640"/>
            <a:ext cx="727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Личная гигиена – это те действия, выполняя которы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жители нашего города поддерживают своё тело и жилищ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в чистоте и поряд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5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ANd9GcQadv1LELzPbHi0ku-o1GSgWd7fYyDqUAIGG35_EwvehrMBGOAc4A"/>
          <p:cNvPicPr/>
          <p:nvPr/>
        </p:nvPicPr>
        <p:blipFill>
          <a:blip r:embed="rId2"/>
          <a:stretch/>
        </p:blipFill>
        <p:spPr>
          <a:xfrm>
            <a:off x="179280" y="3141720"/>
            <a:ext cx="2562480" cy="35290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3" descr="dog004"/>
          <p:cNvPicPr/>
          <p:nvPr/>
        </p:nvPicPr>
        <p:blipFill>
          <a:blip r:embed="rId3"/>
          <a:stretch/>
        </p:blipFill>
        <p:spPr>
          <a:xfrm>
            <a:off x="4529160" y="3686040"/>
            <a:ext cx="2592360" cy="2419560"/>
          </a:xfrm>
          <a:prstGeom prst="rect">
            <a:avLst/>
          </a:prstGeom>
          <a:ln w="0">
            <a:noFill/>
          </a:ln>
        </p:spPr>
      </p:pic>
      <p:sp>
        <p:nvSpPr>
          <p:cNvPr id="261" name="Скругленный прямоугольник 3"/>
          <p:cNvSpPr/>
          <p:nvPr/>
        </p:nvSpPr>
        <p:spPr>
          <a:xfrm>
            <a:off x="692280" y="401760"/>
            <a:ext cx="2016000" cy="650880"/>
          </a:xfrm>
          <a:prstGeom prst="roundRect">
            <a:avLst>
              <a:gd name="adj" fmla="val 16667"/>
            </a:avLst>
          </a:prstGeom>
          <a:solidFill>
            <a:srgbClr val="7575d1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лотен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Скругленный прямоугольник 4"/>
          <p:cNvSpPr/>
          <p:nvPr/>
        </p:nvSpPr>
        <p:spPr>
          <a:xfrm>
            <a:off x="6372360" y="401760"/>
            <a:ext cx="2520720" cy="650880"/>
          </a:xfrm>
          <a:prstGeom prst="roundRect">
            <a:avLst>
              <a:gd name="adj" fmla="val 16667"/>
            </a:avLst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убная п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Скругленный прямоугольник 7"/>
          <p:cNvSpPr/>
          <p:nvPr/>
        </p:nvSpPr>
        <p:spPr>
          <a:xfrm>
            <a:off x="3220920" y="401760"/>
            <a:ext cx="2592360" cy="650880"/>
          </a:xfrm>
          <a:prstGeom prst="roundRect">
            <a:avLst>
              <a:gd name="adj" fmla="val 16667"/>
            </a:avLst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убная Щё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Блок-схема: альтернативный процесс 8"/>
          <p:cNvSpPr/>
          <p:nvPr/>
        </p:nvSpPr>
        <p:spPr>
          <a:xfrm>
            <a:off x="703440" y="1521000"/>
            <a:ext cx="2016000" cy="612720"/>
          </a:xfrm>
          <a:prstGeom prst="flowChartAlternateProcess">
            <a:avLst/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Шампу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Блок-схема: альтернативный процесс 9"/>
          <p:cNvSpPr/>
          <p:nvPr/>
        </p:nvSpPr>
        <p:spPr>
          <a:xfrm>
            <a:off x="3203640" y="1521000"/>
            <a:ext cx="2592360" cy="612720"/>
          </a:xfrm>
          <a:prstGeom prst="flowChartAlternateProcess">
            <a:avLst/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ы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Блок-схема: альтернативный процесс 10"/>
          <p:cNvSpPr/>
          <p:nvPr/>
        </p:nvSpPr>
        <p:spPr>
          <a:xfrm>
            <a:off x="6372360" y="1521000"/>
            <a:ext cx="2520720" cy="612720"/>
          </a:xfrm>
          <a:prstGeom prst="flowChartAlternateProcess">
            <a:avLst/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оча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Блок-схема: альтернативный процесс 11"/>
          <p:cNvSpPr/>
          <p:nvPr/>
        </p:nvSpPr>
        <p:spPr>
          <a:xfrm>
            <a:off x="3220920" y="2529000"/>
            <a:ext cx="2575080" cy="612720"/>
          </a:xfrm>
          <a:prstGeom prst="flowChartAlternateProcess">
            <a:avLst/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чё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Блок-схема: альтернативный процесс 12"/>
          <p:cNvSpPr/>
          <p:nvPr/>
        </p:nvSpPr>
        <p:spPr>
          <a:xfrm>
            <a:off x="703440" y="2489040"/>
            <a:ext cx="2016000" cy="613080"/>
          </a:xfrm>
          <a:prstGeom prst="flowChartAlternateProcess">
            <a:avLst/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аре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Блок-схема: альтернативный процесс 13"/>
          <p:cNvSpPr/>
          <p:nvPr/>
        </p:nvSpPr>
        <p:spPr>
          <a:xfrm>
            <a:off x="6372360" y="2489040"/>
            <a:ext cx="2520720" cy="613080"/>
          </a:xfrm>
          <a:prstGeom prst="flowChartAlternateProcess">
            <a:avLst/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о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3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7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1" dur="2000" fill="hold"/>
                                        <p:tgtEl>
                                          <p:spTgt spid="2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3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7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1" dur="2000" fill="hold"/>
                                        <p:tgtEl>
                                          <p:spTgt spid="2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3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58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591" dur="2000" fill="hold"/>
                                        <p:tgtEl>
                                          <p:spTgt spid="2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5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5" descr="siren9"/>
          <p:cNvPicPr/>
          <p:nvPr/>
        </p:nvPicPr>
        <p:blipFill>
          <a:blip r:embed="rId1"/>
          <a:stretch/>
        </p:blipFill>
        <p:spPr>
          <a:xfrm>
            <a:off x="-324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15"/>
          <p:cNvPicPr/>
          <p:nvPr/>
        </p:nvPicPr>
        <p:blipFill>
          <a:blip r:embed="rId2"/>
          <a:stretch/>
        </p:blipFill>
        <p:spPr>
          <a:xfrm>
            <a:off x="6434280" y="414360"/>
            <a:ext cx="2230200" cy="3887640"/>
          </a:xfrm>
          <a:prstGeom prst="rect">
            <a:avLst/>
          </a:prstGeom>
          <a:ln w="0">
            <a:noFill/>
          </a:ln>
        </p:spPr>
      </p:pic>
      <p:sp>
        <p:nvSpPr>
          <p:cNvPr id="272" name="TextBox 1"/>
          <p:cNvSpPr/>
          <p:nvPr/>
        </p:nvSpPr>
        <p:spPr>
          <a:xfrm>
            <a:off x="530640" y="1362240"/>
            <a:ext cx="5034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Когда мы едим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Они работаю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Когда не едим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Они отдыхаю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Не будем их чисти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Они заболею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Что эт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"/>
          <p:cNvSpPr/>
          <p:nvPr/>
        </p:nvSpPr>
        <p:spPr>
          <a:xfrm>
            <a:off x="6376680" y="4559400"/>
            <a:ext cx="245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73"/>
                </a:solidFill>
                <a:latin typeface="Arial"/>
              </a:rPr>
              <a:t>Меду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3"/>
          <p:cNvSpPr/>
          <p:nvPr/>
        </p:nvSpPr>
        <p:spPr>
          <a:xfrm>
            <a:off x="1226520" y="453960"/>
            <a:ext cx="39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Советы Меду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4"/>
          <p:cNvSpPr/>
          <p:nvPr/>
        </p:nvSpPr>
        <p:spPr>
          <a:xfrm>
            <a:off x="250920" y="103824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Не грызите зубами орехи, сахар, твёрдые конфеты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5"/>
          <p:cNvSpPr/>
          <p:nvPr/>
        </p:nvSpPr>
        <p:spPr>
          <a:xfrm>
            <a:off x="179280" y="2205000"/>
            <a:ext cx="583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осле горячей пищи не пейте сразу холодную воду, и наоборот, после холодного мороженого, не пей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горячий чай, иначе на зубах появятся трещ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6"/>
          <p:cNvSpPr/>
          <p:nvPr/>
        </p:nvSpPr>
        <p:spPr>
          <a:xfrm>
            <a:off x="204840" y="512136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Не менее двух раз в год проверяйте состояние зубов у врач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0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1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3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3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27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3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3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3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5" descr="siren9"/>
          <p:cNvPicPr/>
          <p:nvPr/>
        </p:nvPicPr>
        <p:blipFill>
          <a:blip r:embed="rId1"/>
          <a:stretch/>
        </p:blipFill>
        <p:spPr>
          <a:xfrm>
            <a:off x="0" y="0"/>
            <a:ext cx="9113760" cy="68468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" descr="http://illustrators.ru/illustrations/128491_original.jpg?1298831825"/>
          <p:cNvPicPr/>
          <p:nvPr/>
        </p:nvPicPr>
        <p:blipFill>
          <a:blip r:embed="rId2"/>
          <a:stretch/>
        </p:blipFill>
        <p:spPr>
          <a:xfrm>
            <a:off x="2556000" y="692280"/>
            <a:ext cx="380988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5" descr="siren9"/>
          <p:cNvPicPr/>
          <p:nvPr/>
        </p:nvPicPr>
        <p:blipFill>
          <a:blip r:embed="rId1"/>
          <a:stretch/>
        </p:blipFill>
        <p:spPr>
          <a:xfrm>
            <a:off x="0" y="0"/>
            <a:ext cx="9113760" cy="68468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C:\Users\Acer\Pictures\загруженное.jpg"/>
          <p:cNvPicPr/>
          <p:nvPr/>
        </p:nvPicPr>
        <p:blipFill>
          <a:blip r:embed="rId2"/>
          <a:stretch/>
        </p:blipFill>
        <p:spPr>
          <a:xfrm>
            <a:off x="5481720" y="333360"/>
            <a:ext cx="3309840" cy="3311640"/>
          </a:xfrm>
          <a:prstGeom prst="rect">
            <a:avLst/>
          </a:prstGeom>
          <a:ln w="0">
            <a:noFill/>
          </a:ln>
        </p:spPr>
      </p:pic>
      <p:sp>
        <p:nvSpPr>
          <p:cNvPr id="282" name="TextBox 1"/>
          <p:cNvSpPr/>
          <p:nvPr/>
        </p:nvSpPr>
        <p:spPr>
          <a:xfrm>
            <a:off x="375120" y="547560"/>
            <a:ext cx="480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Советы  Весёлого Пов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225720" y="1239840"/>
            <a:ext cx="484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Есть нужно в одно и тож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ремя  4-5 раз  в ден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342360" y="2446200"/>
            <a:ext cx="680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тарайтесь больш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употребл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вощей и фрукт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ейте молоко и кефир, ешьте твор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5"/>
          <p:cNvSpPr/>
          <p:nvPr/>
        </p:nvSpPr>
        <p:spPr>
          <a:xfrm>
            <a:off x="223560" y="4378320"/>
            <a:ext cx="881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Ешьте поменьше сладкого, жирного и солёного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6"/>
          <p:cNvSpPr/>
          <p:nvPr/>
        </p:nvSpPr>
        <p:spPr>
          <a:xfrm>
            <a:off x="2357280" y="5445000"/>
            <a:ext cx="455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Будьте здоров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3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3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3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3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5" descr="200"/>
          <p:cNvPicPr/>
          <p:nvPr/>
        </p:nvPicPr>
        <p:blipFill>
          <a:blip r:embed="rId1"/>
          <a:stretch/>
        </p:blipFill>
        <p:spPr>
          <a:xfrm>
            <a:off x="250920" y="184320"/>
            <a:ext cx="8713800" cy="64641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" descr="69614617_03"/>
          <p:cNvPicPr/>
          <p:nvPr/>
        </p:nvPicPr>
        <p:blipFill>
          <a:blip r:embed="rId2"/>
          <a:stretch/>
        </p:blipFill>
        <p:spPr>
          <a:xfrm>
            <a:off x="2411280" y="1557360"/>
            <a:ext cx="2070360" cy="36496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" descr="http://neznaika.shop.by/images/neznayka.gif"/>
          <p:cNvPicPr/>
          <p:nvPr/>
        </p:nvPicPr>
        <p:blipFill>
          <a:blip r:embed="rId3"/>
          <a:stretch/>
        </p:blipFill>
        <p:spPr>
          <a:xfrm>
            <a:off x="5508720" y="2276640"/>
            <a:ext cx="239544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3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0"/>
          <p:cNvSpPr/>
          <p:nvPr/>
        </p:nvSpPr>
        <p:spPr>
          <a:xfrm>
            <a:off x="6443640" y="333360"/>
            <a:ext cx="14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3"/>
          <p:cNvSpPr/>
          <p:nvPr/>
        </p:nvSpPr>
        <p:spPr>
          <a:xfrm>
            <a:off x="6516720" y="5373720"/>
            <a:ext cx="90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2"/>
          <p:cNvSpPr/>
          <p:nvPr/>
        </p:nvSpPr>
        <p:spPr>
          <a:xfrm>
            <a:off x="1042920" y="189000"/>
            <a:ext cx="5724720" cy="65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Дорогие мои дети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Я пишу вам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письмецо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Я прошу вас, мойте чащ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Ваши руки и лиц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Всё равно, какой водою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Кипячённой, ключев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Из реки, иль из колодц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Или просто дождево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Нужно мыться непременн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Утром, вечером и днём –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Перед каждою едою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После сна и перед сном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0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Rectangle 3"/>
          <p:cNvSpPr/>
          <p:nvPr/>
        </p:nvSpPr>
        <p:spPr>
          <a:xfrm>
            <a:off x="0" y="1227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google.kz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imgres?q=картинка+мойдодыра&amp;hl=ru&amp;sa=X&amp;biw=1024&amp;bih=677&amp;tbm=isch&amp;prmd=imvns&amp;tbnid=s8OtqMWJuOZi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0" y="7704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google.kz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imgres?q=сказочная+карта&amp;hl=ru&amp;gbv=2&amp;biw=1024&amp;bih=677&amp;tbm=isch&amp;tbnid=QeCJ-Y7oV1AQoM:&amp;imgrefurl=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0" y="14194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google.kz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imgres?q=герои+из+незнайки&amp;num=10&amp;hl=ru&amp;gbv=2&amp;biw=1024&amp;bih=677&amp;tbm=isch&amp;tbnid=4dpQOnCBdSu1SM:&amp;imgref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0" y="22046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www.google.kz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imgres?q=знайка&amp;num=10&amp;hl=ru&amp;gbv=2&amp;biw=1024&amp;bih=677&amp;tbm=isch&amp;tbnid=Bmtor5dGRdy9XM:&amp;imgrefurl=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www.yarf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0" y="2970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www.google.kz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imgres?q=цветочный+город&amp;num=10&amp;hl=ru&amp;gbv=2&amp;biw=1024&amp;bih=677&amp;tbm=isch&amp;tbnid=vRW8GR8K4Sn-LM:&amp;imgrefurl=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0" y="36518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www.google.kz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imgres?q=доктор+Медуница+из+цветочного+города&amp;hl=ru&amp;gbv=2&amp;biw=1024&amp;bih=677&amp;tbm=isch&amp;tbnid=yiFGkiHuNP6YoM:&amp;imgrefurl=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://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9"/>
          <p:cNvSpPr/>
          <p:nvPr/>
        </p:nvSpPr>
        <p:spPr>
          <a:xfrm>
            <a:off x="179280" y="4299480"/>
            <a:ext cx="871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www.google.kz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imgres?q=рисованный+щенок&amp;hl=ru&amp;gbv=2&amp;biw=1024&amp;bih=677&amp;tbm=isch&amp;tbnid=qcVknqOoqLjHSM:&amp;imgrefurl=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dribs-n-drabs.uco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1"/>
          <p:cNvSpPr/>
          <p:nvPr/>
        </p:nvSpPr>
        <p:spPr>
          <a:xfrm>
            <a:off x="250920" y="507852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www.google.ru/search?q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=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карти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мультяшного+спортсмена&amp;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2"/>
              </a:rPr>
              <a:t>hl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2"/>
          <p:cNvSpPr/>
          <p:nvPr/>
        </p:nvSpPr>
        <p:spPr>
          <a:xfrm>
            <a:off x="139680" y="5448240"/>
            <a:ext cx="802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3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4"/>
              </a:rPr>
              <a:t>www.google.ru/search?q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5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инка+Весёлый+повар&amp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3"/>
          <p:cNvSpPr/>
          <p:nvPr/>
        </p:nvSpPr>
        <p:spPr>
          <a:xfrm>
            <a:off x="248760" y="5861160"/>
            <a:ext cx="278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neznaika.shop.by/2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3190320" y="189000"/>
            <a:ext cx="620208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Тритесь губкой и мочалк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Потерпите – не беда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И чернила, и варень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Смоют мыло и во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Дорогие мои дети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Очень, очень вас прошу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Мойтесь чище, мойтесь чаще –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Я грязнуль не вынош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Не подам руки грязнуля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Не поеду в гости к ним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Сам я моюсь очень част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До свиданья.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C:\Users\Acer\Pictures\Мойдодыр.jpg"/>
          <p:cNvPicPr/>
          <p:nvPr/>
        </p:nvPicPr>
        <p:blipFill>
          <a:blip r:embed="rId2"/>
          <a:stretch/>
        </p:blipFill>
        <p:spPr>
          <a:xfrm>
            <a:off x="179280" y="1628640"/>
            <a:ext cx="301464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7440" y="876240"/>
            <a:ext cx="6496200" cy="219240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УСКОЛЬЗАЕТ, КАК ЖИВОЕ,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НО НЕ ВЫПУЩУ ЕГО Я.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БЕЛОЙ ПЕНОЙ ПЕНИТСЯ,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РУКИ МЫТЬ НЕ ЛЕНИТ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"/>
          <p:cNvSpPr/>
          <p:nvPr/>
        </p:nvSpPr>
        <p:spPr>
          <a:xfrm>
            <a:off x="3557520" y="3276720"/>
            <a:ext cx="5262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Дождик теплый и густой: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Этот дождик не простой,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Он без туч, без облаков,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Целый день идти готов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C:\Users\Acer\Pictures\душ.jpg"/>
          <p:cNvPicPr/>
          <p:nvPr/>
        </p:nvPicPr>
        <p:blipFill>
          <a:blip r:embed="rId2"/>
          <a:stretch/>
        </p:blipFill>
        <p:spPr>
          <a:xfrm>
            <a:off x="6516720" y="620640"/>
            <a:ext cx="2016000" cy="2481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C:\Users\Acer\Pictures\мыло.jpg"/>
          <p:cNvPicPr/>
          <p:nvPr/>
        </p:nvPicPr>
        <p:blipFill>
          <a:blip r:embed="rId3"/>
          <a:stretch/>
        </p:blipFill>
        <p:spPr>
          <a:xfrm>
            <a:off x="165240" y="3416400"/>
            <a:ext cx="3228840" cy="221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3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2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1"/>
          <p:cNvSpPr/>
          <p:nvPr/>
        </p:nvSpPr>
        <p:spPr>
          <a:xfrm>
            <a:off x="611280" y="83664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Плещет теплая волна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В берега из чугуна: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Угадайте, вспомните,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Что за море в комнате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468360" y="344952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Резинка – Акулинка</a:t>
            </a:r>
            <a:br>
              <a:rPr sz="2800"/>
            </a:b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ошла гулять по спинке.</a:t>
            </a:r>
            <a:br>
              <a:rPr sz="2800"/>
            </a:b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А пока она гуляла,</a:t>
            </a:r>
            <a:br>
              <a:rPr sz="2800"/>
            </a:b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пинка розовая стал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C:\Users\Acer\Pictures\ванна.jpg"/>
          <p:cNvPicPr/>
          <p:nvPr/>
        </p:nvPicPr>
        <p:blipFill>
          <a:blip r:embed="rId2"/>
          <a:stretch/>
        </p:blipFill>
        <p:spPr>
          <a:xfrm>
            <a:off x="5183280" y="3568680"/>
            <a:ext cx="2989080" cy="2522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C:\Users\Acer\Pictures\Рисунок1.jpg"/>
          <p:cNvPicPr/>
          <p:nvPr/>
        </p:nvPicPr>
        <p:blipFill>
          <a:blip r:embed="rId3"/>
          <a:stretch/>
        </p:blipFill>
        <p:spPr>
          <a:xfrm>
            <a:off x="5724360" y="692280"/>
            <a:ext cx="1501920" cy="324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"/>
          <p:cNvSpPr/>
          <p:nvPr/>
        </p:nvSpPr>
        <p:spPr>
          <a:xfrm>
            <a:off x="324000" y="476280"/>
            <a:ext cx="518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Хожу, брожу не по лесам,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А по усам, по волосам,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И зубы у меня длинней,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Чем у волков и у мыше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4"/>
          <p:cNvSpPr/>
          <p:nvPr/>
        </p:nvSpPr>
        <p:spPr>
          <a:xfrm>
            <a:off x="297000" y="292428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Говорит дорожка –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Два вышитых конца: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Помылься хоть немножко,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Чернила смой с лица! —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Иначе ты в полдня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Испачкаешь меня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C:\Users\Acer\Pictures\расчёска.jpg"/>
          <p:cNvPicPr/>
          <p:nvPr/>
        </p:nvPicPr>
        <p:blipFill>
          <a:blip r:embed="rId2"/>
          <a:stretch/>
        </p:blipFill>
        <p:spPr>
          <a:xfrm>
            <a:off x="5556240" y="3510000"/>
            <a:ext cx="2519280" cy="1888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C:\Users\Acer\Pictures\полотен.jpg"/>
          <p:cNvPicPr/>
          <p:nvPr/>
        </p:nvPicPr>
        <p:blipFill>
          <a:blip r:embed="rId3"/>
          <a:stretch/>
        </p:blipFill>
        <p:spPr>
          <a:xfrm>
            <a:off x="5546880" y="803160"/>
            <a:ext cx="2625480" cy="262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1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25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1"/>
          <p:cNvSpPr/>
          <p:nvPr/>
        </p:nvSpPr>
        <p:spPr>
          <a:xfrm>
            <a:off x="468360" y="76500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Костяная спинка,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Жесткая щетинка,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С мятной пастой дружит,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Нам усердно служит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3564000" y="903240"/>
            <a:ext cx="493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Лёг в карман и караулю – 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Рёву, плаксу и грязнулю.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Им утру потоки слёз, 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Не забуду и про н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C:\Users\Acer\Pictures\зуб.jpg"/>
          <p:cNvPicPr/>
          <p:nvPr/>
        </p:nvPicPr>
        <p:blipFill>
          <a:blip r:embed="rId2"/>
          <a:stretch/>
        </p:blipFill>
        <p:spPr>
          <a:xfrm>
            <a:off x="5508720" y="3213000"/>
            <a:ext cx="2133360" cy="2438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C:\Users\Acer\Pictures\платок.jpg"/>
          <p:cNvPicPr/>
          <p:nvPr/>
        </p:nvPicPr>
        <p:blipFill>
          <a:blip r:embed="rId3"/>
          <a:stretch/>
        </p:blipFill>
        <p:spPr>
          <a:xfrm>
            <a:off x="981000" y="3403440"/>
            <a:ext cx="2622600" cy="23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2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2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2"/>
          <p:cNvSpPr/>
          <p:nvPr/>
        </p:nvSpPr>
        <p:spPr>
          <a:xfrm>
            <a:off x="395280" y="74448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Белая река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В пещеру затекла,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Чистит добел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395280" y="303228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Мойдодыру я родня,</a:t>
            </a:r>
            <a:br>
              <a:rPr sz="2800"/>
            </a:b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Отверни-ка ты меня,</a:t>
            </a:r>
            <a:br>
              <a:rPr sz="2800"/>
            </a:b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И холодною водою</a:t>
            </a:r>
            <a:br>
              <a:rPr sz="2800"/>
            </a:b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Живо я тебя умою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C:\Users\Acer\Pictures\паста.jpg"/>
          <p:cNvPicPr/>
          <p:nvPr/>
        </p:nvPicPr>
        <p:blipFill>
          <a:blip r:embed="rId2"/>
          <a:stretch/>
        </p:blipFill>
        <p:spPr>
          <a:xfrm>
            <a:off x="4602240" y="3179880"/>
            <a:ext cx="3224160" cy="2625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C:\Users\Acer\Pictures\кран.jpg"/>
          <p:cNvPicPr/>
          <p:nvPr/>
        </p:nvPicPr>
        <p:blipFill>
          <a:blip r:embed="rId3"/>
          <a:stretch/>
        </p:blipFill>
        <p:spPr>
          <a:xfrm>
            <a:off x="5548320" y="426960"/>
            <a:ext cx="2278080" cy="26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3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siren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1"/>
          <p:cNvSpPr/>
          <p:nvPr/>
        </p:nvSpPr>
        <p:spPr>
          <a:xfrm>
            <a:off x="4140360" y="76500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Есть в комнате портрет,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Во всём на вас похожий.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Засмейтесь - и в ответ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Он засмеётся то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4122720" y="2116080"/>
            <a:ext cx="484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Он — любитель чистоты.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Умывался ль утром ты?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Если — нет, тогда приказ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Даст мочалкам он тотчас,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Грозный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строгий командир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Умывальник ..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C:\Users\Acer\Pictures\зер.jpg"/>
          <p:cNvPicPr/>
          <p:nvPr/>
        </p:nvPicPr>
        <p:blipFill>
          <a:blip r:embed="rId2"/>
          <a:stretch/>
        </p:blipFill>
        <p:spPr>
          <a:xfrm>
            <a:off x="1116000" y="2624040"/>
            <a:ext cx="2112840" cy="2522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C:\Users\Acer\Pictures\Мойдодыр.jpg"/>
          <p:cNvPicPr/>
          <p:nvPr/>
        </p:nvPicPr>
        <p:blipFill>
          <a:blip r:embed="rId3"/>
          <a:stretch/>
        </p:blipFill>
        <p:spPr>
          <a:xfrm>
            <a:off x="755640" y="1268280"/>
            <a:ext cx="3014640" cy="36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2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5:17:11Z</dcterms:created>
  <dc:creator>user</dc:creator>
  <dc:description/>
  <dc:language>en-US</dc:language>
  <cp:lastModifiedBy>user</cp:lastModifiedBy>
  <dcterms:modified xsi:type="dcterms:W3CDTF">2011-11-22T13:55:28Z</dcterms:modified>
  <cp:revision>85</cp:revision>
  <dc:subject/>
  <dc:title>Слайд 1</dc:title>
</cp:coreProperties>
</file>