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0.wmf" ContentType="image/x-wm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5EE-9E27-438F-8DE7-033D6714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C22-47E3-4127-A3F7-17BA4EB7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2AA-9BB8-4D23-A0AB-F4C64198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7EA-5BF2-4DD4-87C5-F6C00AE9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35A-9E2A-46FE-A0E0-180E6A83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A7B-768D-4D57-B818-7886E903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F04-E4C1-4960-A8FA-17C35776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A47-FBAE-4558-B38E-DF69ACF1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C5B-D569-46CC-BFAA-E6E29C6A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102-ED73-4FBD-BC25-D9121AD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718-95F2-43B6-B454-AEB6D6D4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20C-DC84-40AB-B915-4B7AE72A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2F04-97AB-4141-A5BD-BBE482ED9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2008.thebestofrussia.ru/site/i/preview/big/9/b/9477.pn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ranimashek.com/photo/40-0-9574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и ученицы 6А класса лингвистической гимназии города Ки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ёпова – Москвина Кристина и Сыкчина Евг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474480"/>
            <a:ext cx="92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АРОДНЫЕ ПРИМЕТЫ 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 УСЛОВИЯХ 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ОВРЕМЕННОГО КЛИМАТА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А ПРИМЕРЕ ПОГОДЫ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КИРОВСКОЙ ОБЛАСТИ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pic>
        <p:nvPicPr>
          <p:cNvPr id="43" name="Picture 5" descr="bs01145_"/>
          <p:cNvPicPr/>
          <p:nvPr/>
        </p:nvPicPr>
        <p:blipFill>
          <a:blip r:embed="rId1"/>
          <a:stretch/>
        </p:blipFill>
        <p:spPr>
          <a:xfrm>
            <a:off x="0" y="4076640"/>
            <a:ext cx="3100320" cy="2444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Итого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611280" y="1341360"/>
          <a:ext cx="7775640" cy="37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777564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7"/>
          <p:cNvSpPr/>
          <p:nvPr/>
        </p:nvSpPr>
        <p:spPr>
          <a:xfrm>
            <a:off x="684360" y="5091120"/>
            <a:ext cx="770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– 63,5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Несовпадение – 37,5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акова погода 1 апреля, такова и 1 октября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684360" y="2276640"/>
          <a:ext cx="7559640" cy="40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76640"/>
                    <a:ext cx="755964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6"/>
          <p:cNvSpPr/>
          <p:nvPr/>
        </p:nvSpPr>
        <p:spPr>
          <a:xfrm>
            <a:off x="971640" y="148428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42f0"/>
                </a:solidFill>
                <a:latin typeface="Arial"/>
              </a:rPr>
              <a:t>Частота совпадений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Если 3 декабря – снег, то 3 июня дождь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395280" y="2349360"/>
          <a:ext cx="8353440" cy="41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35344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6"/>
          <p:cNvSpPr/>
          <p:nvPr/>
        </p:nvSpPr>
        <p:spPr>
          <a:xfrm>
            <a:off x="1835280" y="1628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42f0"/>
                </a:solidFill>
                <a:latin typeface="Arial"/>
              </a:rPr>
              <a:t>Частота совпадений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ты, где рассматривается один показатель погоды, например осадки, совпадают в более чем 6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ссмотрении нескольких характеристик погоды высока вероятность совпадения по отдельным характеристикам, например: снег – 60%, ясное небо – 60%, по направлению ветра -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 тем следует отметить, что по двум характеристикам и более совпадение наблюдается р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олгосрочном наблюдении совместимость примет составляет 50 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2276640"/>
            <a:ext cx="851076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1" name="Picture 7" descr="солнце"/>
          <p:cNvPicPr/>
          <p:nvPr/>
        </p:nvPicPr>
        <p:blipFill>
          <a:blip r:embed="rId1"/>
          <a:stretch/>
        </p:blipFill>
        <p:spPr>
          <a:xfrm>
            <a:off x="395280" y="4359240"/>
            <a:ext cx="2265480" cy="249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babochka"/>
          <p:cNvPicPr/>
          <p:nvPr/>
        </p:nvPicPr>
        <p:blipFill>
          <a:blip r:embed="rId2"/>
          <a:stretch/>
        </p:blipFill>
        <p:spPr>
          <a:xfrm>
            <a:off x="6354720" y="0"/>
            <a:ext cx="27892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5710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3360" y="2133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чить соответствие некоторых народных примет современным  климатическим условиям в пределах Кировской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солнце"/>
          <p:cNvPicPr/>
          <p:nvPr/>
        </p:nvPicPr>
        <p:blipFill>
          <a:blip r:embed="rId1"/>
          <a:stretch/>
        </p:blipFill>
        <p:spPr>
          <a:xfrm>
            <a:off x="900000" y="4365720"/>
            <a:ext cx="190512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babochka"/>
          <p:cNvPicPr/>
          <p:nvPr/>
        </p:nvPicPr>
        <p:blipFill>
          <a:blip r:embed="rId2"/>
          <a:stretch/>
        </p:blipFill>
        <p:spPr>
          <a:xfrm>
            <a:off x="5796000" y="0"/>
            <a:ext cx="35812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5494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ор народных примет, пригодных для предсказания погоды на территории Кировск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сти наблюдение за пог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вить тенденции соответствия погоды отдельных дней к народным при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ываясь на анализированную информацию, сделать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abochka"/>
          <p:cNvPicPr/>
          <p:nvPr/>
        </p:nvPicPr>
        <p:blipFill>
          <a:blip r:embed="rId1"/>
          <a:stretch/>
        </p:blipFill>
        <p:spPr>
          <a:xfrm>
            <a:off x="6588000" y="-603360"/>
            <a:ext cx="2789280" cy="248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солнце"/>
          <p:cNvPicPr/>
          <p:nvPr/>
        </p:nvPicPr>
        <p:blipFill>
          <a:blip r:embed="rId2"/>
          <a:stretch/>
        </p:blipFill>
        <p:spPr>
          <a:xfrm>
            <a:off x="0" y="5084640"/>
            <a:ext cx="19051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нег идёт большими хлопьями – к ненастью и мокроте. Ясное небо - к морозу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341360"/>
          <a:ext cx="8640720" cy="4532400"/>
        </p:xfrm>
        <a:graphic>
          <a:graphicData uri="http://schemas.openxmlformats.org/drawingml/2006/table">
            <a:tbl>
              <a:tblPr/>
              <a:tblGrid>
                <a:gridCol w="2087640"/>
                <a:gridCol w="3385800"/>
                <a:gridCol w="3167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ения, не совпадения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декабря 2010года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было ясное неб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ервой половине дня было морозно, во второй - стало тепле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декабря 2010 года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ал снег большими хлопьям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х был влажный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января 2011 года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ал снег большими хлопьям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лице было тепло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января 2011 года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было ясное неб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день был морозный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января 2011 года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было ясное неб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день был морозный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68"/>
          <p:cNvSpPr/>
          <p:nvPr/>
        </p:nvSpPr>
        <p:spPr>
          <a:xfrm>
            <a:off x="324000" y="60958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-60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pic>
        <p:nvPicPr>
          <p:cNvPr id="55" name="Picture 76" descr="672490481"/>
          <p:cNvPicPr/>
          <p:nvPr/>
        </p:nvPicPr>
        <p:blipFill>
          <a:blip r:embed="rId1"/>
          <a:stretch/>
        </p:blipFill>
        <p:spPr>
          <a:xfrm flipH="1">
            <a:off x="7786800" y="4643280"/>
            <a:ext cx="135720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97080" y="259920"/>
            <a:ext cx="733716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оробьи дружно чирикают –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 оттепели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268280"/>
          <a:ext cx="8540640" cy="4432320"/>
        </p:xfrm>
        <a:graphic>
          <a:graphicData uri="http://schemas.openxmlformats.org/drawingml/2006/table">
            <a:tbl>
              <a:tblPr/>
              <a:tblGrid>
                <a:gridCol w="2846160"/>
                <a:gridCol w="2847960"/>
                <a:gridCol w="2846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ения, не совпадения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 чирикал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е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 чирикал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е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 чирикал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о холодать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2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 не чирикал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о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2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 не чирикал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о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76"/>
          <p:cNvSpPr/>
          <p:nvPr/>
        </p:nvSpPr>
        <p:spPr>
          <a:xfrm>
            <a:off x="395280" y="57340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– 80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pic>
        <p:nvPicPr>
          <p:cNvPr id="59" name="Picture 80" descr="Анимация воробьи"/>
          <p:cNvPicPr/>
          <p:nvPr/>
        </p:nvPicPr>
        <p:blipFill>
          <a:blip r:embed="rId1"/>
          <a:stretch/>
        </p:blipFill>
        <p:spPr>
          <a:xfrm>
            <a:off x="6624720" y="0"/>
            <a:ext cx="251928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блака редкие – будет ясно и холодно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0920" y="981000"/>
          <a:ext cx="8540640" cy="4518000"/>
        </p:xfrm>
        <a:graphic>
          <a:graphicData uri="http://schemas.openxmlformats.org/drawingml/2006/table">
            <a:tbl>
              <a:tblPr/>
              <a:tblGrid>
                <a:gridCol w="2846160"/>
                <a:gridCol w="2847960"/>
                <a:gridCol w="2846520"/>
              </a:tblGrid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ения, не совпадения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2.2010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а редк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ясно и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2.2010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а редк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ясно и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а редк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а часты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ясно и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а часты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47"/>
          <p:cNvSpPr/>
          <p:nvPr/>
        </p:nvSpPr>
        <p:spPr>
          <a:xfrm>
            <a:off x="324000" y="57340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– 60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оли дует северный ветер – будет стужа, южный – к теплу, западный – к мокроте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1484280"/>
          <a:ext cx="8540640" cy="4083120"/>
        </p:xfrm>
        <a:graphic>
          <a:graphicData uri="http://schemas.openxmlformats.org/drawingml/2006/table">
            <a:tbl>
              <a:tblPr/>
              <a:tblGrid>
                <a:gridCol w="2846160"/>
                <a:gridCol w="2847960"/>
                <a:gridCol w="2846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ения, не совпадения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2.2010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л северный ветер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а стужа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л северный ветер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е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л западный ветер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ёл сырой снег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2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л западный ветер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ёл сырой снег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2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л южный ветер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62"/>
          <p:cNvSpPr/>
          <p:nvPr/>
        </p:nvSpPr>
        <p:spPr>
          <a:xfrm>
            <a:off x="647640" y="6095880"/>
            <a:ext cx="84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sp>
        <p:nvSpPr>
          <p:cNvPr id="66" name="Text Box 64"/>
          <p:cNvSpPr/>
          <p:nvPr/>
        </p:nvSpPr>
        <p:spPr>
          <a:xfrm>
            <a:off x="324000" y="60958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-  80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Если в октябре лист не чисто спадает – жди строгой зимы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ктябре 2010 года лист не чисто с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а 2010-2011 года была холодной, температура неоднократно опускалась до - 3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4287960"/>
            <a:ext cx="39243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Эта примета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ерна.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pic>
        <p:nvPicPr>
          <p:cNvPr id="70" name="Picture 10" descr="Картинка 2 из 481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857760"/>
            <a:ext cx="5057640" cy="28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52720" y="228600"/>
            <a:ext cx="9064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Кошка или кот прячет нос –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жди холода.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1680" y="1676520"/>
          <a:ext cx="8540640" cy="420660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ения, не совпадения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2.2010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кошка спрятала нос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2.2010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кошка спрятала нос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она не прятала нос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кошка спрятала нос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она не прятала нос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о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81"/>
          <p:cNvSpPr/>
          <p:nvPr/>
        </p:nvSpPr>
        <p:spPr>
          <a:xfrm>
            <a:off x="1763640" y="60958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– 60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pic>
        <p:nvPicPr>
          <p:cNvPr id="74" name="Picture 83" descr="6971045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40464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7" descr="187205292"/>
          <p:cNvPicPr/>
          <p:nvPr/>
        </p:nvPicPr>
        <p:blipFill>
          <a:blip r:embed="rId3"/>
          <a:stretch/>
        </p:blipFill>
        <p:spPr>
          <a:xfrm flipH="1">
            <a:off x="-360" y="5300640"/>
            <a:ext cx="2268360" cy="155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59:14Z</dcterms:created>
  <dc:creator>Kris</dc:creator>
  <dc:description/>
  <dc:language>en-US</dc:language>
  <cp:lastModifiedBy>Admin</cp:lastModifiedBy>
  <dcterms:modified xsi:type="dcterms:W3CDTF">2011-11-14T15:54:01Z</dcterms:modified>
  <cp:revision>24</cp:revision>
  <dc:subject/>
  <dc:title>Слайд 1</dc:title>
</cp:coreProperties>
</file>