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0.wmf" ContentType="image/x-wm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E6F-9BD3-4455-9D58-64B6058B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6F2-370C-4DE7-8754-74137D90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90E-7E26-4E50-BD93-9A236CEA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389-F2FD-4482-AC3E-0EAF0A22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94C-C2A1-49C1-8ED0-B4B4DAC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FB5-C942-4C4F-A2ED-1A47A4DE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ABC-B189-4D2F-8352-C6C8953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A62-FFFB-4EA6-B1C1-FCCC45E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325-A837-41A1-BFFB-AA34843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B46-B84F-4CD3-8909-4CD67BE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54D-BCDC-4DD2-A8E6-6C6F88F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5FA-C8CD-40EB-BA5A-E4E77A6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B2A-9939-4181-974E-CC53C83A8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2008.thebestofrussia.ru/site/i/preview/big/9/b/9477.pn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ranimashek.com/photo/40-0-9574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и ученицы 6А класса лингвистической гимназии города Ки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ёпова – Москвина Кристина и Сыкчина Евг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474480"/>
            <a:ext cx="92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РОДНЫЕ ПРИМЕТЫ 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 УСЛОВИЯХ 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ОВРЕМЕННОГО КЛИМАТА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 ПРИМЕРЕ ПОГОДЫ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КИРОВСКОЙ ОБЛАСТИ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43" name="Picture 5" descr="bs01145_"/>
          <p:cNvPicPr/>
          <p:nvPr/>
        </p:nvPicPr>
        <p:blipFill>
          <a:blip r:embed="rId1"/>
          <a:stretch/>
        </p:blipFill>
        <p:spPr>
          <a:xfrm>
            <a:off x="0" y="4076640"/>
            <a:ext cx="3100320" cy="244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того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611280" y="1341360"/>
          <a:ext cx="7775640" cy="37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7756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7"/>
          <p:cNvSpPr/>
          <p:nvPr/>
        </p:nvSpPr>
        <p:spPr>
          <a:xfrm>
            <a:off x="684360" y="5091120"/>
            <a:ext cx="770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3,5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Несовпадение – 37,5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акова погода 1 апреля, такова и 1 октябр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84360" y="2276640"/>
          <a:ext cx="7559640" cy="40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7559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6"/>
          <p:cNvSpPr/>
          <p:nvPr/>
        </p:nvSpPr>
        <p:spPr>
          <a:xfrm>
            <a:off x="971640" y="14842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42f0"/>
                </a:solidFill>
                <a:latin typeface="Arial"/>
              </a:rPr>
              <a:t>Частота совпадений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сли 3 декабря – снег, то 3 июня дождь</a:t>
            </a: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395280" y="2349360"/>
          <a:ext cx="8353440" cy="41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3534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6"/>
          <p:cNvSpPr/>
          <p:nvPr/>
        </p:nvSpPr>
        <p:spPr>
          <a:xfrm>
            <a:off x="1835280" y="1628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42f0"/>
                </a:solidFill>
                <a:latin typeface="Arial"/>
              </a:rPr>
              <a:t>Частота совпадений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ты, где рассматривается один показатель погоды, например осадки, совпадают в более чем 6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ссмотрении нескольких характеристик погоды высока вероятность совпадения по отдельным характеристикам, например: снег – 60%, ясное небо – 60%, по направлению ветра -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тем следует отметить, что по двум характеристикам и более совпадение наблюдается р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олгосрочном наблюдении совместимость примет составляет 50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5107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1" name="Picture 7" descr="солнце"/>
          <p:cNvPicPr/>
          <p:nvPr/>
        </p:nvPicPr>
        <p:blipFill>
          <a:blip r:embed="rId1"/>
          <a:stretch/>
        </p:blipFill>
        <p:spPr>
          <a:xfrm>
            <a:off x="395280" y="4359240"/>
            <a:ext cx="2265480" cy="249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abochka"/>
          <p:cNvPicPr/>
          <p:nvPr/>
        </p:nvPicPr>
        <p:blipFill>
          <a:blip r:embed="rId2"/>
          <a:stretch/>
        </p:blipFill>
        <p:spPr>
          <a:xfrm>
            <a:off x="6354720" y="0"/>
            <a:ext cx="2789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710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360" y="2133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соответствие некоторых народных примет современным  климатическим условиям в пределах Кировс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солнце"/>
          <p:cNvPicPr/>
          <p:nvPr/>
        </p:nvPicPr>
        <p:blipFill>
          <a:blip r:embed="rId1"/>
          <a:stretch/>
        </p:blipFill>
        <p:spPr>
          <a:xfrm>
            <a:off x="900000" y="4365720"/>
            <a:ext cx="190512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abochka"/>
          <p:cNvPicPr/>
          <p:nvPr/>
        </p:nvPicPr>
        <p:blipFill>
          <a:blip r:embed="rId2"/>
          <a:stretch/>
        </p:blipFill>
        <p:spPr>
          <a:xfrm>
            <a:off x="5796000" y="0"/>
            <a:ext cx="35812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5494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 народных примет, пригодных для предсказания погоды на территории Киров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сти наблюдение за пог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ить тенденции соответствия погоды отдельных дней к народным приме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ваясь на анализированную информацию, сделать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abochka"/>
          <p:cNvPicPr/>
          <p:nvPr/>
        </p:nvPicPr>
        <p:blipFill>
          <a:blip r:embed="rId1"/>
          <a:stretch/>
        </p:blipFill>
        <p:spPr>
          <a:xfrm>
            <a:off x="6588000" y="-603360"/>
            <a:ext cx="2789280" cy="248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олнце"/>
          <p:cNvPicPr/>
          <p:nvPr/>
        </p:nvPicPr>
        <p:blipFill>
          <a:blip r:embed="rId2"/>
          <a:stretch/>
        </p:blipFill>
        <p:spPr>
          <a:xfrm>
            <a:off x="0" y="5084640"/>
            <a:ext cx="19051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нег идёт большими хлопьями – к ненастью и мокроте. Ясное небо - к морозу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341360"/>
          <a:ext cx="8640720" cy="4532400"/>
        </p:xfrm>
        <a:graphic>
          <a:graphicData uri="http://schemas.openxmlformats.org/drawingml/2006/table">
            <a:tbl>
              <a:tblPr/>
              <a:tblGrid>
                <a:gridCol w="2087640"/>
                <a:gridCol w="3385800"/>
                <a:gridCol w="3167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декабря 2010год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ервой половине дня было морозно, во второй - ста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декабря 2010 год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л снег большими хлопьям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х был влаж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ал снег большими хлопьям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лице было тепл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был мороз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января 2011 года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было ясное неб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день был морозный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68"/>
          <p:cNvSpPr/>
          <p:nvPr/>
        </p:nvSpPr>
        <p:spPr>
          <a:xfrm>
            <a:off x="324000" y="60958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-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55" name="Picture 76" descr="672490481"/>
          <p:cNvPicPr/>
          <p:nvPr/>
        </p:nvPicPr>
        <p:blipFill>
          <a:blip r:embed="rId1"/>
          <a:stretch/>
        </p:blipFill>
        <p:spPr>
          <a:xfrm flipH="1">
            <a:off x="7786800" y="4643280"/>
            <a:ext cx="135720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97080" y="259920"/>
            <a:ext cx="733716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оробьи дружно чирикают –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 оттепели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268280"/>
          <a:ext cx="8540640" cy="443232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холодать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не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 не чирикали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76"/>
          <p:cNvSpPr/>
          <p:nvPr/>
        </p:nvSpPr>
        <p:spPr>
          <a:xfrm>
            <a:off x="395280" y="57340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8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59" name="Picture 80" descr="Анимация воробьи"/>
          <p:cNvPicPr/>
          <p:nvPr/>
        </p:nvPicPr>
        <p:blipFill>
          <a:blip r:embed="rId1"/>
          <a:stretch/>
        </p:blipFill>
        <p:spPr>
          <a:xfrm>
            <a:off x="6624720" y="0"/>
            <a:ext cx="251928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блака редкие – будет ясно и холодно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981000"/>
          <a:ext cx="8540640" cy="451800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редк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часты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ясно и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а часты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7"/>
          <p:cNvSpPr/>
          <p:nvPr/>
        </p:nvSpPr>
        <p:spPr>
          <a:xfrm>
            <a:off x="324000" y="57340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ли дует северный ветер – будет стужа, южный – к теплу, западный – к мокроте.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0920" y="1484280"/>
          <a:ext cx="8540640" cy="4083120"/>
        </p:xfrm>
        <a:graphic>
          <a:graphicData uri="http://schemas.openxmlformats.org/drawingml/2006/table">
            <a:tbl>
              <a:tblPr/>
              <a:tblGrid>
                <a:gridCol w="2846160"/>
                <a:gridCol w="2847960"/>
                <a:gridCol w="284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север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а стужа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север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е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запад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л сырой снег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запад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л сырой снег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2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л южный ветер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62"/>
          <p:cNvSpPr/>
          <p:nvPr/>
        </p:nvSpPr>
        <p:spPr>
          <a:xfrm>
            <a:off x="647640" y="6095880"/>
            <a:ext cx="849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24000" y="60958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-  8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Если в октябре лист не чисто спадает – жди строгой зимы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ктябре 2010 года лист не чисто с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а 2010-2011 года была холодной, температура неоднократно опускалась до - 3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4287960"/>
            <a:ext cx="39243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Эта примета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ерна.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70" name="Picture 10" descr="Картинка 2 из 481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857760"/>
            <a:ext cx="5057640" cy="28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52720" y="228600"/>
            <a:ext cx="9064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Кошка или кот прячет нос –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жди холода.</a:t>
            </a: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1680" y="1676520"/>
          <a:ext cx="8540640" cy="420660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ения, не совпадения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12.2010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она не 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холодн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кошка с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1.2011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она не прятала нос.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 тепло</a:t>
                      </a:r>
                      <a:endParaRPr b="0" lang="en-US" sz="2000" spc="-1" strike="noStrike">
                        <a:solidFill>
                          <a:srgbClr val="a542f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81"/>
          <p:cNvSpPr/>
          <p:nvPr/>
        </p:nvSpPr>
        <p:spPr>
          <a:xfrm>
            <a:off x="1763640" y="60958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впадение – 60%</a:t>
            </a:r>
            <a:endParaRPr b="0" lang="en-US" sz="4400" spc="-1" strike="noStrike">
              <a:solidFill>
                <a:srgbClr val="a542f0"/>
              </a:solidFill>
              <a:latin typeface="Arial"/>
            </a:endParaRPr>
          </a:p>
        </p:txBody>
      </p:sp>
      <p:pic>
        <p:nvPicPr>
          <p:cNvPr id="74" name="Picture 83" descr="6971045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40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187205292"/>
          <p:cNvPicPr/>
          <p:nvPr/>
        </p:nvPicPr>
        <p:blipFill>
          <a:blip r:embed="rId3"/>
          <a:stretch/>
        </p:blipFill>
        <p:spPr>
          <a:xfrm flipH="1">
            <a:off x="-360" y="5300640"/>
            <a:ext cx="2268360" cy="155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59:14Z</dcterms:created>
  <dc:creator>Kris</dc:creator>
  <dc:description/>
  <dc:language>en-US</dc:language>
  <cp:lastModifiedBy>Admin</cp:lastModifiedBy>
  <dcterms:modified xsi:type="dcterms:W3CDTF">2011-11-14T15:54:01Z</dcterms:modified>
  <cp:revision>24</cp:revision>
  <dc:subject/>
  <dc:title>Слайд 1</dc:title>
</cp:coreProperties>
</file>