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19D-47CB-489D-A032-1FF07D2F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FB1D-71F6-4194-9BF5-8C580455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F9B-F4BD-4B40-ADC4-B8878071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9B4-81CC-41FD-B3EE-AD8E1AAE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E53F-70DE-420E-9913-9097F5B8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B67E-3A11-4858-8A8C-7C8B4372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4B16-7F78-4AEE-A03A-195846C5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447E-1852-47EE-839B-06C2AC85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6CBD-943D-4DF9-88A1-C5695277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7979-25F8-4F48-B257-1FA2B281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C130-2172-4C2A-A7CC-3E979917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6D2-7451-45CC-B348-6DD340AE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88DB-EFFB-4B95-81D6-71D0D078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7069-B32A-4C4B-9DD5-41102B2A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6706-CA4E-40CD-A864-A3947977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CE86-8C26-4BC1-AB48-14D39673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0E4C-360B-4417-884E-41DAB91C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FAA4-CD1D-4828-8C5E-1420706F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CD51-A596-47A1-A891-ABBB6DC2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4579-481A-4AB3-99DB-05C749A8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17CB-0F8E-4D13-A13F-973855BB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F788-3F00-426A-8941-42D8339D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695-B2A3-4AB0-B16A-DEAA105D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7CA65-730A-458E-8E6D-3239AEE7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E241A-A2CC-4F9B-BADF-DA7E12EE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F7019-AABC-4146-B59A-4B16DA4C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22AD9-B865-469E-8143-9A5075B4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04980-2E11-4AAE-9525-F78FF309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45CE-1025-47C1-9F0C-3F36311E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1E16-F26E-4D9E-BAD5-8F266ED8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79E-F41B-43BC-A29B-04EE4D14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721-90F7-4890-9775-8978A135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270-4749-4E4E-B260-56DB8E03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C3C-77BB-4E70-B7A8-C06F94DA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FC2-2614-4688-9AD9-0ACEAC1A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3F5-A828-4D13-8CF5-C6270353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8934-5796-4199-928B-38A2EDF8D3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7FD0-BE82-4637-9B06-D890AF3D0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1B1F-C9F1-4BF0-81BE-FB59EA376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133720"/>
            <a:ext cx="842472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"/>
              </a:rPr>
              <a:t>Мастер-класс</a:t>
            </a:r>
            <a:br>
              <a:rPr sz="2800"/>
            </a:br>
            <a:r>
              <a:rPr b="0" i="1" lang="ru-RU" sz="2800" spc="-1" strike="noStrike">
                <a:solidFill>
                  <a:srgbClr val="ffcc66"/>
                </a:solidFill>
                <a:latin typeface="Arial"/>
              </a:rPr>
              <a:t> «Использование презентаций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PowerPoint </a:t>
            </a:r>
            <a:br>
              <a:rPr sz="2800"/>
            </a:br>
            <a:r>
              <a:rPr b="0" i="1" lang="ru-RU" sz="2800" spc="-1" strike="noStrike">
                <a:solidFill>
                  <a:srgbClr val="ffcc66"/>
                </a:solidFill>
                <a:latin typeface="Arial"/>
              </a:rPr>
              <a:t>на уроках математики при построении графиков функции»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149720"/>
            <a:ext cx="8424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рганиева Альфия Рафисовн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учитель математики высшей квалификационной категории Кучуковской средней общеобразовательной щколы Агрызского муниципального района Р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рганиев Ринат Габдрахманович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учитель математики и физики первой квалификационной категории Кичкетанской средней общеобразовательной школыАгрызского муниципального района 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360" y="11592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 = | 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5|х| |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Построим  у =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5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для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5 |х|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0  т.е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и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=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5 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я х&lt;0, симметрично отражаем построенную ч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  оси О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Построим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= 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+ 5 |х|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5 |х|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. т.е.  -5</a:t>
            </a:r>
            <a:r>
              <a:rPr b="0" lang="ru-RU" sz="1800" spc="-1" strike="noStrike">
                <a:solidFill>
                  <a:srgbClr val="ffffff"/>
                </a:solidFill>
                <a:latin typeface=""/>
              </a:rPr>
              <a:t>≤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≤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= 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+ 5 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я х&lt;0, симметрично отражаем построенную часть относительно оси О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187280" y="2492280"/>
          <a:ext cx="720252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492280"/>
                    <a:ext cx="72025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084720" y="2492280"/>
            <a:ext cx="2303640" cy="4176720"/>
          </a:xfrm>
          <a:prstGeom prst="rect">
            <a:avLst/>
          </a:prstGeom>
          <a:solidFill>
            <a:srgbClr val="ccffcc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2708280"/>
            <a:ext cx="574920" cy="1657440"/>
          </a:xfrm>
          <a:custGeom>
            <a:avLst/>
            <a:gdLst/>
            <a:ahLst/>
            <a:rect l="l" t="t" r="r" b="b"/>
            <a:pathLst>
              <a:path w="362" h="1044">
                <a:moveTo>
                  <a:pt x="0" y="1044"/>
                </a:moveTo>
                <a:cubicBezTo>
                  <a:pt x="151" y="609"/>
                  <a:pt x="302" y="174"/>
                  <a:pt x="362" y="0"/>
                </a:cubicBezTo>
              </a:path>
            </a:pathLst>
          </a:custGeom>
          <a:noFill/>
          <a:ln w="190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2492280"/>
            <a:ext cx="2016360" cy="4176720"/>
          </a:xfrm>
          <a:prstGeom prst="rect">
            <a:avLst/>
          </a:prstGeom>
          <a:solidFill>
            <a:srgbClr val="ccffcc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2708280"/>
            <a:ext cx="0" cy="381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2637000"/>
            <a:ext cx="0" cy="381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27280" y="2708280"/>
            <a:ext cx="576360" cy="1657440"/>
          </a:xfrm>
          <a:custGeom>
            <a:avLst/>
            <a:gdLst/>
            <a:ahLst/>
            <a:rect l="l" t="t" r="r" b="b"/>
            <a:pathLst>
              <a:path w="363" h="1044">
                <a:moveTo>
                  <a:pt x="363" y="1044"/>
                </a:moveTo>
                <a:cubicBezTo>
                  <a:pt x="211" y="609"/>
                  <a:pt x="60" y="174"/>
                  <a:pt x="0" y="0"/>
                </a:cubicBezTo>
              </a:path>
            </a:pathLst>
          </a:custGeom>
          <a:noFill/>
          <a:ln w="190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2492280"/>
            <a:ext cx="2881080" cy="4176720"/>
          </a:xfrm>
          <a:prstGeom prst="rect">
            <a:avLst/>
          </a:prstGeom>
          <a:solidFill>
            <a:srgbClr val="cc99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2565360"/>
            <a:ext cx="1441440" cy="1800360"/>
          </a:xfrm>
          <a:custGeom>
            <a:avLst/>
            <a:gdLst/>
            <a:ahLst/>
            <a:rect l="l" t="t" r="r" b="b"/>
            <a:pathLst>
              <a:path w="908" h="1089">
                <a:moveTo>
                  <a:pt x="908" y="1089"/>
                </a:moveTo>
                <a:cubicBezTo>
                  <a:pt x="779" y="544"/>
                  <a:pt x="650" y="0"/>
                  <a:pt x="499" y="0"/>
                </a:cubicBezTo>
                <a:cubicBezTo>
                  <a:pt x="348" y="0"/>
                  <a:pt x="83" y="908"/>
                  <a:pt x="0" y="10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2565360"/>
            <a:ext cx="1441440" cy="1800360"/>
          </a:xfrm>
          <a:custGeom>
            <a:avLst/>
            <a:gdLst/>
            <a:ahLst/>
            <a:rect l="l" t="t" r="r" b="b"/>
            <a:pathLst>
              <a:path w="908" h="1089">
                <a:moveTo>
                  <a:pt x="908" y="1089"/>
                </a:moveTo>
                <a:cubicBezTo>
                  <a:pt x="779" y="544"/>
                  <a:pt x="650" y="0"/>
                  <a:pt x="499" y="0"/>
                </a:cubicBezTo>
                <a:cubicBezTo>
                  <a:pt x="348" y="0"/>
                  <a:pt x="83" y="908"/>
                  <a:pt x="0" y="10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5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55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7000"/>
                            </p:stCondLst>
                            <p:childTnLst>
                              <p:par>
                                <p:cTn id="56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56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9000"/>
                            </p:stCondLst>
                            <p:childTnLst>
                              <p:par>
                                <p:cTn id="56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56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8712360" cy="1989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у = | 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5|х|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остроим график функции у =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5 х     для  х&gt;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Построим  часть графика, симметричную построенной относительно оси О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Часть графика, расположенные в нижней полуплоскости, преобразовываем на верхнюю полуплоскость симметрично оси О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175c"/>
                </a:solidFill>
                <a:latin typeface="Times New Roman"/>
              </a:rPr>
              <a:t>Сравнивая оба графика, видим что они одинаков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4360" y="2060640"/>
          <a:ext cx="7920000" cy="45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9200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 flipV="1">
            <a:off x="6084720" y="2276280"/>
            <a:ext cx="648000" cy="18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4149720"/>
            <a:ext cx="1584000" cy="201600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915640" y="4149720"/>
            <a:ext cx="1584360" cy="201600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268360" y="2276280"/>
            <a:ext cx="648000" cy="18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15640" y="2133720"/>
            <a:ext cx="1584360" cy="201600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00720" y="2133720"/>
            <a:ext cx="1584000" cy="201600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915640" y="2133720"/>
            <a:ext cx="1584360" cy="201600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00720" y="2133720"/>
            <a:ext cx="1584000" cy="201600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0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61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61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6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62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20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у =| |х|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2 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роить  у =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|х|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- 2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дл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|х|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- 2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x&gt;        </a:t>
            </a:r>
            <a:r>
              <a:rPr b="0" lang="tt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&lt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=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- 2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я х&lt;0, симметрично отражаем  построенную часть относительно    оси О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. Построить у = 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|х|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+ 2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, дл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|х|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- 2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. т.е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     &lt; x&l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=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+ 2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я х&lt;0, симметрично отражаем  построенную часть относительно оси О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71640" y="2460600"/>
          <a:ext cx="763272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60600"/>
                    <a:ext cx="763272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076720" y="2492280"/>
            <a:ext cx="3527640" cy="4365720"/>
          </a:xfrm>
          <a:prstGeom prst="rec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2924280"/>
            <a:ext cx="216000" cy="1584360"/>
          </a:xfrm>
          <a:custGeom>
            <a:avLst/>
            <a:gdLst/>
            <a:ahLst/>
            <a:rect l="l" t="t" r="r" b="b"/>
            <a:pathLst>
              <a:path w="136" h="998">
                <a:moveTo>
                  <a:pt x="136" y="0"/>
                </a:moveTo>
                <a:cubicBezTo>
                  <a:pt x="79" y="416"/>
                  <a:pt x="23" y="832"/>
                  <a:pt x="0" y="99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2492280"/>
            <a:ext cx="3240000" cy="4365720"/>
          </a:xfrm>
          <a:prstGeom prst="rec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24360" y="2852640"/>
            <a:ext cx="287280" cy="1584360"/>
          </a:xfrm>
          <a:custGeom>
            <a:avLst/>
            <a:gdLst/>
            <a:ahLst/>
            <a:rect l="l" t="t" r="r" b="b"/>
            <a:pathLst>
              <a:path w="181" h="998">
                <a:moveTo>
                  <a:pt x="181" y="998"/>
                </a:moveTo>
                <a:cubicBezTo>
                  <a:pt x="105" y="582"/>
                  <a:pt x="30" y="166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2637000"/>
            <a:ext cx="0" cy="4105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2565360"/>
            <a:ext cx="0" cy="4105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2492280"/>
            <a:ext cx="865080" cy="4365720"/>
          </a:xfrm>
          <a:prstGeom prst="rect">
            <a:avLst/>
          </a:prstGeom>
          <a:solidFill>
            <a:srgbClr val="ccffcc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rot="10782600">
            <a:off x="4643280" y="3860280"/>
            <a:ext cx="433440" cy="57312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0647600">
            <a:off x="4211280" y="3860640"/>
            <a:ext cx="430200" cy="57312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500720" y="404640"/>
                <a:ext cx="2872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508720" y="404640"/>
                <a:ext cx="2872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932360" y="11970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796000" y="11970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932360" y="11970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796000" y="11970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932360" y="11970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796000" y="11970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64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65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65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6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424720" cy="166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у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|х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2 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острои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у = 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2 для х &gt; 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Строим  часть графика, симметричную построенной относительно оси О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Часть графика, расположенные в нижней полуплоскости, преобразовываем на верхнюю полуплоскость симметрично оси О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5175c"/>
                </a:solidFill>
                <a:latin typeface="Times New Roman"/>
              </a:rPr>
              <a:t>Сравнивая оба графика, видим что они одинаковы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56000" y="3933720"/>
            <a:ext cx="432000" cy="64764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5157720"/>
            <a:ext cx="144360" cy="863640"/>
          </a:xfrm>
          <a:custGeom>
            <a:avLst/>
            <a:gdLst/>
            <a:ahLst/>
            <a:rect l="l" t="t" r="r" b="b"/>
            <a:pathLst>
              <a:path w="106" h="786">
                <a:moveTo>
                  <a:pt x="106" y="0"/>
                </a:moveTo>
                <a:cubicBezTo>
                  <a:pt x="68" y="287"/>
                  <a:pt x="30" y="574"/>
                  <a:pt x="15" y="680"/>
                </a:cubicBezTo>
                <a:cubicBezTo>
                  <a:pt x="0" y="786"/>
                  <a:pt x="7" y="710"/>
                  <a:pt x="15" y="63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 rot="10888200">
            <a:off x="3921840" y="3932640"/>
            <a:ext cx="430200" cy="64656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39640" y="1844640"/>
          <a:ext cx="79200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79200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4788000" y="2060640"/>
            <a:ext cx="215640" cy="1873080"/>
          </a:xfrm>
          <a:custGeom>
            <a:avLst/>
            <a:gdLst/>
            <a:ahLst/>
            <a:rect l="l" t="t" r="r" b="b"/>
            <a:pathLst>
              <a:path w="136" h="1180">
                <a:moveTo>
                  <a:pt x="0" y="1180"/>
                </a:moveTo>
                <a:cubicBezTo>
                  <a:pt x="56" y="688"/>
                  <a:pt x="113" y="197"/>
                  <a:pt x="13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3923640" y="4580640"/>
            <a:ext cx="431640" cy="57636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20556600">
            <a:off x="3634920" y="2060640"/>
            <a:ext cx="216000" cy="1873080"/>
          </a:xfrm>
          <a:custGeom>
            <a:avLst/>
            <a:gdLst/>
            <a:ahLst/>
            <a:rect l="l" t="t" r="r" b="b"/>
            <a:pathLst>
              <a:path w="136" h="1180">
                <a:moveTo>
                  <a:pt x="0" y="1180"/>
                </a:moveTo>
                <a:cubicBezTo>
                  <a:pt x="56" y="688"/>
                  <a:pt x="113" y="197"/>
                  <a:pt x="13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rot="10648200">
            <a:off x="4357080" y="3282480"/>
            <a:ext cx="428400" cy="64944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1020200">
            <a:off x="3923640" y="3283920"/>
            <a:ext cx="360360" cy="64764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56000" y="3933720"/>
            <a:ext cx="432000" cy="64764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 rot="10888200">
            <a:off x="3923640" y="3932640"/>
            <a:ext cx="430200" cy="64656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500"/>
                            </p:stCondLst>
                            <p:childTnLst>
                              <p:par>
                                <p:cTn id="67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85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9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7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7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70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71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611280" y="836640"/>
            <a:ext cx="6013440" cy="5761080"/>
            <a:chOff x="611280" y="836640"/>
            <a:chExt cx="6013440" cy="5761080"/>
          </a:xfrm>
        </p:grpSpPr>
        <p:sp>
          <p:nvSpPr>
            <p:cNvPr id="269" name=""/>
            <p:cNvSpPr/>
            <p:nvPr/>
          </p:nvSpPr>
          <p:spPr>
            <a:xfrm>
              <a:off x="3024360" y="4005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1280" y="385128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21800" y="4076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1280" y="14130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1280" y="65977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128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2472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1280" y="17179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116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284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1308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1476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1464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1452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1620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1644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1812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1800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1788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19560" y="1413000"/>
              <a:ext cx="0" cy="5181480"/>
            </a:xfrm>
            <a:prstGeom prst="line">
              <a:avLst/>
            </a:prstGeom>
            <a:ln cap="rnd"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1980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2148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2136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124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2292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2316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2484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1280" y="202248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1280" y="23274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1280" y="26323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280" y="293688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280" y="32418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1280" y="35467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280" y="41562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1280" y="44611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1280" y="476568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1280" y="50706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1280" y="53755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1280" y="568008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1280" y="59850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1280" y="62899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0560" y="4149720"/>
              <a:ext cx="561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39440" y="414972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    2    3    4     5    6    7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92880" y="4149720"/>
              <a:ext cx="22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7   -6   -5   -4   -3   -2   -1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311640" y="1052280"/>
              <a:ext cx="0" cy="554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53080" y="836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24000" y="1197000"/>
              <a:ext cx="3225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38560" y="4254480"/>
              <a:ext cx="576360" cy="19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971640" y="189000"/>
            <a:ext cx="69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айдите все положительные значения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, при которых прямая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у=кх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ересекает в двух точках ломанную, заданную услови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588000" y="620640"/>
                <a:ext cx="236232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если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х</m:t>
                                    </m:r>
                                  </m:e>
                                </m:d>
                                <m:r>
                                  <m:t xml:space="preserve">≤</m:t>
                                </m:r>
                                <m:r>
                                  <m:t xml:space="preserve">3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 flipV="1">
            <a:off x="2411280" y="1241280"/>
            <a:ext cx="0" cy="5616720"/>
          </a:xfrm>
          <a:prstGeom prst="line">
            <a:avLst/>
          </a:prstGeom>
          <a:ln w="1908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211640" y="1241280"/>
            <a:ext cx="0" cy="5616720"/>
          </a:xfrm>
          <a:prstGeom prst="line">
            <a:avLst/>
          </a:prstGeom>
          <a:ln w="1908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1413000"/>
            <a:ext cx="1800000" cy="5184720"/>
          </a:xfrm>
          <a:prstGeom prst="rect">
            <a:avLst/>
          </a:prstGeom>
          <a:solidFill>
            <a:srgbClr val="ffff99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1640" y="1413000"/>
            <a:ext cx="2376360" cy="5111640"/>
          </a:xfrm>
          <a:prstGeom prst="rect">
            <a:avLst/>
          </a:prstGeom>
          <a:solidFill>
            <a:srgbClr val="ffff99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11280" y="1413000"/>
            <a:ext cx="1800360" cy="5184720"/>
          </a:xfrm>
          <a:prstGeom prst="rect">
            <a:avLst/>
          </a:prstGeom>
          <a:solidFill>
            <a:srgbClr val="ccff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11280" y="3860640"/>
            <a:ext cx="1800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211640" y="1412640"/>
            <a:ext cx="1152360" cy="2447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116000" y="1341360"/>
            <a:ext cx="1295280" cy="2519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03640" y="31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Х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&gt;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3213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Х</a:t>
            </a: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&lt; -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7280" y="378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-3 &lt; x &lt;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164360" y="2781360"/>
            <a:ext cx="1584360" cy="57636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9353" h="21600">
                <a:moveTo>
                  <a:pt x="0" y="0"/>
                </a:moveTo>
                <a:lnTo>
                  <a:pt x="59353" y="0"/>
                </a:lnTo>
                <a:lnTo>
                  <a:pt x="59353" y="21600"/>
                </a:lnTo>
                <a:lnTo>
                  <a:pt x="0" y="21600"/>
                </a:lnTo>
                <a:close/>
              </a:path>
              <a:path fill="lightenLess" w="59353" h="21600">
                <a:moveTo>
                  <a:pt x="0" y="0"/>
                </a:moveTo>
                <a:lnTo>
                  <a:pt x="59353" y="0"/>
                </a:lnTo>
                <a:lnTo>
                  <a:pt x="57953" y="1400"/>
                </a:lnTo>
                <a:lnTo>
                  <a:pt x="1400" y="1400"/>
                </a:lnTo>
                <a:close/>
              </a:path>
              <a:path fill="darken" w="59353" h="21600">
                <a:moveTo>
                  <a:pt x="59353" y="0"/>
                </a:moveTo>
                <a:lnTo>
                  <a:pt x="59353" y="21600"/>
                </a:lnTo>
                <a:lnTo>
                  <a:pt x="57953" y="20200"/>
                </a:lnTo>
                <a:lnTo>
                  <a:pt x="57953" y="1400"/>
                </a:lnTo>
                <a:close/>
              </a:path>
              <a:path fill="darkenLess" w="59353" h="21600">
                <a:moveTo>
                  <a:pt x="59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3" y="20200"/>
                </a:lnTo>
                <a:close/>
              </a:path>
              <a:path fill="lighten" w="59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Постро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659640" y="3860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Times New Roman"/>
              </a:rPr>
              <a:t>у=1,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-3 &lt; x &lt;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59640" y="4437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2. у=-2х-5,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x &lt;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272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3. у=-2х-5, 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x &lt;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774072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3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 flipV="1">
            <a:off x="2627280" y="1413000"/>
            <a:ext cx="4392720" cy="40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3725000">
            <a:off x="4220280" y="1482840"/>
            <a:ext cx="2324160" cy="2808360"/>
          </a:xfrm>
          <a:prstGeom prst="triangle">
            <a:avLst>
              <a:gd name="adj" fmla="val 50000"/>
            </a:avLst>
          </a:prstGeom>
          <a:solidFill>
            <a:srgbClr val="ff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619280" y="549360"/>
            <a:ext cx="6013440" cy="5761080"/>
            <a:chOff x="1619280" y="549360"/>
            <a:chExt cx="6013440" cy="5761080"/>
          </a:xfrm>
        </p:grpSpPr>
        <p:sp>
          <p:nvSpPr>
            <p:cNvPr id="339" name=""/>
            <p:cNvSpPr/>
            <p:nvPr/>
          </p:nvSpPr>
          <p:spPr>
            <a:xfrm>
              <a:off x="4032360" y="3718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19280" y="35640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29800" y="378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19280" y="11257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19280" y="63104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1928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3272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19280" y="14306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1916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2084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2108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2276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2264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252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2420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2444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2612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2600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2588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27560" y="1125720"/>
              <a:ext cx="0" cy="5181480"/>
            </a:xfrm>
            <a:prstGeom prst="line">
              <a:avLst/>
            </a:prstGeom>
            <a:ln cap="rnd"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2780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2948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2936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2924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3092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116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3284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19280" y="17352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9280" y="20401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19280" y="23450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9280" y="26496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19280" y="29545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9280" y="32594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9280" y="38689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41738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44784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19280" y="47833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19280" y="50882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9280" y="53928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19280" y="56977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19280" y="60026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98560" y="3862440"/>
              <a:ext cx="561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47440" y="386244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    2    3    4     5    6    7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0880" y="3862440"/>
              <a:ext cx="22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7   -6   -5   -4   -3   -2   -1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319640" y="765000"/>
              <a:ext cx="0" cy="554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61080" y="54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32000" y="909720"/>
              <a:ext cx="3225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46560" y="3967200"/>
              <a:ext cx="576360" cy="19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 flipV="1">
            <a:off x="3419640" y="907920"/>
            <a:ext cx="0" cy="5616720"/>
          </a:xfrm>
          <a:prstGeom prst="line">
            <a:avLst/>
          </a:prstGeom>
          <a:ln w="1908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219640" y="836640"/>
            <a:ext cx="0" cy="5616720"/>
          </a:xfrm>
          <a:prstGeom prst="line">
            <a:avLst/>
          </a:prstGeom>
          <a:ln w="1908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40000" y="1268280"/>
            <a:ext cx="1079640" cy="2305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9640" y="3573360"/>
            <a:ext cx="180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219640" y="1267920"/>
            <a:ext cx="1152720" cy="2305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276720" y="1125360"/>
            <a:ext cx="2374920" cy="489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268360" y="2924280"/>
            <a:ext cx="4608720" cy="1728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27640" y="3500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48360" y="3500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2637000"/>
            <a:ext cx="142920" cy="142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43280" y="3500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8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йдите все положительные значения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, при которых прямая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у=кх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есекает ломанную в двух точ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355280" y="2060640"/>
            <a:ext cx="863640" cy="1800000"/>
          </a:xfrm>
          <a:prstGeom prst="rtTriangle">
            <a:avLst/>
          </a:prstGeom>
          <a:solidFill>
            <a:srgbClr val="33339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355280" y="3573360"/>
            <a:ext cx="863640" cy="287280"/>
          </a:xfrm>
          <a:prstGeom prst="rtTriangle">
            <a:avLst/>
          </a:prstGeom>
          <a:solidFill>
            <a:srgbClr val="00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219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84720" y="386064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219640" y="2060640"/>
            <a:ext cx="0" cy="180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4720" y="386064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0000" y="2637000"/>
                <a:ext cx="7048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5364000" y="620640"/>
                <a:ext cx="1297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7020000" y="5084640"/>
                <a:ext cx="18730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 rot="503400">
            <a:off x="2959920" y="2642760"/>
            <a:ext cx="2749680" cy="279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15" y="347"/>
                </a:moveTo>
                <a:arcTo wR="10800" hR="10800" stAng="-4526277" swAng="2401459"/>
                <a:lnTo>
                  <a:pt x="10800" y="10800"/>
                </a:lnTo>
                <a:close/>
              </a:path>
              <a:path fill="none" w="21600" h="21600">
                <a:moveTo>
                  <a:pt x="13515" y="347"/>
                </a:moveTo>
                <a:arcTo wR="10800" hR="10800" stAng="-4526277" swAng="2401459"/>
              </a:path>
            </a:pathLst>
          </a:custGeom>
          <a:noFill/>
          <a:ln w="19080">
            <a:solidFill>
              <a:srgbClr val="99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28160" y="357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   2    3    4     5    6    7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144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-144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-1440" y="6018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12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-144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8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01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00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016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01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05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084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08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117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144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144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144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-144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144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144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144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144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144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144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-144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-144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144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144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864400" y="52560"/>
                <a:ext cx="28224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6013440" y="278136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86160" y="3357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-23760" y="817560"/>
            <a:ext cx="5438880" cy="2768760"/>
          </a:xfrm>
          <a:custGeom>
            <a:avLst/>
            <a:gdLst/>
            <a:ahLst/>
            <a:rect l="l" t="t" r="r" b="b"/>
            <a:pathLst>
              <a:path w="3426" h="1744">
                <a:moveTo>
                  <a:pt x="3426" y="0"/>
                </a:moveTo>
                <a:lnTo>
                  <a:pt x="1720" y="17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16400" y="4797360"/>
            <a:ext cx="372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(-4;-1), (4;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659640" y="2276640"/>
            <a:ext cx="1439640" cy="360360"/>
          </a:xfrm>
          <a:custGeom>
            <a:avLst/>
            <a:gdLst>
              <a:gd name="textAreaLeft" fmla="*/ 23040 w 1439640"/>
              <a:gd name="textAreaRight" fmla="*/ 1416600 w 14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28" h="21600">
                <a:moveTo>
                  <a:pt x="0" y="0"/>
                </a:moveTo>
                <a:lnTo>
                  <a:pt x="86228" y="0"/>
                </a:lnTo>
                <a:lnTo>
                  <a:pt x="86228" y="21600"/>
                </a:lnTo>
                <a:lnTo>
                  <a:pt x="0" y="21600"/>
                </a:lnTo>
                <a:close/>
              </a:path>
              <a:path fill="lightenLess" w="86228" h="21600">
                <a:moveTo>
                  <a:pt x="0" y="0"/>
                </a:moveTo>
                <a:lnTo>
                  <a:pt x="86228" y="0"/>
                </a:lnTo>
                <a:lnTo>
                  <a:pt x="84828" y="1400"/>
                </a:lnTo>
                <a:lnTo>
                  <a:pt x="1400" y="1400"/>
                </a:lnTo>
                <a:close/>
              </a:path>
              <a:path fill="darken" w="86228" h="21600">
                <a:moveTo>
                  <a:pt x="86228" y="0"/>
                </a:moveTo>
                <a:lnTo>
                  <a:pt x="86228" y="21600"/>
                </a:lnTo>
                <a:lnTo>
                  <a:pt x="84828" y="20200"/>
                </a:lnTo>
                <a:lnTo>
                  <a:pt x="84828" y="1400"/>
                </a:lnTo>
                <a:close/>
              </a:path>
              <a:path fill="darkenLess" w="86228" h="21600">
                <a:moveTo>
                  <a:pt x="8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28" y="20200"/>
                </a:lnTo>
                <a:close/>
              </a:path>
              <a:path fill="lighten" w="8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стро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1308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1600" y="3573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7   -6   -5   -4   -3   -2   -1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2720" y="620640"/>
            <a:ext cx="322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18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463" name=""/>
          <p:cNvGrpSpPr/>
          <p:nvPr/>
        </p:nvGrpSpPr>
        <p:grpSpPr>
          <a:xfrm>
            <a:off x="-179280" y="349200"/>
            <a:ext cx="5830920" cy="6448320"/>
            <a:chOff x="-179280" y="349200"/>
            <a:chExt cx="5830920" cy="6448320"/>
          </a:xfrm>
        </p:grpSpPr>
        <p:sp>
          <p:nvSpPr>
            <p:cNvPr id="464" name=""/>
            <p:cNvSpPr/>
            <p:nvPr/>
          </p:nvSpPr>
          <p:spPr>
            <a:xfrm>
              <a:off x="2779560" y="349200"/>
              <a:ext cx="287208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0" y="0"/>
                  </a:moveTo>
                  <a:cubicBezTo>
                    <a:pt x="9" y="120"/>
                    <a:pt x="30" y="509"/>
                    <a:pt x="53" y="720"/>
                  </a:cubicBezTo>
                  <a:cubicBezTo>
                    <a:pt x="76" y="931"/>
                    <a:pt x="89" y="1108"/>
                    <a:pt x="136" y="1265"/>
                  </a:cubicBezTo>
                  <a:cubicBezTo>
                    <a:pt x="183" y="1422"/>
                    <a:pt x="239" y="1563"/>
                    <a:pt x="333" y="1660"/>
                  </a:cubicBezTo>
                  <a:cubicBezTo>
                    <a:pt x="427" y="1757"/>
                    <a:pt x="537" y="1802"/>
                    <a:pt x="697" y="1849"/>
                  </a:cubicBezTo>
                  <a:cubicBezTo>
                    <a:pt x="857" y="1896"/>
                    <a:pt x="1111" y="1917"/>
                    <a:pt x="1296" y="1940"/>
                  </a:cubicBezTo>
                  <a:cubicBezTo>
                    <a:pt x="1481" y="1963"/>
                    <a:pt x="1702" y="1976"/>
                    <a:pt x="1809" y="198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-179280" y="3646440"/>
              <a:ext cx="287172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1809" y="1985"/>
                  </a:moveTo>
                  <a:cubicBezTo>
                    <a:pt x="1800" y="1865"/>
                    <a:pt x="1786" y="1477"/>
                    <a:pt x="1756" y="1265"/>
                  </a:cubicBezTo>
                  <a:cubicBezTo>
                    <a:pt x="1726" y="1053"/>
                    <a:pt x="1683" y="867"/>
                    <a:pt x="1629" y="712"/>
                  </a:cubicBezTo>
                  <a:cubicBezTo>
                    <a:pt x="1575" y="557"/>
                    <a:pt x="1527" y="427"/>
                    <a:pt x="1432" y="333"/>
                  </a:cubicBezTo>
                  <a:cubicBezTo>
                    <a:pt x="1337" y="239"/>
                    <a:pt x="1213" y="199"/>
                    <a:pt x="1060" y="151"/>
                  </a:cubicBezTo>
                  <a:cubicBezTo>
                    <a:pt x="907" y="103"/>
                    <a:pt x="690" y="70"/>
                    <a:pt x="513" y="45"/>
                  </a:cubicBezTo>
                  <a:cubicBezTo>
                    <a:pt x="336" y="20"/>
                    <a:pt x="107" y="9"/>
                    <a:pt x="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851280" y="321300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86160" y="400536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40000" y="4724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03280" y="3789360"/>
            <a:ext cx="14436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03600" y="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шить систему урав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7236000" y="6165720"/>
            <a:ext cx="1296720" cy="432000"/>
          </a:xfrm>
          <a:custGeom>
            <a:avLst/>
            <a:gdLst>
              <a:gd name="textAreaLeft" fmla="*/ 27720 w 1296720"/>
              <a:gd name="textAreaRight" fmla="*/ 1269000 w 1296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866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3159 0 E">
                                      <p:cBhvr>
                                        <p:cTn id="887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59 2.22222E-006 L -0.03159 0.17847 E">
                                      <p:cBhvr>
                                        <p:cTn id="895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115920"/>
            <a:ext cx="856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рафик функции у = |х|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Если х≥0, то |х| = х  функция у = х, т.е. граф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совпадает с биссектрисой первого координатного уг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б) Если х&lt;0, то |х| = -х и у = - х. При отрицатель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значениях аргумента х график данной функции – прям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у = -х, т.е. биссектриса второго координатного у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2637000"/>
          <a:ext cx="7777080" cy="39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777708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 flipH="1" flipV="1">
            <a:off x="1800360" y="2852640"/>
            <a:ext cx="194472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745080" y="2852640"/>
            <a:ext cx="194436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79640" y="4797000"/>
            <a:ext cx="180036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85080" y="2205000"/>
            <a:ext cx="1258920" cy="432000"/>
          </a:xfrm>
          <a:custGeom>
            <a:avLst/>
            <a:gdLst>
              <a:gd name="textAreaLeft" fmla="*/ 27720 w 1258920"/>
              <a:gd name="textAreaRight" fmla="*/ 1231200 w 125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2912" h="21600">
                <a:moveTo>
                  <a:pt x="0" y="0"/>
                </a:moveTo>
                <a:lnTo>
                  <a:pt x="62912" y="0"/>
                </a:lnTo>
                <a:lnTo>
                  <a:pt x="62912" y="21600"/>
                </a:lnTo>
                <a:lnTo>
                  <a:pt x="0" y="21600"/>
                </a:lnTo>
                <a:close/>
              </a:path>
              <a:path fill="lightenLess" w="62912" h="21600">
                <a:moveTo>
                  <a:pt x="0" y="0"/>
                </a:moveTo>
                <a:lnTo>
                  <a:pt x="62912" y="0"/>
                </a:lnTo>
                <a:lnTo>
                  <a:pt x="61512" y="1400"/>
                </a:lnTo>
                <a:lnTo>
                  <a:pt x="1400" y="1400"/>
                </a:lnTo>
                <a:close/>
              </a:path>
              <a:path fill="darken" w="62912" h="21600">
                <a:moveTo>
                  <a:pt x="62912" y="0"/>
                </a:moveTo>
                <a:lnTo>
                  <a:pt x="62912" y="21600"/>
                </a:lnTo>
                <a:lnTo>
                  <a:pt x="61512" y="20200"/>
                </a:lnTo>
                <a:lnTo>
                  <a:pt x="61512" y="1400"/>
                </a:lnTo>
                <a:close/>
              </a:path>
              <a:path fill="darkenLess" w="62912" h="21600">
                <a:moveTo>
                  <a:pt x="62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12" y="20200"/>
                </a:lnTo>
                <a:close/>
              </a:path>
              <a:path fill="lighten" w="62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Постро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7956720" y="3068640"/>
            <a:ext cx="1187280" cy="360360"/>
          </a:xfrm>
          <a:custGeom>
            <a:avLst/>
            <a:gdLst>
              <a:gd name="textAreaLeft" fmla="*/ 23040 w 1187280"/>
              <a:gd name="textAreaRight" fmla="*/ 1164240 w 1187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1116" h="21600">
                <a:moveTo>
                  <a:pt x="0" y="0"/>
                </a:moveTo>
                <a:lnTo>
                  <a:pt x="71116" y="0"/>
                </a:lnTo>
                <a:lnTo>
                  <a:pt x="71116" y="21600"/>
                </a:lnTo>
                <a:lnTo>
                  <a:pt x="0" y="21600"/>
                </a:lnTo>
                <a:close/>
              </a:path>
              <a:path fill="lightenLess" w="71116" h="21600">
                <a:moveTo>
                  <a:pt x="0" y="0"/>
                </a:moveTo>
                <a:lnTo>
                  <a:pt x="71116" y="0"/>
                </a:lnTo>
                <a:lnTo>
                  <a:pt x="69716" y="1400"/>
                </a:lnTo>
                <a:lnTo>
                  <a:pt x="1400" y="1400"/>
                </a:lnTo>
                <a:close/>
              </a:path>
              <a:path fill="darken" w="71116" h="21600">
                <a:moveTo>
                  <a:pt x="71116" y="0"/>
                </a:moveTo>
                <a:lnTo>
                  <a:pt x="71116" y="21600"/>
                </a:lnTo>
                <a:lnTo>
                  <a:pt x="69716" y="20200"/>
                </a:lnTo>
                <a:lnTo>
                  <a:pt x="69716" y="1400"/>
                </a:lnTo>
                <a:close/>
              </a:path>
              <a:path fill="darkenLess" w="71116" h="21600">
                <a:moveTo>
                  <a:pt x="71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16" y="20200"/>
                </a:lnTo>
                <a:close/>
              </a:path>
              <a:path fill="lighten" w="71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059680" cy="316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строить график функци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0,25 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3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Поскольку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х при х≥0,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ебуемый график совпадает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болой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=0,25 х² - х - 3.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х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 то поскольку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-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 требуемый  график  совпадает с  параболой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=0,25 х² + х - 3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рассмотрим  график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=0,25 х² - х - 3 при х≥0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бразить его относительно  оси ОУ мы получим тот ж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й графи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71640" y="3573360"/>
          <a:ext cx="613260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573360"/>
                    <a:ext cx="613260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924360" y="4292640"/>
            <a:ext cx="2016000" cy="2028960"/>
          </a:xfrm>
          <a:custGeom>
            <a:avLst/>
            <a:gdLst/>
            <a:ahLst/>
            <a:rect l="l" t="t" r="r" b="b"/>
            <a:pathLst>
              <a:path w="1769" h="1731">
                <a:moveTo>
                  <a:pt x="0" y="1407"/>
                </a:moveTo>
                <a:cubicBezTo>
                  <a:pt x="215" y="1569"/>
                  <a:pt x="430" y="1731"/>
                  <a:pt x="725" y="1497"/>
                </a:cubicBezTo>
                <a:cubicBezTo>
                  <a:pt x="1020" y="1263"/>
                  <a:pt x="1595" y="250"/>
                  <a:pt x="176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907280" y="4292640"/>
            <a:ext cx="2016360" cy="2028960"/>
          </a:xfrm>
          <a:custGeom>
            <a:avLst/>
            <a:gdLst/>
            <a:ahLst/>
            <a:rect l="l" t="t" r="r" b="b"/>
            <a:pathLst>
              <a:path w="1769" h="1731">
                <a:moveTo>
                  <a:pt x="0" y="1407"/>
                </a:moveTo>
                <a:cubicBezTo>
                  <a:pt x="215" y="1569"/>
                  <a:pt x="430" y="1731"/>
                  <a:pt x="725" y="1497"/>
                </a:cubicBezTo>
                <a:cubicBezTo>
                  <a:pt x="1020" y="1263"/>
                  <a:pt x="1595" y="250"/>
                  <a:pt x="176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4292640"/>
            <a:ext cx="1081080" cy="1657440"/>
          </a:xfrm>
          <a:custGeom>
            <a:avLst/>
            <a:gdLst/>
            <a:ahLst/>
            <a:rect l="l" t="t" r="r" b="b"/>
            <a:pathLst>
              <a:path w="681" h="1044">
                <a:moveTo>
                  <a:pt x="681" y="1044"/>
                </a:moveTo>
                <a:cubicBezTo>
                  <a:pt x="397" y="609"/>
                  <a:pt x="113" y="174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3573360"/>
            <a:ext cx="2952720" cy="2808360"/>
          </a:xfrm>
          <a:prstGeom prst="rect">
            <a:avLst/>
          </a:prstGeom>
          <a:solidFill>
            <a:srgbClr val="ccffff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85080" y="1268280"/>
            <a:ext cx="1258920" cy="505080"/>
          </a:xfrm>
          <a:custGeom>
            <a:avLst/>
            <a:gdLst>
              <a:gd name="textAreaLeft" fmla="*/ 32400 w 1258920"/>
              <a:gd name="textAreaRight" fmla="*/ 1226520 w 1258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3815" h="21600">
                <a:moveTo>
                  <a:pt x="0" y="0"/>
                </a:moveTo>
                <a:lnTo>
                  <a:pt x="53815" y="0"/>
                </a:lnTo>
                <a:lnTo>
                  <a:pt x="53815" y="21600"/>
                </a:lnTo>
                <a:lnTo>
                  <a:pt x="0" y="21600"/>
                </a:lnTo>
                <a:close/>
              </a:path>
              <a:path fill="lightenLess" w="53815" h="21600">
                <a:moveTo>
                  <a:pt x="0" y="0"/>
                </a:moveTo>
                <a:lnTo>
                  <a:pt x="53815" y="0"/>
                </a:lnTo>
                <a:lnTo>
                  <a:pt x="52415" y="1400"/>
                </a:lnTo>
                <a:lnTo>
                  <a:pt x="1400" y="1400"/>
                </a:lnTo>
                <a:close/>
              </a:path>
              <a:path fill="darken" w="53815" h="21600">
                <a:moveTo>
                  <a:pt x="53815" y="0"/>
                </a:moveTo>
                <a:lnTo>
                  <a:pt x="53815" y="21600"/>
                </a:lnTo>
                <a:lnTo>
                  <a:pt x="52415" y="20200"/>
                </a:lnTo>
                <a:lnTo>
                  <a:pt x="52415" y="1400"/>
                </a:lnTo>
                <a:close/>
              </a:path>
              <a:path fill="darkenLess" w="53815" h="21600">
                <a:moveTo>
                  <a:pt x="53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15" y="20200"/>
                </a:lnTo>
                <a:close/>
              </a:path>
              <a:path fill="lighten" w="53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Постро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85080" y="2492280"/>
            <a:ext cx="1079640" cy="43200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5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2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2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2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10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0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08000" y="189000"/>
          <a:ext cx="894240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424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406760" y="1413000"/>
            <a:ext cx="2880000" cy="2747880"/>
          </a:xfrm>
          <a:custGeom>
            <a:avLst/>
            <a:gdLst/>
            <a:ahLst/>
            <a:rect l="l" t="t" r="r" b="b"/>
            <a:pathLst>
              <a:path w="1769" h="1731">
                <a:moveTo>
                  <a:pt x="0" y="1407"/>
                </a:moveTo>
                <a:cubicBezTo>
                  <a:pt x="215" y="1569"/>
                  <a:pt x="430" y="1731"/>
                  <a:pt x="725" y="1497"/>
                </a:cubicBezTo>
                <a:cubicBezTo>
                  <a:pt x="1020" y="1263"/>
                  <a:pt x="1595" y="250"/>
                  <a:pt x="176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547640" y="1413000"/>
            <a:ext cx="2881440" cy="2747880"/>
          </a:xfrm>
          <a:custGeom>
            <a:avLst/>
            <a:gdLst/>
            <a:ahLst/>
            <a:rect l="l" t="t" r="r" b="b"/>
            <a:pathLst>
              <a:path w="1769" h="1731">
                <a:moveTo>
                  <a:pt x="0" y="1407"/>
                </a:moveTo>
                <a:cubicBezTo>
                  <a:pt x="215" y="1569"/>
                  <a:pt x="430" y="1731"/>
                  <a:pt x="725" y="1497"/>
                </a:cubicBezTo>
                <a:cubicBezTo>
                  <a:pt x="1020" y="1263"/>
                  <a:pt x="1595" y="250"/>
                  <a:pt x="176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443700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ff"/>
                </a:solidFill>
                <a:latin typeface="Times New Roman"/>
              </a:rPr>
              <a:t>Для построения графика функции у = f |(х)| достаточно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ff"/>
                </a:solidFill>
                <a:latin typeface="Times New Roman"/>
              </a:rPr>
              <a:t>1. построить график функции у = f(х) для х&gt;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ff"/>
                </a:solidFill>
                <a:latin typeface="Times New Roman"/>
              </a:rPr>
              <a:t>2. Для х&lt;0, симметрично отразить построенную ча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99ff"/>
                </a:solidFill>
                <a:latin typeface="Times New Roman"/>
              </a:rPr>
              <a:t>относительно оси О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249228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2492280"/>
            <a:ext cx="142920" cy="144720"/>
          </a:xfrm>
          <a:prstGeom prst="ellipse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860640"/>
            <a:ext cx="142920" cy="1447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48360" y="1700280"/>
            <a:ext cx="142920" cy="144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1700280"/>
            <a:ext cx="142920" cy="144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860640"/>
            <a:ext cx="142920" cy="1447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4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mph" presetID="7" presetSubtype="2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684360" y="1844640"/>
          <a:ext cx="7920000" cy="45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920000" cy="45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 flipH="1">
            <a:off x="1979640" y="2133720"/>
            <a:ext cx="2519280" cy="1042920"/>
          </a:xfrm>
          <a:custGeom>
            <a:avLst/>
            <a:gdLst/>
            <a:ahLst/>
            <a:rect l="l" t="t" r="r" b="b"/>
            <a:pathLst>
              <a:path w="1679" h="657">
                <a:moveTo>
                  <a:pt x="0" y="559"/>
                </a:moveTo>
                <a:cubicBezTo>
                  <a:pt x="155" y="279"/>
                  <a:pt x="310" y="0"/>
                  <a:pt x="499" y="15"/>
                </a:cubicBezTo>
                <a:cubicBezTo>
                  <a:pt x="688" y="30"/>
                  <a:pt x="937" y="643"/>
                  <a:pt x="1134" y="650"/>
                </a:cubicBezTo>
                <a:cubicBezTo>
                  <a:pt x="1331" y="657"/>
                  <a:pt x="1588" y="158"/>
                  <a:pt x="1679" y="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133720"/>
            <a:ext cx="2519280" cy="1042920"/>
          </a:xfrm>
          <a:custGeom>
            <a:avLst/>
            <a:gdLst/>
            <a:ahLst/>
            <a:rect l="l" t="t" r="r" b="b"/>
            <a:pathLst>
              <a:path w="1679" h="657">
                <a:moveTo>
                  <a:pt x="0" y="559"/>
                </a:moveTo>
                <a:cubicBezTo>
                  <a:pt x="155" y="279"/>
                  <a:pt x="310" y="0"/>
                  <a:pt x="499" y="15"/>
                </a:cubicBezTo>
                <a:cubicBezTo>
                  <a:pt x="688" y="30"/>
                  <a:pt x="937" y="643"/>
                  <a:pt x="1134" y="650"/>
                </a:cubicBezTo>
                <a:cubicBezTo>
                  <a:pt x="1331" y="657"/>
                  <a:pt x="1588" y="158"/>
                  <a:pt x="1679" y="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2997360"/>
            <a:ext cx="3241800" cy="2579400"/>
          </a:xfrm>
          <a:custGeom>
            <a:avLst/>
            <a:gdLst/>
            <a:ahLst/>
            <a:rect l="l" t="t" r="r" b="b"/>
            <a:pathLst>
              <a:path w="2042" h="1625">
                <a:moveTo>
                  <a:pt x="2042" y="0"/>
                </a:moveTo>
                <a:cubicBezTo>
                  <a:pt x="1758" y="774"/>
                  <a:pt x="1474" y="1549"/>
                  <a:pt x="1134" y="1587"/>
                </a:cubicBezTo>
                <a:cubicBezTo>
                  <a:pt x="794" y="1625"/>
                  <a:pt x="189" y="454"/>
                  <a:pt x="0" y="22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График функции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у = f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|(х)|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9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000"/>
                            </p:stCondLst>
                            <p:childTnLst>
                              <p:par>
                                <p:cTn id="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2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29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68360" y="1628640"/>
          <a:ext cx="7993080" cy="460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799308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 flipV="1">
            <a:off x="3708360" y="1843920"/>
            <a:ext cx="1584360" cy="187164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92720" y="1628280"/>
            <a:ext cx="647640" cy="20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203640" y="1700280"/>
            <a:ext cx="50472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3716280"/>
            <a:ext cx="1584360" cy="201636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3716280"/>
            <a:ext cx="1584360" cy="201636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 =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²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- х -6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4360" y="189000"/>
            <a:ext cx="1728720" cy="50472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3945" h="21600">
                <a:moveTo>
                  <a:pt x="0" y="0"/>
                </a:moveTo>
                <a:lnTo>
                  <a:pt x="73945" y="0"/>
                </a:lnTo>
                <a:lnTo>
                  <a:pt x="73945" y="21600"/>
                </a:lnTo>
                <a:lnTo>
                  <a:pt x="0" y="21600"/>
                </a:lnTo>
                <a:close/>
              </a:path>
              <a:path fill="lightenLess" w="73945" h="21600">
                <a:moveTo>
                  <a:pt x="0" y="0"/>
                </a:moveTo>
                <a:lnTo>
                  <a:pt x="73945" y="0"/>
                </a:lnTo>
                <a:lnTo>
                  <a:pt x="72545" y="1400"/>
                </a:lnTo>
                <a:lnTo>
                  <a:pt x="1400" y="1400"/>
                </a:lnTo>
                <a:close/>
              </a:path>
              <a:path fill="darken" w="73945" h="21600">
                <a:moveTo>
                  <a:pt x="73945" y="0"/>
                </a:moveTo>
                <a:lnTo>
                  <a:pt x="73945" y="21600"/>
                </a:lnTo>
                <a:lnTo>
                  <a:pt x="72545" y="20200"/>
                </a:lnTo>
                <a:lnTo>
                  <a:pt x="72545" y="1400"/>
                </a:lnTo>
                <a:close/>
              </a:path>
              <a:path fill="darkenLess" w="73945" h="21600">
                <a:moveTo>
                  <a:pt x="7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45" y="20200"/>
                </a:lnTo>
                <a:close/>
              </a:path>
              <a:path fill="lighten" w="7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Прове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76500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Построим график функции</a:t>
            </a:r>
            <a:r>
              <a:rPr b="0" i="1" lang="ru-RU" sz="1800" spc="-1" strike="noStrike">
                <a:solidFill>
                  <a:srgbClr val="ff99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 =х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²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- х 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692280"/>
            <a:ext cx="5616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 Участки графика, расположенные в нижней полуплоскости, отображаем симметрично относительно оси О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1197000"/>
            <a:ext cx="1079640" cy="289080"/>
          </a:xfrm>
          <a:custGeom>
            <a:avLst/>
            <a:gdLst>
              <a:gd name="textAreaLeft" fmla="*/ 18720 w 1079640"/>
              <a:gd name="textAreaRight" fmla="*/ 1060920 w 1079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80597" h="21600">
                <a:moveTo>
                  <a:pt x="0" y="0"/>
                </a:moveTo>
                <a:lnTo>
                  <a:pt x="80597" y="0"/>
                </a:lnTo>
                <a:lnTo>
                  <a:pt x="80597" y="21600"/>
                </a:lnTo>
                <a:lnTo>
                  <a:pt x="0" y="21600"/>
                </a:lnTo>
                <a:close/>
              </a:path>
              <a:path fill="lightenLess" w="80597" h="21600">
                <a:moveTo>
                  <a:pt x="0" y="0"/>
                </a:moveTo>
                <a:lnTo>
                  <a:pt x="80597" y="0"/>
                </a:lnTo>
                <a:lnTo>
                  <a:pt x="79197" y="1400"/>
                </a:lnTo>
                <a:lnTo>
                  <a:pt x="1400" y="1400"/>
                </a:lnTo>
                <a:close/>
              </a:path>
              <a:path fill="darken" w="80597" h="21600">
                <a:moveTo>
                  <a:pt x="80597" y="0"/>
                </a:moveTo>
                <a:lnTo>
                  <a:pt x="80597" y="21600"/>
                </a:lnTo>
                <a:lnTo>
                  <a:pt x="79197" y="20200"/>
                </a:lnTo>
                <a:lnTo>
                  <a:pt x="79197" y="1400"/>
                </a:lnTo>
                <a:close/>
              </a:path>
              <a:path fill="darkenLess" w="80597" h="21600">
                <a:moveTo>
                  <a:pt x="80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97" y="20200"/>
                </a:lnTo>
                <a:close/>
              </a:path>
              <a:path fill="lighten" w="80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33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33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остроения графика функции  у = |f(х) |  достаточн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Построить график функции у = f(х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На участках, где график расположен в нижней полуплоскости, т.е., гд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f(х) &lt;0, симметрично отражаем относительно оси абсцис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9640" y="1844640"/>
          <a:ext cx="81295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1295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788000" y="4005360"/>
            <a:ext cx="1584360" cy="12952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4005360"/>
            <a:ext cx="1150920" cy="93636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843280" y="2204280"/>
            <a:ext cx="1944720" cy="180036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2360" y="2492280"/>
            <a:ext cx="647640" cy="1513080"/>
          </a:xfrm>
          <a:custGeom>
            <a:avLst/>
            <a:gdLst/>
            <a:ahLst/>
            <a:rect l="l" t="t" r="r" b="b"/>
            <a:pathLst>
              <a:path w="408" h="953">
                <a:moveTo>
                  <a:pt x="0" y="953"/>
                </a:moveTo>
                <a:cubicBezTo>
                  <a:pt x="170" y="556"/>
                  <a:pt x="340" y="159"/>
                  <a:pt x="40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76360" y="350028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136" y="318"/>
                </a:moveTo>
                <a:cubicBezTo>
                  <a:pt x="79" y="185"/>
                  <a:pt x="23" y="53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88000" y="2707560"/>
            <a:ext cx="1584360" cy="12970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92360" y="3068640"/>
            <a:ext cx="1150920" cy="93672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88000" y="2707560"/>
            <a:ext cx="1584360" cy="12970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692360" y="3068640"/>
            <a:ext cx="1150920" cy="93672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39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0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0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10520" cy="209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строить график функции у = | 2|х | - 3|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Построить  у =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|х | - 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 |х| - 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&gt; 0 ,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 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gt;1,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е.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1,5 и 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=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х  - 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я х&lt;0, симметрично отра</a:t>
            </a:r>
            <a:r>
              <a:rPr b="0" lang="tt-RU" sz="1800" spc="-1" strike="noStrike">
                <a:solidFill>
                  <a:srgbClr val="ffffff"/>
                </a:solidFill>
                <a:latin typeface="Times New Roman"/>
              </a:rPr>
              <a:t>жае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остроенную часть относительно оси О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Построить у =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 |х| + 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|х | - 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. т.е.  -1,5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=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х  + 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я х&lt;0, симметрично отражаем  построенную часть относительно оси О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42920" y="2637000"/>
          <a:ext cx="712944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37000"/>
                    <a:ext cx="71294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932360" y="2637000"/>
            <a:ext cx="3240000" cy="4105080"/>
          </a:xfrm>
          <a:prstGeom prst="rect">
            <a:avLst/>
          </a:prstGeom>
          <a:solidFill>
            <a:srgbClr val="00ccff">
              <a:alpha val="2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2637000"/>
            <a:ext cx="3024360" cy="4105080"/>
          </a:xfrm>
          <a:prstGeom prst="rect">
            <a:avLst/>
          </a:prstGeom>
          <a:solidFill>
            <a:srgbClr val="00ccff">
              <a:alpha val="2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932360" y="2707920"/>
            <a:ext cx="863640" cy="1800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132000" y="2707920"/>
            <a:ext cx="935280" cy="1800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285264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7280" y="2708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2637000"/>
            <a:ext cx="865080" cy="4105080"/>
          </a:xfrm>
          <a:prstGeom prst="rect">
            <a:avLst/>
          </a:prstGeom>
          <a:solidFill>
            <a:srgbClr val="ff99ff">
              <a:alpha val="3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067280" y="3645000"/>
            <a:ext cx="433440" cy="86364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500360" y="3644640"/>
            <a:ext cx="431640" cy="86364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4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44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44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44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4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4920" y="-360"/>
            <a:ext cx="8497800" cy="1916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. у = | 2|х | - 3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) Построить  у = 2х-3, для х&gt;0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) Построить прямую, симметричную построенной относительно оси О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) Участки графика, расположенные в нижней полуплоскости, отображаем симметрично относительно оси О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5175c"/>
                </a:solidFill>
                <a:latin typeface="Times New Roman"/>
              </a:rPr>
              <a:t>Сравнивая оба графика, видим что они одинаков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2133720"/>
          <a:ext cx="7632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632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924360" y="414972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27640" y="4149720"/>
            <a:ext cx="50472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932360" y="2492280"/>
            <a:ext cx="863640" cy="16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2421000"/>
            <a:ext cx="865080" cy="172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924360" y="3213000"/>
            <a:ext cx="503280" cy="93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427640" y="3213000"/>
            <a:ext cx="504720" cy="93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924360" y="3213000"/>
            <a:ext cx="503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427640" y="3213000"/>
            <a:ext cx="50472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0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4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7:48:24Z</dcterms:created>
  <dc:creator>ади</dc:creator>
  <dc:description/>
  <dc:language>en-US</dc:language>
  <cp:lastModifiedBy>Ильнур</cp:lastModifiedBy>
  <dcterms:modified xsi:type="dcterms:W3CDTF">2011-12-16T14:03:25Z</dcterms:modified>
  <cp:revision>124</cp:revision>
  <dc:subject/>
  <dc:title>Слайд 1</dc:title>
</cp:coreProperties>
</file>