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635-2E34-4789-B8AD-AD066680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E50-CAEB-437C-8019-92854DB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E5F-31E1-4759-BC82-19BA35EC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3FD-C9E4-4BFE-A57F-370D105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04F4-0FCA-4ED9-A275-79469492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D2A-82A6-48F8-9A82-7897A0A5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8B9-439D-42BF-BDC1-4AEFB0E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F7A8-8DF4-4BF1-9508-294BF97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AFBA-A223-4D1D-B202-9191BD45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DCC4-2225-480E-965C-B21E72E1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5A57-8F63-430A-9334-841F86F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9B7-7B84-4068-95B8-3456E08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815-755E-489D-A73C-3BD5AD8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FC1F-AD78-4A97-A88B-ECA34F1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4186-90B3-4FCA-8A3D-982417F2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9E84-1CCD-4522-9AB9-95CEB7B9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2000-3EDE-40D4-A23D-2890913E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663-47B4-45FD-9A28-058D25DB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8CF-9566-4775-A071-BE8D44A7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A20-3DE4-4056-BD6E-52573841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8A2-0D89-4685-B1C7-1B823A6A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086-FC3E-472F-B732-994ACE66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B63-405F-4450-B03E-D2F8987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A99-7A7B-46FE-893E-4970E29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A5D-6FC3-4EF7-8710-DBF3036F0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B79D-2301-4D99-9249-08927465F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Что такое кровь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 кров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1844640"/>
          <a:ext cx="7994880" cy="1967040"/>
        </p:xfrm>
        <a:graphic>
          <a:graphicData uri="http://schemas.openxmlformats.org/drawingml/2006/table">
            <a:tbl>
              <a:tblPr/>
              <a:tblGrid>
                <a:gridCol w="2435400"/>
                <a:gridCol w="2779560"/>
                <a:gridCol w="277992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йк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д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кров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щи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ыносит                    Разносит пищ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дные                    кислород,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                  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орется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у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63280" y="1268280"/>
            <a:ext cx="2521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126828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став кров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2000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Эритроци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ые 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ритроциты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еносят кислород и углекисл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38472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ейкоци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е и бесцветные клетки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лейкоцит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дут борьбу с микроорганизмами, возбудителями боле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29527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ромбоци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яные пластинки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тромбоцит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гают крови сворачи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заживляют раны, из которых течет кров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388620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– он ведь тоже при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ведь тоже закат и вос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четыре в нем времени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особый в нем музыки 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Тест «Органы пищеварения. Кровеносная система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ля чего человеку нужна пищ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с пищей человек получает питательные ве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с пищей человек получает необходимый для жизни кисло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с пищей человек получает воду и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де начинается пищева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во 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 желу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лагодаря чему частицы питательных веществ разносятся по всему те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благодар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благодаря нервным волок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благодаря мыш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Какое вещество воздуха нужно органам тела для рабо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аз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каком органе происходит газообмен между воздухом и кров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в но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 брон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 ле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ерез какие органы происходит удаление из организма углекислого газа и вредных веще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через печень, кишечник, мочево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через кожу, почки, 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через сердце, желудок, желчны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Физические свойства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Значение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Состав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1:29:02Z</dcterms:created>
  <dc:creator>Admin</dc:creator>
  <dc:description/>
  <dc:language>en-US</dc:language>
  <cp:lastModifiedBy>Admin</cp:lastModifiedBy>
  <dcterms:modified xsi:type="dcterms:W3CDTF">2009-09-30T18:39:26Z</dcterms:modified>
  <cp:revision>4</cp:revision>
  <dc:subject/>
  <dc:title>Что такое кровь?</dc:title>
</cp:coreProperties>
</file>