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A327-C2BE-47C1-96C8-B9B2FB74E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795D-FE86-4D37-B6C7-A7721258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DDA3-1195-4664-8B22-5E8EC1574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CBD6-2D03-4C4F-8A06-26040769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8428-A7BC-4610-AAD5-F3BA2AC72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106D-5448-45F1-A65C-91A45E5B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6C70-398C-4537-B249-33012171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FA6A-87F4-4B0F-99AD-18A2A65C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50C5-B4B0-4B82-ACCE-C20D7841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735A-3E3D-4708-8B91-2C9CB139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87CC-7447-452B-AA25-65002B8E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E90F-327A-4B5D-90F9-92D8E013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40E5-B2D1-428F-B9D9-66B42A8E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5129-6571-41C4-A517-65D8429D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85AE-C8C3-4587-9276-A44C57FC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B825-AAFD-4867-87C1-EFDD88220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CF6C-992E-4448-ACD7-F756B658F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DD38-EEE9-4EFB-8BCD-DE572484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A252-2EF2-443C-BF14-E8212E62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8FD1-D348-45DE-A072-FDE1E997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CBDB-6D43-4D01-86AF-9ADDFC7C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788D-8C13-4462-A40C-D2F8F3DF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18A5-2AA5-4659-A773-2B71160D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C225-DBAF-44B2-A301-891590BE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73EC-B473-447E-B295-12E80F2227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D60E-E5AE-4728-BBD1-633ED69FCE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Что такое кровь?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Физические свойства кров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39640" y="1844640"/>
          <a:ext cx="7994880" cy="1967040"/>
        </p:xfrm>
        <a:graphic>
          <a:graphicData uri="http://schemas.openxmlformats.org/drawingml/2006/table">
            <a:tbl>
              <a:tblPr/>
              <a:tblGrid>
                <a:gridCol w="2435400"/>
                <a:gridCol w="2779560"/>
                <a:gridCol w="2779920"/>
              </a:tblGrid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ку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ейк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дк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с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е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начение кров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Защи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Транспо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Выносит                    Разносит пищ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едные                    кислород, во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щества                  теп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Борется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рус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763280" y="1268280"/>
            <a:ext cx="25210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27640" y="1268280"/>
            <a:ext cx="172872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Состав кров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7920000" cy="5112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Эритроцит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асные клетки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эритроциты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ереносят кислород и углекислый г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003640" y="2133720"/>
            <a:ext cx="3384720" cy="3166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Лейкоцит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лые и бесцветные клетки –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лейкоциты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дут борьбу с микроорганизмами, возбудителями болез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148360" y="2133720"/>
            <a:ext cx="295272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ромбоцит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овяные пластинки –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тромбоциты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могают крови сворачива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заживляют раны, из которых течет кров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48320" y="2346480"/>
            <a:ext cx="3886200" cy="2927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ловек – он ведь тоже приро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н ведь тоже закат и восх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четыре в нем времени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особый в нем музыки х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Тест «Органы пищеварения. Кровеносная система»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Для чего человеку нужна пищ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с пищей человек получает питательные вещест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с пищей человек получает необходимый для жизни кислор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с пищей человек получает воду и витам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Где начинается пищевар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во р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в желуд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в кишечн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Благодаря чему частицы питательных веществ разносятся по всему тел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благодаря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благодаря нервным волок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благодаря мыш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Какое вещество воздуха нужно органам тела для рабо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кисл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углекислый г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аз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 каком органе происходит газообмен между воздухом и кровь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в но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в бронх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в легк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Через какие органы происходит удаление из организма углекислого газа и вредных вещест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через печень, кишечник, мочевой пузы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через кожу, почки, лег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через сердце, желудок, желчный пузы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Физические свойства кро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Значение кро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Состав кро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1:29:02Z</dcterms:created>
  <dc:creator>Admin</dc:creator>
  <dc:description/>
  <dc:language>en-US</dc:language>
  <cp:lastModifiedBy>Admin</cp:lastModifiedBy>
  <dcterms:modified xsi:type="dcterms:W3CDTF">2009-09-30T18:39:26Z</dcterms:modified>
  <cp:revision>4</cp:revision>
  <dc:subject/>
  <dc:title>Что такое кровь?</dc:title>
</cp:coreProperties>
</file>