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png" ContentType="image/png"/>
  <Override PartName="/ppt/media/image4.jpeg" ContentType="image/jpeg"/>
  <Override PartName="/ppt/media/image13.gif" ContentType="image/gif"/>
  <Override PartName="/ppt/media/image5.gif" ContentType="image/gif"/>
  <Override PartName="/ppt/media/image10.gif" ContentType="image/gif"/>
  <Override PartName="/ppt/media/image6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6F17-C400-4C71-BC2A-17C9E30B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891-0801-40BA-BAF8-73049674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CBE6-4FDC-44FF-ABB9-21AC801F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14AE-C83A-4D5B-AB95-BB3C03EE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E9E9-B121-4348-A6AC-79B5455F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D162-2F1C-404A-B789-3AF90FDB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BE1-55D9-48B9-B6B8-33DEB9DA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9769-4E2F-45EE-B48E-A738E359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A7C9-8ED1-48FD-A99E-862A7761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08CE-F9E0-48EB-8144-19805364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9E7E-E9D7-4089-AB8E-6E70BABC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2684-BC17-4393-A8D3-66BD495E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7257-B7E1-491C-A035-08AB724B0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KusochekLetnegoNastroenia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-142920" y="1571760"/>
            <a:ext cx="700092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f05d9"/>
                </a:solidFill>
                <a:latin typeface="Calibri"/>
              </a:rPr>
              <a:t>Сегодня праздник наших мам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i="1" lang="en-US" sz="6600" spc="-1" strike="noStrike">
                <a:solidFill>
                  <a:srgbClr val="ff0000"/>
                </a:solidFill>
                <a:latin typeface="Calibri"/>
              </a:rPr>
              <a:t>И нам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Calibri"/>
              </a:rPr>
              <a:t>приятно это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306"/>
          <p:cNvPicPr/>
          <p:nvPr/>
        </p:nvPicPr>
        <p:blipFill>
          <a:blip r:embed="rId2"/>
          <a:stretch/>
        </p:blipFill>
        <p:spPr>
          <a:xfrm rot="10800000">
            <a:off x="-286200" y="-142920"/>
            <a:ext cx="5334120" cy="180648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871560" y="0"/>
            <a:ext cx="73818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142920" y="598320"/>
            <a:ext cx="39290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Дети </a:t>
            </a:r>
            <a:r>
              <a:rPr b="1" i="1" lang="en-US" sz="4000" spc="-1" strike="noStrike">
                <a:solidFill>
                  <a:srgbClr val="0f05d9"/>
                </a:solidFill>
                <a:latin typeface="Calibri"/>
              </a:rPr>
              <a:t>– самое дорогое для матери. Счастлив тот, кто с детства знает материнскую любовь, ласку, забот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FlatPro\Pictures\1 нов год\маме.jpg"/>
          <p:cNvPicPr/>
          <p:nvPr/>
        </p:nvPicPr>
        <p:blipFill>
          <a:blip r:embed="rId1"/>
          <a:stretch/>
        </p:blipFill>
        <p:spPr>
          <a:xfrm>
            <a:off x="4000680" y="-41400"/>
            <a:ext cx="5143320" cy="7072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107"/>
          <p:cNvPicPr/>
          <p:nvPr/>
        </p:nvPicPr>
        <p:blipFill>
          <a:blip r:embed="rId2"/>
          <a:stretch/>
        </p:blipFill>
        <p:spPr>
          <a:xfrm rot="14883600">
            <a:off x="5363280" y="-987840"/>
            <a:ext cx="1333440" cy="353196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FlatPro\Pictures\1 нов год\post-47503-1193164982.jpg"/>
          <p:cNvPicPr/>
          <p:nvPr/>
        </p:nvPicPr>
        <p:blipFill>
          <a:blip r:embed="rId1"/>
          <a:stretch/>
        </p:blipFill>
        <p:spPr>
          <a:xfrm>
            <a:off x="785880" y="-11160"/>
            <a:ext cx="7558200" cy="686916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FlatPro\Pictures\1 нов год\жирафики.png"/>
          <p:cNvPicPr/>
          <p:nvPr/>
        </p:nvPicPr>
        <p:blipFill>
          <a:blip r:embed="rId2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4871880" y="665280"/>
            <a:ext cx="4343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Материнская любовь греет нас до старости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Мама учит нас быть мудрыми, дает советы, заботится о нас, оберегает нас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000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FlatPro\Pictures\1 нов год\post-20943-1193605044.jpg"/>
          <p:cNvPicPr/>
          <p:nvPr/>
        </p:nvPicPr>
        <p:blipFill>
          <a:blip r:embed="rId1"/>
          <a:stretch/>
        </p:blipFill>
        <p:spPr>
          <a:xfrm>
            <a:off x="442908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love77"/>
          <p:cNvPicPr/>
          <p:nvPr/>
        </p:nvPicPr>
        <p:blipFill>
          <a:blip r:embed="rId2"/>
          <a:stretch/>
        </p:blipFill>
        <p:spPr>
          <a:xfrm rot="20794800">
            <a:off x="5133960" y="3014280"/>
            <a:ext cx="2209680" cy="2025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71280" y="314280"/>
            <a:ext cx="55008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50021"/>
                </a:solidFill>
                <a:latin typeface="Calibri"/>
              </a:rPr>
              <a:t>Много обязанностей у наших мам. Но, наверное, самая главная - быть «Добрым солнышком» семьи, нести свет и тепло детям, стать их задушевным другом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000"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:\Users\FlatPro\Pictures\1 нов год\post-28655-1193573780.jpg"/>
          <p:cNvPicPr/>
          <p:nvPr/>
        </p:nvPicPr>
        <p:blipFill>
          <a:blip r:embed="rId1"/>
          <a:stretch/>
        </p:blipFill>
        <p:spPr>
          <a:xfrm>
            <a:off x="0" y="-181080"/>
            <a:ext cx="9144000" cy="703908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-787320" y="4255920"/>
            <a:ext cx="3930480" cy="2602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r2-2[1]"/>
          <p:cNvPicPr/>
          <p:nvPr/>
        </p:nvPicPr>
        <p:blipFill>
          <a:blip r:embed="rId2"/>
          <a:stretch/>
        </p:blipFill>
        <p:spPr>
          <a:xfrm flipH="1">
            <a:off x="5857920" y="0"/>
            <a:ext cx="3286080" cy="39290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 rot="21030000">
            <a:off x="1513800" y="1146240"/>
            <a:ext cx="5643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alibri"/>
              </a:rPr>
              <a:t>Милые женщины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f05d9"/>
                </a:solidFill>
                <a:latin typeface="Calibri"/>
              </a:rPr>
              <a:t>славные женщины!</a:t>
            </a:r>
            <a:br>
              <a:rPr sz="4000"/>
            </a:br>
            <a:r>
              <a:rPr b="1" i="1" lang="en-US" sz="4000" spc="-1" strike="noStrike">
                <a:solidFill>
                  <a:srgbClr val="984807"/>
                </a:solidFill>
                <a:latin typeface="Calibri"/>
              </a:rPr>
              <a:t>Я не желаю судьб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b050"/>
                </a:solidFill>
                <a:latin typeface="Calibri"/>
              </a:rPr>
              <a:t>вам иной,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Calibri"/>
              </a:rPr>
              <a:t>Будьте красивыми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f05d9"/>
                </a:solidFill>
                <a:latin typeface="Calibri"/>
              </a:rPr>
              <a:t>будьте любимыми,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Будьте счастливым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alibri"/>
              </a:rPr>
              <a:t>все до одно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4:09:24Z</dcterms:created>
  <dc:creator>Елпидина</dc:creator>
  <dc:description/>
  <dc:language>en-US</dc:language>
  <cp:lastModifiedBy>1</cp:lastModifiedBy>
  <dcterms:modified xsi:type="dcterms:W3CDTF">2011-11-20T16:20:42Z</dcterms:modified>
  <cp:revision>40</cp:revision>
  <dc:subject/>
  <dc:title>Слайд 1</dc:title>
</cp:coreProperties>
</file>