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B2A-6010-418B-BA85-BC43BFA2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7FF-32BC-4031-A34D-2614D0D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04D-6D7C-4E24-8E34-294B4214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AB8-C0BA-4AB4-A778-7243B895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990-EB72-408E-8E2C-3ADB9279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FCB-0C2E-49F7-A3C3-B45D1EEB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37A-4DE0-49A1-81A2-822697B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506-D5AF-4E34-B55D-13B88FC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9E7-ACF1-4029-A629-FE83E40C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33F-1EFD-4C33-ACB7-7A45D1B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C42-7CFD-4A00-A613-9F0131EE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C66-F6D4-4029-B45D-90D87D3A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C674-6CEF-4A40-8B2C-624752966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FlatPro\Pictures\1 нов год\post-28655-1193573780.jpg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14256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Повторяя движения </a:t>
            </a:r>
            <a:r>
              <a:rPr b="0" i="1" lang="en-US" sz="3200" spc="-1" strike="noStrike">
                <a:solidFill>
                  <a:srgbClr val="808080"/>
                </a:solidFill>
                <a:latin typeface="Monotype Corsiva"/>
              </a:rPr>
              <a:t>губ </a:t>
            </a:r>
            <a:r>
              <a:rPr b="0" lang="en-US" sz="3200" spc="-1" strike="noStrike">
                <a:solidFill>
                  <a:srgbClr val="808080"/>
                </a:solidFill>
                <a:latin typeface="Monotype Corsiva"/>
              </a:rPr>
              <a:t>матери, мы произносим свое первое в жизни слово: мама. Пройдет 10 лет, 12, 50... Забудутся в нашей памяти многие события, люди и встречи. Но, что бы ни пережили мы, воспоминания всегда будут возвращать нас в светлый мир детства, к образу матери, научившей нас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19240" y="2919240"/>
            <a:ext cx="3945240" cy="3945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6202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Мы любим сестру, и жену, и отца,</a:t>
            </a:r>
            <a:br>
              <a:rPr sz="3000"/>
            </a:b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  Но в муках мы мать вспоминаем, - </a:t>
            </a:r>
            <a:br>
              <a:rPr sz="3000"/>
            </a:br>
            <a:r>
              <a:rPr b="1" lang="en-US" sz="3000" spc="-1" strike="noStrike">
                <a:solidFill>
                  <a:srgbClr val="005878"/>
                </a:solidFill>
                <a:latin typeface="Monotype Corsiva"/>
              </a:rPr>
              <a:t>                                                сказал Некрас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4002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eorgia"/>
              </a:rPr>
              <a:t>     </a:t>
            </a:r>
            <a:r>
              <a:rPr b="1" lang="en-US" sz="2800" spc="-1" strike="noStrike">
                <a:solidFill>
                  <a:srgbClr val="005878"/>
                </a:solidFill>
                <a:latin typeface="Monotype Corsiva"/>
              </a:rPr>
              <a:t>В муках, в страданиях человек шепчет «мама», и в этом слове сосредотачивается для него все, оно становится равнозначным слову «жизнь». Человек зовет мать и верит, что, где бы она ни была, она слышит его, сострадает, спешит на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649760" y="2068560"/>
            <a:ext cx="4032360" cy="3868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:\школьный компьютер\Мои рисунки\482448-a70005c936467903.gif"/>
          <p:cNvPicPr/>
          <p:nvPr/>
        </p:nvPicPr>
        <p:blipFill>
          <a:blip r:embed="rId2"/>
          <a:stretch/>
        </p:blipFill>
        <p:spPr>
          <a:xfrm>
            <a:off x="3929040" y="5757840"/>
            <a:ext cx="857160" cy="74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572080" y="4929120"/>
            <a:ext cx="1738440" cy="1714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27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>
                <a:solidFill>
                  <a:srgbClr val="339933"/>
                </a:solidFill>
                <a:latin typeface="Monotype Corsiva"/>
              </a:rPr>
              <a:t>День матери в Росси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af"/>
                </a:solidFill>
                <a:latin typeface="Monotype Corsiva"/>
              </a:rPr>
              <a:t>В России День матери стали отмечать сравнительно недавно. 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8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:\день матери\1_mo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:\день матери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M:\день матери\6.jpg"/>
          <p:cNvPicPr/>
          <p:nvPr/>
        </p:nvPicPr>
        <p:blipFill>
          <a:blip r:embed="rId1"/>
          <a:stretch/>
        </p:blipFill>
        <p:spPr>
          <a:xfrm>
            <a:off x="17928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7:58:10Z</dcterms:created>
  <dc:creator>1</dc:creator>
  <dc:description/>
  <dc:language>en-US</dc:language>
  <cp:lastModifiedBy>1</cp:lastModifiedBy>
  <dcterms:modified xsi:type="dcterms:W3CDTF">2011-12-02T18:44:53Z</dcterms:modified>
  <cp:revision>7</cp:revision>
  <dc:subject/>
  <dc:title>День матери в России</dc:title>
</cp:coreProperties>
</file>