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8FF-0F9C-4DB3-89D1-56A5392E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581-323B-4D8E-8184-BE2AE6D6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7E7-BA8D-4E53-A17C-BD79FE58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096-9C4A-42DB-AD9A-2383CE39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3D9-F736-45B2-85FF-694882D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A42-0A7F-4350-B7AC-62F6143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9ED-474D-4073-9D4F-4A59586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F2F-3C8D-4367-8608-D5EC9BF4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9B0-9E07-418D-9561-863021D8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D45-C4E1-4DEC-BB55-6783E1E2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B94-FAF0-4070-92DD-764C2EE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C4F-6BA9-4B59-BD03-7E31F7B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3E6F-ACCC-4DF9-A534-AF03EAF43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14256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Повторяя движения </a:t>
            </a:r>
            <a:r>
              <a:rPr b="0" i="1" lang="en-US" sz="3200" spc="-1" strike="noStrike">
                <a:solidFill>
                  <a:srgbClr val="808080"/>
                </a:solidFill>
                <a:latin typeface="Monotype Corsiva"/>
              </a:rPr>
              <a:t>губ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матери, мы произносим свое первое в жизни слово: мама. Пройдет 10 лет, 12, 50... Забудутся в нашей памяти многие события, люди и встречи. Но, что бы ни пережили мы, воспоминания всегда будут возвращать нас в светлый мир детства, к образу матери, научившей нас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19240" y="2919240"/>
            <a:ext cx="3945240" cy="394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202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Мы любим сестру, и жену, и отца,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Но в муках мы мать вспоминаем, - 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                                              сказал Некра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4002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5878"/>
                </a:solidFill>
                <a:latin typeface="Monotype Corsiva"/>
              </a:rPr>
              <a:t>В муках, в страданиях человек шепчет «мама», и в этом слове сосредотачивается для него все, оно становится равнозначным слову «жизнь». Человек зовет мать и верит, что, где бы она ни была, она слышит его, сострадает, спешит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49760" y="2068560"/>
            <a:ext cx="4032360" cy="386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:\школьный компьютер\Мои рисунки\482448-a70005c936467903.gif"/>
          <p:cNvPicPr/>
          <p:nvPr/>
        </p:nvPicPr>
        <p:blipFill>
          <a:blip r:embed="rId2"/>
          <a:stretch/>
        </p:blipFill>
        <p:spPr>
          <a:xfrm>
            <a:off x="3929040" y="5757840"/>
            <a:ext cx="8571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572080" y="4929120"/>
            <a:ext cx="1738440" cy="1714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27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339933"/>
                </a:solidFill>
                <a:latin typeface="Monotype Corsiva"/>
              </a:rPr>
              <a:t>День матери в Росси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af"/>
                </a:solidFill>
                <a:latin typeface="Monotype Corsiva"/>
              </a:rPr>
              <a:t>В России День матери стали отмечать сравнительно недавно. 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8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:\день матери\1_mo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:\день матер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M:\день матери\6.jpg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7:58:10Z</dcterms:created>
  <dc:creator>1</dc:creator>
  <dc:description/>
  <dc:language>en-US</dc:language>
  <cp:lastModifiedBy>1</cp:lastModifiedBy>
  <dcterms:modified xsi:type="dcterms:W3CDTF">2011-12-02T18:44:53Z</dcterms:modified>
  <cp:revision>7</cp:revision>
  <dc:subject/>
  <dc:title>День матери в России</dc:title>
</cp:coreProperties>
</file>