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F15-18C9-46DA-971D-D4B83EE7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966-92ED-4881-A0E3-086D544D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62C187-A877-42D4-B436-59C4C7FA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A78391-87D7-43F5-BD8D-6167A8E6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10090B-EFE3-4084-9D23-EF322963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3E6443-9C7E-4F02-9CD9-CB7CED56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74C5BF-38A9-4341-B25B-E817850A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8F26C7-24E9-4E64-9056-E550A155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045DD2-037A-40BB-A203-CDBEB59C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319FFE-F61D-4FDC-916A-FB9CD942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383DBE-73C7-4361-8216-F06C376C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8A8-468E-4289-8A1D-F7260524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4E1-9ADF-4F4F-8FE7-376308F5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62213-B170-4AE6-A355-C72CD978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8277D-5B72-41B1-B706-0FE0926D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35E53-D778-4E75-9A02-5AD40A71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7F094-D1BF-4886-8F4A-A56DD09B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C8C11-BC7C-4AB5-9CFC-DF1D1C5F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BC712-C564-4228-83C0-82A6AD22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7F779-773A-492F-8D3F-F12A27A0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880-B3C6-4EB5-84F6-79168EC6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80528-A553-44C7-AF7D-FA1339E2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26796-A05D-4D40-9325-D38C91F4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E0532-C68D-47E0-82DF-46D9B28D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59274-4585-46DD-88DE-EBBE50FC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FF854-468D-44B8-A7AF-444ABBA0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59604-2449-4120-9806-16CF5208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B5254-E733-4A64-9909-4CA888FB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EF91E-0E35-436F-B391-AB93B0FA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E3825-4459-4592-8D40-22C68731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CDF7-C6A2-48C8-AFF0-C1A38317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C7A-B5D9-446A-82A6-948A3E03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24AFD-300F-49EB-804B-920E1ADA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463C0-B755-4674-848A-9C2F1044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DAD84-AB35-48B3-8A34-0CBDF961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3E02A-434B-47EC-8260-BBED1B22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2EC91-34DB-46E0-A60E-9B2DC911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8A84E-F534-444F-92A8-79450119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6DD8C-440B-45CD-90D4-FE77F026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C2FCA-EC23-492D-AD56-9F9B98B9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E94CB-1B32-4164-BDB4-91BAD5A0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484F32-0CDF-4924-902B-1E94B406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B1F-9ACE-495F-B9D4-6AAB4436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09B3E0-E02E-44C9-918A-587EB032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DDF310-1B2E-4A34-BE09-A7FFB9EC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2945B-F26F-4E23-AAC8-AD367AF5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2A353-E4E4-4B7D-BF7D-622352BD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BCFCB-BE94-45E1-9DFE-B1502B36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2754E8-DCBE-436F-A604-7FB6C985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2B91DB-F586-4098-B31F-7AA4EE22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7D7834-C34B-4837-9597-BC9140F5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117E1-4E9D-4913-A579-A0AB5E3E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CB316-576F-4245-B8C0-9B017CA3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19C-FD2D-4C7B-8407-7D9536BD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0B515-B789-411D-ABE4-CE933766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908F5-13DA-4995-8B83-87AE7429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8FD07-2F01-41AA-97CD-89D2815B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33721-1BB1-4DA1-A987-ABEC7A69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5E3EA-53F5-437B-90EF-436E08AB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EC2FB-A94B-4991-9CAD-D87D5F92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F976C-0A97-45BA-9E98-A8BB7AC1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86DE0-96F7-4689-8890-BA30290F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42385-9F6C-40DF-A847-47615F5A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F4E9A-29A7-4035-BD19-01FFEE0D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790-A81E-417D-A23A-98E98D5B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F6B54-6465-4158-B273-CCBF320D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B3A95-AD8F-47CE-B93F-0B7A4CC2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7E274-5CAC-40B1-A792-F9B1FE80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8D308-CDD7-4AD7-B739-B14A0CBF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2E9BB-5318-4AB7-B159-C29C8DC1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64F13-D81C-4AF7-B1DC-991AED5F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73545-2650-403A-A3D4-4B7D5D99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40F25-B615-4819-95AE-C9C62EFE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5A5CD-E12D-4A7C-9333-5513927F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98C36-B2D3-4B1C-8869-742FDBE0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D5D-70B0-42FE-89AD-404A76D8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362C2-3ABF-4550-98AA-885C8912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34234-9DB2-4CAA-B07F-6A0A085D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5C8C2-F251-41B7-8F3D-DB6BAD74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6D695-5488-41B7-BD87-73498F37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D2A21-07C3-4139-A7CD-8786CD32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B1FF0-9485-44B8-8241-B6F31C84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A5EE8-DB03-485F-85FE-C7659DAA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08175-B15C-48B2-A796-9AF0B827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2B811-C085-41DF-847E-9E989FB9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46EBD-39F9-413F-9B9A-BAF65292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253-B0CE-4749-A015-0CB91BBB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C5629-1A4F-4064-8D1D-B70BAA7E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44258-D757-4A3F-9138-AFB3FB1E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55D2E-B7E9-4444-B5B7-98F09BC1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13454-C550-4033-9F60-90DD37E2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91269-21E8-4924-A0D7-B98C0AA9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221116-5149-4F7B-8FA0-1606A8BE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D36C8C-D970-4D78-87C2-7A8FAA52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C55E2D-7D82-4014-BEE6-956C4E1E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E44B2F-92BC-4792-A460-8CD66675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DAD445-E5CE-47CF-9BCD-12B96DA1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C9E-5C80-4DE7-AA81-D2DF68CC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874084-09E8-46FB-956E-4D3099F4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846F90-54DF-4144-B03F-DA762BE5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860A8B-8BAC-431F-85F0-F92BFC38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8B0CD2-F522-44AD-A4C4-85B1DEFA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91C472-3045-4796-AC7E-47C9487C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0076DB-0A13-4B70-A0B8-291590A5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B8DE72-3128-4620-AEE8-18852140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654C0E-1206-4E2F-88FF-3784B33B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400C74-AE91-43BE-BED5-49EA50A8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CDC084-9543-42D4-88B9-CF270ACF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1375-9B2A-4C36-B07D-2D6C542CBCE1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C76A-9F3A-467A-8769-11442BA8AB67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58DA-B5EA-4AE5-9CAA-922E629EC21A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E9F6-4A12-42C7-A55F-E30CC28BD2F3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8E32-C425-432A-86D2-26E9312A010B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CC80-345B-4C65-9789-0134B26E47E5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F15A-6A81-4342-87E6-6F9E3209523A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7491-2871-4667-8330-3DA44D35357C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BC23-9F9A-4143-B9C6-B4B3E4723219}" type="slidenum">
              <a:rPr b="0" lang="ru-RU" sz="24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176040" y="378000"/>
            <a:ext cx="882828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1692360" y="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я  проблему на примере … , авто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468360" y="404640"/>
            <a:ext cx="4680000" cy="78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ссказы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поминает о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вор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щает внимание читателя н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казывает на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меч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меч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чёрки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мышляет над… (о …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уждает о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водит одно из определ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сказывает предполож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равни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ы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ображ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су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AutoShape 4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716360" y="404640"/>
            <a:ext cx="719280" cy="4680000"/>
          </a:xfrm>
          <a:custGeom>
            <a:avLst/>
            <a:gdLst>
              <a:gd name="textAreaLeft" fmla="*/ 0 w 719280"/>
              <a:gd name="textAreaRight" fmla="*/ 259560 w 719280"/>
              <a:gd name="textAreaTop" fmla="*/ 122040 h 4680000"/>
              <a:gd name="textAreaBottom" fmla="*/ 4557960 h 46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4716360" y="5013360"/>
            <a:ext cx="719280" cy="1655640"/>
          </a:xfrm>
          <a:custGeom>
            <a:avLst/>
            <a:gdLst>
              <a:gd name="textAreaLeft" fmla="*/ 0 w 719280"/>
              <a:gd name="textAreaRight" fmla="*/ 259560 w 719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5508720" y="2276640"/>
            <a:ext cx="30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веств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сужд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5651640" y="5589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писа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390600" y="-12600"/>
            <a:ext cx="8631000" cy="157320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4"/>
          <p:cNvSpPr/>
          <p:nvPr/>
        </p:nvSpPr>
        <p:spPr>
          <a:xfrm>
            <a:off x="1692360" y="1989000"/>
            <a:ext cx="7056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то хотел сказать автор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кова была цель его высказывани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к он сам относится к поставленной проблем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кие мысли, чувства, переживания являются для автора главными, ключевы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ему учит текс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4"/>
          <p:cNvSpPr/>
          <p:nvPr/>
        </p:nvSpPr>
        <p:spPr>
          <a:xfrm>
            <a:off x="1692360" y="40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иль тек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5"/>
          <p:cNvSpPr/>
          <p:nvPr/>
        </p:nvSpPr>
        <p:spPr>
          <a:xfrm flipH="1">
            <a:off x="2124000" y="1052640"/>
            <a:ext cx="2735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6"/>
          <p:cNvSpPr/>
          <p:nvPr/>
        </p:nvSpPr>
        <p:spPr>
          <a:xfrm>
            <a:off x="4859280" y="1052640"/>
            <a:ext cx="2808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324000" y="1700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удожестве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5616720" y="1628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ублицист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5364000" y="2205000"/>
            <a:ext cx="396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ак правило, позиция автора выражена ПРЯМО: в отдельных предложениях текста, в лирических отступлениях, в авторских замечаниях (ремарках)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250920" y="2205000"/>
            <a:ext cx="4105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Часто идея текста выражена не прямо, а КОСВЕННО: в названии текста, в эпиграфах, через художественные приёмы и  детали: (эпитеты, сравнения, метафоры, риторические вопросы, восклицания; описания, пейзаж, интерьер, портрет героя, его поступки, речь, авторские характеристики и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4"/>
          <p:cNvSpPr/>
          <p:nvPr/>
        </p:nvSpPr>
        <p:spPr>
          <a:xfrm>
            <a:off x="2411280" y="0"/>
            <a:ext cx="7129440" cy="76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в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чита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заставляет читателя задуматься 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дводит читателя к выводу о том, чт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суждает (кого? что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убеждён в том, чт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ритикует (кого? что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изывает (к чему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озмущён (чем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ожалеет (о чём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очувствует (кому?)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539640" y="1052640"/>
            <a:ext cx="7920000" cy="44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мментарий – это НЕ ПЕРЕСКАЗ ТЕКСТА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о толкование, пояснительные замечания, рассуждения по поводу </a:t>
            </a:r>
            <a:r>
              <a:rPr b="1" i="1" lang="ru-RU" sz="4000" spc="-1" strike="noStrike">
                <a:solidFill>
                  <a:srgbClr val="db5353"/>
                </a:solidFill>
                <a:latin typeface="Arial"/>
              </a:rPr>
              <a:t>основной проблемы текста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395280" y="333360"/>
            <a:ext cx="849780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итая комментарий, эксперты проверяю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аше умение строить </a:t>
            </a:r>
            <a:r>
              <a:rPr b="1" lang="ru-RU" sz="3200" spc="-1" strike="noStrike">
                <a:solidFill>
                  <a:srgbClr val="db5353"/>
                </a:solidFill>
                <a:latin typeface="Arial"/>
              </a:rPr>
              <a:t>связно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монологическое </a:t>
            </a:r>
            <a:r>
              <a:rPr b="1" lang="ru-RU" sz="3200" spc="-1" strike="noStrike">
                <a:solidFill>
                  <a:srgbClr val="db5353"/>
                </a:solidFill>
                <a:latin typeface="Arial"/>
              </a:rPr>
              <a:t>высказы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сколько глубоко и полно вы </a:t>
            </a:r>
            <a:r>
              <a:rPr b="1" lang="ru-RU" sz="3200" spc="-1" strike="noStrike">
                <a:solidFill>
                  <a:srgbClr val="db5353"/>
                </a:solidFill>
                <a:latin typeface="Arial"/>
              </a:rPr>
              <a:t>поняли проблему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тек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видели ли вы </a:t>
            </a:r>
            <a:r>
              <a:rPr b="1" i="1" lang="ru-RU" sz="3200" spc="-1" strike="noStrike">
                <a:solidFill>
                  <a:srgbClr val="db5353"/>
                </a:solidFill>
                <a:latin typeface="Arial"/>
              </a:rPr>
              <a:t>АСПЕКТЫ ПРОБЛ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меете ли вы следить за </a:t>
            </a:r>
            <a:r>
              <a:rPr b="1" i="1" lang="ru-RU" sz="4000" spc="-1" strike="noStrike">
                <a:solidFill>
                  <a:srgbClr val="db5353"/>
                </a:solidFill>
                <a:latin typeface="Arial"/>
              </a:rPr>
              <a:t>ходом авторской мыс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1116000" y="54936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ипы комментари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5"/>
          <p:cNvSpPr/>
          <p:nvPr/>
        </p:nvSpPr>
        <p:spPr>
          <a:xfrm flipH="1">
            <a:off x="2050560" y="1268280"/>
            <a:ext cx="2592360" cy="865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Line 6"/>
          <p:cNvSpPr/>
          <p:nvPr/>
        </p:nvSpPr>
        <p:spPr>
          <a:xfrm>
            <a:off x="4643280" y="1268280"/>
            <a:ext cx="2665440" cy="792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179280" y="227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5353"/>
                </a:solidFill>
                <a:latin typeface="Arial"/>
              </a:rPr>
              <a:t>текстуаль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4643280" y="227664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5353"/>
                </a:solidFill>
                <a:latin typeface="Arial"/>
              </a:rPr>
              <a:t>концептуаль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179280" y="3141720"/>
            <a:ext cx="41767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кстуальный комментарий – это комментарий «вслед за автором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вая такой комментарий, необходимо объяснить, </a:t>
            </a:r>
            <a:r>
              <a:rPr b="0" lang="ru-RU" sz="2000" spc="-1" strike="noStrike" u="sng">
                <a:solidFill>
                  <a:srgbClr val="db5353"/>
                </a:solidFill>
                <a:uFillTx/>
                <a:latin typeface="Arial"/>
                <a:hlinkClick r:id="rId1" action="ppaction://hlinksldjump"/>
              </a:rPr>
              <a:t>ЧТО ДЕЛАЕТ АВТОР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чтобы привлечь внимание читателей к  основной проблеме текста и её аспект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4572000" y="3141720"/>
            <a:ext cx="44640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вая концептуальный комментарий, вы как бы «пропускаете» проблему текста через СВОЁ восприятие и высказываетесь по н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См. таблицу «Как работать над частью С»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4"/>
          <p:cNvSpPr/>
          <p:nvPr/>
        </p:nvSpPr>
        <p:spPr>
          <a:xfrm>
            <a:off x="611280" y="476280"/>
            <a:ext cx="799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о помни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бой комментарий должен быть написа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ОПОРОЙ НА ТЕКС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539640" y="2492280"/>
            <a:ext cx="8136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омментарии не должно бы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сказа текста (мы отмечаем только те стороны текста, которые относятся к ПРОБЛЕМ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торской точки з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мены проблемы (выделили одну проблему, а комментируем другую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4"/>
          <p:cNvSpPr/>
          <p:nvPr/>
        </p:nvSpPr>
        <p:spPr>
          <a:xfrm>
            <a:off x="250920" y="189000"/>
            <a:ext cx="871380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)Катерина Ивановна никогда ни на что не жаловалась, кроме как на старческую слабость. (2)Но я знал от соседки и от бестолкового доброго старика Ивана Дмитриева, сторожа при пожарном сарае, что Катерина Ивановна одна на белом свете. (3)Дочь Настя вот уже четвертый год как не приезжает – забыла, значит, мать, а дни у Катерины Ивановны считанные. (4)Не ровён час, так и умрёт она, не повидав дочери, не погладив её русые волосы «очаровательной красоты» (так говорила о них Катерина Ивановна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5)Настя присылала Катерине Ивановне деньги, но и то бывало с перерывами. (6)Как Катерина Ивановна жила во время этих перерывов, никому не известн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7)Однажды Катерина Ивановна попросила меня проводить её в сад, где она не была с ранней весны, всё не пускала слабо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8) – Дорогой мой, –  сказала Катерина Ивановна, – уж вы не взыщите с меня, со старой. (9)Хочется мне вспомнить прошлое, напоследок посмотреть сад. (10)В нём я ещё девушкой зачитывалась Тургеневым. (11)Да и кое-какие деревья я посадила сама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12)Одевалась она очень долго. (13)Надела старый тёплый салопчик, тёплый платок и, крепко держась за мою руку, медленно спустилась с крылеч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14)Уже вечерело. (15)Сад облетел. (16)Палые листья мешали идти. (17)Они громко трещали и шевелились под ногами, на зеленеющей заре зажглась звезда. (18)Далеко над лесом висел серп месяц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19)Катерина Ивановна остановилась около обветренной липы, оперлась о неё рукой и заплакала. (20)Я крепко держал её, чтобы она не упала. (21)Плакала она, как очень старые люди, не стыдясь своих слёз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22) – Не дай вам бог, родной мой, – сказала она мне, – дожить до так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диноко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арости! (23)Не дай вам бог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24)Я осторожно повёл её домой и подумал: как бы я был счастлив, если бы у меня была такая мама! (К. Г. Паустовский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3276720" y="1197000"/>
            <a:ext cx="539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з сомнения, проблема одиночества пожилых людей чрезвычайно актуальна в наше время. Множество стариков чувствуют себя никому не нужными, даже собственным детям. А дети! Совести у них нет! Оставляют своих престарелых родителей на произвол судьбы , не вспоминают о них и знать не хотят, как им одиноко и горьк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179280" y="40464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 чём недостатки комментар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179280" y="1268280"/>
            <a:ext cx="26640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блема одиночества пожилых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спек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чины одиночества пожилых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 живётся пожилым людям без поддержки близки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250920" y="4653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5353"/>
                </a:solidFill>
                <a:latin typeface="Tahoma"/>
              </a:rPr>
              <a:t>Нет опоры на тек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4"/>
          <p:cNvSpPr/>
          <p:nvPr/>
        </p:nvSpPr>
        <p:spPr>
          <a:xfrm>
            <a:off x="3995640" y="1125360"/>
            <a:ext cx="48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сматривая проблему одиночества на примере жизни своей героини, автор отмечает, что ей очень тяжело живётся одной: «неровён час, так и умрёт она, не повидав дочери». А ведь Катерине Ивановне так хочется внимания, так хочется в последний раз увидеть дочь, чтобы не умереть в полном забв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79280" y="40464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 чём недостатки комментар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50920" y="1125360"/>
            <a:ext cx="266364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блема одиночества пожилых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спек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чины одиночества пожилых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 живётся пожилым людям без поддержки близки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50920" y="450864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5353"/>
                </a:solidFill>
                <a:latin typeface="Tahoma"/>
              </a:rPr>
              <a:t>Прокомментированы не все аспекты пробл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3564000" y="1268280"/>
            <a:ext cx="525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мментируя эту проблему, хочется сразу же сказать, что проблема одиночества касается не только героини Паустовского, но, к сожалению, и каждого из нас. Вряд ли найдётся человек, который никогда в жизни не сталкивался с одиночеством. И, наверное, каждый из нас может сказать, что был бы намного счастливее в жизни, если бы в такие моменты кто-нибудь из близких был ряд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79280" y="40464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 чём недостатки комментар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179280" y="1268280"/>
            <a:ext cx="26640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блема одиночества пожилых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спек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чины одиночества пожилых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 живётся пожилым людям без поддержки близки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250920" y="47242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5353"/>
                </a:solidFill>
                <a:latin typeface="Tahoma"/>
              </a:rPr>
              <a:t>Подмена пробл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4:54:04Z</dcterms:created>
  <dc:creator>ира</dc:creator>
  <dc:description/>
  <dc:language>en-US</dc:language>
  <cp:lastModifiedBy>роман</cp:lastModifiedBy>
  <dcterms:modified xsi:type="dcterms:W3CDTF">2011-12-16T16:32:30Z</dcterms:modified>
  <cp:revision>12</cp:revision>
  <dc:subject/>
  <dc:title>Комментарий  к проблеме текста</dc:title>
</cp:coreProperties>
</file>