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D98-18C9-409F-959A-85136409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5D6-FF19-440F-BAE8-8B61E5E8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99BE72-A6C3-4E2A-A9D6-E94C1120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1AB07-58EE-4D18-92C3-B8A6B249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679634-2133-4E98-8BDF-C2E8951E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7248DA-0479-4816-9E24-F806FD0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3D8F9-8AF6-453E-AEAC-EC77CF0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BC1E1-8DDC-4842-A6CF-338784E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81C176-D577-424E-9D37-F4B3E126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C5413-465F-4C51-A6B7-A6774DAB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5DC9C0-5029-42DA-8C4B-5E3BC498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6BF-68DD-4680-80FC-C00B08BB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297-9E6D-4EB5-9EB9-427FBF5E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50F18-7D56-4441-A176-5C562E85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371E6-9C0F-431C-BAC8-92602EA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93E9B-7895-4B70-BAD9-F2ECCBFF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048FC-0BE3-4FA3-A687-DA788F06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0F116-EFF5-4FD4-B995-5BE871A9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1CEFF-C3C0-44FF-B810-A71E7624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FB522-62F7-4DDA-B8A7-920461C5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8C9-DA6F-460E-8330-480A6034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EF70D-4D10-4E22-8A2B-15BD8CDD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A40A5-2C51-4812-A943-CF161A5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8E4E1-9CB5-4005-A282-D7F59FD8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7DC2A-6187-4C1C-B7E9-B1136474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43FDB-EA01-4305-8B41-CA8EF30B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5C36-C766-4DFD-A806-A0248BDF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BE1A-956B-4A2D-AA5A-BD2903E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53D0-77DE-40F3-A7DB-708ADD7D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69B9-4168-4AB7-A60F-63D764D3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56DF-CBE1-4154-BC78-26A3D7D6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ED3-4775-4DD3-B4F9-4EF0A220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CF22-1FF7-4B08-965F-2C47B38F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E2F9-3A03-4866-BE21-91830095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F6FC-42EA-424E-A469-E57D1CF0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C7C9-C9FE-405B-B6A6-B6E857F1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FE72-5BE0-4009-873A-4E93F3C9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5DF6-D12A-4CE0-A995-8C57D22D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6646-78C9-4179-895D-F7A82DB0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AC582-7BFE-4A0B-8EF7-9A6EC5E2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BE74B-ECD8-425C-8234-EA3D8F0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F3FF4-9BAB-4E8E-8E3F-6C576247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C9A-D472-4CC0-B0F5-25B19A67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1E20E-3E83-40A0-85BB-7493FCC3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E48D8-E4AE-491D-A487-BC2045ED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B3A84-CB02-4541-94EC-2597596C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2BEB7-807B-4E6A-A07C-6ABD6B58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0F75A-7245-4D31-B262-288A38F3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0DA7F-FEDC-40B3-8863-3E93E4A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A137C-275E-4CD5-8D80-8B13C2E5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6E553-CE68-4BF7-9185-F379E666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C2100F-285E-4902-A6A7-64F217FC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8F1D-02A1-4E73-8C93-6BC9C0DC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3EE-1866-4B5D-B21A-ECD0DB38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E8EC-C55C-4C34-A222-5E9A8557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719CA-284E-4B36-AD91-DE0339C6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411FE-C0F1-4A19-9443-2F3FCED8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84BED-A060-4A7E-98D0-9CEAB3CF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C113-5F84-4726-96FA-79CB695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63EE-F637-4760-B9CE-E9ED22D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4D34-E9B8-49DB-9DE3-0FCD1EE8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3731E-566E-4AE8-9EFB-4D8C0D42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A06E-28BC-4571-8D2F-D5B442E8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45B52-05E3-474F-8DED-CBB1A65D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898-8639-4323-BE84-9105845D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FEB6-FEEA-4477-9684-89B56ACE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2D0FC-9D91-48B9-926E-FE6406ED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3E07-4284-4408-90CA-D82C6534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3126-CA69-4462-A577-4F8A9684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DAA68-DED5-42BA-9247-6BE4B4D4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17CCD-00E4-408C-97CA-6E48819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8FA2C-2A92-45F2-B07B-10631943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15AC3-27D2-4539-9CE0-64B9A38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8C19-66DE-4AB6-BF79-6215CA8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16D4-8E69-4FE5-82B5-38873DA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FAA-73D0-4BAC-8C7F-1DEB5F0E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895F1-A166-447A-938C-76061CA1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FF7C3-478C-4B85-B87E-A3BAD4DB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648E-0FEC-4990-A5A1-28964C85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E8126-4BB3-4980-A578-A7E118D1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E531C-C651-41BA-B9F4-7F87F9E4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DE04-C7CF-45F8-90BC-58E8D0C2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7CFF-3765-4275-877C-6EF853E1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9B531-5C3D-40EF-9CF5-328B3699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DB80-EE74-43E0-AC4E-3F984E2C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4736E-DA03-4827-9DF6-095F790D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305-2444-4EE9-893B-9E3222E8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DB5E-7E44-44D0-A66F-52FA9BE9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48ED-296E-40AF-806C-9B9057C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635CF-C465-4D00-92C1-4798C637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572C1-048A-4211-8A0A-BD061D72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A9281-F741-4FF5-8487-07F09C14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8944F-1684-4AA8-BD63-749C2B48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E76E1E-DF6E-4DA2-BD5C-B2797D18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5F07D3-EA06-449A-9004-B5102257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DCB7A2-B03D-4EBC-8050-A4883219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6AB85B-933F-439F-8050-5A341740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8B0-0A83-4288-80EE-5C824FA3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1EF8DB-AC27-4EDB-BAD7-1635C542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99C74-5DE6-47E0-A595-74C1C360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B764B9-DCCC-4EA9-BC8E-4DDBD3D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05DD6-9DFE-48C3-9A69-C844EEBA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68E76-6790-4FF0-B72E-44A6F516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B82C1D-95D0-4FF7-A3D2-25BDA467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364EF-D38A-4F6B-B8E8-6B652DF7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E049A-8B68-4B85-8A65-EE002C0E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F137BE-6F79-4F58-9993-A98966A8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4EA6F7-7CA1-4B4A-B9C0-E5834749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5E4A-62B5-49DE-A596-D5148AE0BB13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96C3-5D37-4F78-93A2-A5D4867C02EE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BADB-25FC-4C82-88FB-9216B02DF2D0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5837-5AF5-4A67-B2B8-D6BDA0ED72AD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88A8-60D4-48A5-9AE1-4E3C4E8D1615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4332-8078-4A90-9375-F45792F16C87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6E55-7BE0-490D-A1E8-241BAAF65355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5756-0827-46B7-BF92-CC6BD8F6C562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A84F-4F9D-4D9C-958A-0F4D8F56523E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76040" y="378000"/>
            <a:ext cx="882828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1692360" y="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я  проблему на примере … , авт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468360" y="404640"/>
            <a:ext cx="4680000" cy="78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сказ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оминает 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вор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щает внимание читателя н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зывает на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меч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меч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чёрки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яет над… (о …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ает 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водит одно из определ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сказывает предполо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авни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ображ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су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AutoShape 4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716360" y="404640"/>
            <a:ext cx="719280" cy="4680000"/>
          </a:xfrm>
          <a:custGeom>
            <a:avLst/>
            <a:gdLst>
              <a:gd name="textAreaLeft" fmla="*/ 0 w 719280"/>
              <a:gd name="textAreaRight" fmla="*/ 259560 w 71928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4716360" y="5013360"/>
            <a:ext cx="719280" cy="1655640"/>
          </a:xfrm>
          <a:custGeom>
            <a:avLst/>
            <a:gdLst>
              <a:gd name="textAreaLeft" fmla="*/ 0 w 719280"/>
              <a:gd name="textAreaRight" fmla="*/ 259560 w 719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5508720" y="2276640"/>
            <a:ext cx="30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веств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сужд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5651640" y="558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ис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390600" y="-12600"/>
            <a:ext cx="8631000" cy="15732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4"/>
          <p:cNvSpPr/>
          <p:nvPr/>
        </p:nvSpPr>
        <p:spPr>
          <a:xfrm>
            <a:off x="1692360" y="1989000"/>
            <a:ext cx="7056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хотел сказать автор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ова была цель его высказыван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он сам относится к поставленной проблем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ие мысли, чувства, переживания являются для автора главными, ключев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ему учит текс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4"/>
          <p:cNvSpPr/>
          <p:nvPr/>
        </p:nvSpPr>
        <p:spPr>
          <a:xfrm>
            <a:off x="1692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иль тек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5"/>
          <p:cNvSpPr/>
          <p:nvPr/>
        </p:nvSpPr>
        <p:spPr>
          <a:xfrm flipH="1">
            <a:off x="2124000" y="1052640"/>
            <a:ext cx="2735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4859280" y="1052640"/>
            <a:ext cx="2808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324000" y="1700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удожестве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5616720" y="1628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ублицист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5364000" y="2205000"/>
            <a:ext cx="396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ак правило, позиция автора выражена ПРЯМО: в отдельных предложениях текста, в лирических отступлениях, в авторских замечаниях (ремарках)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250920" y="2205000"/>
            <a:ext cx="4105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асто идея текста выражена не прямо, а КОСВЕННО: в названии текста, в эпиграфах, через художественные приёмы и  детали: (эпитеты, сравнения, метафоры, риторические вопросы, восклицания; описания, пейзаж, интерьер, портрет героя, его поступки, речь, авторские характеристики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2411280" y="0"/>
            <a:ext cx="7129440" cy="76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в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чита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заставляет читателя задуматься 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дводит читателя к выводу о том, ч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суждает (кого? что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убеждён в том, ч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ритикует (кого? что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изывает (к чему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озмущён (чем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ожалеет (о чём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очувствует (кому?)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539640" y="1052640"/>
            <a:ext cx="7920000" cy="44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мментарий – это НЕ ПЕРЕСКАЗ ТЕКСТ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толкование, пояснительные замечания, рассуждения по поводу </a:t>
            </a:r>
            <a:r>
              <a:rPr b="1" i="1" lang="ru-RU" sz="4000" spc="-1" strike="noStrike">
                <a:solidFill>
                  <a:srgbClr val="db5353"/>
                </a:solidFill>
                <a:latin typeface="Arial"/>
              </a:rPr>
              <a:t>основной проблемы текста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395280" y="333360"/>
            <a:ext cx="849780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тая комментарий, эксперты проверя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ше умение строить </a:t>
            </a:r>
            <a:r>
              <a:rPr b="1" lang="ru-RU" sz="3200" spc="-1" strike="noStrike">
                <a:solidFill>
                  <a:srgbClr val="db5353"/>
                </a:solidFill>
                <a:latin typeface="Arial"/>
              </a:rPr>
              <a:t>связно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монологическое </a:t>
            </a:r>
            <a:r>
              <a:rPr b="1" lang="ru-RU" sz="3200" spc="-1" strike="noStrike">
                <a:solidFill>
                  <a:srgbClr val="db5353"/>
                </a:solidFill>
                <a:latin typeface="Arial"/>
              </a:rPr>
              <a:t>высказы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сколько глубоко и полно вы </a:t>
            </a:r>
            <a:r>
              <a:rPr b="1" lang="ru-RU" sz="3200" spc="-1" strike="noStrike">
                <a:solidFill>
                  <a:srgbClr val="db5353"/>
                </a:solidFill>
                <a:latin typeface="Arial"/>
              </a:rPr>
              <a:t>поняли проблем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тек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видели ли вы </a:t>
            </a:r>
            <a:r>
              <a:rPr b="1" i="1" lang="ru-RU" sz="3200" spc="-1" strike="noStrike">
                <a:solidFill>
                  <a:srgbClr val="db5353"/>
                </a:solidFill>
                <a:latin typeface="Arial"/>
              </a:rPr>
              <a:t>АСПЕКТЫ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ете ли вы следить за </a:t>
            </a:r>
            <a:r>
              <a:rPr b="1" i="1" lang="ru-RU" sz="4000" spc="-1" strike="noStrike">
                <a:solidFill>
                  <a:srgbClr val="db5353"/>
                </a:solidFill>
                <a:latin typeface="Arial"/>
              </a:rPr>
              <a:t>ходом авторской мыс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1116000" y="5493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ипы комментари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5"/>
          <p:cNvSpPr/>
          <p:nvPr/>
        </p:nvSpPr>
        <p:spPr>
          <a:xfrm flipH="1">
            <a:off x="2050560" y="1268280"/>
            <a:ext cx="2592360" cy="865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Line 6"/>
          <p:cNvSpPr/>
          <p:nvPr/>
        </p:nvSpPr>
        <p:spPr>
          <a:xfrm>
            <a:off x="4643280" y="1268280"/>
            <a:ext cx="2665440" cy="792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79280" y="227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5353"/>
                </a:solidFill>
                <a:latin typeface="Arial"/>
              </a:rPr>
              <a:t>текстуа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4643280" y="227664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5353"/>
                </a:solidFill>
                <a:latin typeface="Arial"/>
              </a:rPr>
              <a:t>концептуа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179280" y="3141720"/>
            <a:ext cx="4176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уальный комментарий – это комментарий «вслед за автором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вая такой комментарий, необходимо объяснить, </a:t>
            </a:r>
            <a:r>
              <a:rPr b="0" lang="ru-RU" sz="2000" spc="-1" strike="noStrike" u="sng">
                <a:solidFill>
                  <a:srgbClr val="db5353"/>
                </a:solidFill>
                <a:uFillTx/>
                <a:latin typeface="Arial"/>
                <a:hlinkClick r:id="rId1" action="ppaction://hlinksldjump"/>
              </a:rPr>
              <a:t>ЧТО ДЕЛАЕТ АВТО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бы привлечь внимание читателей к  основной проблеме текста и её аспект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4572000" y="3141720"/>
            <a:ext cx="4464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вая концептуальный комментарий, вы как бы «пропускаете» проблему текста через СВОЁ восприятие и высказываетесь по 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См. таблицу «Как работать над частью С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611280" y="476280"/>
            <a:ext cx="79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помни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бой комментарий должен быть написа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ОПОРОЙ НА ТЕКС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539640" y="2492280"/>
            <a:ext cx="813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омментарии не должно бы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сказа текста (мы отмечаем только те стороны текста, которые относятся к ПРОБЛЕМ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ской точки з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мены проблемы (выделили одну проблему, а комментируем другую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250920" y="189000"/>
            <a:ext cx="87138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)Катерина Ивановна никогда ни на что не жаловалась, кроме как на старческую слабость. (2)Но я знал от соседки и от бестолкового доброго старика Ивана Дмитриева, сторожа при пожарном сарае, что Катерина Ивановна одна на белом свете. (3)Дочь Настя вот уже четвертый год как не приезжает – забыла, значит, мать, а дни у Катерины Ивановны считанные. (4)Не ровён час, так и умрёт она, не повидав дочери, не погладив её русые волосы «очаровательной красоты» (так говорила о них Катерина Ивановн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5)Настя присылала Катерине Ивановне деньги, но и то бывало с перерывами. (6)Как Катерина Ивановна жила во время этих перерывов, никому не известн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7)Однажды Катерина Ивановна попросила меня проводить её в сад, где она не была с ранней весны, всё не пускала слаб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8) – Дорогой мой, –  сказала Катерина Ивановна, – уж вы не взыщите с меня, со старой. (9)Хочется мне вспомнить прошлое, напоследок посмотреть сад. (10)В нём я ещё девушкой зачитывалась Тургеневым. (11)Да и кое-какие деревья я посадила сама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2)Одевалась она очень долго. (13)Надела старый тёплый салопчик, тёплый платок и, крепко держась за мою руку, медленно спустилась с крылеч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4)Уже вечерело. (15)Сад облетел. (16)Палые листья мешали идти. (17)Они громко трещали и шевелились под ногами, на зеленеющей заре зажглась звезда. (18)Далеко над лесом висел серп месяц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9)Катерина Ивановна остановилась около обветренной липы, оперлась о неё рукой и заплакала. (20)Я крепко держал её, чтобы она не упала. (21)Плакала она, как очень старые люди, не стыдясь своих слё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22) – Не дай вам бог, родной мой, – сказала она мне, – дожить до так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диноко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рости! (23)Не дай вам бог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24)Я осторожно повёл её домой и подумал: как бы я был счастлив, если бы у меня была такая мама! (К. Г. Паустовски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3276720" y="1197000"/>
            <a:ext cx="539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з сомнения, проблема одиночества пожилых людей чрезвычайно актуальна в наше время. Множество стариков чувствуют себя никому не нужными, даже собственным детям. А дети! Совести у них нет! Оставляют своих престарелых родителей на произвол судьбы , не вспоминают о них и знать не хотят, как им одиноко и горь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79280" y="40464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чём недостатки комментар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79280" y="1268280"/>
            <a:ext cx="26640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блема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спе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чины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живётся пожилым людям без поддержки близк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250920" y="4653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5353"/>
                </a:solidFill>
                <a:latin typeface="Tahoma"/>
              </a:rPr>
              <a:t>Нет опоры на тек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4"/>
          <p:cNvSpPr/>
          <p:nvPr/>
        </p:nvSpPr>
        <p:spPr>
          <a:xfrm>
            <a:off x="3995640" y="1125360"/>
            <a:ext cx="48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сматривая проблему одиночества на примере жизни своей героини, автор отмечает, что ей очень тяжело живётся одной: «неровён час, так и умрёт она, не повидав дочери». А ведь Катерине Ивановне так хочется внимания, так хочется в последний раз увидеть дочь, чтобы не умереть в полном забв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79280" y="40464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чём недостатки комментар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50920" y="1125360"/>
            <a:ext cx="26636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блема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спе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чины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живётся пожилым людям без поддержки близк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50920" y="4508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5353"/>
                </a:solidFill>
                <a:latin typeface="Tahoma"/>
              </a:rPr>
              <a:t>Прокомментированы не все аспекты пробл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3564000" y="1268280"/>
            <a:ext cx="525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ментируя эту проблему, хочется сразу же сказать, что проблема одиночества касается не только героини Паустовского, но, к сожалению, и каждого из нас. Вряд ли найдётся человек, который никогда в жизни не сталкивался с одиночеством. И, наверное, каждый из нас может сказать, что был бы намного счастливее в жизни, если бы в такие моменты кто-нибудь из близких был ряд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79280" y="40464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чём недостатки комментар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79280" y="1268280"/>
            <a:ext cx="26640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блема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спе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чины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живётся пожилым людям без поддержки близк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50920" y="4724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5353"/>
                </a:solidFill>
                <a:latin typeface="Tahoma"/>
              </a:rPr>
              <a:t>Подмена пробл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4:54:04Z</dcterms:created>
  <dc:creator>ира</dc:creator>
  <dc:description/>
  <dc:language>en-US</dc:language>
  <cp:lastModifiedBy>роман</cp:lastModifiedBy>
  <dcterms:modified xsi:type="dcterms:W3CDTF">2011-12-16T16:32:30Z</dcterms:modified>
  <cp:revision>12</cp:revision>
  <dc:subject/>
  <dc:title>Комментарий  к проблеме текста</dc:title>
</cp:coreProperties>
</file>