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D51-7284-424C-8A7A-E9C3158F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EE8-0D0B-496D-B8A4-DEBC2E2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05F-1E31-4ED2-ABB3-0A592D77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4A3-C58C-41DE-B215-1100A9DC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7A4C-655D-46E7-B84B-4CEEA11D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BE50-5B71-4AA3-94CB-DC29570E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54E-F2A8-44E3-AD60-12B6042F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4B4-36EB-4E2F-AC7A-A6BEF145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5DA4-E32C-4F03-A73E-61C2428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05F3-DA04-4A7B-83D5-6087649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4AC6-56B5-491D-933E-06DCA61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DFC-096E-4807-8B17-92F627D7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6A3C-EB7F-477B-92C0-C1EBF92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E2D4-69BD-4CC1-8EF3-DE52F109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673C-94A0-44FE-94D6-7AD74413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B49-99F8-47BA-98FA-8A52376A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F904-B285-4621-B3CE-5CB70934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7FCD-5469-4E6A-9E85-D50CE243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CCB0-8ED1-404C-9124-4C30C3B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EC9D-0536-40AA-B210-B908038B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9D21-0487-463F-AF51-E628AFBD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8387-DBF5-4FF2-B8C6-98CA3AC7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AE6-49CB-4A0A-A81C-E7EB2A30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855C-81EB-47F8-A60F-EE1C4E63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9A99-4BE3-4FB8-BC9F-D2610A7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4C96-7B5A-4486-BC21-D1D7A63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3C47-5D9F-4470-982F-DB52BAE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F353-C3FF-493D-B4F8-BB1E54E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68EF-824C-4AD1-B02D-EEDF8F4E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28FC-938B-492D-A523-D0DF70E8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D6A-8069-47A4-A5CE-7F98107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8C0-9D68-40D9-9674-BDA8858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3A2-CB47-4812-875B-F8A1ABA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90C-CFB1-4B85-B221-6B1FF50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56C-8723-4D7D-B946-3667890B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372-5CBD-4E49-93A7-743E848D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D21B-64FD-4C73-9248-D6C18E0673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A48-F729-465E-9591-52D4562E06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068C-410A-4FCE-AF31-8D9470D4F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стирование по химии на тему: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звание 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796000" y="4292280"/>
            <a:ext cx="3016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класса «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етен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a0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5877000"/>
            <a:ext cx="1871640" cy="72072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6076" h="21600">
                <a:moveTo>
                  <a:pt x="0" y="0"/>
                </a:moveTo>
                <a:lnTo>
                  <a:pt x="56076" y="0"/>
                </a:lnTo>
                <a:lnTo>
                  <a:pt x="56076" y="21600"/>
                </a:lnTo>
                <a:lnTo>
                  <a:pt x="0" y="21600"/>
                </a:lnTo>
                <a:close/>
              </a:path>
              <a:path fill="lightenLess" w="56076" h="21600">
                <a:moveTo>
                  <a:pt x="0" y="0"/>
                </a:moveTo>
                <a:lnTo>
                  <a:pt x="56076" y="0"/>
                </a:lnTo>
                <a:lnTo>
                  <a:pt x="54676" y="1400"/>
                </a:lnTo>
                <a:lnTo>
                  <a:pt x="1400" y="1400"/>
                </a:lnTo>
                <a:close/>
              </a:path>
              <a:path fill="darken" w="56076" h="21600">
                <a:moveTo>
                  <a:pt x="56076" y="0"/>
                </a:moveTo>
                <a:lnTo>
                  <a:pt x="56076" y="21600"/>
                </a:lnTo>
                <a:lnTo>
                  <a:pt x="54676" y="20200"/>
                </a:lnTo>
                <a:lnTo>
                  <a:pt x="54676" y="1400"/>
                </a:lnTo>
                <a:close/>
              </a:path>
              <a:path fill="darkenLess" w="56076" h="21600">
                <a:moveTo>
                  <a:pt x="56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6" y="20200"/>
                </a:lnTo>
                <a:close/>
              </a:path>
              <a:path fill="lighten" w="56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76" h="21600">
                <a:moveTo>
                  <a:pt x="21031" y="10800"/>
                </a:moveTo>
                <a:lnTo>
                  <a:pt x="35044" y="3794"/>
                </a:lnTo>
                <a:lnTo>
                  <a:pt x="3504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ете правильное назван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3-диметилгек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3-диметилпентен-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ептен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34936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828720" y="1844640"/>
            <a:ext cx="8062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– С = C – СН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|      |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3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берите формулу алк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5256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й вид изомерии у алкенов отсутству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785196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глеродного ске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ложения кратной связ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ложения функциональной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a0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5877000"/>
            <a:ext cx="1871640" cy="72072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6076" h="21600">
                <a:moveTo>
                  <a:pt x="0" y="0"/>
                </a:moveTo>
                <a:lnTo>
                  <a:pt x="56076" y="0"/>
                </a:lnTo>
                <a:lnTo>
                  <a:pt x="56076" y="21600"/>
                </a:lnTo>
                <a:lnTo>
                  <a:pt x="0" y="21600"/>
                </a:lnTo>
                <a:close/>
              </a:path>
              <a:path fill="lightenLess" w="56076" h="21600">
                <a:moveTo>
                  <a:pt x="0" y="0"/>
                </a:moveTo>
                <a:lnTo>
                  <a:pt x="56076" y="0"/>
                </a:lnTo>
                <a:lnTo>
                  <a:pt x="54676" y="1400"/>
                </a:lnTo>
                <a:lnTo>
                  <a:pt x="1400" y="1400"/>
                </a:lnTo>
                <a:close/>
              </a:path>
              <a:path fill="darken" w="56076" h="21600">
                <a:moveTo>
                  <a:pt x="56076" y="0"/>
                </a:moveTo>
                <a:lnTo>
                  <a:pt x="56076" y="21600"/>
                </a:lnTo>
                <a:lnTo>
                  <a:pt x="54676" y="20200"/>
                </a:lnTo>
                <a:lnTo>
                  <a:pt x="54676" y="1400"/>
                </a:lnTo>
                <a:close/>
              </a:path>
              <a:path fill="darkenLess" w="56076" h="21600">
                <a:moveTo>
                  <a:pt x="56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6" y="20200"/>
                </a:lnTo>
                <a:close/>
              </a:path>
              <a:path fill="lighten" w="56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76" h="21600">
                <a:moveTo>
                  <a:pt x="21031" y="10800"/>
                </a:moveTo>
                <a:lnTo>
                  <a:pt x="35044" y="3794"/>
                </a:lnTo>
                <a:lnTo>
                  <a:pt x="3504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a0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08360" y="5877000"/>
            <a:ext cx="1871640" cy="720720"/>
          </a:xfrm>
          <a:custGeom>
            <a:avLst/>
            <a:gdLst>
              <a:gd name="textAreaLeft" fmla="*/ 46440 w 1871640"/>
              <a:gd name="textAreaRight" fmla="*/ 1825200 w 1871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6076" h="21600">
                <a:moveTo>
                  <a:pt x="0" y="0"/>
                </a:moveTo>
                <a:lnTo>
                  <a:pt x="56076" y="0"/>
                </a:lnTo>
                <a:lnTo>
                  <a:pt x="56076" y="21600"/>
                </a:lnTo>
                <a:lnTo>
                  <a:pt x="0" y="21600"/>
                </a:lnTo>
                <a:close/>
              </a:path>
              <a:path fill="lightenLess" w="56076" h="21600">
                <a:moveTo>
                  <a:pt x="0" y="0"/>
                </a:moveTo>
                <a:lnTo>
                  <a:pt x="56076" y="0"/>
                </a:lnTo>
                <a:lnTo>
                  <a:pt x="54676" y="1400"/>
                </a:lnTo>
                <a:lnTo>
                  <a:pt x="1400" y="1400"/>
                </a:lnTo>
                <a:close/>
              </a:path>
              <a:path fill="darken" w="56076" h="21600">
                <a:moveTo>
                  <a:pt x="56076" y="0"/>
                </a:moveTo>
                <a:lnTo>
                  <a:pt x="56076" y="21600"/>
                </a:lnTo>
                <a:lnTo>
                  <a:pt x="54676" y="20200"/>
                </a:lnTo>
                <a:lnTo>
                  <a:pt x="54676" y="1400"/>
                </a:lnTo>
                <a:close/>
              </a:path>
              <a:path fill="darkenLess" w="56076" h="21600">
                <a:moveTo>
                  <a:pt x="56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76" y="20200"/>
                </a:lnTo>
                <a:close/>
              </a:path>
              <a:path fill="lighten" w="56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76" h="21600">
                <a:moveTo>
                  <a:pt x="21031" y="10800"/>
                </a:moveTo>
                <a:lnTo>
                  <a:pt x="35044" y="3794"/>
                </a:lnTo>
                <a:lnTo>
                  <a:pt x="3504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endshow"/>
          </p:cNvPr>
          <p:cNvSpPr/>
          <p:nvPr/>
        </p:nvSpPr>
        <p:spPr>
          <a:xfrm>
            <a:off x="3419640" y="6021360"/>
            <a:ext cx="2376360" cy="576360"/>
          </a:xfrm>
          <a:custGeom>
            <a:avLst/>
            <a:gdLst>
              <a:gd name="textAreaLeft" fmla="*/ 37080 w 2376360"/>
              <a:gd name="textAreaRight" fmla="*/ 2339280 w 23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9016" h="21600">
                <a:moveTo>
                  <a:pt x="0" y="0"/>
                </a:moveTo>
                <a:lnTo>
                  <a:pt x="89016" y="0"/>
                </a:lnTo>
                <a:lnTo>
                  <a:pt x="89016" y="21600"/>
                </a:lnTo>
                <a:lnTo>
                  <a:pt x="0" y="21600"/>
                </a:lnTo>
                <a:close/>
              </a:path>
              <a:path fill="lightenLess" w="89016" h="21600">
                <a:moveTo>
                  <a:pt x="0" y="0"/>
                </a:moveTo>
                <a:lnTo>
                  <a:pt x="89016" y="0"/>
                </a:lnTo>
                <a:lnTo>
                  <a:pt x="87616" y="1400"/>
                </a:lnTo>
                <a:lnTo>
                  <a:pt x="1400" y="1400"/>
                </a:lnTo>
                <a:close/>
              </a:path>
              <a:path fill="darken" w="89016" h="21600">
                <a:moveTo>
                  <a:pt x="89016" y="0"/>
                </a:moveTo>
                <a:lnTo>
                  <a:pt x="89016" y="21600"/>
                </a:lnTo>
                <a:lnTo>
                  <a:pt x="87616" y="20200"/>
                </a:lnTo>
                <a:lnTo>
                  <a:pt x="87616" y="1400"/>
                </a:lnTo>
                <a:close/>
              </a:path>
              <a:path fill="darkenLess" w="89016" h="21600">
                <a:moveTo>
                  <a:pt x="89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16" y="20200"/>
                </a:lnTo>
                <a:close/>
              </a:path>
              <a:path fill="lighten" w="89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0-29T07:16:46Z</dcterms:modified>
  <cp:revision>11</cp:revision>
  <dc:subject/>
  <dc:title>PowerPoint Presentation</dc:title>
</cp:coreProperties>
</file>