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DE6-31E2-4F5B-85AF-D612F275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2B9-01F5-4EA5-B4DD-31295463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568-2483-41DF-9086-EBB7853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0E1-FBF7-4A85-B013-423AE224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D01B-7842-4084-A746-B91BC12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5D9-BABE-40A7-808B-39CA23FE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FE1-38F0-4B9F-857D-A288C70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D939-E769-42A5-B013-3A124C59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E25-C150-47D0-B647-3B3E3F7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95F-D054-4CC9-901A-4F59784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910-A6B2-4C93-9C68-44B8FC6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F94-5355-4D06-83E9-011CADD6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BACB-55DE-4CF5-8679-04C23EA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3E6-698B-4468-ADF2-915ECB2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C753-74AD-46AD-8CE3-2BD4299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11D7-A16C-4C94-8F35-6DE3131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E55-9B3F-416B-801D-CC6EE32E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E1DB-D463-4E0E-8E3E-EFF57068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44EC-C718-41AB-9194-CDE643BB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AE06-CE2C-4905-8724-D14375C0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DDF6-0C36-49F7-9B73-3DCA1290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8C3C-BDD6-4B60-8FED-95B6B67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C67-73E1-4B45-BCEB-F6ADE80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3AEC-A73C-4245-8F10-B4D18BD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D5BE-5063-43FD-B85B-FCAADED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3AD3-7755-4894-B672-A98E605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B8E3-00A0-4338-8403-D325058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43AA-309A-4B6F-AAB0-8524177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CCE4-F567-46CD-8DF5-CBD7B7DE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D916-D4F8-4598-9DBC-1A910BAE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35F-EF21-4657-BA39-665644CA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BE6-2CB6-49BA-9D5A-C6C9615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9A6-110C-4A65-BBBB-AE5E8336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B31-7652-4DA5-8B07-B76B3FC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BD5-CE66-4654-9494-7B22A4D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619-3697-4F2F-B943-5A1EED5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50D-0A52-424A-AC68-CC5EEFC22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1653-7A68-4AAE-BDDD-84CBA5FF7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D4CF-A8F2-42C8-8B2B-0D302D3C6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гек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пентен-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птен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828720" y="1844640"/>
            <a:ext cx="8062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– С = C – 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|      |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берите формулу алк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5256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й вид изомерии у алкенов отсутству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785196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кратной связ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функциональной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endshow"/>
          </p:cNvPr>
          <p:cNvSpPr/>
          <p:nvPr/>
        </p:nvSpPr>
        <p:spPr>
          <a:xfrm>
            <a:off x="3419640" y="602136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6:46Z</dcterms:modified>
  <cp:revision>11</cp:revision>
  <dc:subject/>
  <dc:title>PowerPoint Presentation</dc:title>
</cp:coreProperties>
</file>