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9885-B83C-48C3-85E6-F6B90590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1CC4-F2FB-4FBE-82F7-F756B83A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A08D-7301-4673-80DD-5341BAA7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D439-85A5-457D-B671-F2A9B44D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1B9C-A995-42BD-A07C-3A110E8C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BB61-C60E-45A2-AEEF-B6C0971D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2CDA-F595-4922-9947-C851E4A7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2BB4-A800-4999-A303-D374164E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78DC-E1C2-4FA1-AB57-5D459540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9EC2-3153-4CB9-8472-1C70E02F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1744-41CC-4E80-BA19-F0CD7FD2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C00B-55AB-4B98-92AB-D2885EEA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7531-6315-45BC-B48D-A69B53BE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19D5-9B89-44C2-AE84-0519D010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FBDF-FFC1-4216-BEA7-E183FA60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E10C-A165-47A8-B463-069647D9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5A7B-7CD9-45AA-836B-47B04F3A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86EE9-FC95-4E95-BB57-80D267B7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BB9FE-8EF8-4208-9143-B0F2B185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F592D-286B-4B0F-83BB-26D2CC37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6F62F-C635-42F4-A74E-AD44230B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3C0B5-C08A-4047-9857-D89AF782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33E-BD3C-4708-892F-C681B000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F5FBE-F59C-4C46-AA54-A8F7CB52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4FD9A-126E-405D-BFE7-AC5BD514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D5595-DB3B-4BFF-A431-0581A61B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26406-5D5D-4B42-883B-1A783260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D4DC6-FAB4-4818-87AF-E777A80E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23A97-90CB-4C47-B024-F1372B62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90E42-F387-42E1-848B-7FD04848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C029-1B0B-49E5-8692-122512DD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2315-DB8E-4C90-B4D4-CADCD5AB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A93A-1352-4366-BF56-BB482970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778C-5305-4FBB-AFC7-867F3CA1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CAD7-8DE2-4146-9C43-0B739D4E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EF54-16B3-464C-97FE-E0CA9F34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6321-0AD1-4CA1-9549-B3DB865B8B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F54B-C501-47C5-AE63-7905C36402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F1D0-B49E-4362-923E-B17804F420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3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естирование по химии на тему: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азвание тем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796000" y="4292280"/>
            <a:ext cx="301608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ил: учени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ней школы №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 класса «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ретенник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л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верный ответ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08360" y="6093000"/>
            <a:ext cx="2016000" cy="576000"/>
          </a:xfrm>
          <a:custGeom>
            <a:avLst/>
            <a:gdLst>
              <a:gd name="textAreaLeft" fmla="*/ 37080 w 2016000"/>
              <a:gd name="textAreaRight" fmla="*/ 1978920 w 2016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75566" h="21600">
                <a:moveTo>
                  <a:pt x="0" y="0"/>
                </a:moveTo>
                <a:lnTo>
                  <a:pt x="75566" y="0"/>
                </a:lnTo>
                <a:lnTo>
                  <a:pt x="75566" y="21600"/>
                </a:lnTo>
                <a:lnTo>
                  <a:pt x="0" y="21600"/>
                </a:lnTo>
                <a:close/>
              </a:path>
              <a:path fill="lightenLess" w="75566" h="21600">
                <a:moveTo>
                  <a:pt x="0" y="0"/>
                </a:moveTo>
                <a:lnTo>
                  <a:pt x="75566" y="0"/>
                </a:lnTo>
                <a:lnTo>
                  <a:pt x="74166" y="1400"/>
                </a:lnTo>
                <a:lnTo>
                  <a:pt x="1400" y="1400"/>
                </a:lnTo>
                <a:close/>
              </a:path>
              <a:path fill="darken" w="75566" h="21600">
                <a:moveTo>
                  <a:pt x="75566" y="0"/>
                </a:moveTo>
                <a:lnTo>
                  <a:pt x="75566" y="21600"/>
                </a:lnTo>
                <a:lnTo>
                  <a:pt x="74166" y="20200"/>
                </a:lnTo>
                <a:lnTo>
                  <a:pt x="74166" y="1400"/>
                </a:lnTo>
                <a:close/>
              </a:path>
              <a:path fill="darkenLess" w="75566" h="21600">
                <a:moveTo>
                  <a:pt x="75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66" y="20200"/>
                </a:lnTo>
                <a:close/>
              </a:path>
              <a:path fill="lighten" w="75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66" h="21600">
                <a:moveTo>
                  <a:pt x="30777" y="10800"/>
                </a:moveTo>
                <a:lnTo>
                  <a:pt x="44790" y="3794"/>
                </a:lnTo>
                <a:lnTo>
                  <a:pt x="44790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нец тестиров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ыберете правильное название вещест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4360" y="3500280"/>
            <a:ext cx="785160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3-диметилбутен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2-метил-3метилбутен-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2,3-диметилбутен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6443640" y="5877000"/>
            <a:ext cx="1727280" cy="647640"/>
          </a:xfrm>
          <a:custGeom>
            <a:avLst/>
            <a:gdLst>
              <a:gd name="textAreaLeft" fmla="*/ 41760 w 1727280"/>
              <a:gd name="textAreaRight" fmla="*/ 1685520 w 1727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2" action="ppaction://hlinksldjump"/>
          </p:cNvPr>
          <p:cNvSpPr/>
          <p:nvPr/>
        </p:nvSpPr>
        <p:spPr>
          <a:xfrm>
            <a:off x="3708360" y="5877000"/>
            <a:ext cx="1871640" cy="647640"/>
          </a:xfrm>
          <a:custGeom>
            <a:avLst/>
            <a:gdLst>
              <a:gd name="textAreaLeft" fmla="*/ 41760 w 1871640"/>
              <a:gd name="textAreaRight" fmla="*/ 1829880 w 1871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2400" h="21600">
                <a:moveTo>
                  <a:pt x="0" y="0"/>
                </a:moveTo>
                <a:lnTo>
                  <a:pt x="62400" y="0"/>
                </a:lnTo>
                <a:lnTo>
                  <a:pt x="62400" y="21600"/>
                </a:lnTo>
                <a:lnTo>
                  <a:pt x="0" y="21600"/>
                </a:lnTo>
                <a:close/>
              </a:path>
              <a:path fill="lightenLess" w="62400" h="21600">
                <a:moveTo>
                  <a:pt x="0" y="0"/>
                </a:moveTo>
                <a:lnTo>
                  <a:pt x="62400" y="0"/>
                </a:lnTo>
                <a:lnTo>
                  <a:pt x="61000" y="1400"/>
                </a:lnTo>
                <a:lnTo>
                  <a:pt x="1400" y="1400"/>
                </a:lnTo>
                <a:close/>
              </a:path>
              <a:path fill="darken" w="62400" h="21600">
                <a:moveTo>
                  <a:pt x="62400" y="0"/>
                </a:moveTo>
                <a:lnTo>
                  <a:pt x="62400" y="21600"/>
                </a:lnTo>
                <a:lnTo>
                  <a:pt x="61000" y="20200"/>
                </a:lnTo>
                <a:lnTo>
                  <a:pt x="61000" y="1400"/>
                </a:lnTo>
                <a:close/>
              </a:path>
              <a:path fill="darkenLess" w="62400" h="21600">
                <a:moveTo>
                  <a:pt x="6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000" y="20200"/>
                </a:lnTo>
                <a:close/>
              </a:path>
              <a:path fill="lighten" w="6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42920" y="5877000"/>
            <a:ext cx="1728720" cy="647640"/>
          </a:xfrm>
          <a:custGeom>
            <a:avLst/>
            <a:gdLst>
              <a:gd name="textAreaLeft" fmla="*/ 41760 w 1728720"/>
              <a:gd name="textAreaRight" fmla="*/ 1686960 w 1728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636" h="21600">
                <a:moveTo>
                  <a:pt x="0" y="0"/>
                </a:moveTo>
                <a:lnTo>
                  <a:pt x="57636" y="0"/>
                </a:lnTo>
                <a:lnTo>
                  <a:pt x="57636" y="21600"/>
                </a:lnTo>
                <a:lnTo>
                  <a:pt x="0" y="21600"/>
                </a:lnTo>
                <a:close/>
              </a:path>
              <a:path fill="lightenLess" w="57636" h="21600">
                <a:moveTo>
                  <a:pt x="0" y="0"/>
                </a:moveTo>
                <a:lnTo>
                  <a:pt x="57636" y="0"/>
                </a:lnTo>
                <a:lnTo>
                  <a:pt x="56236" y="1400"/>
                </a:lnTo>
                <a:lnTo>
                  <a:pt x="1400" y="1400"/>
                </a:lnTo>
                <a:close/>
              </a:path>
              <a:path fill="darken" w="57636" h="21600">
                <a:moveTo>
                  <a:pt x="57636" y="0"/>
                </a:moveTo>
                <a:lnTo>
                  <a:pt x="57636" y="21600"/>
                </a:lnTo>
                <a:lnTo>
                  <a:pt x="56236" y="20200"/>
                </a:lnTo>
                <a:lnTo>
                  <a:pt x="56236" y="1400"/>
                </a:lnTo>
                <a:close/>
              </a:path>
              <a:path fill="darkenLess" w="57636" h="21600">
                <a:moveTo>
                  <a:pt x="57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36" y="20200"/>
                </a:lnTo>
                <a:close/>
              </a:path>
              <a:path fill="lighten" w="57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2349360"/>
            <a:ext cx="698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68360" y="1628640"/>
            <a:ext cx="460872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3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= C – CH – CH</a:t>
            </a:r>
            <a:r>
              <a:rPr b="1" lang="en-US" sz="3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   |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3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  CH</a:t>
            </a:r>
            <a:r>
              <a:rPr b="1" lang="en-US" sz="3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молекуле этена угол между гибридными орбиталями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вен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132000" y="2781000"/>
            <a:ext cx="48960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–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2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–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18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6443640" y="5877000"/>
            <a:ext cx="1727280" cy="647640"/>
          </a:xfrm>
          <a:custGeom>
            <a:avLst/>
            <a:gdLst>
              <a:gd name="textAreaLeft" fmla="*/ 41760 w 1727280"/>
              <a:gd name="textAreaRight" fmla="*/ 1685520 w 1727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8000"/>
                </a:solidFill>
                <a:uFillTx/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8360" y="5877000"/>
            <a:ext cx="1871640" cy="647640"/>
          </a:xfrm>
          <a:custGeom>
            <a:avLst/>
            <a:gdLst>
              <a:gd name="textAreaLeft" fmla="*/ 41760 w 1871640"/>
              <a:gd name="textAreaRight" fmla="*/ 1829880 w 1871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2400" h="21600">
                <a:moveTo>
                  <a:pt x="0" y="0"/>
                </a:moveTo>
                <a:lnTo>
                  <a:pt x="62400" y="0"/>
                </a:lnTo>
                <a:lnTo>
                  <a:pt x="62400" y="21600"/>
                </a:lnTo>
                <a:lnTo>
                  <a:pt x="0" y="21600"/>
                </a:lnTo>
                <a:close/>
              </a:path>
              <a:path fill="lightenLess" w="62400" h="21600">
                <a:moveTo>
                  <a:pt x="0" y="0"/>
                </a:moveTo>
                <a:lnTo>
                  <a:pt x="62400" y="0"/>
                </a:lnTo>
                <a:lnTo>
                  <a:pt x="61000" y="1400"/>
                </a:lnTo>
                <a:lnTo>
                  <a:pt x="1400" y="1400"/>
                </a:lnTo>
                <a:close/>
              </a:path>
              <a:path fill="darken" w="62400" h="21600">
                <a:moveTo>
                  <a:pt x="62400" y="0"/>
                </a:moveTo>
                <a:lnTo>
                  <a:pt x="62400" y="21600"/>
                </a:lnTo>
                <a:lnTo>
                  <a:pt x="61000" y="20200"/>
                </a:lnTo>
                <a:lnTo>
                  <a:pt x="61000" y="1400"/>
                </a:lnTo>
                <a:close/>
              </a:path>
              <a:path fill="darkenLess" w="62400" h="21600">
                <a:moveTo>
                  <a:pt x="6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000" y="20200"/>
                </a:lnTo>
                <a:close/>
              </a:path>
              <a:path fill="lighten" w="6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3" action="ppaction://hlinksldjump"/>
          </p:cNvPr>
          <p:cNvSpPr/>
          <p:nvPr/>
        </p:nvSpPr>
        <p:spPr>
          <a:xfrm>
            <a:off x="1042920" y="5877000"/>
            <a:ext cx="1728720" cy="647640"/>
          </a:xfrm>
          <a:custGeom>
            <a:avLst/>
            <a:gdLst>
              <a:gd name="textAreaLeft" fmla="*/ 41760 w 1728720"/>
              <a:gd name="textAreaRight" fmla="*/ 1686960 w 1728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636" h="21600">
                <a:moveTo>
                  <a:pt x="0" y="0"/>
                </a:moveTo>
                <a:lnTo>
                  <a:pt x="57636" y="0"/>
                </a:lnTo>
                <a:lnTo>
                  <a:pt x="57636" y="21600"/>
                </a:lnTo>
                <a:lnTo>
                  <a:pt x="0" y="21600"/>
                </a:lnTo>
                <a:close/>
              </a:path>
              <a:path fill="lightenLess" w="57636" h="21600">
                <a:moveTo>
                  <a:pt x="0" y="0"/>
                </a:moveTo>
                <a:lnTo>
                  <a:pt x="57636" y="0"/>
                </a:lnTo>
                <a:lnTo>
                  <a:pt x="56236" y="1400"/>
                </a:lnTo>
                <a:lnTo>
                  <a:pt x="1400" y="1400"/>
                </a:lnTo>
                <a:close/>
              </a:path>
              <a:path fill="darken" w="57636" h="21600">
                <a:moveTo>
                  <a:pt x="57636" y="0"/>
                </a:moveTo>
                <a:lnTo>
                  <a:pt x="57636" y="21600"/>
                </a:lnTo>
                <a:lnTo>
                  <a:pt x="56236" y="20200"/>
                </a:lnTo>
                <a:lnTo>
                  <a:pt x="56236" y="1400"/>
                </a:lnTo>
                <a:close/>
              </a:path>
              <a:path fill="darkenLess" w="57636" h="21600">
                <a:moveTo>
                  <a:pt x="57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36" y="20200"/>
                </a:lnTo>
                <a:close/>
              </a:path>
              <a:path fill="lighten" w="57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8000"/>
                </a:solidFill>
                <a:uFillTx/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кажите тип изомерии для вещест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360" y="3500280"/>
            <a:ext cx="785160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углеродного скел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межклассов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геометр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43640" y="5877000"/>
            <a:ext cx="1727280" cy="647640"/>
          </a:xfrm>
          <a:custGeom>
            <a:avLst/>
            <a:gdLst>
              <a:gd name="textAreaLeft" fmla="*/ 41760 w 1727280"/>
              <a:gd name="textAreaRight" fmla="*/ 1685520 w 1727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5877000"/>
            <a:ext cx="1871640" cy="647640"/>
          </a:xfrm>
          <a:custGeom>
            <a:avLst/>
            <a:gdLst>
              <a:gd name="textAreaLeft" fmla="*/ 41760 w 1871640"/>
              <a:gd name="textAreaRight" fmla="*/ 1829880 w 1871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2400" h="21600">
                <a:moveTo>
                  <a:pt x="0" y="0"/>
                </a:moveTo>
                <a:lnTo>
                  <a:pt x="62400" y="0"/>
                </a:lnTo>
                <a:lnTo>
                  <a:pt x="62400" y="21600"/>
                </a:lnTo>
                <a:lnTo>
                  <a:pt x="0" y="21600"/>
                </a:lnTo>
                <a:close/>
              </a:path>
              <a:path fill="lightenLess" w="62400" h="21600">
                <a:moveTo>
                  <a:pt x="0" y="0"/>
                </a:moveTo>
                <a:lnTo>
                  <a:pt x="62400" y="0"/>
                </a:lnTo>
                <a:lnTo>
                  <a:pt x="61000" y="1400"/>
                </a:lnTo>
                <a:lnTo>
                  <a:pt x="1400" y="1400"/>
                </a:lnTo>
                <a:close/>
              </a:path>
              <a:path fill="darken" w="62400" h="21600">
                <a:moveTo>
                  <a:pt x="62400" y="0"/>
                </a:moveTo>
                <a:lnTo>
                  <a:pt x="62400" y="21600"/>
                </a:lnTo>
                <a:lnTo>
                  <a:pt x="61000" y="20200"/>
                </a:lnTo>
                <a:lnTo>
                  <a:pt x="61000" y="1400"/>
                </a:lnTo>
                <a:close/>
              </a:path>
              <a:path fill="darkenLess" w="62400" h="21600">
                <a:moveTo>
                  <a:pt x="6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000" y="20200"/>
                </a:lnTo>
                <a:close/>
              </a:path>
              <a:path fill="lighten" w="6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1" action="ppaction://hlinksldjump"/>
          </p:cNvPr>
          <p:cNvSpPr/>
          <p:nvPr/>
        </p:nvSpPr>
        <p:spPr>
          <a:xfrm>
            <a:off x="1042920" y="5877000"/>
            <a:ext cx="1728720" cy="647640"/>
          </a:xfrm>
          <a:custGeom>
            <a:avLst/>
            <a:gdLst>
              <a:gd name="textAreaLeft" fmla="*/ 41760 w 1728720"/>
              <a:gd name="textAreaRight" fmla="*/ 1686960 w 1728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636" h="21600">
                <a:moveTo>
                  <a:pt x="0" y="0"/>
                </a:moveTo>
                <a:lnTo>
                  <a:pt x="57636" y="0"/>
                </a:lnTo>
                <a:lnTo>
                  <a:pt x="57636" y="21600"/>
                </a:lnTo>
                <a:lnTo>
                  <a:pt x="0" y="21600"/>
                </a:lnTo>
                <a:close/>
              </a:path>
              <a:path fill="lightenLess" w="57636" h="21600">
                <a:moveTo>
                  <a:pt x="0" y="0"/>
                </a:moveTo>
                <a:lnTo>
                  <a:pt x="57636" y="0"/>
                </a:lnTo>
                <a:lnTo>
                  <a:pt x="56236" y="1400"/>
                </a:lnTo>
                <a:lnTo>
                  <a:pt x="1400" y="1400"/>
                </a:lnTo>
                <a:close/>
              </a:path>
              <a:path fill="darken" w="57636" h="21600">
                <a:moveTo>
                  <a:pt x="57636" y="0"/>
                </a:moveTo>
                <a:lnTo>
                  <a:pt x="57636" y="21600"/>
                </a:lnTo>
                <a:lnTo>
                  <a:pt x="56236" y="20200"/>
                </a:lnTo>
                <a:lnTo>
                  <a:pt x="56236" y="1400"/>
                </a:lnTo>
                <a:close/>
              </a:path>
              <a:path fill="darkenLess" w="57636" h="21600">
                <a:moveTo>
                  <a:pt x="57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36" y="20200"/>
                </a:lnTo>
                <a:close/>
              </a:path>
              <a:path fill="lighten" w="57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56360" y="1628640"/>
            <a:ext cx="2738520" cy="36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           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|               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–   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1773360"/>
            <a:ext cx="5761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CH –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ильно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3348000" y="6021360"/>
            <a:ext cx="2232000" cy="576360"/>
          </a:xfrm>
          <a:custGeom>
            <a:avLst/>
            <a:gdLst>
              <a:gd name="textAreaLeft" fmla="*/ 37080 w 2232000"/>
              <a:gd name="textAreaRight" fmla="*/ 2194920 w 223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09" h="21600">
                <a:moveTo>
                  <a:pt x="0" y="0"/>
                </a:moveTo>
                <a:lnTo>
                  <a:pt x="83609" y="0"/>
                </a:lnTo>
                <a:lnTo>
                  <a:pt x="83609" y="21600"/>
                </a:lnTo>
                <a:lnTo>
                  <a:pt x="0" y="21600"/>
                </a:lnTo>
                <a:close/>
              </a:path>
              <a:path fill="lightenLess" w="83609" h="21600">
                <a:moveTo>
                  <a:pt x="0" y="0"/>
                </a:moveTo>
                <a:lnTo>
                  <a:pt x="83609" y="0"/>
                </a:lnTo>
                <a:lnTo>
                  <a:pt x="82209" y="1400"/>
                </a:lnTo>
                <a:lnTo>
                  <a:pt x="1400" y="1400"/>
                </a:lnTo>
                <a:close/>
              </a:path>
              <a:path fill="darken" w="83609" h="21600">
                <a:moveTo>
                  <a:pt x="83609" y="0"/>
                </a:moveTo>
                <a:lnTo>
                  <a:pt x="83609" y="21600"/>
                </a:lnTo>
                <a:lnTo>
                  <a:pt x="82209" y="20200"/>
                </a:lnTo>
                <a:lnTo>
                  <a:pt x="82209" y="1400"/>
                </a:lnTo>
                <a:close/>
              </a:path>
              <a:path fill="darkenLess" w="83609" h="21600">
                <a:moveTo>
                  <a:pt x="83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09" y="20200"/>
                </a:lnTo>
                <a:close/>
              </a:path>
              <a:path fill="lighten" w="83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Следующ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верный ответ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08360" y="6093000"/>
            <a:ext cx="2016000" cy="576000"/>
          </a:xfrm>
          <a:custGeom>
            <a:avLst/>
            <a:gdLst>
              <a:gd name="textAreaLeft" fmla="*/ 37080 w 2016000"/>
              <a:gd name="textAreaRight" fmla="*/ 1978920 w 2016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75566" h="21600">
                <a:moveTo>
                  <a:pt x="0" y="0"/>
                </a:moveTo>
                <a:lnTo>
                  <a:pt x="75566" y="0"/>
                </a:lnTo>
                <a:lnTo>
                  <a:pt x="75566" y="21600"/>
                </a:lnTo>
                <a:lnTo>
                  <a:pt x="0" y="21600"/>
                </a:lnTo>
                <a:close/>
              </a:path>
              <a:path fill="lightenLess" w="75566" h="21600">
                <a:moveTo>
                  <a:pt x="0" y="0"/>
                </a:moveTo>
                <a:lnTo>
                  <a:pt x="75566" y="0"/>
                </a:lnTo>
                <a:lnTo>
                  <a:pt x="74166" y="1400"/>
                </a:lnTo>
                <a:lnTo>
                  <a:pt x="1400" y="1400"/>
                </a:lnTo>
                <a:close/>
              </a:path>
              <a:path fill="darken" w="75566" h="21600">
                <a:moveTo>
                  <a:pt x="75566" y="0"/>
                </a:moveTo>
                <a:lnTo>
                  <a:pt x="75566" y="21600"/>
                </a:lnTo>
                <a:lnTo>
                  <a:pt x="74166" y="20200"/>
                </a:lnTo>
                <a:lnTo>
                  <a:pt x="74166" y="1400"/>
                </a:lnTo>
                <a:close/>
              </a:path>
              <a:path fill="darkenLess" w="75566" h="21600">
                <a:moveTo>
                  <a:pt x="75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66" y="20200"/>
                </a:lnTo>
                <a:close/>
              </a:path>
              <a:path fill="lighten" w="75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66" h="21600">
                <a:moveTo>
                  <a:pt x="30777" y="10800"/>
                </a:moveTo>
                <a:lnTo>
                  <a:pt x="44790" y="3794"/>
                </a:lnTo>
                <a:lnTo>
                  <a:pt x="44790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вильно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6093000"/>
            <a:ext cx="2232000" cy="576000"/>
          </a:xfrm>
          <a:custGeom>
            <a:avLst/>
            <a:gdLst>
              <a:gd name="textAreaLeft" fmla="*/ 37080 w 2232000"/>
              <a:gd name="textAreaRight" fmla="*/ 2194920 w 223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83661" h="21600">
                <a:moveTo>
                  <a:pt x="0" y="0"/>
                </a:moveTo>
                <a:lnTo>
                  <a:pt x="83661" y="0"/>
                </a:lnTo>
                <a:lnTo>
                  <a:pt x="83661" y="21600"/>
                </a:lnTo>
                <a:lnTo>
                  <a:pt x="0" y="21600"/>
                </a:lnTo>
                <a:close/>
              </a:path>
              <a:path fill="lightenLess" w="83661" h="21600">
                <a:moveTo>
                  <a:pt x="0" y="0"/>
                </a:moveTo>
                <a:lnTo>
                  <a:pt x="83661" y="0"/>
                </a:lnTo>
                <a:lnTo>
                  <a:pt x="82261" y="1400"/>
                </a:lnTo>
                <a:lnTo>
                  <a:pt x="1400" y="1400"/>
                </a:lnTo>
                <a:close/>
              </a:path>
              <a:path fill="darken" w="83661" h="21600">
                <a:moveTo>
                  <a:pt x="83661" y="0"/>
                </a:moveTo>
                <a:lnTo>
                  <a:pt x="83661" y="21600"/>
                </a:lnTo>
                <a:lnTo>
                  <a:pt x="82261" y="20200"/>
                </a:lnTo>
                <a:lnTo>
                  <a:pt x="82261" y="1400"/>
                </a:lnTo>
                <a:close/>
              </a:path>
              <a:path fill="darkenLess" w="83661" h="21600">
                <a:moveTo>
                  <a:pt x="83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1" y="20200"/>
                </a:lnTo>
                <a:close/>
              </a:path>
              <a:path fill="lighten" w="83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Следующ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верный ответ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6093000"/>
            <a:ext cx="2016000" cy="576000"/>
          </a:xfrm>
          <a:custGeom>
            <a:avLst/>
            <a:gdLst>
              <a:gd name="textAreaLeft" fmla="*/ 37080 w 2016000"/>
              <a:gd name="textAreaRight" fmla="*/ 1978920 w 2016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75566" h="21600">
                <a:moveTo>
                  <a:pt x="0" y="0"/>
                </a:moveTo>
                <a:lnTo>
                  <a:pt x="75566" y="0"/>
                </a:lnTo>
                <a:lnTo>
                  <a:pt x="75566" y="21600"/>
                </a:lnTo>
                <a:lnTo>
                  <a:pt x="0" y="21600"/>
                </a:lnTo>
                <a:close/>
              </a:path>
              <a:path fill="lightenLess" w="75566" h="21600">
                <a:moveTo>
                  <a:pt x="0" y="0"/>
                </a:moveTo>
                <a:lnTo>
                  <a:pt x="75566" y="0"/>
                </a:lnTo>
                <a:lnTo>
                  <a:pt x="74166" y="1400"/>
                </a:lnTo>
                <a:lnTo>
                  <a:pt x="1400" y="1400"/>
                </a:lnTo>
                <a:close/>
              </a:path>
              <a:path fill="darken" w="75566" h="21600">
                <a:moveTo>
                  <a:pt x="75566" y="0"/>
                </a:moveTo>
                <a:lnTo>
                  <a:pt x="75566" y="21600"/>
                </a:lnTo>
                <a:lnTo>
                  <a:pt x="74166" y="20200"/>
                </a:lnTo>
                <a:lnTo>
                  <a:pt x="74166" y="1400"/>
                </a:lnTo>
                <a:close/>
              </a:path>
              <a:path fill="darkenLess" w="75566" h="21600">
                <a:moveTo>
                  <a:pt x="75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66" y="20200"/>
                </a:lnTo>
                <a:close/>
              </a:path>
              <a:path fill="lighten" w="75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66" h="21600">
                <a:moveTo>
                  <a:pt x="30777" y="10800"/>
                </a:moveTo>
                <a:lnTo>
                  <a:pt x="44790" y="3794"/>
                </a:lnTo>
                <a:lnTo>
                  <a:pt x="44790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вильно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endshow"/>
          </p:cNvPr>
          <p:cNvSpPr/>
          <p:nvPr/>
        </p:nvSpPr>
        <p:spPr>
          <a:xfrm>
            <a:off x="3348000" y="6021360"/>
            <a:ext cx="2376360" cy="576360"/>
          </a:xfrm>
          <a:custGeom>
            <a:avLst/>
            <a:gdLst>
              <a:gd name="textAreaLeft" fmla="*/ 37080 w 2376360"/>
              <a:gd name="textAreaRight" fmla="*/ 2339280 w 23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9016" h="21600">
                <a:moveTo>
                  <a:pt x="0" y="0"/>
                </a:moveTo>
                <a:lnTo>
                  <a:pt x="89016" y="0"/>
                </a:lnTo>
                <a:lnTo>
                  <a:pt x="89016" y="21600"/>
                </a:lnTo>
                <a:lnTo>
                  <a:pt x="0" y="21600"/>
                </a:lnTo>
                <a:close/>
              </a:path>
              <a:path fill="lightenLess" w="89016" h="21600">
                <a:moveTo>
                  <a:pt x="0" y="0"/>
                </a:moveTo>
                <a:lnTo>
                  <a:pt x="89016" y="0"/>
                </a:lnTo>
                <a:lnTo>
                  <a:pt x="87616" y="1400"/>
                </a:lnTo>
                <a:lnTo>
                  <a:pt x="1400" y="1400"/>
                </a:lnTo>
                <a:close/>
              </a:path>
              <a:path fill="darken" w="89016" h="21600">
                <a:moveTo>
                  <a:pt x="89016" y="0"/>
                </a:moveTo>
                <a:lnTo>
                  <a:pt x="89016" y="21600"/>
                </a:lnTo>
                <a:lnTo>
                  <a:pt x="87616" y="20200"/>
                </a:lnTo>
                <a:lnTo>
                  <a:pt x="87616" y="1400"/>
                </a:lnTo>
                <a:close/>
              </a:path>
              <a:path fill="darkenLess" w="89016" h="21600">
                <a:moveTo>
                  <a:pt x="89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616" y="20200"/>
                </a:lnTo>
                <a:close/>
              </a:path>
              <a:path fill="lighten" w="89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ец тестир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4-10-29T07:17:26Z</dcterms:modified>
  <cp:revision>15</cp:revision>
  <dc:subject/>
  <dc:title>PowerPoint Presentation</dc:title>
</cp:coreProperties>
</file>