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254-9E63-451A-8095-C75DB3C3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7AD-CF34-4DF8-804C-E7CC3DB8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3E3-BEE7-43DE-A4D4-0ED2F8FD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CD7-7D82-4E7A-B820-61E98042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D913-1014-4487-9D43-ABFD278A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67B8-F4CA-472E-8A96-D72C7EC8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45FA-DB2D-4A86-A4A9-60768D6F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B000-1218-4721-B504-B5AB24E9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75B8-FA76-40E7-9B75-E4C609DA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6C55-B213-4D56-9422-F58034A0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D6D6-DCE5-48D7-9BAE-5A42F1AC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79F-A9B1-41E3-AE3A-38104DCA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8834-F9D8-4C6D-AF6C-A459CB20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F677-45FD-4980-ADE9-9B8CAB13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E968-BC63-4E7B-8EB2-B79EA220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9A4D-9B9A-49CA-9721-E349D902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4761-3479-4B3D-93DF-5B533B06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33D8E-BA64-4AE9-A25B-894AAB69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7FE63-2625-458E-9590-C806A65D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EBD6A-6A7B-4748-A5DB-8DD98168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87D33-D6F3-4CEE-834D-A44D1E37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57A0B-35F9-4DA2-A227-E02D004B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646-16F4-4734-9124-4D8BF7C7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F77F-74E8-48EE-B632-1E577596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34240-1D0E-41C6-9A04-832FCCD8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40ACD-39D7-4F93-959E-A522F6D6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B8767-D342-4136-B528-8537BE2F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1D76-4392-42D9-A964-D49F60E7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3347-457E-4B87-B656-22735BF9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9170C-6E3C-42BE-AF28-55913B25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47D-E216-45CB-BE16-3670B241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408-B0AD-43D9-9279-6D5FD05C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EB7-0CDF-46F5-9F5F-53E7CD92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E30-BB63-42AA-B338-EF4969D9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EA8-96A2-4357-95E1-71787969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3A5-BEE8-4A91-807B-E12C9D3E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A1C6-3D66-4C49-AA5D-A3CBCE7EC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88CB-730C-4067-ABED-1439EC881E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D980-E060-4A11-A56B-A2FCB82642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3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естирование по химии на тему: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звание тем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796000" y="4292280"/>
            <a:ext cx="301608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: учен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й школы №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 класса «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етенни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08360" y="6093000"/>
            <a:ext cx="2016000" cy="576000"/>
          </a:xfrm>
          <a:custGeom>
            <a:avLst/>
            <a:gdLst>
              <a:gd name="textAreaLeft" fmla="*/ 37080 w 2016000"/>
              <a:gd name="textAreaRight" fmla="*/ 1978920 w 201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75566" h="21600">
                <a:moveTo>
                  <a:pt x="0" y="0"/>
                </a:moveTo>
                <a:lnTo>
                  <a:pt x="75566" y="0"/>
                </a:lnTo>
                <a:lnTo>
                  <a:pt x="75566" y="21600"/>
                </a:lnTo>
                <a:lnTo>
                  <a:pt x="0" y="21600"/>
                </a:lnTo>
                <a:close/>
              </a:path>
              <a:path fill="lightenLess" w="75566" h="21600">
                <a:moveTo>
                  <a:pt x="0" y="0"/>
                </a:moveTo>
                <a:lnTo>
                  <a:pt x="75566" y="0"/>
                </a:lnTo>
                <a:lnTo>
                  <a:pt x="74166" y="1400"/>
                </a:lnTo>
                <a:lnTo>
                  <a:pt x="1400" y="1400"/>
                </a:lnTo>
                <a:close/>
              </a:path>
              <a:path fill="darken" w="75566" h="21600">
                <a:moveTo>
                  <a:pt x="75566" y="0"/>
                </a:moveTo>
                <a:lnTo>
                  <a:pt x="75566" y="21600"/>
                </a:lnTo>
                <a:lnTo>
                  <a:pt x="74166" y="20200"/>
                </a:lnTo>
                <a:lnTo>
                  <a:pt x="74166" y="1400"/>
                </a:lnTo>
                <a:close/>
              </a:path>
              <a:path fill="darkenLess" w="75566" h="21600">
                <a:moveTo>
                  <a:pt x="75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66" y="20200"/>
                </a:lnTo>
                <a:close/>
              </a:path>
              <a:path fill="lighten" w="75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66" h="21600">
                <a:moveTo>
                  <a:pt x="30777" y="10800"/>
                </a:moveTo>
                <a:lnTo>
                  <a:pt x="44790" y="3794"/>
                </a:lnTo>
                <a:lnTo>
                  <a:pt x="4479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нец тестир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берете правильное название веще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3500280"/>
            <a:ext cx="78516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3-диметилбутен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-метил-3метилбутен-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,3-диметилбутен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34936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68360" y="1628640"/>
            <a:ext cx="46087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= C – CH – CH</a:t>
            </a:r>
            <a:r>
              <a:rPr b="1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  |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 CH</a:t>
            </a:r>
            <a:r>
              <a:rPr b="1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молекуле этена угол между гибридными орбиталями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вен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132000" y="2781000"/>
            <a:ext cx="48960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18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8000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8000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кажите тип изомерии для веще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3500280"/>
            <a:ext cx="78516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глеродного скел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ежкласс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еометр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56360" y="1628640"/>
            <a:ext cx="273852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           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               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–   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773360"/>
            <a:ext cx="576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CH –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3348000" y="6021360"/>
            <a:ext cx="2232000" cy="576360"/>
          </a:xfrm>
          <a:custGeom>
            <a:avLst/>
            <a:gdLst>
              <a:gd name="textAreaLeft" fmla="*/ 37080 w 2232000"/>
              <a:gd name="textAreaRight" fmla="*/ 2194920 w 223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09" h="21600">
                <a:moveTo>
                  <a:pt x="0" y="0"/>
                </a:moveTo>
                <a:lnTo>
                  <a:pt x="83609" y="0"/>
                </a:lnTo>
                <a:lnTo>
                  <a:pt x="83609" y="21600"/>
                </a:lnTo>
                <a:lnTo>
                  <a:pt x="0" y="21600"/>
                </a:lnTo>
                <a:close/>
              </a:path>
              <a:path fill="lightenLess" w="83609" h="21600">
                <a:moveTo>
                  <a:pt x="0" y="0"/>
                </a:moveTo>
                <a:lnTo>
                  <a:pt x="83609" y="0"/>
                </a:lnTo>
                <a:lnTo>
                  <a:pt x="82209" y="1400"/>
                </a:lnTo>
                <a:lnTo>
                  <a:pt x="1400" y="1400"/>
                </a:lnTo>
                <a:close/>
              </a:path>
              <a:path fill="darken" w="83609" h="21600">
                <a:moveTo>
                  <a:pt x="83609" y="0"/>
                </a:moveTo>
                <a:lnTo>
                  <a:pt x="83609" y="21600"/>
                </a:lnTo>
                <a:lnTo>
                  <a:pt x="82209" y="20200"/>
                </a:lnTo>
                <a:lnTo>
                  <a:pt x="82209" y="1400"/>
                </a:lnTo>
                <a:close/>
              </a:path>
              <a:path fill="darkenLess" w="83609" h="21600">
                <a:moveTo>
                  <a:pt x="83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09" y="20200"/>
                </a:lnTo>
                <a:close/>
              </a:path>
              <a:path fill="lighten" w="83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Следующ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08360" y="6093000"/>
            <a:ext cx="2016000" cy="576000"/>
          </a:xfrm>
          <a:custGeom>
            <a:avLst/>
            <a:gdLst>
              <a:gd name="textAreaLeft" fmla="*/ 37080 w 2016000"/>
              <a:gd name="textAreaRight" fmla="*/ 1978920 w 201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75566" h="21600">
                <a:moveTo>
                  <a:pt x="0" y="0"/>
                </a:moveTo>
                <a:lnTo>
                  <a:pt x="75566" y="0"/>
                </a:lnTo>
                <a:lnTo>
                  <a:pt x="75566" y="21600"/>
                </a:lnTo>
                <a:lnTo>
                  <a:pt x="0" y="21600"/>
                </a:lnTo>
                <a:close/>
              </a:path>
              <a:path fill="lightenLess" w="75566" h="21600">
                <a:moveTo>
                  <a:pt x="0" y="0"/>
                </a:moveTo>
                <a:lnTo>
                  <a:pt x="75566" y="0"/>
                </a:lnTo>
                <a:lnTo>
                  <a:pt x="74166" y="1400"/>
                </a:lnTo>
                <a:lnTo>
                  <a:pt x="1400" y="1400"/>
                </a:lnTo>
                <a:close/>
              </a:path>
              <a:path fill="darken" w="75566" h="21600">
                <a:moveTo>
                  <a:pt x="75566" y="0"/>
                </a:moveTo>
                <a:lnTo>
                  <a:pt x="75566" y="21600"/>
                </a:lnTo>
                <a:lnTo>
                  <a:pt x="74166" y="20200"/>
                </a:lnTo>
                <a:lnTo>
                  <a:pt x="74166" y="1400"/>
                </a:lnTo>
                <a:close/>
              </a:path>
              <a:path fill="darkenLess" w="75566" h="21600">
                <a:moveTo>
                  <a:pt x="75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66" y="20200"/>
                </a:lnTo>
                <a:close/>
              </a:path>
              <a:path fill="lighten" w="75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66" h="21600">
                <a:moveTo>
                  <a:pt x="30777" y="10800"/>
                </a:moveTo>
                <a:lnTo>
                  <a:pt x="44790" y="3794"/>
                </a:lnTo>
                <a:lnTo>
                  <a:pt x="4479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6093000"/>
            <a:ext cx="2232000" cy="576000"/>
          </a:xfrm>
          <a:custGeom>
            <a:avLst/>
            <a:gdLst>
              <a:gd name="textAreaLeft" fmla="*/ 37080 w 2232000"/>
              <a:gd name="textAreaRight" fmla="*/ 2194920 w 223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83661" h="21600">
                <a:moveTo>
                  <a:pt x="0" y="0"/>
                </a:moveTo>
                <a:lnTo>
                  <a:pt x="83661" y="0"/>
                </a:lnTo>
                <a:lnTo>
                  <a:pt x="83661" y="21600"/>
                </a:lnTo>
                <a:lnTo>
                  <a:pt x="0" y="21600"/>
                </a:lnTo>
                <a:close/>
              </a:path>
              <a:path fill="lightenLess" w="83661" h="21600">
                <a:moveTo>
                  <a:pt x="0" y="0"/>
                </a:moveTo>
                <a:lnTo>
                  <a:pt x="83661" y="0"/>
                </a:lnTo>
                <a:lnTo>
                  <a:pt x="82261" y="1400"/>
                </a:lnTo>
                <a:lnTo>
                  <a:pt x="1400" y="1400"/>
                </a:lnTo>
                <a:close/>
              </a:path>
              <a:path fill="darken" w="83661" h="21600">
                <a:moveTo>
                  <a:pt x="83661" y="0"/>
                </a:moveTo>
                <a:lnTo>
                  <a:pt x="83661" y="21600"/>
                </a:lnTo>
                <a:lnTo>
                  <a:pt x="82261" y="20200"/>
                </a:lnTo>
                <a:lnTo>
                  <a:pt x="82261" y="1400"/>
                </a:lnTo>
                <a:close/>
              </a:path>
              <a:path fill="darkenLess" w="83661" h="21600">
                <a:moveTo>
                  <a:pt x="83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1" y="20200"/>
                </a:lnTo>
                <a:close/>
              </a:path>
              <a:path fill="lighten" w="83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Следующ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6093000"/>
            <a:ext cx="2016000" cy="576000"/>
          </a:xfrm>
          <a:custGeom>
            <a:avLst/>
            <a:gdLst>
              <a:gd name="textAreaLeft" fmla="*/ 37080 w 2016000"/>
              <a:gd name="textAreaRight" fmla="*/ 1978920 w 201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75566" h="21600">
                <a:moveTo>
                  <a:pt x="0" y="0"/>
                </a:moveTo>
                <a:lnTo>
                  <a:pt x="75566" y="0"/>
                </a:lnTo>
                <a:lnTo>
                  <a:pt x="75566" y="21600"/>
                </a:lnTo>
                <a:lnTo>
                  <a:pt x="0" y="21600"/>
                </a:lnTo>
                <a:close/>
              </a:path>
              <a:path fill="lightenLess" w="75566" h="21600">
                <a:moveTo>
                  <a:pt x="0" y="0"/>
                </a:moveTo>
                <a:lnTo>
                  <a:pt x="75566" y="0"/>
                </a:lnTo>
                <a:lnTo>
                  <a:pt x="74166" y="1400"/>
                </a:lnTo>
                <a:lnTo>
                  <a:pt x="1400" y="1400"/>
                </a:lnTo>
                <a:close/>
              </a:path>
              <a:path fill="darken" w="75566" h="21600">
                <a:moveTo>
                  <a:pt x="75566" y="0"/>
                </a:moveTo>
                <a:lnTo>
                  <a:pt x="75566" y="21600"/>
                </a:lnTo>
                <a:lnTo>
                  <a:pt x="74166" y="20200"/>
                </a:lnTo>
                <a:lnTo>
                  <a:pt x="74166" y="1400"/>
                </a:lnTo>
                <a:close/>
              </a:path>
              <a:path fill="darkenLess" w="75566" h="21600">
                <a:moveTo>
                  <a:pt x="75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66" y="20200"/>
                </a:lnTo>
                <a:close/>
              </a:path>
              <a:path fill="lighten" w="75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66" h="21600">
                <a:moveTo>
                  <a:pt x="30777" y="10800"/>
                </a:moveTo>
                <a:lnTo>
                  <a:pt x="44790" y="3794"/>
                </a:lnTo>
                <a:lnTo>
                  <a:pt x="4479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endshow"/>
          </p:cNvPr>
          <p:cNvSpPr/>
          <p:nvPr/>
        </p:nvSpPr>
        <p:spPr>
          <a:xfrm>
            <a:off x="3348000" y="6021360"/>
            <a:ext cx="2376360" cy="576360"/>
          </a:xfrm>
          <a:custGeom>
            <a:avLst/>
            <a:gdLst>
              <a:gd name="textAreaLeft" fmla="*/ 37080 w 2376360"/>
              <a:gd name="textAreaRight" fmla="*/ 2339280 w 23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9016" h="21600">
                <a:moveTo>
                  <a:pt x="0" y="0"/>
                </a:moveTo>
                <a:lnTo>
                  <a:pt x="89016" y="0"/>
                </a:lnTo>
                <a:lnTo>
                  <a:pt x="89016" y="21600"/>
                </a:lnTo>
                <a:lnTo>
                  <a:pt x="0" y="21600"/>
                </a:lnTo>
                <a:close/>
              </a:path>
              <a:path fill="lightenLess" w="89016" h="21600">
                <a:moveTo>
                  <a:pt x="0" y="0"/>
                </a:moveTo>
                <a:lnTo>
                  <a:pt x="89016" y="0"/>
                </a:lnTo>
                <a:lnTo>
                  <a:pt x="87616" y="1400"/>
                </a:lnTo>
                <a:lnTo>
                  <a:pt x="1400" y="1400"/>
                </a:lnTo>
                <a:close/>
              </a:path>
              <a:path fill="darken" w="89016" h="21600">
                <a:moveTo>
                  <a:pt x="89016" y="0"/>
                </a:moveTo>
                <a:lnTo>
                  <a:pt x="89016" y="21600"/>
                </a:lnTo>
                <a:lnTo>
                  <a:pt x="87616" y="20200"/>
                </a:lnTo>
                <a:lnTo>
                  <a:pt x="87616" y="1400"/>
                </a:lnTo>
                <a:close/>
              </a:path>
              <a:path fill="darkenLess" w="89016" h="21600">
                <a:moveTo>
                  <a:pt x="89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16" y="20200"/>
                </a:lnTo>
                <a:close/>
              </a:path>
              <a:path fill="lighten" w="89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тест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4-10-29T07:17:26Z</dcterms:modified>
  <cp:revision>15</cp:revision>
  <dc:subject/>
  <dc:title>PowerPoint Presentation</dc:title>
</cp:coreProperties>
</file>