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0B041-2BEA-4EB2-B438-AB9F9EE4A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53968-37FB-4AD5-A4E0-28413CC66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89725-62B7-4484-B256-BFB18C17A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020EF-2173-49E5-8302-4C0E36ED9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888C7-9E0B-4C4B-B251-4CAF4BCB8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91416-E9AD-43A5-BE13-12DFE007B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3583A-9643-4302-B531-43AEF65D8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7A6ED-93AA-4563-BC43-8A5A8D049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99039-4CEE-4487-92C9-C3CC42BC0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FB4EC-A557-4D36-B7FB-7EF87CAFD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019DE-9975-4062-82E8-D891839FD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0E404-D6AB-45A7-AA61-D4AC6C7FC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C41B0-6C67-4085-BAAE-211AB1778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5CDD6-FB09-4297-8011-0C5A8119D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6DACF-72D0-41F7-9AC4-F243F984A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77F96-1F4A-4F4D-9ACA-3E0F9F8DF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1BD2D-0D5E-4BCF-9ED3-787B98BBD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6560F5-011A-434A-8B42-4BDF431EE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E1C74A-B430-4042-A75B-CA4844DD3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E6FB16-495E-48C5-B0D2-FCFA6194B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A22FD2-5BF3-4800-9F16-1393AA2DD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1BE9E5-7962-42C1-9A30-DA07AE69C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02223-5B27-4BF0-85A4-3D271F192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1C6E9D-F0EA-4A97-BC71-6F6AC9569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EF5938-1300-4A29-ACE4-29DC1E716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5DFEEC-A762-4681-92A5-65A741425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317FF2-8320-4D9A-8CF7-B508DD585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85009C-BE88-4A38-8CD4-D571CCDF3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27FF7C-1ACC-427D-B0CF-AA4B85C42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1FAE1C-19D5-4945-A60C-8130D6D3B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C245A-952B-400A-B7A4-20999F77B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4900C-F68E-43B9-AEB6-0B50EE05E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9C8E1-31ED-4851-8E86-94505A026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0E8AB-FD2A-4849-8CC4-54625551A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FD969-351E-44F5-B029-893D3B8D3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72672-74A7-43AA-84E2-19A98E7FF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62D0A-1938-4A94-9143-531B8FD9AAA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4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75E8C-E83B-4CCE-99B3-C25FCD5123A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23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9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60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14769-7B5F-4CEB-8A68-50C331FBCB3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6.xml"/><Relationship Id="rId3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10.xml"/><Relationship Id="rId3" Type="http://schemas.openxmlformats.org/officeDocument/2006/relationships/slide" Target="slide10.xml"/><Relationship Id="rId4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4360" y="1197000"/>
            <a:ext cx="777384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Тестирование по химии на тему:</a:t>
            </a:r>
            <a:br>
              <a:rPr sz="4800"/>
            </a:b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название темы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5796000" y="4292280"/>
            <a:ext cx="3016080" cy="23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ыполнил: ученик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редней школы №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0 класса «А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еретенников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ль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68360" y="278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еверный ответ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708360" y="6093000"/>
            <a:ext cx="1943280" cy="576000"/>
          </a:xfrm>
          <a:custGeom>
            <a:avLst/>
            <a:gdLst>
              <a:gd name="textAreaLeft" fmla="*/ 37080 w 1943280"/>
              <a:gd name="textAreaRight" fmla="*/ 1906200 w 194328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72841" h="21600">
                <a:moveTo>
                  <a:pt x="0" y="0"/>
                </a:moveTo>
                <a:lnTo>
                  <a:pt x="72841" y="0"/>
                </a:lnTo>
                <a:lnTo>
                  <a:pt x="72841" y="21600"/>
                </a:lnTo>
                <a:lnTo>
                  <a:pt x="0" y="21600"/>
                </a:lnTo>
                <a:close/>
              </a:path>
              <a:path fill="lightenLess" w="72841" h="21600">
                <a:moveTo>
                  <a:pt x="0" y="0"/>
                </a:moveTo>
                <a:lnTo>
                  <a:pt x="72841" y="0"/>
                </a:lnTo>
                <a:lnTo>
                  <a:pt x="71441" y="1400"/>
                </a:lnTo>
                <a:lnTo>
                  <a:pt x="1400" y="1400"/>
                </a:lnTo>
                <a:close/>
              </a:path>
              <a:path fill="darken" w="72841" h="21600">
                <a:moveTo>
                  <a:pt x="72841" y="0"/>
                </a:moveTo>
                <a:lnTo>
                  <a:pt x="72841" y="21600"/>
                </a:lnTo>
                <a:lnTo>
                  <a:pt x="71441" y="20200"/>
                </a:lnTo>
                <a:lnTo>
                  <a:pt x="71441" y="1400"/>
                </a:lnTo>
                <a:close/>
              </a:path>
              <a:path fill="darkenLess" w="72841" h="21600">
                <a:moveTo>
                  <a:pt x="728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1441" y="20200"/>
                </a:lnTo>
                <a:close/>
              </a:path>
              <a:path fill="lighten" w="728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2841" h="21600">
                <a:moveTo>
                  <a:pt x="29414" y="10800"/>
                </a:moveTo>
                <a:lnTo>
                  <a:pt x="43427" y="3794"/>
                </a:lnTo>
                <a:lnTo>
                  <a:pt x="43427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8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95280" y="292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Конец тестировани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Выберете правильное название веществ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4360" y="3500280"/>
            <a:ext cx="7851600" cy="16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 –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,5-диметилгексе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 –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2,4-диметилгексан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3 –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2,4-димелигексен-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443640" y="5877000"/>
            <a:ext cx="1727280" cy="647640"/>
          </a:xfrm>
          <a:custGeom>
            <a:avLst/>
            <a:gdLst>
              <a:gd name="textAreaLeft" fmla="*/ 41760 w 1727280"/>
              <a:gd name="textAreaRight" fmla="*/ 1685520 w 172728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57588" h="21600">
                <a:moveTo>
                  <a:pt x="0" y="0"/>
                </a:moveTo>
                <a:lnTo>
                  <a:pt x="57588" y="0"/>
                </a:lnTo>
                <a:lnTo>
                  <a:pt x="57588" y="21600"/>
                </a:lnTo>
                <a:lnTo>
                  <a:pt x="0" y="21600"/>
                </a:lnTo>
                <a:close/>
              </a:path>
              <a:path fill="lightenLess" w="57588" h="21600">
                <a:moveTo>
                  <a:pt x="0" y="0"/>
                </a:moveTo>
                <a:lnTo>
                  <a:pt x="57588" y="0"/>
                </a:lnTo>
                <a:lnTo>
                  <a:pt x="56188" y="1400"/>
                </a:lnTo>
                <a:lnTo>
                  <a:pt x="1400" y="1400"/>
                </a:lnTo>
                <a:close/>
              </a:path>
              <a:path fill="darken" w="57588" h="21600">
                <a:moveTo>
                  <a:pt x="57588" y="0"/>
                </a:moveTo>
                <a:lnTo>
                  <a:pt x="57588" y="21600"/>
                </a:lnTo>
                <a:lnTo>
                  <a:pt x="56188" y="20200"/>
                </a:lnTo>
                <a:lnTo>
                  <a:pt x="56188" y="1400"/>
                </a:lnTo>
                <a:close/>
              </a:path>
              <a:path fill="darkenLess" w="57588" h="21600">
                <a:moveTo>
                  <a:pt x="575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88" y="20200"/>
                </a:lnTo>
                <a:close/>
              </a:path>
              <a:path fill="lighten" w="575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 u="sng">
                <a:solidFill>
                  <a:srgbClr val="ffffff"/>
                </a:solidFill>
                <a:uFillTx/>
                <a:latin typeface="Arial"/>
              </a:rPr>
              <a:t>3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>
            <a:hlinkClick r:id="rId1" action="ppaction://hlinksldjump"/>
          </p:cNvPr>
          <p:cNvSpPr/>
          <p:nvPr/>
        </p:nvSpPr>
        <p:spPr>
          <a:xfrm>
            <a:off x="3708360" y="5877000"/>
            <a:ext cx="1871640" cy="647640"/>
          </a:xfrm>
          <a:custGeom>
            <a:avLst/>
            <a:gdLst>
              <a:gd name="textAreaLeft" fmla="*/ 41760 w 1871640"/>
              <a:gd name="textAreaRight" fmla="*/ 1829880 w 187164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62400" h="21600">
                <a:moveTo>
                  <a:pt x="0" y="0"/>
                </a:moveTo>
                <a:lnTo>
                  <a:pt x="62400" y="0"/>
                </a:lnTo>
                <a:lnTo>
                  <a:pt x="62400" y="21600"/>
                </a:lnTo>
                <a:lnTo>
                  <a:pt x="0" y="21600"/>
                </a:lnTo>
                <a:close/>
              </a:path>
              <a:path fill="lightenLess" w="62400" h="21600">
                <a:moveTo>
                  <a:pt x="0" y="0"/>
                </a:moveTo>
                <a:lnTo>
                  <a:pt x="62400" y="0"/>
                </a:lnTo>
                <a:lnTo>
                  <a:pt x="61000" y="1400"/>
                </a:lnTo>
                <a:lnTo>
                  <a:pt x="1400" y="1400"/>
                </a:lnTo>
                <a:close/>
              </a:path>
              <a:path fill="darken" w="62400" h="21600">
                <a:moveTo>
                  <a:pt x="62400" y="0"/>
                </a:moveTo>
                <a:lnTo>
                  <a:pt x="62400" y="21600"/>
                </a:lnTo>
                <a:lnTo>
                  <a:pt x="61000" y="20200"/>
                </a:lnTo>
                <a:lnTo>
                  <a:pt x="61000" y="1400"/>
                </a:lnTo>
                <a:close/>
              </a:path>
              <a:path fill="darkenLess" w="62400" h="21600">
                <a:moveTo>
                  <a:pt x="6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1000" y="20200"/>
                </a:lnTo>
                <a:close/>
              </a:path>
              <a:path fill="lighten" w="6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 u="sng">
                <a:solidFill>
                  <a:srgbClr val="ffffff"/>
                </a:solidFill>
                <a:uFillTx/>
                <a:latin typeface="Arial"/>
              </a:rPr>
              <a:t>2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>
            <a:hlinkClick r:id="rId2" action="ppaction://hlinksldjump"/>
          </p:cNvPr>
          <p:cNvSpPr/>
          <p:nvPr/>
        </p:nvSpPr>
        <p:spPr>
          <a:xfrm>
            <a:off x="1042920" y="5877000"/>
            <a:ext cx="1728720" cy="647640"/>
          </a:xfrm>
          <a:custGeom>
            <a:avLst/>
            <a:gdLst>
              <a:gd name="textAreaLeft" fmla="*/ 41760 w 1728720"/>
              <a:gd name="textAreaRight" fmla="*/ 1686960 w 1728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57636" h="21600">
                <a:moveTo>
                  <a:pt x="0" y="0"/>
                </a:moveTo>
                <a:lnTo>
                  <a:pt x="57636" y="0"/>
                </a:lnTo>
                <a:lnTo>
                  <a:pt x="57636" y="21600"/>
                </a:lnTo>
                <a:lnTo>
                  <a:pt x="0" y="21600"/>
                </a:lnTo>
                <a:close/>
              </a:path>
              <a:path fill="lightenLess" w="57636" h="21600">
                <a:moveTo>
                  <a:pt x="0" y="0"/>
                </a:moveTo>
                <a:lnTo>
                  <a:pt x="57636" y="0"/>
                </a:lnTo>
                <a:lnTo>
                  <a:pt x="56236" y="1400"/>
                </a:lnTo>
                <a:lnTo>
                  <a:pt x="1400" y="1400"/>
                </a:lnTo>
                <a:close/>
              </a:path>
              <a:path fill="darken" w="57636" h="21600">
                <a:moveTo>
                  <a:pt x="57636" y="0"/>
                </a:moveTo>
                <a:lnTo>
                  <a:pt x="57636" y="21600"/>
                </a:lnTo>
                <a:lnTo>
                  <a:pt x="56236" y="20200"/>
                </a:lnTo>
                <a:lnTo>
                  <a:pt x="56236" y="1400"/>
                </a:lnTo>
                <a:close/>
              </a:path>
              <a:path fill="darkenLess" w="57636" h="21600">
                <a:moveTo>
                  <a:pt x="576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236" y="20200"/>
                </a:lnTo>
                <a:close/>
              </a:path>
              <a:path fill="lighten" w="576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 u="sng">
                <a:solidFill>
                  <a:srgbClr val="ffffff"/>
                </a:solidFill>
                <a:uFillTx/>
                <a:latin typeface="Arial"/>
              </a:rPr>
              <a:t>1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116000" y="2349360"/>
            <a:ext cx="6985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042920" y="1557360"/>
            <a:ext cx="7056360" cy="14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H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– C = CH – CH – CH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– CH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|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H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3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CH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Молекула этена имеет строение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627280" y="2420640"/>
            <a:ext cx="44640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 –</a:t>
            </a:r>
            <a:r>
              <a:rPr b="0" lang="ru-RU" sz="32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лоско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 –</a:t>
            </a:r>
            <a:r>
              <a:rPr b="0" lang="ru-RU" sz="32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линейно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3 –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тетраэдрическо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443640" y="5877000"/>
            <a:ext cx="1727280" cy="647640"/>
          </a:xfrm>
          <a:custGeom>
            <a:avLst/>
            <a:gdLst>
              <a:gd name="textAreaLeft" fmla="*/ 41760 w 1727280"/>
              <a:gd name="textAreaRight" fmla="*/ 1685520 w 172728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57588" h="21600">
                <a:moveTo>
                  <a:pt x="0" y="0"/>
                </a:moveTo>
                <a:lnTo>
                  <a:pt x="57588" y="0"/>
                </a:lnTo>
                <a:lnTo>
                  <a:pt x="57588" y="21600"/>
                </a:lnTo>
                <a:lnTo>
                  <a:pt x="0" y="21600"/>
                </a:lnTo>
                <a:close/>
              </a:path>
              <a:path fill="lightenLess" w="57588" h="21600">
                <a:moveTo>
                  <a:pt x="0" y="0"/>
                </a:moveTo>
                <a:lnTo>
                  <a:pt x="57588" y="0"/>
                </a:lnTo>
                <a:lnTo>
                  <a:pt x="56188" y="1400"/>
                </a:lnTo>
                <a:lnTo>
                  <a:pt x="1400" y="1400"/>
                </a:lnTo>
                <a:close/>
              </a:path>
              <a:path fill="darken" w="57588" h="21600">
                <a:moveTo>
                  <a:pt x="57588" y="0"/>
                </a:moveTo>
                <a:lnTo>
                  <a:pt x="57588" y="21600"/>
                </a:lnTo>
                <a:lnTo>
                  <a:pt x="56188" y="20200"/>
                </a:lnTo>
                <a:lnTo>
                  <a:pt x="56188" y="1400"/>
                </a:lnTo>
                <a:close/>
              </a:path>
              <a:path fill="darkenLess" w="57588" h="21600">
                <a:moveTo>
                  <a:pt x="575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88" y="20200"/>
                </a:lnTo>
                <a:close/>
              </a:path>
              <a:path fill="lighten" w="575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 u="sng">
                <a:solidFill>
                  <a:srgbClr val="ffffff"/>
                </a:solidFill>
                <a:uFillTx/>
                <a:latin typeface="Arial"/>
              </a:rPr>
              <a:t>3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708360" y="5877000"/>
            <a:ext cx="1871640" cy="647640"/>
          </a:xfrm>
          <a:custGeom>
            <a:avLst/>
            <a:gdLst>
              <a:gd name="textAreaLeft" fmla="*/ 41760 w 1871640"/>
              <a:gd name="textAreaRight" fmla="*/ 1829880 w 187164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62400" h="21600">
                <a:moveTo>
                  <a:pt x="0" y="0"/>
                </a:moveTo>
                <a:lnTo>
                  <a:pt x="62400" y="0"/>
                </a:lnTo>
                <a:lnTo>
                  <a:pt x="62400" y="21600"/>
                </a:lnTo>
                <a:lnTo>
                  <a:pt x="0" y="21600"/>
                </a:lnTo>
                <a:close/>
              </a:path>
              <a:path fill="lightenLess" w="62400" h="21600">
                <a:moveTo>
                  <a:pt x="0" y="0"/>
                </a:moveTo>
                <a:lnTo>
                  <a:pt x="62400" y="0"/>
                </a:lnTo>
                <a:lnTo>
                  <a:pt x="61000" y="1400"/>
                </a:lnTo>
                <a:lnTo>
                  <a:pt x="1400" y="1400"/>
                </a:lnTo>
                <a:close/>
              </a:path>
              <a:path fill="darken" w="62400" h="21600">
                <a:moveTo>
                  <a:pt x="62400" y="0"/>
                </a:moveTo>
                <a:lnTo>
                  <a:pt x="62400" y="21600"/>
                </a:lnTo>
                <a:lnTo>
                  <a:pt x="61000" y="20200"/>
                </a:lnTo>
                <a:lnTo>
                  <a:pt x="61000" y="1400"/>
                </a:lnTo>
                <a:close/>
              </a:path>
              <a:path fill="darkenLess" w="62400" h="21600">
                <a:moveTo>
                  <a:pt x="6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1000" y="20200"/>
                </a:lnTo>
                <a:close/>
              </a:path>
              <a:path fill="lighten" w="6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 u="sng">
                <a:solidFill>
                  <a:srgbClr val="ffffff"/>
                </a:solidFill>
                <a:uFillTx/>
                <a:latin typeface="Arial"/>
              </a:rPr>
              <a:t>2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042920" y="5877000"/>
            <a:ext cx="1728720" cy="647640"/>
          </a:xfrm>
          <a:custGeom>
            <a:avLst/>
            <a:gdLst>
              <a:gd name="textAreaLeft" fmla="*/ 41760 w 1728720"/>
              <a:gd name="textAreaRight" fmla="*/ 1686960 w 1728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57636" h="21600">
                <a:moveTo>
                  <a:pt x="0" y="0"/>
                </a:moveTo>
                <a:lnTo>
                  <a:pt x="57636" y="0"/>
                </a:lnTo>
                <a:lnTo>
                  <a:pt x="57636" y="21600"/>
                </a:lnTo>
                <a:lnTo>
                  <a:pt x="0" y="21600"/>
                </a:lnTo>
                <a:close/>
              </a:path>
              <a:path fill="lightenLess" w="57636" h="21600">
                <a:moveTo>
                  <a:pt x="0" y="0"/>
                </a:moveTo>
                <a:lnTo>
                  <a:pt x="57636" y="0"/>
                </a:lnTo>
                <a:lnTo>
                  <a:pt x="56236" y="1400"/>
                </a:lnTo>
                <a:lnTo>
                  <a:pt x="1400" y="1400"/>
                </a:lnTo>
                <a:close/>
              </a:path>
              <a:path fill="darken" w="57636" h="21600">
                <a:moveTo>
                  <a:pt x="57636" y="0"/>
                </a:moveTo>
                <a:lnTo>
                  <a:pt x="57636" y="21600"/>
                </a:lnTo>
                <a:lnTo>
                  <a:pt x="56236" y="20200"/>
                </a:lnTo>
                <a:lnTo>
                  <a:pt x="56236" y="1400"/>
                </a:lnTo>
                <a:close/>
              </a:path>
              <a:path fill="darkenLess" w="57636" h="21600">
                <a:moveTo>
                  <a:pt x="576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236" y="20200"/>
                </a:lnTo>
                <a:close/>
              </a:path>
              <a:path fill="lighten" w="576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 u="sng">
                <a:solidFill>
                  <a:srgbClr val="ffffff"/>
                </a:solidFill>
                <a:uFillTx/>
                <a:latin typeface="Arial"/>
              </a:rPr>
              <a:t>1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Укажите тип изомерии для         веществ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4360" y="3500280"/>
            <a:ext cx="7851600" cy="16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 –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углеродного скелет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 –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положения кратной связ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3 –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геометрическа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>
            <a:hlinkClick r:id="rId1" action="ppaction://hlinksldjump"/>
          </p:cNvPr>
          <p:cNvSpPr/>
          <p:nvPr/>
        </p:nvSpPr>
        <p:spPr>
          <a:xfrm>
            <a:off x="6443640" y="5877000"/>
            <a:ext cx="1727280" cy="647640"/>
          </a:xfrm>
          <a:custGeom>
            <a:avLst/>
            <a:gdLst>
              <a:gd name="textAreaLeft" fmla="*/ 41760 w 1727280"/>
              <a:gd name="textAreaRight" fmla="*/ 1685520 w 172728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57588" h="21600">
                <a:moveTo>
                  <a:pt x="0" y="0"/>
                </a:moveTo>
                <a:lnTo>
                  <a:pt x="57588" y="0"/>
                </a:lnTo>
                <a:lnTo>
                  <a:pt x="57588" y="21600"/>
                </a:lnTo>
                <a:lnTo>
                  <a:pt x="0" y="21600"/>
                </a:lnTo>
                <a:close/>
              </a:path>
              <a:path fill="lightenLess" w="57588" h="21600">
                <a:moveTo>
                  <a:pt x="0" y="0"/>
                </a:moveTo>
                <a:lnTo>
                  <a:pt x="57588" y="0"/>
                </a:lnTo>
                <a:lnTo>
                  <a:pt x="56188" y="1400"/>
                </a:lnTo>
                <a:lnTo>
                  <a:pt x="1400" y="1400"/>
                </a:lnTo>
                <a:close/>
              </a:path>
              <a:path fill="darken" w="57588" h="21600">
                <a:moveTo>
                  <a:pt x="57588" y="0"/>
                </a:moveTo>
                <a:lnTo>
                  <a:pt x="57588" y="21600"/>
                </a:lnTo>
                <a:lnTo>
                  <a:pt x="56188" y="20200"/>
                </a:lnTo>
                <a:lnTo>
                  <a:pt x="56188" y="1400"/>
                </a:lnTo>
                <a:close/>
              </a:path>
              <a:path fill="darkenLess" w="57588" h="21600">
                <a:moveTo>
                  <a:pt x="575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88" y="20200"/>
                </a:lnTo>
                <a:close/>
              </a:path>
              <a:path fill="lighten" w="575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 u="sng">
                <a:solidFill>
                  <a:srgbClr val="ffffff"/>
                </a:solidFill>
                <a:uFillTx/>
                <a:latin typeface="Arial"/>
              </a:rPr>
              <a:t>3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>
            <a:hlinkClick r:id="rId2" action="ppaction://hlinksldjump"/>
          </p:cNvPr>
          <p:cNvSpPr/>
          <p:nvPr/>
        </p:nvSpPr>
        <p:spPr>
          <a:xfrm>
            <a:off x="3708360" y="5877000"/>
            <a:ext cx="1871640" cy="647640"/>
          </a:xfrm>
          <a:custGeom>
            <a:avLst/>
            <a:gdLst>
              <a:gd name="textAreaLeft" fmla="*/ 41760 w 1871640"/>
              <a:gd name="textAreaRight" fmla="*/ 1829880 w 187164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62400" h="21600">
                <a:moveTo>
                  <a:pt x="0" y="0"/>
                </a:moveTo>
                <a:lnTo>
                  <a:pt x="62400" y="0"/>
                </a:lnTo>
                <a:lnTo>
                  <a:pt x="62400" y="21600"/>
                </a:lnTo>
                <a:lnTo>
                  <a:pt x="0" y="21600"/>
                </a:lnTo>
                <a:close/>
              </a:path>
              <a:path fill="lightenLess" w="62400" h="21600">
                <a:moveTo>
                  <a:pt x="0" y="0"/>
                </a:moveTo>
                <a:lnTo>
                  <a:pt x="62400" y="0"/>
                </a:lnTo>
                <a:lnTo>
                  <a:pt x="61000" y="1400"/>
                </a:lnTo>
                <a:lnTo>
                  <a:pt x="1400" y="1400"/>
                </a:lnTo>
                <a:close/>
              </a:path>
              <a:path fill="darken" w="62400" h="21600">
                <a:moveTo>
                  <a:pt x="62400" y="0"/>
                </a:moveTo>
                <a:lnTo>
                  <a:pt x="62400" y="21600"/>
                </a:lnTo>
                <a:lnTo>
                  <a:pt x="61000" y="20200"/>
                </a:lnTo>
                <a:lnTo>
                  <a:pt x="61000" y="1400"/>
                </a:lnTo>
                <a:close/>
              </a:path>
              <a:path fill="darkenLess" w="62400" h="21600">
                <a:moveTo>
                  <a:pt x="6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1000" y="20200"/>
                </a:lnTo>
                <a:close/>
              </a:path>
              <a:path fill="lighten" w="6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 u="sng">
                <a:solidFill>
                  <a:srgbClr val="ffffff"/>
                </a:solidFill>
                <a:uFillTx/>
                <a:latin typeface="Arial"/>
              </a:rPr>
              <a:t>2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>
            <a:hlinkClick r:id="rId3" action="ppaction://hlinksldjump"/>
          </p:cNvPr>
          <p:cNvSpPr/>
          <p:nvPr/>
        </p:nvSpPr>
        <p:spPr>
          <a:xfrm>
            <a:off x="1042920" y="5877000"/>
            <a:ext cx="1728720" cy="647640"/>
          </a:xfrm>
          <a:custGeom>
            <a:avLst/>
            <a:gdLst>
              <a:gd name="textAreaLeft" fmla="*/ 41760 w 1728720"/>
              <a:gd name="textAreaRight" fmla="*/ 1686960 w 1728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57636" h="21600">
                <a:moveTo>
                  <a:pt x="0" y="0"/>
                </a:moveTo>
                <a:lnTo>
                  <a:pt x="57636" y="0"/>
                </a:lnTo>
                <a:lnTo>
                  <a:pt x="57636" y="21600"/>
                </a:lnTo>
                <a:lnTo>
                  <a:pt x="0" y="21600"/>
                </a:lnTo>
                <a:close/>
              </a:path>
              <a:path fill="lightenLess" w="57636" h="21600">
                <a:moveTo>
                  <a:pt x="0" y="0"/>
                </a:moveTo>
                <a:lnTo>
                  <a:pt x="57636" y="0"/>
                </a:lnTo>
                <a:lnTo>
                  <a:pt x="56236" y="1400"/>
                </a:lnTo>
                <a:lnTo>
                  <a:pt x="1400" y="1400"/>
                </a:lnTo>
                <a:close/>
              </a:path>
              <a:path fill="darken" w="57636" h="21600">
                <a:moveTo>
                  <a:pt x="57636" y="0"/>
                </a:moveTo>
                <a:lnTo>
                  <a:pt x="57636" y="21600"/>
                </a:lnTo>
                <a:lnTo>
                  <a:pt x="56236" y="20200"/>
                </a:lnTo>
                <a:lnTo>
                  <a:pt x="56236" y="1400"/>
                </a:lnTo>
                <a:close/>
              </a:path>
              <a:path fill="darkenLess" w="57636" h="21600">
                <a:moveTo>
                  <a:pt x="576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236" y="20200"/>
                </a:lnTo>
                <a:close/>
              </a:path>
              <a:path fill="lighten" w="576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 u="sng">
                <a:solidFill>
                  <a:srgbClr val="ffffff"/>
                </a:solidFill>
                <a:uFillTx/>
                <a:latin typeface="Arial"/>
              </a:rPr>
              <a:t>1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836640"/>
            <a:ext cx="3673440" cy="26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CH</a:t>
            </a:r>
            <a:r>
              <a:rPr b="1" lang="en-US" sz="23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                CH</a:t>
            </a:r>
            <a:r>
              <a:rPr b="1" lang="en-US" sz="23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 – CH</a:t>
            </a:r>
            <a:r>
              <a:rPr b="1" lang="en-US" sz="23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\             /       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C = C       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/         \         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H            H  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084720" y="1125360"/>
            <a:ext cx="2590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219640" y="1700280"/>
            <a:ext cx="3024360" cy="19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CH</a:t>
            </a:r>
            <a:r>
              <a:rPr b="1" lang="en-US" sz="23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          H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\         /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C = C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/         \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H          CH</a:t>
            </a:r>
            <a:r>
              <a:rPr b="1" lang="en-US" sz="23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 – CH</a:t>
            </a:r>
            <a:r>
              <a:rPr b="1" lang="en-US" sz="23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292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Правильно!!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>
            <a:hlinkClick r:id="rId1" action="ppaction://hlinksldjump"/>
          </p:cNvPr>
          <p:cNvSpPr/>
          <p:nvPr/>
        </p:nvSpPr>
        <p:spPr>
          <a:xfrm>
            <a:off x="3419640" y="5950080"/>
            <a:ext cx="2232000" cy="576000"/>
          </a:xfrm>
          <a:custGeom>
            <a:avLst/>
            <a:gdLst>
              <a:gd name="textAreaLeft" fmla="*/ 37080 w 2232000"/>
              <a:gd name="textAreaRight" fmla="*/ 2194920 w 223200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83661" h="21600">
                <a:moveTo>
                  <a:pt x="0" y="0"/>
                </a:moveTo>
                <a:lnTo>
                  <a:pt x="83661" y="0"/>
                </a:lnTo>
                <a:lnTo>
                  <a:pt x="83661" y="21600"/>
                </a:lnTo>
                <a:lnTo>
                  <a:pt x="0" y="21600"/>
                </a:lnTo>
                <a:close/>
              </a:path>
              <a:path fill="lightenLess" w="83661" h="21600">
                <a:moveTo>
                  <a:pt x="0" y="0"/>
                </a:moveTo>
                <a:lnTo>
                  <a:pt x="83661" y="0"/>
                </a:lnTo>
                <a:lnTo>
                  <a:pt x="82261" y="1400"/>
                </a:lnTo>
                <a:lnTo>
                  <a:pt x="1400" y="1400"/>
                </a:lnTo>
                <a:close/>
              </a:path>
              <a:path fill="darken" w="83661" h="21600">
                <a:moveTo>
                  <a:pt x="83661" y="0"/>
                </a:moveTo>
                <a:lnTo>
                  <a:pt x="83661" y="21600"/>
                </a:lnTo>
                <a:lnTo>
                  <a:pt x="82261" y="20200"/>
                </a:lnTo>
                <a:lnTo>
                  <a:pt x="82261" y="1400"/>
                </a:lnTo>
                <a:close/>
              </a:path>
              <a:path fill="darkenLess" w="83661" h="21600">
                <a:moveTo>
                  <a:pt x="836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2261" y="20200"/>
                </a:lnTo>
                <a:close/>
              </a:path>
              <a:path fill="lighten" w="836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86d1ec"/>
                </a:solidFill>
                <a:uFillTx/>
                <a:latin typeface="Arial"/>
                <a:hlinkClick r:id="rId2" action="ppaction://hlinksldjump"/>
              </a:rPr>
              <a:t>Следующий вопро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68360" y="278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еверный ответ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708360" y="6093000"/>
            <a:ext cx="1943280" cy="576000"/>
          </a:xfrm>
          <a:custGeom>
            <a:avLst/>
            <a:gdLst>
              <a:gd name="textAreaLeft" fmla="*/ 37080 w 1943280"/>
              <a:gd name="textAreaRight" fmla="*/ 1906200 w 194328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72841" h="21600">
                <a:moveTo>
                  <a:pt x="0" y="0"/>
                </a:moveTo>
                <a:lnTo>
                  <a:pt x="72841" y="0"/>
                </a:lnTo>
                <a:lnTo>
                  <a:pt x="72841" y="21600"/>
                </a:lnTo>
                <a:lnTo>
                  <a:pt x="0" y="21600"/>
                </a:lnTo>
                <a:close/>
              </a:path>
              <a:path fill="lightenLess" w="72841" h="21600">
                <a:moveTo>
                  <a:pt x="0" y="0"/>
                </a:moveTo>
                <a:lnTo>
                  <a:pt x="72841" y="0"/>
                </a:lnTo>
                <a:lnTo>
                  <a:pt x="71441" y="1400"/>
                </a:lnTo>
                <a:lnTo>
                  <a:pt x="1400" y="1400"/>
                </a:lnTo>
                <a:close/>
              </a:path>
              <a:path fill="darken" w="72841" h="21600">
                <a:moveTo>
                  <a:pt x="72841" y="0"/>
                </a:moveTo>
                <a:lnTo>
                  <a:pt x="72841" y="21600"/>
                </a:lnTo>
                <a:lnTo>
                  <a:pt x="71441" y="20200"/>
                </a:lnTo>
                <a:lnTo>
                  <a:pt x="71441" y="1400"/>
                </a:lnTo>
                <a:close/>
              </a:path>
              <a:path fill="darkenLess" w="72841" h="21600">
                <a:moveTo>
                  <a:pt x="728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1441" y="20200"/>
                </a:lnTo>
                <a:close/>
              </a:path>
              <a:path fill="lighten" w="728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2841" h="21600">
                <a:moveTo>
                  <a:pt x="29414" y="10800"/>
                </a:moveTo>
                <a:lnTo>
                  <a:pt x="43427" y="3794"/>
                </a:lnTo>
                <a:lnTo>
                  <a:pt x="43427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95280" y="292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Правильно!!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276720" y="6021360"/>
            <a:ext cx="2232000" cy="576360"/>
          </a:xfrm>
          <a:custGeom>
            <a:avLst/>
            <a:gdLst>
              <a:gd name="textAreaLeft" fmla="*/ 37080 w 2232000"/>
              <a:gd name="textAreaRight" fmla="*/ 2194920 w 223200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83609" h="21600">
                <a:moveTo>
                  <a:pt x="0" y="0"/>
                </a:moveTo>
                <a:lnTo>
                  <a:pt x="83609" y="0"/>
                </a:lnTo>
                <a:lnTo>
                  <a:pt x="83609" y="21600"/>
                </a:lnTo>
                <a:lnTo>
                  <a:pt x="0" y="21600"/>
                </a:lnTo>
                <a:close/>
              </a:path>
              <a:path fill="lightenLess" w="83609" h="21600">
                <a:moveTo>
                  <a:pt x="0" y="0"/>
                </a:moveTo>
                <a:lnTo>
                  <a:pt x="83609" y="0"/>
                </a:lnTo>
                <a:lnTo>
                  <a:pt x="82209" y="1400"/>
                </a:lnTo>
                <a:lnTo>
                  <a:pt x="1400" y="1400"/>
                </a:lnTo>
                <a:close/>
              </a:path>
              <a:path fill="darken" w="83609" h="21600">
                <a:moveTo>
                  <a:pt x="83609" y="0"/>
                </a:moveTo>
                <a:lnTo>
                  <a:pt x="83609" y="21600"/>
                </a:lnTo>
                <a:lnTo>
                  <a:pt x="82209" y="20200"/>
                </a:lnTo>
                <a:lnTo>
                  <a:pt x="82209" y="1400"/>
                </a:lnTo>
                <a:close/>
              </a:path>
              <a:path fill="darkenLess" w="83609" h="21600">
                <a:moveTo>
                  <a:pt x="836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2209" y="20200"/>
                </a:lnTo>
                <a:close/>
              </a:path>
              <a:path fill="lighten" w="836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86d1ec"/>
                </a:solidFill>
                <a:uFillTx/>
                <a:latin typeface="Arial"/>
                <a:hlinkClick r:id="rId1" action="ppaction://hlinksldjump"/>
              </a:rPr>
              <a:t>Следующий вопро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68360" y="278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еверный ответ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708360" y="6093000"/>
            <a:ext cx="1943280" cy="576000"/>
          </a:xfrm>
          <a:custGeom>
            <a:avLst/>
            <a:gdLst>
              <a:gd name="textAreaLeft" fmla="*/ 37080 w 1943280"/>
              <a:gd name="textAreaRight" fmla="*/ 1906200 w 194328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72841" h="21600">
                <a:moveTo>
                  <a:pt x="0" y="0"/>
                </a:moveTo>
                <a:lnTo>
                  <a:pt x="72841" y="0"/>
                </a:lnTo>
                <a:lnTo>
                  <a:pt x="72841" y="21600"/>
                </a:lnTo>
                <a:lnTo>
                  <a:pt x="0" y="21600"/>
                </a:lnTo>
                <a:close/>
              </a:path>
              <a:path fill="lightenLess" w="72841" h="21600">
                <a:moveTo>
                  <a:pt x="0" y="0"/>
                </a:moveTo>
                <a:lnTo>
                  <a:pt x="72841" y="0"/>
                </a:lnTo>
                <a:lnTo>
                  <a:pt x="71441" y="1400"/>
                </a:lnTo>
                <a:lnTo>
                  <a:pt x="1400" y="1400"/>
                </a:lnTo>
                <a:close/>
              </a:path>
              <a:path fill="darken" w="72841" h="21600">
                <a:moveTo>
                  <a:pt x="72841" y="0"/>
                </a:moveTo>
                <a:lnTo>
                  <a:pt x="72841" y="21600"/>
                </a:lnTo>
                <a:lnTo>
                  <a:pt x="71441" y="20200"/>
                </a:lnTo>
                <a:lnTo>
                  <a:pt x="71441" y="1400"/>
                </a:lnTo>
                <a:close/>
              </a:path>
              <a:path fill="darkenLess" w="72841" h="21600">
                <a:moveTo>
                  <a:pt x="728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1441" y="20200"/>
                </a:lnTo>
                <a:close/>
              </a:path>
              <a:path fill="lighten" w="728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2841" h="21600">
                <a:moveTo>
                  <a:pt x="29414" y="10800"/>
                </a:moveTo>
                <a:lnTo>
                  <a:pt x="43427" y="3794"/>
                </a:lnTo>
                <a:lnTo>
                  <a:pt x="43427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2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95280" y="292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Правильно!!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>
            <a:hlinkClick r:id="" action="ppaction://hlinkshowjump?jump=endshow"/>
          </p:cNvPr>
          <p:cNvSpPr/>
          <p:nvPr/>
        </p:nvSpPr>
        <p:spPr>
          <a:xfrm>
            <a:off x="3492360" y="6093000"/>
            <a:ext cx="2376720" cy="576000"/>
          </a:xfrm>
          <a:custGeom>
            <a:avLst/>
            <a:gdLst>
              <a:gd name="textAreaLeft" fmla="*/ 37080 w 2376720"/>
              <a:gd name="textAreaRight" fmla="*/ 2339640 w 237672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89085" h="21600">
                <a:moveTo>
                  <a:pt x="0" y="0"/>
                </a:moveTo>
                <a:lnTo>
                  <a:pt x="89085" y="0"/>
                </a:lnTo>
                <a:lnTo>
                  <a:pt x="89085" y="21600"/>
                </a:lnTo>
                <a:lnTo>
                  <a:pt x="0" y="21600"/>
                </a:lnTo>
                <a:close/>
              </a:path>
              <a:path fill="lightenLess" w="89085" h="21600">
                <a:moveTo>
                  <a:pt x="0" y="0"/>
                </a:moveTo>
                <a:lnTo>
                  <a:pt x="89085" y="0"/>
                </a:lnTo>
                <a:lnTo>
                  <a:pt x="87685" y="1400"/>
                </a:lnTo>
                <a:lnTo>
                  <a:pt x="1400" y="1400"/>
                </a:lnTo>
                <a:close/>
              </a:path>
              <a:path fill="darken" w="89085" h="21600">
                <a:moveTo>
                  <a:pt x="89085" y="0"/>
                </a:moveTo>
                <a:lnTo>
                  <a:pt x="89085" y="21600"/>
                </a:lnTo>
                <a:lnTo>
                  <a:pt x="87685" y="20200"/>
                </a:lnTo>
                <a:lnTo>
                  <a:pt x="87685" y="1400"/>
                </a:lnTo>
                <a:close/>
              </a:path>
              <a:path fill="darkenLess" w="89085" h="21600">
                <a:moveTo>
                  <a:pt x="890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7685" y="20200"/>
                </a:lnTo>
                <a:close/>
              </a:path>
              <a:path fill="lighten" w="890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онец тестирован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04-10-29T07:17:56Z</dcterms:modified>
  <cp:revision>16</cp:revision>
  <dc:subject/>
  <dc:title>PowerPoint Presentation</dc:title>
</cp:coreProperties>
</file>