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6B9-0228-459F-95FE-11716968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7C9-9679-4DA5-8357-87855282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95C-B1D7-4B62-9BF9-5CBD9061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FF0-8C1B-4F1B-BBB8-34C472C0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4DB7-E0C1-4272-8130-B81945E9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6666-B7FC-4CAD-B88E-2BD0B18C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D869-3C75-4A4C-B767-61644347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0BC7-FD58-4399-8613-025F2FC8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60D3-2B0B-42B1-ACF0-A44F6FA4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1E4E-7F5A-44FD-8997-75F19EBB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909D-4DB7-4D38-9162-D8DA5C5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431-F284-43FB-8E31-B7F42800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49A6-A4EC-445A-B2F3-2F219D4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76E0-279E-4065-A8F5-0346CFF0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5B04-5CC0-42BB-89FD-5F4FFB29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3640-C034-46A7-A2A0-2CBF7140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0781-4988-45CB-BCF2-853BAF15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EFE1-1C90-488E-BEDC-D8545AF6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95FB-6EF1-4EF0-9272-53C0CAF2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6F13-71A7-41FE-8CA6-779C4FE0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A879-F291-47F6-8175-1BD51AF6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6347-211A-417D-B1D3-44C54390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BF5-1B34-4FCE-8CC9-FF087D27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D755-5BD6-4360-8FD9-168370A3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8BBD-77C1-4736-9966-6EB6280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598E-BDC9-4D79-B576-C4783AB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3315-3C02-4487-BB66-5EAD9C1A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2822-626A-4BCC-A6D9-485D6B39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07EA-4E5F-486A-B1F5-3DB069E1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64E0-B964-4659-9A0A-9BBE4E68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CBC-49E5-4001-AE9F-FD1D20A7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82F-340F-45AD-A3C9-D11D4AEA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A4B-5926-40A2-A365-BFB77CD4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B79-4021-4250-8923-54CFCE55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283-C77D-42F3-A63D-B7393A95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6D1-C7C1-4512-B529-896BF73A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1854-5B34-439B-961E-62D3AFE1E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662A-A848-46DA-B513-97C3641140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4D28-8D50-4AFD-9903-E3E9293EA2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3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естирование по химии на тему: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звание те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796000" y="4292280"/>
            <a:ext cx="30160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: уче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 класса «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етен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08360" y="6093000"/>
            <a:ext cx="1943280" cy="576000"/>
          </a:xfrm>
          <a:custGeom>
            <a:avLst/>
            <a:gdLst>
              <a:gd name="textAreaLeft" fmla="*/ 37080 w 1943280"/>
              <a:gd name="textAreaRight" fmla="*/ 1906200 w 1943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2841" h="21600">
                <a:moveTo>
                  <a:pt x="0" y="0"/>
                </a:moveTo>
                <a:lnTo>
                  <a:pt x="72841" y="0"/>
                </a:lnTo>
                <a:lnTo>
                  <a:pt x="72841" y="21600"/>
                </a:lnTo>
                <a:lnTo>
                  <a:pt x="0" y="21600"/>
                </a:lnTo>
                <a:close/>
              </a:path>
              <a:path fill="lightenLess" w="72841" h="21600">
                <a:moveTo>
                  <a:pt x="0" y="0"/>
                </a:moveTo>
                <a:lnTo>
                  <a:pt x="72841" y="0"/>
                </a:lnTo>
                <a:lnTo>
                  <a:pt x="71441" y="1400"/>
                </a:lnTo>
                <a:lnTo>
                  <a:pt x="1400" y="1400"/>
                </a:lnTo>
                <a:close/>
              </a:path>
              <a:path fill="darken" w="72841" h="21600">
                <a:moveTo>
                  <a:pt x="72841" y="0"/>
                </a:moveTo>
                <a:lnTo>
                  <a:pt x="72841" y="21600"/>
                </a:lnTo>
                <a:lnTo>
                  <a:pt x="71441" y="20200"/>
                </a:lnTo>
                <a:lnTo>
                  <a:pt x="71441" y="1400"/>
                </a:lnTo>
                <a:close/>
              </a:path>
              <a:path fill="darkenLess" w="72841" h="21600">
                <a:moveTo>
                  <a:pt x="7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41" y="20200"/>
                </a:lnTo>
                <a:close/>
              </a:path>
              <a:path fill="lighten" w="7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841" h="21600">
                <a:moveTo>
                  <a:pt x="29414" y="10800"/>
                </a:moveTo>
                <a:lnTo>
                  <a:pt x="43427" y="3794"/>
                </a:lnTo>
                <a:lnTo>
                  <a:pt x="4342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берете правильное название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-диметилгекс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4-диметилгекса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4-димелигексен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34936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557360"/>
            <a:ext cx="70563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 = CH – CH – 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|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лекула этена имеет строени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27280" y="2420640"/>
            <a:ext cx="44640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ней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етраэдр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кажите тип изомерии для        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глеродного скел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ложения кратной свя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еоме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36640"/>
            <a:ext cx="367344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       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– 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\             /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 = C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/         \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H            H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84720" y="11253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1700280"/>
            <a:ext cx="3024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 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\         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 = 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/         \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H          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– 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3419640" y="5950080"/>
            <a:ext cx="2232000" cy="57600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3661" h="21600">
                <a:moveTo>
                  <a:pt x="0" y="0"/>
                </a:moveTo>
                <a:lnTo>
                  <a:pt x="83661" y="0"/>
                </a:lnTo>
                <a:lnTo>
                  <a:pt x="83661" y="21600"/>
                </a:lnTo>
                <a:lnTo>
                  <a:pt x="0" y="21600"/>
                </a:lnTo>
                <a:close/>
              </a:path>
              <a:path fill="lightenLess" w="83661" h="21600">
                <a:moveTo>
                  <a:pt x="0" y="0"/>
                </a:moveTo>
                <a:lnTo>
                  <a:pt x="83661" y="0"/>
                </a:lnTo>
                <a:lnTo>
                  <a:pt x="82261" y="1400"/>
                </a:lnTo>
                <a:lnTo>
                  <a:pt x="1400" y="1400"/>
                </a:lnTo>
                <a:close/>
              </a:path>
              <a:path fill="darken" w="83661" h="21600">
                <a:moveTo>
                  <a:pt x="83661" y="0"/>
                </a:moveTo>
                <a:lnTo>
                  <a:pt x="83661" y="21600"/>
                </a:lnTo>
                <a:lnTo>
                  <a:pt x="82261" y="20200"/>
                </a:lnTo>
                <a:lnTo>
                  <a:pt x="82261" y="1400"/>
                </a:lnTo>
                <a:close/>
              </a:path>
              <a:path fill="darkenLess" w="83661" h="21600">
                <a:moveTo>
                  <a:pt x="83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1" y="20200"/>
                </a:lnTo>
                <a:close/>
              </a:path>
              <a:path fill="lighten" w="83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Следующ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8360" y="6093000"/>
            <a:ext cx="1943280" cy="576000"/>
          </a:xfrm>
          <a:custGeom>
            <a:avLst/>
            <a:gdLst>
              <a:gd name="textAreaLeft" fmla="*/ 37080 w 1943280"/>
              <a:gd name="textAreaRight" fmla="*/ 1906200 w 1943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2841" h="21600">
                <a:moveTo>
                  <a:pt x="0" y="0"/>
                </a:moveTo>
                <a:lnTo>
                  <a:pt x="72841" y="0"/>
                </a:lnTo>
                <a:lnTo>
                  <a:pt x="72841" y="21600"/>
                </a:lnTo>
                <a:lnTo>
                  <a:pt x="0" y="21600"/>
                </a:lnTo>
                <a:close/>
              </a:path>
              <a:path fill="lightenLess" w="72841" h="21600">
                <a:moveTo>
                  <a:pt x="0" y="0"/>
                </a:moveTo>
                <a:lnTo>
                  <a:pt x="72841" y="0"/>
                </a:lnTo>
                <a:lnTo>
                  <a:pt x="71441" y="1400"/>
                </a:lnTo>
                <a:lnTo>
                  <a:pt x="1400" y="1400"/>
                </a:lnTo>
                <a:close/>
              </a:path>
              <a:path fill="darken" w="72841" h="21600">
                <a:moveTo>
                  <a:pt x="72841" y="0"/>
                </a:moveTo>
                <a:lnTo>
                  <a:pt x="72841" y="21600"/>
                </a:lnTo>
                <a:lnTo>
                  <a:pt x="71441" y="20200"/>
                </a:lnTo>
                <a:lnTo>
                  <a:pt x="71441" y="1400"/>
                </a:lnTo>
                <a:close/>
              </a:path>
              <a:path fill="darkenLess" w="72841" h="21600">
                <a:moveTo>
                  <a:pt x="7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41" y="20200"/>
                </a:lnTo>
                <a:close/>
              </a:path>
              <a:path fill="lighten" w="7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841" h="21600">
                <a:moveTo>
                  <a:pt x="29414" y="10800"/>
                </a:moveTo>
                <a:lnTo>
                  <a:pt x="43427" y="3794"/>
                </a:lnTo>
                <a:lnTo>
                  <a:pt x="4342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6021360"/>
            <a:ext cx="2232000" cy="57636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09" h="21600">
                <a:moveTo>
                  <a:pt x="0" y="0"/>
                </a:moveTo>
                <a:lnTo>
                  <a:pt x="83609" y="0"/>
                </a:lnTo>
                <a:lnTo>
                  <a:pt x="83609" y="21600"/>
                </a:lnTo>
                <a:lnTo>
                  <a:pt x="0" y="21600"/>
                </a:lnTo>
                <a:close/>
              </a:path>
              <a:path fill="lightenLess" w="83609" h="21600">
                <a:moveTo>
                  <a:pt x="0" y="0"/>
                </a:moveTo>
                <a:lnTo>
                  <a:pt x="83609" y="0"/>
                </a:lnTo>
                <a:lnTo>
                  <a:pt x="82209" y="1400"/>
                </a:lnTo>
                <a:lnTo>
                  <a:pt x="1400" y="1400"/>
                </a:lnTo>
                <a:close/>
              </a:path>
              <a:path fill="darken" w="83609" h="21600">
                <a:moveTo>
                  <a:pt x="83609" y="0"/>
                </a:moveTo>
                <a:lnTo>
                  <a:pt x="83609" y="21600"/>
                </a:lnTo>
                <a:lnTo>
                  <a:pt x="82209" y="20200"/>
                </a:lnTo>
                <a:lnTo>
                  <a:pt x="82209" y="1400"/>
                </a:lnTo>
                <a:close/>
              </a:path>
              <a:path fill="darkenLess" w="83609" h="21600">
                <a:moveTo>
                  <a:pt x="8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09" y="20200"/>
                </a:lnTo>
                <a:close/>
              </a:path>
              <a:path fill="lighten" w="8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Следующ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6093000"/>
            <a:ext cx="1943280" cy="576000"/>
          </a:xfrm>
          <a:custGeom>
            <a:avLst/>
            <a:gdLst>
              <a:gd name="textAreaLeft" fmla="*/ 37080 w 1943280"/>
              <a:gd name="textAreaRight" fmla="*/ 1906200 w 1943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2841" h="21600">
                <a:moveTo>
                  <a:pt x="0" y="0"/>
                </a:moveTo>
                <a:lnTo>
                  <a:pt x="72841" y="0"/>
                </a:lnTo>
                <a:lnTo>
                  <a:pt x="72841" y="21600"/>
                </a:lnTo>
                <a:lnTo>
                  <a:pt x="0" y="21600"/>
                </a:lnTo>
                <a:close/>
              </a:path>
              <a:path fill="lightenLess" w="72841" h="21600">
                <a:moveTo>
                  <a:pt x="0" y="0"/>
                </a:moveTo>
                <a:lnTo>
                  <a:pt x="72841" y="0"/>
                </a:lnTo>
                <a:lnTo>
                  <a:pt x="71441" y="1400"/>
                </a:lnTo>
                <a:lnTo>
                  <a:pt x="1400" y="1400"/>
                </a:lnTo>
                <a:close/>
              </a:path>
              <a:path fill="darken" w="72841" h="21600">
                <a:moveTo>
                  <a:pt x="72841" y="0"/>
                </a:moveTo>
                <a:lnTo>
                  <a:pt x="72841" y="21600"/>
                </a:lnTo>
                <a:lnTo>
                  <a:pt x="71441" y="20200"/>
                </a:lnTo>
                <a:lnTo>
                  <a:pt x="71441" y="1400"/>
                </a:lnTo>
                <a:close/>
              </a:path>
              <a:path fill="darkenLess" w="72841" h="21600">
                <a:moveTo>
                  <a:pt x="7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41" y="20200"/>
                </a:lnTo>
                <a:close/>
              </a:path>
              <a:path fill="lighten" w="7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841" h="21600">
                <a:moveTo>
                  <a:pt x="29414" y="10800"/>
                </a:moveTo>
                <a:lnTo>
                  <a:pt x="43427" y="3794"/>
                </a:lnTo>
                <a:lnTo>
                  <a:pt x="4342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endshow"/>
          </p:cNvPr>
          <p:cNvSpPr/>
          <p:nvPr/>
        </p:nvSpPr>
        <p:spPr>
          <a:xfrm>
            <a:off x="3492360" y="6093000"/>
            <a:ext cx="2376720" cy="576000"/>
          </a:xfrm>
          <a:custGeom>
            <a:avLst/>
            <a:gdLst>
              <a:gd name="textAreaLeft" fmla="*/ 37080 w 2376720"/>
              <a:gd name="textAreaRight" fmla="*/ 2339640 w 237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9085" h="21600">
                <a:moveTo>
                  <a:pt x="0" y="0"/>
                </a:moveTo>
                <a:lnTo>
                  <a:pt x="89085" y="0"/>
                </a:lnTo>
                <a:lnTo>
                  <a:pt x="89085" y="21600"/>
                </a:lnTo>
                <a:lnTo>
                  <a:pt x="0" y="21600"/>
                </a:lnTo>
                <a:close/>
              </a:path>
              <a:path fill="lightenLess" w="89085" h="21600">
                <a:moveTo>
                  <a:pt x="0" y="0"/>
                </a:moveTo>
                <a:lnTo>
                  <a:pt x="89085" y="0"/>
                </a:lnTo>
                <a:lnTo>
                  <a:pt x="87685" y="1400"/>
                </a:lnTo>
                <a:lnTo>
                  <a:pt x="1400" y="1400"/>
                </a:lnTo>
                <a:close/>
              </a:path>
              <a:path fill="darken" w="89085" h="21600">
                <a:moveTo>
                  <a:pt x="89085" y="0"/>
                </a:moveTo>
                <a:lnTo>
                  <a:pt x="89085" y="21600"/>
                </a:lnTo>
                <a:lnTo>
                  <a:pt x="87685" y="20200"/>
                </a:lnTo>
                <a:lnTo>
                  <a:pt x="87685" y="1400"/>
                </a:lnTo>
                <a:close/>
              </a:path>
              <a:path fill="darkenLess" w="89085" h="21600">
                <a:moveTo>
                  <a:pt x="89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85" y="20200"/>
                </a:lnTo>
                <a:close/>
              </a:path>
              <a:path fill="lighten" w="89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0-29T07:17:56Z</dcterms:modified>
  <cp:revision>16</cp:revision>
  <dc:subject/>
  <dc:title>PowerPoint Presentation</dc:title>
</cp:coreProperties>
</file>