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E56-3455-40D6-B4D4-92E88B1C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28BD-46CE-46B0-83E2-A1C09888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0434-7EE5-4BF8-AE3F-E2F89223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B26F-965A-4011-8242-F0210320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3D5E-289B-4A7F-9B71-761EEEDA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906C-0F7D-4334-85A0-AC783500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476-B93D-4CF6-8A49-D62F106D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6129-2BEE-43E0-BF99-617D874C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0B20-F337-42AB-9C81-9A3FBE36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511-F9E0-461C-A1EC-41A0D4A0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467-CFB4-4686-8A1E-014AEA81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7D6C-C0C9-410C-AB1D-E755EF56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EA4E-D611-47C4-8CCF-C7D2124925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речи, которая обозначает предмет. Отвечает на вопрос кто? Или ч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существительные относятся к женскому или среднему роду и изменяются по падежам и числ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дложении имена существительные чаще всего бывают подлежащими или дополнен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существительные бываю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ушевлённы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вечают на вопрос кто?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ушевлённы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вечают на вопрос что?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2398320" y="90360"/>
            <a:ext cx="434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ена существительные одушевлённые и неодушевлё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398320" y="90360"/>
            <a:ext cx="434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ена существительные одушевлённые и неодушевлё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85840" y="214200"/>
            <a:ext cx="85723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СУЩЕСТВИТЕЛЬ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УШЕВЛЁН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УШЕВЛЁН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296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ЛОВО В КАЖДОЙ СТРОЧКЕ – ЛИШНЕЕ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ик, директор, птица, учитель, доска, биолог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ская, топор, станок, слесарь, молоток, отвёртка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85480"/>
            <a:ext cx="83296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ший, растение, русалка, кукла, ангел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яной, водитель, вода, водовоз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оход, снег, Снегурочка, подснежник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СУЩЕСТВИТЕЛЬНЫЕ СОБСТВЕННЫЕ И НАРИЦАТЕЛЬ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3296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именам собственным относятся: </a:t>
            </a: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, отчества, фамилии людей, географические названия, названия литературных произведений, исторических событий, названия картин, кинофильмов, спектаклей, предприятий, клички животных. Пишутся с большой буквы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20:55:38Z</dcterms:created>
  <dc:creator>-</dc:creator>
  <dc:description/>
  <dc:language>en-US</dc:language>
  <cp:lastModifiedBy>Иноземцева</cp:lastModifiedBy>
  <dcterms:modified xsi:type="dcterms:W3CDTF">2010-02-24T21:23:56Z</dcterms:modified>
  <cp:revision>12</cp:revision>
  <dc:subject/>
  <dc:title>Имя существительное</dc:title>
</cp:coreProperties>
</file>