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3A02-1F2B-479F-9469-2082CAC3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D180-5CD5-4D39-893E-A0BB7E5B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6ADC-3000-4275-AEB0-BCE41EE9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3846-F5AB-4F2A-9BD2-CC1335BE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A59-023A-4AAC-B874-A5AAAA20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CB54-98E7-49D8-8E39-9DB33FCC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BCDD-344F-4CB7-B1FE-33AEED7A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0573-4072-4B8F-99C7-7D268FC6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9D2A-CB8D-433E-8442-D7B53DEB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872-0FCB-435D-A479-D2017B6D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0354-73FE-4392-B878-FEDA8ED0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432E-DCA9-414E-83F1-1288D74E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F19A-AD25-4901-91F4-8ACF811F0C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речи, которая обозначает предмет. Отвечает на вопрос кто? Или ч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существительные относятся к женскому или среднему роду и изменяются по падежам и числ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дложении имена существительные чаще всего бывают подлежащими или дополнен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существительные бываю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ушевлённы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вечают на вопрос кто?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душевлённы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вечают на вопрос что?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2398320" y="90360"/>
            <a:ext cx="434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мена существительные одушевлённые и неодушевлё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2398320" y="90360"/>
            <a:ext cx="434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мена существительные одушевлённые и неодушевлё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85840" y="214200"/>
            <a:ext cx="85723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СУЩЕСТВИТЕЛЬН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УШЕВЛЁН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ДУШЕВЛЁН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2296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ЛОВО В КАЖДОЙ СТРОЧКЕ – ЛИШНЕЕ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ик, директор, птица, учитель, доска, биолог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ская, топор, станок, слесарь, молоток, отвёртка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85480"/>
            <a:ext cx="83296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ший, растение, русалка, кукла, ангел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яной, водитель, вода, водовоз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оход, снег, Снегурочка, подснежник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СУЩЕСТВИТЕЛЬНЫЕ СОБСТВЕННЫЕ И НАРИЦАТЕЛЬ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3296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именам собственным относятся: </a:t>
            </a: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, отчества, фамилии людей, географические названия, названия литературных произведений, исторических событий, названия картин, кинофильмов, спектаклей, предприятий, клички животных. Пишутся с большой буквы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20:55:38Z</dcterms:created>
  <dc:creator>-</dc:creator>
  <dc:description/>
  <dc:language>en-US</dc:language>
  <cp:lastModifiedBy>Иноземцева</cp:lastModifiedBy>
  <dcterms:modified xsi:type="dcterms:W3CDTF">2010-02-24T21:23:56Z</dcterms:modified>
  <cp:revision>12</cp:revision>
  <dc:subject/>
  <dc:title>Имя существительное</dc:title>
</cp:coreProperties>
</file>