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5F4B-065C-4395-A2CB-50DC1CFC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3DF6-84BA-48CE-932F-523F3465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FD2B-9F14-4F03-ABD3-CB087643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F01D-2830-44D9-A849-A24C29C2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32D1-4DBB-4AC1-AD4F-1CD6D65F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5584-D234-4028-A2CC-EC017E0A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7974-AD43-4CF9-B236-3323FE11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BBBA-BF08-4BB0-A1CB-2FEA15E2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E790-8F27-4669-BFD9-278DDEE0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D3CB-D1F2-4A46-B4C2-BA8F38C1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9A02-B4E4-4B4A-8DCF-502888BA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7E09-B8F6-4DBF-9770-74DC4DEA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B14F-3263-45AE-A330-9A77165F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6A8A-82D3-4591-8EE1-A0543653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60F1-F50B-489A-B616-D19405A8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0BFF-CF13-4778-BC63-04C560EE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1C35-BE4D-470E-9E04-E3FF30E3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AB66-4511-4CBD-A3EC-45536421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D34C-871F-484F-9D60-F5CEBB22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F2B2-0349-4578-9764-C32DB0F5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A859-FBF6-41FC-B02E-5F6A3C0C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5195-50C5-4314-8808-97A577B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4018-11DF-4E9E-9BBC-F32832DE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B9A8-C250-498F-AFEA-0C0F1499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8A0-16E2-42D9-A1A2-6C2E77B135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D6FB-5C7D-453E-8BBC-93D3A325A6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zb.krd.ru/www/home.nsf/c5d9bf6a7be7d30ac325688f00241cb1/16fd8698857acf41c32569f3004c13da/Body/31.E84?OpenElement&amp;FieldElemFormat=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30.beon.ru/18/56/555618/8/16022408/__.jpe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ptar.com/uploads/1188573504_1.jpg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57.radikal.ru/i157/0904/76/fc6f39f65862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gipanis.ru/media/stanitsa/52/str15/15Ardagan4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bg-znanie.ru/articles/6704/paskevic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.foto.radikal.ru/0705/37/01082481e93f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aymohk.com/uploads/news/imam_shamil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as-salam.ru/assalam2009/334/img/shamil_big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kontury.info/Illustrations/shamil2.gif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imgs2.kavkazcenter.com/russ/content/2007/03/24/50167_1.jp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gipanis.ru/media/stanitsa/52/str15/15Ardagan4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arvar.ru/arhiv/gallery/battle_art/gagarin/images/gagarin2_klugenau_shamil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cache.picser.ru/projects/ashkimsin/forums/monthly_08_2009/user6261/post32436_img1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gushetia.org/news/photos/123437654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urortrussia.ru/upload/iblock/419/ing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adygi.ru/uploads/photos/180938200908210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tcherkesse.free.fr/folklore/costumes/cherkess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s.foto.radikal.ru/0705/2f/8c9af42c796a.jpg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gallery.darial-online.ru/01/02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assion-don.org/history-1/images/cherkes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.rutube.ru/thumbs/1c/dc/1cdced2a8503c680a48dbf544d6fe380-1-1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-petersburg.narod.ru/h/image/ermolov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116000" y="1052640"/>
            <a:ext cx="7272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йна на Кавказе</a:t>
            </a:r>
            <a:endParaRPr b="0" lang="en-US" sz="1800" spc="1" strike="noStrike">
              <a:ln w="2844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«Длительная осада Кавказ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76840" y="836640"/>
            <a:ext cx="54482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Весна  1818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Чечня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между Тереком и Сунжой) построена крепость  Гроз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19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в Дагестане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епость Внезапна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варцы (дагестанцы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орились российской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коро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Картинка 35 из 432">
            <a:hlinkClick r:id="rId1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83664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Картинка 33 из 1035">
            <a:hlinkClick r:id="rId3"/>
          </p:cNvPr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0" y="4005360"/>
            <a:ext cx="3851280" cy="28526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6"/>
          <p:cNvSpPr/>
          <p:nvPr/>
        </p:nvSpPr>
        <p:spPr>
          <a:xfrm>
            <a:off x="6372360" y="907920"/>
            <a:ext cx="863640" cy="343080"/>
          </a:xfrm>
          <a:prstGeom prst="rightArrow">
            <a:avLst>
              <a:gd name="adj1" fmla="val 50000"/>
              <a:gd name="adj2" fmla="val 629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5364000" y="3284640"/>
            <a:ext cx="863640" cy="342720"/>
          </a:xfrm>
          <a:prstGeom prst="rightArrow">
            <a:avLst>
              <a:gd name="adj1" fmla="val 50000"/>
              <a:gd name="adj2" fmla="val 6299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00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000"/>
                            </p:stCondLst>
                            <p:childTnLst>
                              <p:par>
                                <p:cTn id="5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052280"/>
            <a:ext cx="496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182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ходы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номорского войс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банские казаки вош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Кавказский  корпу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1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крепость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ур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усмирение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бар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3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Абхаз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8" descr="Картинка 142 из 1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Картинка 9 из 78">
            <a:hlinkClick r:id="rId3"/>
          </p:cNvPr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4932360" y="4013280"/>
            <a:ext cx="4211640" cy="28447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21"/>
          <p:cNvSpPr/>
          <p:nvPr/>
        </p:nvSpPr>
        <p:spPr>
          <a:xfrm>
            <a:off x="1476360" y="1125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22"/>
          <p:cNvSpPr/>
          <p:nvPr/>
        </p:nvSpPr>
        <p:spPr>
          <a:xfrm>
            <a:off x="1332000" y="299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133200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24"/>
          <p:cNvSpPr/>
          <p:nvPr/>
        </p:nvSpPr>
        <p:spPr>
          <a:xfrm>
            <a:off x="1332000" y="486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kavkaz_1817-1864 карта"/>
          <p:cNvPicPr/>
          <p:nvPr/>
        </p:nvPicPr>
        <p:blipFill>
          <a:blip r:embed="rId1"/>
          <a:stretch/>
        </p:blipFill>
        <p:spPr>
          <a:xfrm>
            <a:off x="0" y="907920"/>
            <a:ext cx="891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1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Дагестан. Появление </a:t>
            </a:r>
            <a:r>
              <a:rPr b="1" i="1" lang="ru-RU" sz="2800" spc="-1" strike="noStrike">
                <a:solidFill>
                  <a:srgbClr val="66ff33"/>
                </a:solidFill>
                <a:latin typeface="Tahoma"/>
              </a:rPr>
              <a:t>Мюридизма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.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4гг.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«Мюрид» - послушник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«Теория» - проповедь деян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Проро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«Практика» - обет посвятить себ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борьбе с неверными(гяурами) – газавату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Погибшие на войне сраз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попадали в ра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Возглавил          Мулла Магомед(Кази Мулла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объявивший газават России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добившийся за 2года несколь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побед над русскими отряд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33"/>
                </a:solidFill>
                <a:latin typeface="Tahoma"/>
              </a:rPr>
              <a:t>                              </a:t>
            </a:r>
            <a:r>
              <a:rPr b="1" i="1" lang="ru-RU" sz="3200" spc="-1" strike="noStrike">
                <a:solidFill>
                  <a:srgbClr val="66ff33"/>
                </a:solidFill>
                <a:latin typeface="Tahoma"/>
              </a:rPr>
              <a:t>Мюри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33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66ff33"/>
                </a:solidFill>
                <a:latin typeface="Tahoma"/>
              </a:rPr>
              <a:t>беспрекословно подчинялись имаму.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619280" y="620640"/>
            <a:ext cx="865080" cy="863640"/>
          </a:xfrm>
          <a:prstGeom prst="rightArrow">
            <a:avLst>
              <a:gd name="adj1" fmla="val 50000"/>
              <a:gd name="adj2" fmla="val 25042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403280" y="162864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403280" y="2492280"/>
            <a:ext cx="1008000" cy="198360"/>
          </a:xfrm>
          <a:prstGeom prst="rightArrow">
            <a:avLst>
              <a:gd name="adj1" fmla="val 50000"/>
              <a:gd name="adj2" fmla="val 127042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2050920" y="3860640"/>
            <a:ext cx="432000" cy="180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755640" y="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3. Создание имама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500"/>
                            </p:stCondLst>
                            <p:childTnLst>
                              <p:par>
                                <p:cTn id="6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500"/>
                            </p:stCondLst>
                            <p:childTnLst>
                              <p:par>
                                <p:cTn id="6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8500"/>
                            </p:stCondLst>
                            <p:childTnLst>
                              <p:par>
                                <p:cTn id="7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826г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лавнокомандующий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енерал Паск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Цель             защита Кавказа от внешнего вра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( Турции, Персии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Результат          сплочение горце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   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под знаменем Мюрид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Кази-Мулла стал скликать горцев на войну с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гяурами ( неверными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разгром Кизляр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попытка взять крепости Бурну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и   Внезапну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1 декабря 1831 г.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Кази-Мул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бежал в Гим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Лето 1832            поход на Гим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(10000 чел.+ 16 оруди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зи-Мулла поги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1"/>
          <p:cNvPicPr/>
          <p:nvPr/>
        </p:nvPicPr>
        <p:blipFill>
          <a:blip r:embed="rId1"/>
          <a:stretch/>
        </p:blipFill>
        <p:spPr>
          <a:xfrm>
            <a:off x="5219640" y="3933720"/>
            <a:ext cx="3780000" cy="2781360"/>
          </a:xfrm>
          <a:prstGeom prst="rect">
            <a:avLst/>
          </a:prstGeom>
          <a:ln w="76320">
            <a:solidFill>
              <a:srgbClr val="ebf25a"/>
            </a:solidFill>
            <a:miter/>
          </a:ln>
        </p:spPr>
      </p:pic>
      <p:sp>
        <p:nvSpPr>
          <p:cNvPr id="186" name="AutoShape 5"/>
          <p:cNvSpPr/>
          <p:nvPr/>
        </p:nvSpPr>
        <p:spPr>
          <a:xfrm>
            <a:off x="3059280" y="115920"/>
            <a:ext cx="760320" cy="297000"/>
          </a:xfrm>
          <a:prstGeom prst="rightArrow">
            <a:avLst>
              <a:gd name="adj1" fmla="val 50000"/>
              <a:gd name="adj2" fmla="val 64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2987640" y="836640"/>
            <a:ext cx="760320" cy="297000"/>
          </a:xfrm>
          <a:prstGeom prst="rightArrow">
            <a:avLst>
              <a:gd name="adj1" fmla="val 50000"/>
              <a:gd name="adj2" fmla="val 64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1692360" y="5157720"/>
            <a:ext cx="863640" cy="297000"/>
          </a:xfrm>
          <a:prstGeom prst="rightArrow">
            <a:avLst>
              <a:gd name="adj1" fmla="val 50000"/>
              <a:gd name="adj2" fmla="val 7269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3419640" y="1557360"/>
            <a:ext cx="720720" cy="414360"/>
          </a:xfrm>
          <a:prstGeom prst="rightArrow">
            <a:avLst>
              <a:gd name="adj1" fmla="val 50000"/>
              <a:gd name="adj2" fmla="val 4348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755640" y="2492280"/>
            <a:ext cx="760320" cy="252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11" descr="Картинка 20 из 246">
            <a:hlinkClick r:id="rId2"/>
          </p:cNvPr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5219640" y="3933720"/>
            <a:ext cx="3780000" cy="278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Картинка 89 из 107">
            <a:hlinkClick r:id="rId4"/>
          </p:cNvPr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0" y="0"/>
            <a:ext cx="1717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500"/>
                            </p:stCondLst>
                            <p:childTnLst>
                              <p:par>
                                <p:cTn id="7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7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2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2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2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2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2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2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2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8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2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8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2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2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1000"/>
                            </p:stCondLst>
                            <p:childTnLst>
                              <p:par>
                                <p:cTn id="8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2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2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3000"/>
                            </p:stCondLst>
                            <p:childTnLst>
                              <p:par>
                                <p:cTn id="8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2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2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2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4" descr="kavkaz_1817-1864 карта"/>
          <p:cNvPicPr/>
          <p:nvPr/>
        </p:nvPicPr>
        <p:blipFill>
          <a:blip r:embed="rId1"/>
          <a:stretch/>
        </p:blipFill>
        <p:spPr>
          <a:xfrm>
            <a:off x="0" y="907920"/>
            <a:ext cx="891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4"/>
          <p:cNvSpPr/>
          <p:nvPr/>
        </p:nvSpPr>
        <p:spPr>
          <a:xfrm>
            <a:off x="539640" y="189000"/>
            <a:ext cx="8064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ru-RU" sz="4000" spc="-1" strike="noStrike">
                <a:solidFill>
                  <a:srgbClr val="00ff00"/>
                </a:solidFill>
                <a:latin typeface="Tahoma"/>
              </a:rPr>
              <a:t>4.Движение Шамил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179280" y="1268280"/>
            <a:ext cx="49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34г. 3-м имамом стал Шамиль. Он ввел в Дагестане исламские порядки и жестоко карал нарушителей. На Кавказе было отменено крепостничество, привилегии беев и ха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Шамиль оказался блестящим полководцем. Он защищал население и от русских войск и от произвола зна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40-е г. он одержал ряд побе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25" descr="Картинка 2 из 582">
            <a:hlinkClick r:id="rId1"/>
          </p:cNvPr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148360" y="1197000"/>
            <a:ext cx="3787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40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восстание против пода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11 июля – бой у Валерика («река смерти»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41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Шамиль разгромил  Авар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август  - бои в Чечне. Шамиль нанес ряд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пораж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Тактика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изматывание русских си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6" descr="Картинка 24 из 582">
            <a:hlinkClick r:id="rId1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763640" y="0"/>
            <a:ext cx="5402160" cy="40543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11"/>
          <p:cNvSpPr/>
          <p:nvPr/>
        </p:nvSpPr>
        <p:spPr>
          <a:xfrm>
            <a:off x="1403280" y="4149720"/>
            <a:ext cx="576360" cy="343080"/>
          </a:xfrm>
          <a:prstGeom prst="rightArrow">
            <a:avLst>
              <a:gd name="adj1" fmla="val 50000"/>
              <a:gd name="adj2" fmla="val 4199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1403280" y="5084640"/>
            <a:ext cx="576360" cy="343080"/>
          </a:xfrm>
          <a:prstGeom prst="rightArrow">
            <a:avLst>
              <a:gd name="adj1" fmla="val 50000"/>
              <a:gd name="adj2" fmla="val 4199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1403280" y="6381720"/>
            <a:ext cx="576360" cy="343080"/>
          </a:xfrm>
          <a:prstGeom prst="rightArrow">
            <a:avLst>
              <a:gd name="adj1" fmla="val 50000"/>
              <a:gd name="adj2" fmla="val 4199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1403280" y="4581360"/>
            <a:ext cx="576360" cy="343080"/>
          </a:xfrm>
          <a:prstGeom prst="rightArrow">
            <a:avLst>
              <a:gd name="adj1" fmla="val 50000"/>
              <a:gd name="adj2" fmla="val 4199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1403280" y="5589720"/>
            <a:ext cx="576360" cy="342720"/>
          </a:xfrm>
          <a:prstGeom prst="rightArrow">
            <a:avLst>
              <a:gd name="adj1" fmla="val 50000"/>
              <a:gd name="adj2" fmla="val 42043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20" descr="Картинка 63 из 5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916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Картинка 102 из 58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2060640"/>
            <a:ext cx="2916360" cy="2120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Картинка 232 из 53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2666880" cy="1943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Картинка 20 из 24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2060640"/>
            <a:ext cx="2700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00"/>
                            </p:stCondLst>
                            <p:childTnLst>
                              <p:par>
                                <p:cTn id="9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8000"/>
                            </p:stCondLst>
                            <p:childTnLst>
                              <p:par>
                                <p:cTn id="9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5508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 подвластной террит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Шамиль правил п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мощи наибов, его арм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оходила до 40 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и обсуждении вопр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 общем Сове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ешающее сл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ставалось за Шамилем. 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 наибы вскоре ста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рушать мусульман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бычаи,  Шамиль заявил 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ередаче власти сыну и э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ивело к ослаблению дви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4" descr="Рисунок2"/>
          <p:cNvPicPr/>
          <p:nvPr/>
        </p:nvPicPr>
        <p:blipFill>
          <a:blip r:embed="rId1"/>
          <a:stretch/>
        </p:blipFill>
        <p:spPr>
          <a:xfrm>
            <a:off x="5468760" y="907920"/>
            <a:ext cx="3675240" cy="4626000"/>
          </a:xfrm>
          <a:prstGeom prst="rect">
            <a:avLst/>
          </a:prstGeom>
          <a:ln w="76320">
            <a:solidFill>
              <a:srgbClr val="ebf25a"/>
            </a:solidFill>
            <a:miter/>
          </a:ln>
        </p:spPr>
      </p:pic>
      <p:sp>
        <p:nvSpPr>
          <p:cNvPr id="215" name="Text Box 5"/>
          <p:cNvSpPr/>
          <p:nvPr/>
        </p:nvSpPr>
        <p:spPr>
          <a:xfrm>
            <a:off x="5907960" y="5661000"/>
            <a:ext cx="2701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ebf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И.Сверч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Портрет Шами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960"/>
                            </p:stCondLst>
                            <p:childTnLst>
                              <p:par>
                                <p:cTn id="9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600"/>
                            </p:stCondLst>
                            <p:childTnLst>
                              <p:par>
                                <p:cTn id="9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448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120"/>
                            </p:stCondLst>
                            <p:childTnLst>
                              <p:par>
                                <p:cTn id="10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480"/>
                            </p:stCondLst>
                            <p:childTnLst>
                              <p:par>
                                <p:cTn id="10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6360"/>
                            </p:stCondLst>
                            <p:childTnLst>
                              <p:par>
                                <p:cTn id="10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6920"/>
                            </p:stCondLst>
                            <p:childTnLst>
                              <p:par>
                                <p:cTn id="10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8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480"/>
                            </p:stCondLst>
                            <p:childTnLst>
                              <p:par>
                                <p:cTn id="10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840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912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840"/>
                            </p:stCondLst>
                            <p:childTnLst>
                              <p:par>
                                <p:cTn id="10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80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1760"/>
                            </p:stCondLst>
                            <p:childTnLst>
                              <p:par>
                                <p:cTn id="1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80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43280" y="189000"/>
            <a:ext cx="4500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846 год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переход русских войск вновь к тактике Ермоло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850, 1851, 1852 гг.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мирение Кавказа. Падение  влияния Мюри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Картинка 18 из 78">
            <a:hlinkClick r:id="rId1"/>
          </p:cNvPr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Картинка 152 из 1035">
            <a:hlinkClick r:id="rId3"/>
          </p:cNvPr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0" y="3530520"/>
            <a:ext cx="4500720" cy="332748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6659640" y="260280"/>
            <a:ext cx="720720" cy="486000"/>
          </a:xfrm>
          <a:prstGeom prst="rightArrow">
            <a:avLst>
              <a:gd name="adj1" fmla="val 50000"/>
              <a:gd name="adj2" fmla="val 3707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 rot="5400000">
            <a:off x="6479640" y="2168280"/>
            <a:ext cx="720720" cy="38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лан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1.Народы Кавка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2.Причины и этапы войн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3.Создание имама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4.Движение Шами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5.Итоги войн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665964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1854          попытка Шамиля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прорваться чере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Грузию в Тур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856 – 1857       покор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алой Чеч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858         начато покор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ьшой  Чеч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Январь 1859     поход на аул Веде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(Ведено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то 1859      Шамиль отступил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Гуниб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5 августа      Гуниб пал, Шами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дал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10" descr="Картинка 57 из 582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5796000" y="4221000"/>
            <a:ext cx="3348000" cy="2637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Картинка 71 из 582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5076720" y="0"/>
            <a:ext cx="4067280" cy="30402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4"/>
          <p:cNvSpPr/>
          <p:nvPr/>
        </p:nvSpPr>
        <p:spPr>
          <a:xfrm>
            <a:off x="1042920" y="260280"/>
            <a:ext cx="719280" cy="341280"/>
          </a:xfrm>
          <a:prstGeom prst="rightArrow">
            <a:avLst>
              <a:gd name="adj1" fmla="val 50000"/>
              <a:gd name="adj2" fmla="val 5269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2195640" y="3789360"/>
            <a:ext cx="504720" cy="341280"/>
          </a:xfrm>
          <a:prstGeom prst="rightArrow">
            <a:avLst>
              <a:gd name="adj1" fmla="val 50000"/>
              <a:gd name="adj2" fmla="val 369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1835280" y="4869000"/>
            <a:ext cx="504720" cy="341280"/>
          </a:xfrm>
          <a:prstGeom prst="rightArrow">
            <a:avLst>
              <a:gd name="adj1" fmla="val 50000"/>
              <a:gd name="adj2" fmla="val 369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18"/>
          <p:cNvSpPr/>
          <p:nvPr/>
        </p:nvSpPr>
        <p:spPr>
          <a:xfrm>
            <a:off x="1908000" y="5877000"/>
            <a:ext cx="505080" cy="341280"/>
          </a:xfrm>
          <a:prstGeom prst="rightArrow">
            <a:avLst>
              <a:gd name="adj1" fmla="val 50000"/>
              <a:gd name="adj2" fmla="val 3699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2268360" y="1773360"/>
            <a:ext cx="505080" cy="341280"/>
          </a:xfrm>
          <a:prstGeom prst="rightArrow">
            <a:avLst>
              <a:gd name="adj1" fmla="val 50000"/>
              <a:gd name="adj2" fmla="val 3699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1116000" y="2781360"/>
            <a:ext cx="504720" cy="341280"/>
          </a:xfrm>
          <a:prstGeom prst="rightArrow">
            <a:avLst>
              <a:gd name="adj1" fmla="val 50000"/>
              <a:gd name="adj2" fmla="val 369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2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2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2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2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2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2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2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2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2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2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20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20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kavkaz_1817-1864 карта"/>
          <p:cNvPicPr/>
          <p:nvPr/>
        </p:nvPicPr>
        <p:blipFill>
          <a:blip r:embed="rId1"/>
          <a:stretch/>
        </p:blipFill>
        <p:spPr>
          <a:xfrm>
            <a:off x="228600" y="907920"/>
            <a:ext cx="891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Картинка 55 из 582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477120" y="0"/>
            <a:ext cx="2666880" cy="348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Картинка 53 из 58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0"/>
            <a:ext cx="2652840" cy="35733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0"/>
          <p:cNvSpPr/>
          <p:nvPr/>
        </p:nvSpPr>
        <p:spPr>
          <a:xfrm>
            <a:off x="971640" y="979920"/>
            <a:ext cx="6696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осточный Кавказ от Касп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о Военно-Грузинской  дороги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УС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860 год → Западный Кавк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861- 1862г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местность заселена  казаками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0" y="3479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3 млн.человек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покинуло Кавказ. Правительство переселило из региона 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400000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человек. Горцы продавали имущество за бесценок, край приходил в запустение. Черкесы переселились в Турцию, часть переселили на равн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предгорья Северного Кавказа начали переселять русских и украинцев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( 14 тыс.семей),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 сам район самодержавие рассматривало как плацдарм для  дальнейшего продвижения на Вос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5545080" cy="77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Итоги войн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6960"/>
                            </p:stCondLst>
                            <p:childTnLst>
                              <p:par>
                                <p:cTn id="1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8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8320"/>
                            </p:stCondLst>
                            <p:childTnLst>
                              <p:par>
                                <p:cTn id="1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9280"/>
                            </p:stCondLst>
                            <p:childTnLst>
                              <p:par>
                                <p:cTn id="1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800"/>
                            </p:stCondLst>
                            <p:childTnLst>
                              <p:par>
                                <p:cTn id="1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0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880"/>
                            </p:stCondLst>
                            <p:childTnLst>
                              <p:par>
                                <p:cTn id="12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3880"/>
                            </p:stCondLst>
                            <p:childTnLst>
                              <p:par>
                                <p:cTn id="12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3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3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Ответьте на вопрос письмен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  <a:ea typeface="Tahoma"/>
              </a:rPr>
              <a:t>Какие проблемы (решенные и  нерешенные) породила политика Российского самодержавия на Кавказ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5077080" cy="708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1.Народы Кавказ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н.19 в. на Кавказе проживало более 50 народов относившихся к различным языковым семьям. Говоря на раз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зыках и име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аз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ероисповедани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ни нередко ве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ежду соб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ровопроли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ой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снова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 кровной м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Картинка 8 из 57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989000"/>
            <a:ext cx="5651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427280" y="-360"/>
            <a:ext cx="47163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ольшинство горцев занималось скотоводством, охотой, рыбной лов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6" descr="Картинка 15 из 1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413000"/>
            <a:ext cx="3529080" cy="24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Картинка 101 из 10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435560"/>
            <a:ext cx="3924000" cy="2422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Картинка 398 из 103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860640"/>
            <a:ext cx="3924360" cy="2370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Картинка 90 из 43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3348000" cy="226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105 из 43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88000" y="2060640"/>
            <a:ext cx="33843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980"/>
                            </p:stCondLst>
                            <p:childTnLst>
                              <p:par>
                                <p:cTn id="1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80"/>
                            </p:stCondLst>
                            <p:childTnLst>
                              <p:par>
                                <p:cTn id="1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Картинка 39 из 1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341360"/>
            <a:ext cx="5292720" cy="378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Картинка 133 из 10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0" y="0"/>
            <a:ext cx="4643280" cy="80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Находясь на стадии разложения первобытных отношений, они совершали набеги на соседей, граб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и разрушая их поселений и уводя в плен мирных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ител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277920"/>
            <a:ext cx="6481800" cy="630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2.Причины войны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одимость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стройства Кавказа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Гюлистан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а(1813). Иран призна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переход к России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гестана, Грузии,    Мингрелии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Имеретии, Гур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хазии, ряда ханств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(Бакинского, Дербентс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 т.д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мление цар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чинить Кавказ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вязать там рус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и    обыча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547640" y="90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476360" y="486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6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86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62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1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82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54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2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9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6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651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Учитывая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фанатизм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горцев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воеволие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враждебность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 русски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Д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Заставить горцев уваж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русское им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дать им почувствовать мощ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Росс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заставить себя бояться. Горцы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привыкли иметь дело только 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сил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спускать горцам ни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одного грабеж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оставлять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безнаказанным ни од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набега.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О</a:t>
            </a:r>
            <a:r>
              <a:rPr b="1" lang="ru-RU" sz="24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не начинать  действовать , не оборудова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баз. Постройка  дорог,  просек,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возведение укреплений, колон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Кавказа путем чередования поселений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                 </a:t>
            </a: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горцев и казаков</a:t>
            </a:r>
            <a:r>
              <a:rPr b="0" lang="ru-RU" sz="20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79280" y="90792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79280" y="155736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79280" y="220500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250920" y="2997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250920" y="3573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0" descr="Картинка 10 из 3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9640" y="2205000"/>
            <a:ext cx="3654360" cy="4535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1"/>
          <p:cNvSpPr/>
          <p:nvPr/>
        </p:nvSpPr>
        <p:spPr>
          <a:xfrm>
            <a:off x="5219640" y="476280"/>
            <a:ext cx="3708360" cy="9144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План генер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Ермол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500"/>
                            </p:stCondLst>
                            <p:childTnLst>
                              <p:par>
                                <p:cTn id="3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500"/>
                            </p:stCondLst>
                            <p:childTnLst>
                              <p:par>
                                <p:cTn id="3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500"/>
                            </p:stCondLst>
                            <p:childTnLst>
                              <p:par>
                                <p:cTn id="4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842160" cy="631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Этапы вой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 период – 1816 – 1830 –е год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. 1817-19-партизанская война горце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 1819-24-объединение Дагеста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чало организованных действ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. 1824-28-возникновение мюрид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 период – 30- е – 40-е год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. 1828-33-создание иммам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  1834-59-борьба с Шамил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 период – 1856 – 1865 го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кончательное подавление сопротивления  гор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kavkaz_1817-1864 карта"/>
          <p:cNvPicPr/>
          <p:nvPr/>
        </p:nvPicPr>
        <p:blipFill>
          <a:blip r:embed="rId1"/>
          <a:stretch/>
        </p:blipFill>
        <p:spPr>
          <a:xfrm>
            <a:off x="0" y="907920"/>
            <a:ext cx="891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7:25:05Z</dcterms:created>
  <dc:creator>uzer</dc:creator>
  <dc:description/>
  <dc:language>en-US</dc:language>
  <cp:lastModifiedBy>User</cp:lastModifiedBy>
  <dcterms:modified xsi:type="dcterms:W3CDTF">2011-01-19T17:18:34Z</dcterms:modified>
  <cp:revision>4</cp:revision>
  <dc:subject/>
  <dc:title>Слайд 1</dc:title>
</cp:coreProperties>
</file>