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2452A-58F5-48E8-87CA-95E34C53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34D15-11A9-4CBA-AB5F-4CF5D6F9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5EF7-B44A-4BC4-8157-D34DD2D2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745A4-04DD-49BA-9D8C-345B7314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3A14-463B-46E0-BE2D-7FFA87BF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B922-1598-4F55-A5BC-8ADE2AB0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3003-918C-451A-BAF5-9F66FE21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8A04-23C8-43CF-996B-81394DB7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A5E2-AB0F-47B2-817F-0CDB9DA9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71AC-D53C-4DFC-89D2-5BC967E1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4DAF-F6A9-4A84-A649-98078E5B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A3A96-2145-4687-ACC1-E1B137CC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18CD-79F3-4E79-95E4-4130B8B4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A0EA-E74B-4BF1-B065-B7CE238E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28E5-3111-48B6-9988-E4DCC2C8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41F3-B21F-488C-A67A-FF79F0E1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200B-C9E1-405E-9B94-ADC5AF62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E2BB0-D9E9-45B5-A07E-970586FB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08703-BDC6-4068-8174-62BB0447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55B0D-A9CC-46FA-849B-BCFD6E9C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3BA26-7DAC-4D20-8303-A4C9BD55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F1E94-BAD0-4178-8DCD-9FDDB7F8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61A9-0B20-4251-B4D4-1535FB40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FDDC-C842-4494-932A-A8E23307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F996-504F-4BA6-9AD6-32F998325E4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AFD9-0513-4DDE-9766-E3911F78EC9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zb.krd.ru/www/home.nsf/c5d9bf6a7be7d30ac325688f00241cb1/16fd8698857acf41c32569f3004c13da/Body/31.E84?OpenElement&amp;FieldElemFormat=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30.beon.ru/18/56/555618/8/16022408/__.jpe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eptar.com/uploads/1188573504_1.jpg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s57.radikal.ru/i157/0904/76/fc6f39f65862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gipanis.ru/media/stanitsa/52/str15/15Ardagan4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www.bg-znanie.ru/articles/6704/paskevic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.foto.radikal.ru/0705/37/01082481e93f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vaymohk.com/uploads/news/imam_shamil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as-salam.ru/assalam2009/334/img/shamil_big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kontury.info/Illustrations/shamil2.gif" TargetMode="External"/><Relationship Id="rId6" Type="http://schemas.openxmlformats.org/officeDocument/2006/relationships/image" Target="../media/image21.png"/><Relationship Id="rId7" Type="http://schemas.openxmlformats.org/officeDocument/2006/relationships/hyperlink" Target="http://imgs2.kavkazcenter.com/russ/content/2007/03/24/50167_1.jpg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www.gipanis.ru/media/stanitsa/52/str15/15Ardagan4.jpg" TargetMode="External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arvar.ru/arhiv/gallery/battle_art/gagarin/images/gagarin2_klugenau_shamil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cache.picser.ru/projects/ashkimsin/forums/monthly_08_2009/user6261/post32436_img1.jp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gushetia.org/news/photos/123437654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urortrussia.ru/upload/iblock/419/ing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adygi.ru/uploads/photos/180938200908210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tcherkesse.free.fr/folklore/costumes/cherkess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s.foto.radikal.ru/0705/2f/8c9af42c796a.jpg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gallery.darial-online.ru/01/02.jpg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assion-don.org/history-1/images/cherkesy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g.rutube.ru/thumbs/1c/dc/1cdced2a8503c680a48dbf544d6fe380-1-1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-petersburg.narod.ru/h/image/ermolov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116000" y="1052640"/>
            <a:ext cx="72723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ойна на Кавказе</a:t>
            </a:r>
            <a:endParaRPr b="0" lang="en-US" sz="1800" spc="1" strike="noStrike">
              <a:ln w="2844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Tahoma"/>
              </a:rPr>
              <a:t>«Длительная осада Кавказ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76840" y="836640"/>
            <a:ext cx="54482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Весна  1818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Чечня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(между Тереком и Сунжой) построена крепость  Гроз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1819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в Дагестане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репость Внезапна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варцы (дагестанцы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корились российской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коро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4" descr="Картинка 35 из 432">
            <a:hlinkClick r:id="rId1"/>
          </p:cNvPr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836640"/>
            <a:ext cx="381636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Картинка 33 из 1035">
            <a:hlinkClick r:id="rId3"/>
          </p:cNvPr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0" y="4005360"/>
            <a:ext cx="3851280" cy="285264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6"/>
          <p:cNvSpPr/>
          <p:nvPr/>
        </p:nvSpPr>
        <p:spPr>
          <a:xfrm>
            <a:off x="6372360" y="907920"/>
            <a:ext cx="863640" cy="343080"/>
          </a:xfrm>
          <a:prstGeom prst="rightArrow">
            <a:avLst>
              <a:gd name="adj1" fmla="val 50000"/>
              <a:gd name="adj2" fmla="val 629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11"/>
          <p:cNvSpPr/>
          <p:nvPr/>
        </p:nvSpPr>
        <p:spPr>
          <a:xfrm>
            <a:off x="5364000" y="3284640"/>
            <a:ext cx="863640" cy="342720"/>
          </a:xfrm>
          <a:prstGeom prst="rightArrow">
            <a:avLst>
              <a:gd name="adj1" fmla="val 50000"/>
              <a:gd name="adj2" fmla="val 6299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000"/>
                            </p:stCondLst>
                            <p:childTnLst>
                              <p:par>
                                <p:cTn id="5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000"/>
                            </p:stCondLst>
                            <p:childTnLst>
                              <p:par>
                                <p:cTn id="5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9000"/>
                            </p:stCondLst>
                            <p:childTnLst>
                              <p:par>
                                <p:cTn id="5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1052280"/>
            <a:ext cx="49690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ahoma"/>
              </a:rPr>
              <a:t>1820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ходы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ерноморского войс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убанские казаки вошл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Кавказский  корпу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1821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крепость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ур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1822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усмирение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бар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1823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Абхаз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18" descr="Картинка 142 из 10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141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Картинка 9 из 78">
            <a:hlinkClick r:id="rId3"/>
          </p:cNvPr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4932360" y="4013280"/>
            <a:ext cx="4211640" cy="284472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21"/>
          <p:cNvSpPr/>
          <p:nvPr/>
        </p:nvSpPr>
        <p:spPr>
          <a:xfrm>
            <a:off x="1476360" y="1125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22"/>
          <p:cNvSpPr/>
          <p:nvPr/>
        </p:nvSpPr>
        <p:spPr>
          <a:xfrm>
            <a:off x="1332000" y="299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23"/>
          <p:cNvSpPr/>
          <p:nvPr/>
        </p:nvSpPr>
        <p:spPr>
          <a:xfrm>
            <a:off x="1332000" y="3933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24"/>
          <p:cNvSpPr/>
          <p:nvPr/>
        </p:nvSpPr>
        <p:spPr>
          <a:xfrm>
            <a:off x="1332000" y="486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8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9000"/>
                            </p:stCondLst>
                            <p:childTnLst>
                              <p:par>
                                <p:cTn id="5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2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2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2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2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2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9000"/>
                            </p:stCondLst>
                            <p:childTnLst>
                              <p:par>
                                <p:cTn id="6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2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2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4" descr="kavkaz_1817-1864 карта"/>
          <p:cNvPicPr/>
          <p:nvPr/>
        </p:nvPicPr>
        <p:blipFill>
          <a:blip r:embed="rId1"/>
          <a:stretch/>
        </p:blipFill>
        <p:spPr>
          <a:xfrm>
            <a:off x="0" y="907920"/>
            <a:ext cx="8915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20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1821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Дагестан. Появление </a:t>
            </a:r>
            <a:r>
              <a:rPr b="1" i="1" lang="ru-RU" sz="2800" spc="-1" strike="noStrike">
                <a:solidFill>
                  <a:srgbClr val="66ff33"/>
                </a:solidFill>
                <a:latin typeface="Tahoma"/>
              </a:rPr>
              <a:t>Мюридизма</a:t>
            </a: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.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1824гг.</a:t>
            </a: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            «Мюрид» - послушник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«Теория» - проповедь деян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Проро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«Практика» - обет посвятить себ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борьбе с неверными(гяурами) – газавату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                            </a:t>
            </a: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Погибшие на войне сраз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                            </a:t>
            </a: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попадали в ра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Tahoma"/>
              </a:rPr>
              <a:t>Возглавил          Мулла Магомед(Кази Мулла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                            </a:t>
            </a: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объявивший газават России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                            </a:t>
            </a: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добившийся за 2года нескольк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                            </a:t>
            </a: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побед над русскими отряд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33"/>
                </a:solidFill>
                <a:latin typeface="Tahoma"/>
              </a:rPr>
              <a:t>                              </a:t>
            </a:r>
            <a:r>
              <a:rPr b="1" i="1" lang="ru-RU" sz="3200" spc="-1" strike="noStrike">
                <a:solidFill>
                  <a:srgbClr val="66ff33"/>
                </a:solidFill>
                <a:latin typeface="Tahoma"/>
              </a:rPr>
              <a:t>Мюри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33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66ff33"/>
                </a:solidFill>
                <a:latin typeface="Tahoma"/>
              </a:rPr>
              <a:t>беспрекословно подчинялись имаму.</a:t>
            </a:r>
            <a:r>
              <a:rPr b="1" lang="ru-RU" sz="24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1619280" y="620640"/>
            <a:ext cx="865080" cy="863640"/>
          </a:xfrm>
          <a:prstGeom prst="rightArrow">
            <a:avLst>
              <a:gd name="adj1" fmla="val 50000"/>
              <a:gd name="adj2" fmla="val 25042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403280" y="162864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403280" y="2492280"/>
            <a:ext cx="1008000" cy="198360"/>
          </a:xfrm>
          <a:prstGeom prst="rightArrow">
            <a:avLst>
              <a:gd name="adj1" fmla="val 50000"/>
              <a:gd name="adj2" fmla="val 127042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2050920" y="3860640"/>
            <a:ext cx="432000" cy="180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755640" y="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3. Создание имама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500"/>
                            </p:stCondLst>
                            <p:childTnLst>
                              <p:par>
                                <p:cTn id="6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2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6500"/>
                            </p:stCondLst>
                            <p:childTnLst>
                              <p:par>
                                <p:cTn id="6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2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8500"/>
                            </p:stCondLst>
                            <p:childTnLst>
                              <p:par>
                                <p:cTn id="6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2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2500"/>
                            </p:stCondLst>
                            <p:childTnLst>
                              <p:par>
                                <p:cTn id="7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2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2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20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20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20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20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8500"/>
                            </p:stCondLst>
                            <p:childTnLst>
                              <p:par>
                                <p:cTn id="7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20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20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1826г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Главнокомандующий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генерал Паске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Цель             защита Кавказа от внешнего вра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                     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( Турции, Персии)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Результат          сплочение горце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        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под знаменем Мюридиз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Кази-Мулла стал скликать горцев на войну с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гяурами ( неверными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разгром Кизляр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попытка взять крепости Бурну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и   Внезапну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1 декабря 1831 г.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Кази-Мулл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бежал в Гим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Лето 1832            поход на Гим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             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(10000 чел.+ 16 орудий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ази-Мулла поги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1"/>
          <p:cNvPicPr/>
          <p:nvPr/>
        </p:nvPicPr>
        <p:blipFill>
          <a:blip r:embed="rId1"/>
          <a:stretch/>
        </p:blipFill>
        <p:spPr>
          <a:xfrm>
            <a:off x="5219640" y="3933720"/>
            <a:ext cx="3780000" cy="2781360"/>
          </a:xfrm>
          <a:prstGeom prst="rect">
            <a:avLst/>
          </a:prstGeom>
          <a:ln w="76320">
            <a:solidFill>
              <a:srgbClr val="ebf25a"/>
            </a:solidFill>
            <a:miter/>
          </a:ln>
        </p:spPr>
      </p:pic>
      <p:sp>
        <p:nvSpPr>
          <p:cNvPr id="186" name="AutoShape 5"/>
          <p:cNvSpPr/>
          <p:nvPr/>
        </p:nvSpPr>
        <p:spPr>
          <a:xfrm>
            <a:off x="3059280" y="115920"/>
            <a:ext cx="760320" cy="297000"/>
          </a:xfrm>
          <a:prstGeom prst="rightArrow">
            <a:avLst>
              <a:gd name="adj1" fmla="val 50000"/>
              <a:gd name="adj2" fmla="val 64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2987640" y="836640"/>
            <a:ext cx="760320" cy="297000"/>
          </a:xfrm>
          <a:prstGeom prst="rightArrow">
            <a:avLst>
              <a:gd name="adj1" fmla="val 50000"/>
              <a:gd name="adj2" fmla="val 64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1692360" y="5157720"/>
            <a:ext cx="863640" cy="297000"/>
          </a:xfrm>
          <a:prstGeom prst="rightArrow">
            <a:avLst>
              <a:gd name="adj1" fmla="val 50000"/>
              <a:gd name="adj2" fmla="val 7269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3419640" y="1557360"/>
            <a:ext cx="720720" cy="414360"/>
          </a:xfrm>
          <a:prstGeom prst="rightArrow">
            <a:avLst>
              <a:gd name="adj1" fmla="val 50000"/>
              <a:gd name="adj2" fmla="val 4348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755640" y="2492280"/>
            <a:ext cx="760320" cy="2521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11" descr="Картинка 20 из 246">
            <a:hlinkClick r:id="rId2"/>
          </p:cNvPr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5219640" y="3933720"/>
            <a:ext cx="3780000" cy="2781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Картинка 89 из 107">
            <a:hlinkClick r:id="rId4"/>
          </p:cNvPr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0" y="0"/>
            <a:ext cx="17175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500"/>
                            </p:stCondLst>
                            <p:childTnLst>
                              <p:par>
                                <p:cTn id="7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500"/>
                            </p:stCondLst>
                            <p:childTnLst>
                              <p:par>
                                <p:cTn id="7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500"/>
                            </p:stCondLst>
                            <p:childTnLst>
                              <p:par>
                                <p:cTn id="7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8500"/>
                            </p:stCondLst>
                            <p:childTnLst>
                              <p:par>
                                <p:cTn id="7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4500"/>
                            </p:stCondLst>
                            <p:childTnLst>
                              <p:par>
                                <p:cTn id="7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2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2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6500"/>
                            </p:stCondLst>
                            <p:childTnLst>
                              <p:par>
                                <p:cTn id="7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7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2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2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9000"/>
                            </p:stCondLst>
                            <p:childTnLst>
                              <p:par>
                                <p:cTn id="8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2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2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1000"/>
                            </p:stCondLst>
                            <p:childTnLst>
                              <p:par>
                                <p:cTn id="8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2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2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3000"/>
                            </p:stCondLst>
                            <p:childTnLst>
                              <p:par>
                                <p:cTn id="8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2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2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0"/>
                            </p:stCondLst>
                            <p:childTnLst>
                              <p:par>
                                <p:cTn id="8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2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2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7000"/>
                            </p:stCondLst>
                            <p:childTnLst>
                              <p:par>
                                <p:cTn id="8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20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20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9000"/>
                            </p:stCondLst>
                            <p:childTnLst>
                              <p:par>
                                <p:cTn id="8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2000" fill="hold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2000" fill="hold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31000"/>
                            </p:stCondLst>
                            <p:childTnLst>
                              <p:par>
                                <p:cTn id="8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2000" fill="hold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2000" fill="hold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3000"/>
                            </p:stCondLst>
                            <p:childTnLst>
                              <p:par>
                                <p:cTn id="8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2000" fill="hold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2000" fill="hold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35000"/>
                            </p:stCondLst>
                            <p:childTnLst>
                              <p:par>
                                <p:cTn id="8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2000" fill="hold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2000" fill="hold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7000"/>
                            </p:stCondLst>
                            <p:childTnLst>
                              <p:par>
                                <p:cTn id="8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4" descr="kavkaz_1817-1864 карта"/>
          <p:cNvPicPr/>
          <p:nvPr/>
        </p:nvPicPr>
        <p:blipFill>
          <a:blip r:embed="rId1"/>
          <a:stretch/>
        </p:blipFill>
        <p:spPr>
          <a:xfrm>
            <a:off x="0" y="907920"/>
            <a:ext cx="8915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4"/>
          <p:cNvSpPr/>
          <p:nvPr/>
        </p:nvSpPr>
        <p:spPr>
          <a:xfrm>
            <a:off x="539640" y="189000"/>
            <a:ext cx="8064720" cy="7034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    </a:t>
            </a:r>
            <a:r>
              <a:rPr b="1" lang="ru-RU" sz="4000" spc="-1" strike="noStrike">
                <a:solidFill>
                  <a:srgbClr val="00ff00"/>
                </a:solidFill>
                <a:latin typeface="Tahoma"/>
              </a:rPr>
              <a:t>4.Движение Шамил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179280" y="1268280"/>
            <a:ext cx="493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 1834г. 3-м имамом стал Шамиль. Он ввел в Дагестане исламские порядки и жестоко карал нарушителей. На Кавказе было отменено крепостничество, привилегии беев и ха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Шамиль оказался блестящим полководцем. Он защищал население и от русских войск и от произвола зна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 40-е г. он одержал ряд побе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25" descr="Картинка 2 из 582">
            <a:hlinkClick r:id="rId1"/>
          </p:cNvPr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148360" y="1197000"/>
            <a:ext cx="37875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91440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1840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восстание против пода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11 июля – бой у Валерика («река смерти»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1841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Шамиль разгромил  Авар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август  - бои в Чечне. Шамиль нанес ряд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пораж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Тактика </a:t>
            </a: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       изматывание русских си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6" descr="Картинка 24 из 582">
            <a:hlinkClick r:id="rId1"/>
          </p:cNvPr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763640" y="0"/>
            <a:ext cx="5402160" cy="405432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11"/>
          <p:cNvSpPr/>
          <p:nvPr/>
        </p:nvSpPr>
        <p:spPr>
          <a:xfrm>
            <a:off x="1403280" y="4149720"/>
            <a:ext cx="576360" cy="343080"/>
          </a:xfrm>
          <a:prstGeom prst="rightArrow">
            <a:avLst>
              <a:gd name="adj1" fmla="val 50000"/>
              <a:gd name="adj2" fmla="val 4199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1403280" y="5084640"/>
            <a:ext cx="576360" cy="343080"/>
          </a:xfrm>
          <a:prstGeom prst="rightArrow">
            <a:avLst>
              <a:gd name="adj1" fmla="val 50000"/>
              <a:gd name="adj2" fmla="val 4199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1403280" y="6381720"/>
            <a:ext cx="576360" cy="343080"/>
          </a:xfrm>
          <a:prstGeom prst="rightArrow">
            <a:avLst>
              <a:gd name="adj1" fmla="val 50000"/>
              <a:gd name="adj2" fmla="val 4199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1403280" y="4581360"/>
            <a:ext cx="576360" cy="343080"/>
          </a:xfrm>
          <a:prstGeom prst="rightArrow">
            <a:avLst>
              <a:gd name="adj1" fmla="val 50000"/>
              <a:gd name="adj2" fmla="val 4199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16"/>
          <p:cNvSpPr/>
          <p:nvPr/>
        </p:nvSpPr>
        <p:spPr>
          <a:xfrm>
            <a:off x="1403280" y="5589720"/>
            <a:ext cx="576360" cy="342720"/>
          </a:xfrm>
          <a:prstGeom prst="rightArrow">
            <a:avLst>
              <a:gd name="adj1" fmla="val 50000"/>
              <a:gd name="adj2" fmla="val 42043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20" descr="Картинка 63 из 5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0"/>
            <a:ext cx="2916360" cy="1916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2" descr="Картинка 102 из 58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7640" y="2060640"/>
            <a:ext cx="2916360" cy="2120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4" descr="Картинка 232 из 53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2666880" cy="1943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" descr="Картинка 20 из 24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2060640"/>
            <a:ext cx="2700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00"/>
                            </p:stCondLst>
                            <p:childTnLst>
                              <p:par>
                                <p:cTn id="8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4000"/>
                            </p:stCondLst>
                            <p:childTnLst>
                              <p:par>
                                <p:cTn id="9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00"/>
                            </p:stCondLst>
                            <p:childTnLst>
                              <p:par>
                                <p:cTn id="9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8000"/>
                            </p:stCondLst>
                            <p:childTnLst>
                              <p:par>
                                <p:cTn id="9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2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2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9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5508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а подвластной террито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Шамиль правил пр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омощи наибов, его арм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доходила до 40 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челов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ри обсуждении вопро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а общем Сове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Решающее сло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ставалось за Шамилем. 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 наибы вскоре ста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арушать мусульманск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бычаи,  Шамиль заявил 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ередаче власти сыну и э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ривело к ослаблению движ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4" descr="Рисунок2"/>
          <p:cNvPicPr/>
          <p:nvPr/>
        </p:nvPicPr>
        <p:blipFill>
          <a:blip r:embed="rId1"/>
          <a:stretch/>
        </p:blipFill>
        <p:spPr>
          <a:xfrm>
            <a:off x="5468760" y="907920"/>
            <a:ext cx="3675240" cy="4626000"/>
          </a:xfrm>
          <a:prstGeom prst="rect">
            <a:avLst/>
          </a:prstGeom>
          <a:ln w="76320">
            <a:solidFill>
              <a:srgbClr val="ebf25a"/>
            </a:solidFill>
            <a:miter/>
          </a:ln>
        </p:spPr>
      </p:pic>
      <p:sp>
        <p:nvSpPr>
          <p:cNvPr id="215" name="Text Box 5"/>
          <p:cNvSpPr/>
          <p:nvPr/>
        </p:nvSpPr>
        <p:spPr>
          <a:xfrm>
            <a:off x="5907960" y="5661000"/>
            <a:ext cx="270144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ebf2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И.Сверч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Портрет Шамил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9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0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1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2960"/>
                            </p:stCondLst>
                            <p:childTnLst>
                              <p:par>
                                <p:cTn id="9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6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3600"/>
                            </p:stCondLst>
                            <p:childTnLst>
                              <p:par>
                                <p:cTn id="9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4480"/>
                            </p:stCondLst>
                            <p:childTnLst>
                              <p:par>
                                <p:cTn id="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120"/>
                            </p:stCondLst>
                            <p:childTnLst>
                              <p:par>
                                <p:cTn id="10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3" dur="8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5" dur="8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480"/>
                            </p:stCondLst>
                            <p:childTnLst>
                              <p:par>
                                <p:cTn id="10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8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6360"/>
                            </p:stCondLst>
                            <p:childTnLst>
                              <p:par>
                                <p:cTn id="10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5" dur="8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6" dur="8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7" dur="8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6920"/>
                            </p:stCondLst>
                            <p:childTnLst>
                              <p:par>
                                <p:cTn id="10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2" dur="8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8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480"/>
                            </p:stCondLst>
                            <p:childTnLst>
                              <p:par>
                                <p:cTn id="10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8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8400"/>
                            </p:stCondLst>
                            <p:childTnLst>
                              <p:par>
                                <p:cTn id="10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9120"/>
                            </p:stCondLst>
                            <p:childTnLst>
                              <p:par>
                                <p:cTn id="1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5" dur="80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6" dur="80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80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840"/>
                            </p:stCondLst>
                            <p:childTnLst>
                              <p:par>
                                <p:cTn id="10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2" dur="80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3" dur="80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1760"/>
                            </p:stCondLst>
                            <p:childTnLst>
                              <p:par>
                                <p:cTn id="10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7" dur="80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8" dur="80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9" dur="80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43280" y="189000"/>
            <a:ext cx="4500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1846 год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      переход русских войск вновь к тактике Ермолов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1850, 1851, 1852 гг.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мирение Кавказа. Падение  влияния Мюри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Картинка 18 из 78">
            <a:hlinkClick r:id="rId1"/>
          </p:cNvPr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0" y="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Картинка 152 из 1035">
            <a:hlinkClick r:id="rId3"/>
          </p:cNvPr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0" y="3530520"/>
            <a:ext cx="4500720" cy="332748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6"/>
          <p:cNvSpPr/>
          <p:nvPr/>
        </p:nvSpPr>
        <p:spPr>
          <a:xfrm>
            <a:off x="6659640" y="260280"/>
            <a:ext cx="720720" cy="486000"/>
          </a:xfrm>
          <a:prstGeom prst="rightArrow">
            <a:avLst>
              <a:gd name="adj1" fmla="val 50000"/>
              <a:gd name="adj2" fmla="val 3707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 rot="5400000">
            <a:off x="6479640" y="2168280"/>
            <a:ext cx="720720" cy="381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2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2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лан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1.Народы Кавказ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2.Причины и этапы войн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3.Создание имама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4.Движение Шамил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5.Итоги войн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0" y="115920"/>
            <a:ext cx="665964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1854          попытка Шамиля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прорваться чере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Грузию в Тур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1856 – 1857       покор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алой Чеч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1858         начато покор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ольшой  Чеч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Январь 1859     поход на аул Веден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(Ведено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ето 1859      Шамиль отступил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Гуниб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25 августа      Гуниб пал, Шамил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дал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Picture 10" descr="Картинка 57 из 582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5796000" y="4221000"/>
            <a:ext cx="3348000" cy="2637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Картинка 71 из 582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5076720" y="0"/>
            <a:ext cx="4067280" cy="30402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4"/>
          <p:cNvSpPr/>
          <p:nvPr/>
        </p:nvSpPr>
        <p:spPr>
          <a:xfrm>
            <a:off x="1042920" y="260280"/>
            <a:ext cx="719280" cy="341280"/>
          </a:xfrm>
          <a:prstGeom prst="rightArrow">
            <a:avLst>
              <a:gd name="adj1" fmla="val 50000"/>
              <a:gd name="adj2" fmla="val 5269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16"/>
          <p:cNvSpPr/>
          <p:nvPr/>
        </p:nvSpPr>
        <p:spPr>
          <a:xfrm>
            <a:off x="2195640" y="3789360"/>
            <a:ext cx="504720" cy="341280"/>
          </a:xfrm>
          <a:prstGeom prst="rightArrow">
            <a:avLst>
              <a:gd name="adj1" fmla="val 50000"/>
              <a:gd name="adj2" fmla="val 3697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AutoShape 17"/>
          <p:cNvSpPr/>
          <p:nvPr/>
        </p:nvSpPr>
        <p:spPr>
          <a:xfrm>
            <a:off x="1835280" y="4869000"/>
            <a:ext cx="504720" cy="341280"/>
          </a:xfrm>
          <a:prstGeom prst="rightArrow">
            <a:avLst>
              <a:gd name="adj1" fmla="val 50000"/>
              <a:gd name="adj2" fmla="val 3697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AutoShape 18"/>
          <p:cNvSpPr/>
          <p:nvPr/>
        </p:nvSpPr>
        <p:spPr>
          <a:xfrm>
            <a:off x="1908000" y="5877000"/>
            <a:ext cx="505080" cy="341280"/>
          </a:xfrm>
          <a:prstGeom prst="rightArrow">
            <a:avLst>
              <a:gd name="adj1" fmla="val 50000"/>
              <a:gd name="adj2" fmla="val 3699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AutoShape 19"/>
          <p:cNvSpPr/>
          <p:nvPr/>
        </p:nvSpPr>
        <p:spPr>
          <a:xfrm>
            <a:off x="2268360" y="1773360"/>
            <a:ext cx="505080" cy="341280"/>
          </a:xfrm>
          <a:prstGeom prst="rightArrow">
            <a:avLst>
              <a:gd name="adj1" fmla="val 50000"/>
              <a:gd name="adj2" fmla="val 3699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AutoShape 20"/>
          <p:cNvSpPr/>
          <p:nvPr/>
        </p:nvSpPr>
        <p:spPr>
          <a:xfrm>
            <a:off x="1116000" y="2781360"/>
            <a:ext cx="504720" cy="341280"/>
          </a:xfrm>
          <a:prstGeom prst="rightArrow">
            <a:avLst>
              <a:gd name="adj1" fmla="val 50000"/>
              <a:gd name="adj2" fmla="val 3697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2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2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2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2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2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2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2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2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2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2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2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2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20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20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20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20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20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20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20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20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20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20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4" descr="kavkaz_1817-1864 карта"/>
          <p:cNvPicPr/>
          <p:nvPr/>
        </p:nvPicPr>
        <p:blipFill>
          <a:blip r:embed="rId1"/>
          <a:stretch/>
        </p:blipFill>
        <p:spPr>
          <a:xfrm>
            <a:off x="228600" y="907920"/>
            <a:ext cx="8915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Картинка 55 из 582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6477120" y="0"/>
            <a:ext cx="2666880" cy="3486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Картинка 53 из 582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0"/>
            <a:ext cx="2652840" cy="35733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0"/>
          <p:cNvSpPr/>
          <p:nvPr/>
        </p:nvSpPr>
        <p:spPr>
          <a:xfrm>
            <a:off x="971640" y="979920"/>
            <a:ext cx="6696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осточный Кавказ от Касп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до Военно-Грузинской  дороги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РУС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860 год → Западный Кавка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861- 1862г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местность заселена  казаками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0" y="3479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3 млн.человек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покинуло Кавказ. Правительство переселило из региона </a:t>
            </a: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400000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человек. Горцы продавали имущество за бесценок, край приходил в запустение. Черкесы переселились в Турцию, часть переселили на равн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 предгорья Северного Кавказа начали переселять русских и украинцев</a:t>
            </a: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( 14 тыс.семей),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а сам район самодержавие рассматривало как плацдарм для  дальнейшего продвижения на Вост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5545080" cy="774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Итоги войн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0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1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6960"/>
                            </p:stCondLst>
                            <p:childTnLst>
                              <p:par>
                                <p:cTn id="1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6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7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8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2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3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4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8320"/>
                            </p:stCondLst>
                            <p:childTnLst>
                              <p:par>
                                <p:cTn id="1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9" dur="8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0" dur="8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9280"/>
                            </p:stCondLst>
                            <p:childTnLst>
                              <p:par>
                                <p:cTn id="1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4" dur="8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5" dur="8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6" dur="8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9800"/>
                            </p:stCondLst>
                            <p:childTnLst>
                              <p:par>
                                <p:cTn id="1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0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1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2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880"/>
                            </p:stCondLst>
                            <p:childTnLst>
                              <p:par>
                                <p:cTn id="12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3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3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3880"/>
                            </p:stCondLst>
                            <p:childTnLst>
                              <p:par>
                                <p:cTn id="12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3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3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д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Ответьте на вопрос письмен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    </a:t>
            </a:r>
            <a:r>
              <a:rPr b="0" lang="ru-RU" sz="3200" spc="-1" strike="noStrike">
                <a:solidFill>
                  <a:srgbClr val="00ff00"/>
                </a:solidFill>
                <a:latin typeface="Tahoma"/>
                <a:ea typeface="Tahoma"/>
              </a:rPr>
              <a:t>Какие проблемы (решенные и  нерешенные) породила политика Российского самодержавия на Кавказ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5077080" cy="708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Tahoma"/>
              </a:rPr>
              <a:t>1.Народы Кавказа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н.19 в. на Кавказе проживало более 50 народов относившихся к различным языковым семьям. Говоря на разн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языках и име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раз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ероисповедани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ни нередко вел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между соб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кровопролит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ойн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снован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а кровной ме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Картинка 8 из 57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1989000"/>
            <a:ext cx="56516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9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427280" y="-360"/>
            <a:ext cx="47163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ольшинство горцев занималось скотоводством, охотой, рыбной лов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6" descr="Картинка 15 из 10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413000"/>
            <a:ext cx="3529080" cy="2433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Картинка 101 из 10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4435560"/>
            <a:ext cx="3924000" cy="2422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Картинка 398 из 103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860640"/>
            <a:ext cx="3924360" cy="2370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Картинка 90 из 43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3348000" cy="2266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Картинка 105 из 43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788000" y="2060640"/>
            <a:ext cx="338436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980"/>
                            </p:stCondLst>
                            <p:childTnLst>
                              <p:par>
                                <p:cTn id="1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980"/>
                            </p:stCondLst>
                            <p:childTnLst>
                              <p:par>
                                <p:cTn id="1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Картинка 39 из 10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1341360"/>
            <a:ext cx="5292720" cy="378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Картинка 133 из 10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0" y="0"/>
            <a:ext cx="4643280" cy="80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Находясь на стадии разложения первобытных отношений, они совершали набеги на соседей, граб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и разрушая их поселений и уводя в плен мирных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жител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277920"/>
            <a:ext cx="6481800" cy="630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Tahoma"/>
              </a:rPr>
              <a:t>2.Причины войны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ходимость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устройства Кавказа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ле Гюлистанск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а(1813). Иран призна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переход к России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гестана, Грузии,    Мингрелии,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Имеретии, Гури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хазии, ряда ханств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(Бакинского, Дербентск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 т.д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емление цари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чинить Кавказ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вязать там русск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ы и    обыча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1547640" y="9079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1476360" y="486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6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86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62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1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82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54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22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90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66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651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Учитывая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фанатизм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горцев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воеволие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враждебность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к русски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Д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Заставить горцев уважа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русское им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дать им почувствовать мощь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Росси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заставить себя бояться. Горцы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привыкли иметь дело только с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сил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спускать горцам ни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одного грабеж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оставлять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безнаказанным ни од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       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набега. 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О</a:t>
            </a:r>
            <a:r>
              <a:rPr b="1" lang="ru-RU" sz="2400" spc="-1" strike="noStrike">
                <a:solidFill>
                  <a:srgbClr val="ebf25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не начинать  действовать , не оборудова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баз. Постройка  дорог,  просек,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возведение укреплений, колон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Кавказа путем чередования поселений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                 </a:t>
            </a: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горцев и казаков</a:t>
            </a:r>
            <a:r>
              <a:rPr b="0" lang="ru-RU" sz="20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79280" y="907920"/>
            <a:ext cx="755640" cy="216000"/>
          </a:xfrm>
          <a:prstGeom prst="rightArrow">
            <a:avLst>
              <a:gd name="adj1" fmla="val 50000"/>
              <a:gd name="adj2" fmla="val 8745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79280" y="1557360"/>
            <a:ext cx="755640" cy="216000"/>
          </a:xfrm>
          <a:prstGeom prst="rightArrow">
            <a:avLst>
              <a:gd name="adj1" fmla="val 50000"/>
              <a:gd name="adj2" fmla="val 8745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179280" y="2205000"/>
            <a:ext cx="755640" cy="216000"/>
          </a:xfrm>
          <a:prstGeom prst="rightArrow">
            <a:avLst>
              <a:gd name="adj1" fmla="val 50000"/>
              <a:gd name="adj2" fmla="val 8745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250920" y="2997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250920" y="3573360"/>
            <a:ext cx="1152360" cy="360360"/>
          </a:xfrm>
          <a:prstGeom prst="rightArrow">
            <a:avLst>
              <a:gd name="adj1" fmla="val 50000"/>
              <a:gd name="adj2" fmla="val 7994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10" descr="Картинка 10 из 35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9640" y="2205000"/>
            <a:ext cx="3654360" cy="4535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1"/>
          <p:cNvSpPr/>
          <p:nvPr/>
        </p:nvSpPr>
        <p:spPr>
          <a:xfrm>
            <a:off x="5219640" y="476280"/>
            <a:ext cx="3708360" cy="9144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План генер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Ермол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500"/>
                            </p:stCondLst>
                            <p:childTnLst>
                              <p:par>
                                <p:cTn id="3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500"/>
                            </p:stCondLst>
                            <p:childTnLst>
                              <p:par>
                                <p:cTn id="3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7500"/>
                            </p:stCondLst>
                            <p:childTnLst>
                              <p:par>
                                <p:cTn id="3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4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4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9500"/>
                            </p:stCondLst>
                            <p:childTnLst>
                              <p:par>
                                <p:cTn id="4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4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4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6842160" cy="631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Этапы войн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 период – 1816 – 1830 –е годы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. 1817-19-партизанская война горце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. 1819-24-объединение Дагестан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ачало организованных действ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. 1824-28-возникновение мюридиз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 период – 30- е – 40-е годы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. 1828-33-создание иммам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.  1834-59-борьба с Шамил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3 период – 1856 – 1865 год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кончательное подавление сопротивления  горце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000"/>
                            </p:stCondLst>
                            <p:childTnLst>
                              <p:par>
                                <p:cTn id="4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8000"/>
                            </p:stCondLst>
                            <p:childTnLst>
                              <p:par>
                                <p:cTn id="4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kavkaz_1817-1864 карта"/>
          <p:cNvPicPr/>
          <p:nvPr/>
        </p:nvPicPr>
        <p:blipFill>
          <a:blip r:embed="rId1"/>
          <a:stretch/>
        </p:blipFill>
        <p:spPr>
          <a:xfrm>
            <a:off x="0" y="907920"/>
            <a:ext cx="8915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07:25:05Z</dcterms:created>
  <dc:creator>uzer</dc:creator>
  <dc:description/>
  <dc:language>en-US</dc:language>
  <cp:lastModifiedBy>User</cp:lastModifiedBy>
  <dcterms:modified xsi:type="dcterms:W3CDTF">2011-01-19T17:18:34Z</dcterms:modified>
  <cp:revision>4</cp:revision>
  <dc:subject/>
  <dc:title>Слайд 1</dc:title>
</cp:coreProperties>
</file>