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1F3-5BCB-4981-84E6-A73A0CBE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44A-5800-4299-8235-C03B5CBF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435-8820-43AC-A733-93A7744A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8B3-2F94-4952-A6A7-01A69816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C7FF-C93E-4BEB-9D5D-A6F2AE07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1E0F-5121-4858-8939-8892B5A5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11C7-6379-4DBF-A10A-3FA66189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52F7-C423-4654-AB87-B24F1958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6CE3-DC04-4EE0-8B14-558083DE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5B45-5360-4B69-9A39-154E74BC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3B75-20ED-4F35-913E-0CDD9403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B10-C1D3-4797-9159-D3024F25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FB5E-F25B-4E7B-BE41-F2C6EF0A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5A7E-AC52-47E1-94C7-E562975B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D39A-DC81-4505-A87C-28DB5184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4CDA-2EC3-4E84-B78D-00757848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46C4-D7A4-4CA8-B1CE-A1222E78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6C0-8292-4498-846D-06A795F5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522-2553-4A00-8720-F9E58572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8B5-7864-434E-AE04-5E346BF9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F00-CBCB-401A-AE9F-C6AE2CDE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D50-031E-4267-835C-470426E5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CC5-72D4-4ADF-8DDA-268D8B58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2EC-1DC8-4DD1-8FCF-98E388F9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E50B-D8E5-4C74-A17A-DED31C71B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DBCE-955B-4E87-8332-2BB9C7DEA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cb3fb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27200" y="4149720"/>
            <a:ext cx="57164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Выполнили:           Галанина Ольг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Немчинова Ю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 rot="930000">
            <a:off x="2428560" y="-460080"/>
            <a:ext cx="4311720" cy="37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лке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4608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Алкены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циклические углеводороды, содержащие в молекуле, помимо одинарных связей, одну двойную связь между атомами углерода и соответствующие общей формуле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2n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796000" y="2637000"/>
            <a:ext cx="2816280" cy="259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 rot="529200">
            <a:off x="2203200" y="-20520"/>
            <a:ext cx="4402080" cy="20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лке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56944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оменклатура алкенов разработанная ИЮПА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авила ИЮПАК рекомендуют заместительную номенклатур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387600">
            <a:off x="1846440" y="-4320"/>
            <a:ext cx="538956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01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менклатура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01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лавная цепь – самая длинная цепочка атомов углерода в молекуле, содержащая двойную связ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 rot="354600">
            <a:off x="1898280" y="20520"/>
            <a:ext cx="49752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04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бор главной цепи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04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2195640" y="5661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24200" y="4221000"/>
            <a:ext cx="461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– С – С = СН – 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48000" y="4724280"/>
            <a:ext cx="0" cy="21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48000" y="407664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7280" y="472428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25720" y="357336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25720" y="48690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17720" y="48690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236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3344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7240" y="4075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1780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2580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умерация атомов главной цепи начинается с того конца, к которому ближе находится двойная связ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79640" y="3500280"/>
            <a:ext cx="49687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96200" y="39528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80000" y="4797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4797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4076640"/>
            <a:ext cx="565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С – С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СН – 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45813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132000" y="393372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45813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9720" y="472428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08360" y="5084640"/>
            <a:ext cx="56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72428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09720" y="34290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3672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7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9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00720" y="393372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01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1016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 rot="235200">
            <a:off x="826560" y="0"/>
            <a:ext cx="7810560" cy="17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умерация атомов главной цепи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24000" y="160128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Но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если по расположению двойной связи нельзя определить начало нумерации атомов в цепи, то его определяет положение заместителей так же, как для предельных углеводородов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СН = СН – СН – СН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530064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89360" y="54450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4720" y="465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7440" y="465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81080" y="465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89440" y="465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8720" y="465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78520" y="465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 начале названия указывают цифры – номера атомов углерода, при которых находятся заместители. Если при данном атоме находится несколько заместителей, то соответствующий номер в названии повторяется дважды через запятую. После номера через дефис указывают количество заместителей и их название, затем без пробелов и дефисов – название главной цепи, по названию соответствующего алкана, меняя суффикс  - ан на  - ен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 rot="358800">
            <a:off x="1476000" y="-242640"/>
            <a:ext cx="604980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04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ирование названия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04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/>
          <p:nvPr/>
        </p:nvSpPr>
        <p:spPr>
          <a:xfrm>
            <a:off x="2067120" y="5157720"/>
            <a:ext cx="461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– С – С = СН – 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492360" y="50133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211640" y="56610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492360" y="56610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68640" y="580536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68640" y="450864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60640" y="580536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25440" y="501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8160" y="501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8720" y="501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60720" y="501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8720" y="5013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9:21:54Z</dcterms:created>
  <dc:creator>User</dc:creator>
  <dc:description/>
  <dc:language>en-US</dc:language>
  <cp:lastModifiedBy>User</cp:lastModifiedBy>
  <dcterms:modified xsi:type="dcterms:W3CDTF">2004-10-30T09:51:37Z</dcterms:modified>
  <cp:revision>15</cp:revision>
  <dc:subject/>
  <dc:title>Слайд 1</dc:title>
</cp:coreProperties>
</file>