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D09-B699-4233-83D2-7FC18378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564-DEE6-4008-8314-79A8EB48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30B0-F3F3-43EA-851A-263AD46F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227-91EA-4222-8726-C414E7DD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E581-1888-4477-8C2E-D6E2E254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0D26-F579-4BCE-8236-C3A0064B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63A5-497B-40E4-896F-A4735A42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555B-3ED8-4016-8D19-7AB99E45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E126-2BF7-48A1-88DA-C29758B0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A9EF-053F-4304-9C2B-5A9A25AA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0FBB-4C74-4F92-81D9-3F0C245E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A5A-EA9C-4524-A9C1-DDC9B5BD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FAE1-4260-402B-AB02-FB4C0475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81B6-86ED-4B58-B396-C719A9CA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02AF-AE0D-479E-83A8-A1BFC6FF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49AF-459A-4B9B-8967-F591B995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344D-4CDA-4AA3-8800-5958EA71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58A9-5493-471A-A4C0-5ED19EB8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3854-16EB-4DB8-B4B2-F03C709F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AFE-7115-4AAF-92A3-9A633FC3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D10-5443-4EB7-B583-2D565676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B15-F4AD-4A7C-978C-C2A8C65C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C618-2428-42B9-8137-3319B814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150-7FD8-4D5C-8AEB-47216C6A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1944-94B8-4268-A000-96C3971629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E42C-3A37-42FA-B5C5-414138A22B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cb3fb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427200" y="4149720"/>
            <a:ext cx="57164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Выполнили:           Галанина Ольг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Немчинова Ю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 rot="930000">
            <a:off x="2428560" y="-460080"/>
            <a:ext cx="4311720" cy="373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лкен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4608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Алкены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циклические углеводороды, содержащие в молекуле, помимо одинарных связей, одну двойную связь между атомами углерода и соответствующие общей формуле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2n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796000" y="2637000"/>
            <a:ext cx="2816280" cy="2592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 rot="529200">
            <a:off x="2203200" y="-20520"/>
            <a:ext cx="4402080" cy="20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лкен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56944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оменклатура алкенов разработанная ИЮПА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авила ИЮПАК рекомендуют заместительную номенклатур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 rot="387600">
            <a:off x="1846440" y="-4320"/>
            <a:ext cx="5389560" cy="19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01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оменклатура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01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лавная цепь – самая длинная цепочка атомов углерода в молекуле, содержащая двойную связ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 rot="354600">
            <a:off x="1898280" y="20520"/>
            <a:ext cx="497520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04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бор главной цепи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04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"/>
          <p:cNvSpPr/>
          <p:nvPr/>
        </p:nvSpPr>
        <p:spPr>
          <a:xfrm>
            <a:off x="2195640" y="5661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24200" y="4221000"/>
            <a:ext cx="461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– С – С = СН – СН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48000" y="4724280"/>
            <a:ext cx="0" cy="217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348000" y="407664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67280" y="472428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25720" y="357336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25720" y="486900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17720" y="486900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2360" y="4076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33440" y="4076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27240" y="4075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17800" y="4076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25800" y="4076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умерация атомов главной цепи начинается с того конца, к которому ближе находится двойная связ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79640" y="3500280"/>
            <a:ext cx="496872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96200" y="395280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80000" y="4797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80000" y="4797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87280" y="4076640"/>
            <a:ext cx="5653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С – С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СН – СН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32000" y="458136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132000" y="393372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51280" y="458136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09720" y="472428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08360" y="5084640"/>
            <a:ext cx="56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472428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09720" y="342900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36720" y="39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17800" y="39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09800" y="39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00720" y="393372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01800" y="39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10160" y="39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 rot="235200">
            <a:off x="826560" y="0"/>
            <a:ext cx="7810560" cy="17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умерация атомов главной цепи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24000" y="160128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Но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если по расположению двойной связи нельзя определить начало нумерации атомов в цепи, то его определяет положение заместителей так же, как для предельных углеводородов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СН = СН – СН – СН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12000" y="530064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89360" y="544500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4720" y="4653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7440" y="4653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81080" y="4653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89440" y="4653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68720" y="4653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78520" y="4653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 начале названия указывают цифры – номера атомов углерода, при которых находятся заместители. Если при данном атоме находится несколько заместителей, то соответствующий номер в названии повторяется дважды через запятую. После номера через дефис указывают количество заместителей и их название, затем без пробелов и дефисов – название главной цепи, по названию соответствующего алкана, меняя суффикс  - ан на  - ен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 rot="358800">
            <a:off x="1476000" y="-242640"/>
            <a:ext cx="6049800" cy="19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04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ормирование названия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04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"/>
          <p:cNvSpPr/>
          <p:nvPr/>
        </p:nvSpPr>
        <p:spPr>
          <a:xfrm>
            <a:off x="2067120" y="5157720"/>
            <a:ext cx="461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– С – С = СН – СН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492360" y="501336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211640" y="566100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492360" y="566100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68640" y="580536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68640" y="450864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60640" y="580536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25440" y="5013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78160" y="5013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68720" y="5013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60720" y="5013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8720" y="5013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9:21:54Z</dcterms:created>
  <dc:creator>User</dc:creator>
  <dc:description/>
  <dc:language>en-US</dc:language>
  <cp:lastModifiedBy>User</cp:lastModifiedBy>
  <dcterms:modified xsi:type="dcterms:W3CDTF">2004-10-30T09:51:37Z</dcterms:modified>
  <cp:revision>15</cp:revision>
  <dc:subject/>
  <dc:title>Слайд 1</dc:title>
</cp:coreProperties>
</file>