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gif" ContentType="image/gif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FA57-5F73-4725-B896-0BEB94CAA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661B-8BE5-4055-B943-9F94A000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5740-0EC1-47C4-A64F-C26CF8E77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5221-0664-45A8-A1AA-B29B1C71F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20DA-BBFB-48A3-9A6B-9D12388E3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B3F1-2832-44E5-AE35-4978A09D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2AD9-49E4-4C4C-AE35-5F78B51B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B486-519F-48B6-87E2-19FA017B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FBED-B83E-4B84-94EE-0AEA2147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3F85-7774-42C9-B8BE-151BC9DA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AFBC-D704-4CC0-87D2-9A97C426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F9CB-E262-4829-A3CE-33F8DD3A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506B-CBCD-4173-A798-9D8D8C3A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7561-C048-4607-8171-67455FFC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0761-08CD-4776-9980-2BFC3118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D724-F53D-48C3-99B5-2F494B9CB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E48A-020E-4EF5-AC45-CAC4DEEB9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DE7D-4F90-400F-9A34-142CFA6D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319B-FFBD-439C-8656-D4FABC8D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EC9C-2E09-491F-8C20-066DBD7B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D899-F545-45FF-93A0-51A825F0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8029-6806-41D7-B3E8-013D1CF5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252D-6C11-468B-BB64-0B535BD9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1637-941F-4BAE-840C-BCE9D09F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D7FC-A073-47A8-AAC5-D2F5851D7D7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7255-9762-470C-A05C-1223AB01EB5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530280" y="201600"/>
            <a:ext cx="7864560" cy="30718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572080" y="5428800"/>
            <a:ext cx="3214800" cy="500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езентация к уроку по повести «Ася» приготовлена Трошкиной Е.П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7" name="Рисунок 6" descr="pt_114.bmp"/>
          <p:cNvPicPr/>
          <p:nvPr/>
        </p:nvPicPr>
        <p:blipFill>
          <a:blip r:embed="rId2"/>
          <a:stretch/>
        </p:blipFill>
        <p:spPr>
          <a:xfrm>
            <a:off x="465120" y="3429000"/>
            <a:ext cx="2535120" cy="28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«Её душа мне понравилась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Гляжу на тонкий стан, на девственные плечи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Любуюсь тишиной больших и светлых глаз –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слушаю младенческие речи …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.С. Тургене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4" name="Рисунок 3" descr="8cf3eae23782.jpg"/>
          <p:cNvPicPr/>
          <p:nvPr/>
        </p:nvPicPr>
        <p:blipFill>
          <a:blip r:embed="rId1"/>
          <a:stretch/>
        </p:blipFill>
        <p:spPr>
          <a:xfrm>
            <a:off x="1109520" y="3438360"/>
            <a:ext cx="1914840" cy="6291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 счастье было так возможно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Я чуть было не постучал в окно. Я хотел тогда же сказать Гагину, что я прошу руки его сестры. Но такой сватанье в такую пору... "До завтра, - подумал я, - завтра я буду счастлив..."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втра я буду счастлив! У счастья нет завтрашнего дня; у него нет и вчерашнего; оно не помнит прошедшего, не думает о будущем; у него есть настоящее - и то не день, а мгновень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2857680"/>
            <a:ext cx="8229600" cy="34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т! ни одни глаза не заменили мне тех, когда-то с любовию устремленных на меня глаз, ни на чье сердце, припавшее к моей груди, не отвечало мое сердце таким радостным и сладким замиранием! Осужденный на одиночество бессемейного бобыля, доживаю я скучные годы, но я храню, как святыню, ее записочки и высохший цветок гераниума, тот самый цветок, который она некогда бросила мне из окн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8" name="Рисунок 4" descr="830.gif"/>
          <p:cNvPicPr/>
          <p:nvPr/>
        </p:nvPicPr>
        <p:blipFill>
          <a:blip r:embed="rId1"/>
          <a:stretch/>
        </p:blipFill>
        <p:spPr>
          <a:xfrm>
            <a:off x="1714680" y="285840"/>
            <a:ext cx="4857480" cy="2357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Итак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центре повествования излюбленная Тургеневская ситуация: сильная прекрасная женщина и слабый, храбрый только на словах мужчин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 любовной историей Аси и господина Н.  угадываются симптомы общественной болезни – бессилие людей  перед поступк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Содержимое 3" descr="82efc452c578.jpg"/>
          <p:cNvPicPr/>
          <p:nvPr/>
        </p:nvPicPr>
        <p:blipFill>
          <a:blip r:embed="rId1"/>
          <a:stretch/>
        </p:blipFill>
        <p:spPr>
          <a:xfrm>
            <a:off x="237960" y="-49320"/>
            <a:ext cx="3657600" cy="112413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4357800" y="1143000"/>
            <a:ext cx="450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ак ангел с небес к нам приходит любов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еси её бережно в трепетном сердц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е бойся не бурь, не потерь, не ок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се горести жизни развеет любов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дарит она и весну, и цветень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5" descr="018.jpg"/>
          <p:cNvPicPr/>
          <p:nvPr/>
        </p:nvPicPr>
        <p:blipFill>
          <a:blip r:embed="rId2"/>
          <a:stretch/>
        </p:blipFill>
        <p:spPr>
          <a:xfrm>
            <a:off x="5407200" y="2871720"/>
            <a:ext cx="2530440" cy="73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Имя И.С. Тургенева тесно связано с поэтическим и возвышенным чувством любви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2499840"/>
            <a:ext cx="361476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 при произнесении словосочетания «тургеневские девушки» сразу же возникает ряд ассоциаций, если не сказать виден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4786200" y="2714760"/>
            <a:ext cx="4214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 там, вдали, где роща так туман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де луч едва трепещет над троп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Елена, Маша, Лиза, Мариан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Ася, и несчастная Суса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обралися воздушною толп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Знакомые  причудливые тен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оздания любви и красоты, И девственной , и женственной мечты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х вызвал к жизни чистый, нежный ге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н дал им форму , краски и чер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.Д. Бальм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Тургеневские героин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Лиза Калитина – девушка не знающая духовных компромисс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талья Ласунская, показывающая уроки духовного мужеств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арианна, уходящая в народ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лена Стахова, отдающая жизнь за освобождение болгарского народ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ся  - сильная и способная люби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«Тургеневские девушки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4" name="Содержимое 3" descr="tur.jpg"/>
          <p:cNvPicPr/>
          <p:nvPr/>
        </p:nvPicPr>
        <p:blipFill>
          <a:blip r:embed="rId1"/>
          <a:stretch/>
        </p:blipFill>
        <p:spPr>
          <a:xfrm>
            <a:off x="6000840" y="2214720"/>
            <a:ext cx="1895400" cy="39495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4" descr="Полина Виардо.jpg"/>
          <p:cNvPicPr/>
          <p:nvPr/>
        </p:nvPicPr>
        <p:blipFill>
          <a:blip r:embed="rId2"/>
          <a:stretch/>
        </p:blipFill>
        <p:spPr>
          <a:xfrm>
            <a:off x="500040" y="1928880"/>
            <a:ext cx="3214800" cy="39751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5"/>
          <p:cNvSpPr/>
          <p:nvPr/>
        </p:nvSpPr>
        <p:spPr>
          <a:xfrm>
            <a:off x="635040" y="6215040"/>
            <a:ext cx="27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олина Виар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00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роза И.С. Тургенева созвучна поэзии великого английского драматурга  и поэта У. Шекспира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3071520"/>
            <a:ext cx="8229600" cy="32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ю всегда тебя, моя любовь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обою вдохновляюсь, как и прежде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славен я лишь тем, что вновь и внов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ля старых слов шью новые одежд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нет 76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Три повести о любви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34640"/>
            <a:ext cx="37576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ся», «Первая любовь», «Вешние воды», написанные в разное время, держатся особняком, кружатся в одном хороводе. Они о первой любв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4214880" y="2143080"/>
            <a:ext cx="4714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а солнце, на ветер, на вольный простор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Любовь уносите свою!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тоб только не видел ваш радостный взор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о всяком прохожем судью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егите на волю, в долины, в поля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а травке танцуйте легко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, ты, что впервые смущенно влюблен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оверься превратностям грез!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еги с ней на волю, под ветлы, под клен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д юную зелень берез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а солнце, на ветер, на вольный простор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Любовь уносите свою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арина Цвета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Работа по повести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то такое повест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то такое фабул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то отражено в заглавии повест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ова, по вашему мнению , идея повест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то такое композиция? Назовите элементы композиц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560" y="49968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4617b"/>
                </a:solidFill>
                <a:latin typeface="Calibri"/>
              </a:rPr>
              <a:t>Сюжетные элементы композиции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Овал 3"/>
          <p:cNvSpPr/>
          <p:nvPr/>
        </p:nvSpPr>
        <p:spPr>
          <a:xfrm>
            <a:off x="285840" y="1857240"/>
            <a:ext cx="2557440" cy="1414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Про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трелка вправо 4"/>
          <p:cNvSpPr/>
          <p:nvPr/>
        </p:nvSpPr>
        <p:spPr>
          <a:xfrm>
            <a:off x="3000240" y="250020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5"/>
          <p:cNvSpPr/>
          <p:nvPr/>
        </p:nvSpPr>
        <p:spPr>
          <a:xfrm>
            <a:off x="4500720" y="2000160"/>
            <a:ext cx="350028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Экспоз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Развернутая стрелка 6"/>
          <p:cNvSpPr/>
          <p:nvPr/>
        </p:nvSpPr>
        <p:spPr>
          <a:xfrm rot="1564200">
            <a:off x="8256240" y="2000160"/>
            <a:ext cx="887400" cy="87804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вал 7"/>
          <p:cNvSpPr/>
          <p:nvPr/>
        </p:nvSpPr>
        <p:spPr>
          <a:xfrm>
            <a:off x="785880" y="3571920"/>
            <a:ext cx="1928880" cy="13431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Завязка 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трелка вправо 8"/>
          <p:cNvSpPr/>
          <p:nvPr/>
        </p:nvSpPr>
        <p:spPr>
          <a:xfrm>
            <a:off x="3071880" y="414324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9"/>
          <p:cNvSpPr/>
          <p:nvPr/>
        </p:nvSpPr>
        <p:spPr>
          <a:xfrm>
            <a:off x="5143680" y="3643200"/>
            <a:ext cx="2000160" cy="1285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Развитие 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Развернутая стрелка 10"/>
          <p:cNvSpPr/>
          <p:nvPr/>
        </p:nvSpPr>
        <p:spPr>
          <a:xfrm rot="2475600">
            <a:off x="7929360" y="4071960"/>
            <a:ext cx="887400" cy="87804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11"/>
          <p:cNvSpPr/>
          <p:nvPr/>
        </p:nvSpPr>
        <p:spPr>
          <a:xfrm>
            <a:off x="214200" y="5214960"/>
            <a:ext cx="2214720" cy="10717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Кульмин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трелка вправо 12"/>
          <p:cNvSpPr/>
          <p:nvPr/>
        </p:nvSpPr>
        <p:spPr>
          <a:xfrm>
            <a:off x="2928960" y="5500800"/>
            <a:ext cx="571320" cy="48420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13"/>
          <p:cNvSpPr/>
          <p:nvPr/>
        </p:nvSpPr>
        <p:spPr>
          <a:xfrm>
            <a:off x="3500280" y="5072040"/>
            <a:ext cx="2143440" cy="10573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Развяз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трелка вправо 14"/>
          <p:cNvSpPr/>
          <p:nvPr/>
        </p:nvSpPr>
        <p:spPr>
          <a:xfrm>
            <a:off x="5857920" y="5357880"/>
            <a:ext cx="571320" cy="5000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15"/>
          <p:cNvSpPr/>
          <p:nvPr/>
        </p:nvSpPr>
        <p:spPr>
          <a:xfrm>
            <a:off x="6572160" y="5214960"/>
            <a:ext cx="2071800" cy="10000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Эпи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«Есть чувства, которые поднимают нас  от земли»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1934640"/>
            <a:ext cx="47862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о предо мной, открыта свету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тройна, лукава, смущена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тояла и ждала ответа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ак даль весенняя, он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вала она щемящей грустью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которой солнце, тишь, гроза..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Рисунок 3" descr="normal_5.jpg"/>
          <p:cNvPicPr/>
          <p:nvPr/>
        </p:nvPicPr>
        <p:blipFill>
          <a:blip r:embed="rId1"/>
          <a:stretch/>
        </p:blipFill>
        <p:spPr>
          <a:xfrm>
            <a:off x="5286240" y="2143080"/>
            <a:ext cx="3000600" cy="421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а</cp:lastModifiedBy>
  <dcterms:modified xsi:type="dcterms:W3CDTF">2011-11-28T20:23:06Z</dcterms:modified>
  <cp:revision>14</cp:revision>
  <dc:subject/>
  <dc:title>Первая любовь в изображении И.С. Тургенева. </dc:title>
</cp:coreProperties>
</file>