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F12-EF1A-4539-8FFD-66A591F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746-EBAD-4E3F-9EA0-A44909F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80A-E994-4B65-96D0-31C83AC2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B8F-506C-4B75-9418-C838719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D480-3FE4-4892-AE5B-02344952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0D11-A865-4E06-9C3E-A7F179E2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012-0C0C-4CA3-94BA-F915C10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947-9AF8-4DBA-A995-B15CFA9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2273-84E2-4FF1-BE99-B52BA43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2D70-AE1D-499F-A1E1-E18DF57D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D7D-B039-46D6-AEB2-0468F548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DC1-FAE4-441F-B970-E9F30344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8E2-6EEA-4CBF-88EB-F3C3267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657D-CED4-4540-8524-5F9A6E6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8BB-134E-4678-BE51-BB44C9B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04D1-C5C4-49A0-A7A5-CEC2EC8D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2AB5-DA14-4A0A-99A3-54C9AE87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CB2-6C44-4953-A32B-8E4423C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74D-BFBF-4AFD-8332-9CFD889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57D-AA0E-4023-B1DA-73E9C1D9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B5B-2EB3-49C1-A979-F0A35CED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4C1-3B78-41DD-9694-36C40D9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1DE-1CA0-4177-A9EB-6788DBE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46D-CF56-4FC3-A1AA-D1A1BB5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F3D7-BA11-42FA-9230-D1EF9A4234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D852-6304-48DD-8D83-B9816B9A76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0280" y="201600"/>
            <a:ext cx="786456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572080" y="5428800"/>
            <a:ext cx="3214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к уроку по повести «Ася» приготовлена Трошкиной Е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Рисунок 6" descr="pt_114.bmp"/>
          <p:cNvPicPr/>
          <p:nvPr/>
        </p:nvPicPr>
        <p:blipFill>
          <a:blip r:embed="rId2"/>
          <a:stretch/>
        </p:blipFill>
        <p:spPr>
          <a:xfrm>
            <a:off x="465120" y="3429000"/>
            <a:ext cx="2535120" cy="28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Её душа мне понравилась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Гляжу на тонкий стан, на девственные плеч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юбуюсь тишиной больших и светлых глаз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лушаю младенческие речи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С. Тургене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Рисунок 3" descr="8cf3eae23782.jpg"/>
          <p:cNvPicPr/>
          <p:nvPr/>
        </p:nvPicPr>
        <p:blipFill>
          <a:blip r:embed="rId1"/>
          <a:stretch/>
        </p:blipFill>
        <p:spPr>
          <a:xfrm>
            <a:off x="1109520" y="3438360"/>
            <a:ext cx="1914840" cy="629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 счастье было так возможно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чуть было не постучал в окно. Я хотел тогда же сказать Гагину, что я прошу руки его сестры. Но такой сватанье в такую пору... "До завтра, - подумал я, - завтра я буду счастлив...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тра я буду счастлив! У счастья нет завтрашнего дня; у него нет и вчерашнего; оно не помнит прошедшего, не думает о будущем; у него есть настоящее - и то не день, а мгновень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т! ни одни глаза не заменили мне тех, когда-то с любовию устремленных на меня глаз, ни на чье сердце, припавшее к моей груди, не отвечало мое сердце таким радостным и сладким замиранием! Осужденный на одиночество бессемейного бобыля, доживаю я скучные годы, но я храню, как святыню, ее записочки и высохший цветок гераниума, тот самый цветок, который она некогда бросила мне из ок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Рисунок 4" descr="830.gif"/>
          <p:cNvPicPr/>
          <p:nvPr/>
        </p:nvPicPr>
        <p:blipFill>
          <a:blip r:embed="rId1"/>
          <a:stretch/>
        </p:blipFill>
        <p:spPr>
          <a:xfrm>
            <a:off x="1714680" y="285840"/>
            <a:ext cx="485748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так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центре повествования излюбленная Тургеневская ситуация: сильная прекрасная женщина и слабый, храбрый только на словах мужч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любовной историей Аси и господина Н.  угадываются симптомы общественной болезни – бессилие людей  перед поступ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82efc452c578.jpg"/>
          <p:cNvPicPr/>
          <p:nvPr/>
        </p:nvPicPr>
        <p:blipFill>
          <a:blip r:embed="rId1"/>
          <a:stretch/>
        </p:blipFill>
        <p:spPr>
          <a:xfrm>
            <a:off x="237960" y="-49320"/>
            <a:ext cx="3657600" cy="11241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4357800" y="1143000"/>
            <a:ext cx="45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к ангел с небес к нам приходит любов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си её бережно в трепетном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 бойся не бурь, не потерь, не о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 горести жизни развеет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арит она и весну, и цветен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018.jpg"/>
          <p:cNvPicPr/>
          <p:nvPr/>
        </p:nvPicPr>
        <p:blipFill>
          <a:blip r:embed="rId2"/>
          <a:stretch/>
        </p:blipFill>
        <p:spPr>
          <a:xfrm>
            <a:off x="5407200" y="2871720"/>
            <a:ext cx="2530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мя И.С. Тургенева тесно связано с поэтическим и возвышенным чувством любв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499840"/>
            <a:ext cx="361476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при произнесении словосочетания «тургеневские девушки» сразу же возникает ряд ассоциаций, если не сказать вид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786200" y="271476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 там, вдали, где роща так туман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де луч едва трепещет над троп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лена, Маша, Лиза, Мариан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Ася, и несчастная Сус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бралися воздушною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накомые  причудливые те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здания любви и красоты, И девственной , и женственной меч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х вызвал к жизни чистый, нежный г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 дал им форму , краски и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.Д. Баль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ургеневские героин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за Калитина – девушка не знающая духовных компромисс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талья Ласунская, показывающая уроки духовного муж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ианна, уходящая в наро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лена Стахова, отдающая жизнь за освобождение болгарского наро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ся  - сильная и способная люб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«Тургеневские девушк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Содержимое 3" descr="tur.jpg"/>
          <p:cNvPicPr/>
          <p:nvPr/>
        </p:nvPicPr>
        <p:blipFill>
          <a:blip r:embed="rId1"/>
          <a:stretch/>
        </p:blipFill>
        <p:spPr>
          <a:xfrm>
            <a:off x="6000840" y="2214720"/>
            <a:ext cx="1895400" cy="3949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Полина Виардо.jpg"/>
          <p:cNvPicPr/>
          <p:nvPr/>
        </p:nvPicPr>
        <p:blipFill>
          <a:blip r:embed="rId2"/>
          <a:stretch/>
        </p:blipFill>
        <p:spPr>
          <a:xfrm>
            <a:off x="500040" y="1928880"/>
            <a:ext cx="3214800" cy="39751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635040" y="62150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лина Виар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оза И.С. Тургенева созвучна поэзии великого английского драматурга  и поэта У. Шекспир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ю всегда тебя, моя любов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бою вдохновляюсь, как и прежд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славен я лишь тем, что вновь и внов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старых слов шью новые одеж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нет 7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ри повести о любв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375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ся», «Первая любовь», «Вешние воды», написанные в разное время, держатся особняком, кружатся в одном хороводе. Они о первой любв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214880" y="2143080"/>
            <a:ext cx="4714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солнце, на ветер, на вольный прост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уносите свою!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только не видел ваш радостный вз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всяком прохожем судью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гите на волю, в долины, в пол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травке танцуйте легк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, ты, что впервые смущенно влюбле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оверься превратностям грез!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ги с ней на волю, под ветлы, под клен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 юную зелень бере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 солнце, на ветер, на вольный прост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юбовь уносите сво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арина Цвет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по повест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повест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фабу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отражено в заглавии повес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, по вашему мнению , идея повес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такое композиция? Назовите элементы компози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Calibri"/>
              </a:rPr>
              <a:t>Сюжетные элементы композици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285840" y="1857240"/>
            <a:ext cx="2557440" cy="1414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"/>
          <p:cNvSpPr/>
          <p:nvPr/>
        </p:nvSpPr>
        <p:spPr>
          <a:xfrm>
            <a:off x="3000240" y="250020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5"/>
          <p:cNvSpPr/>
          <p:nvPr/>
        </p:nvSpPr>
        <p:spPr>
          <a:xfrm>
            <a:off x="4500720" y="2000160"/>
            <a:ext cx="3500280" cy="1428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кспо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звернутая стрелка 6"/>
          <p:cNvSpPr/>
          <p:nvPr/>
        </p:nvSpPr>
        <p:spPr>
          <a:xfrm rot="1564200">
            <a:off x="8256240" y="2000160"/>
            <a:ext cx="887400" cy="878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"/>
          <p:cNvSpPr/>
          <p:nvPr/>
        </p:nvSpPr>
        <p:spPr>
          <a:xfrm>
            <a:off x="785880" y="3571920"/>
            <a:ext cx="1928880" cy="1343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Завязк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8"/>
          <p:cNvSpPr/>
          <p:nvPr/>
        </p:nvSpPr>
        <p:spPr>
          <a:xfrm>
            <a:off x="3071880" y="4143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9"/>
          <p:cNvSpPr/>
          <p:nvPr/>
        </p:nvSpPr>
        <p:spPr>
          <a:xfrm>
            <a:off x="5143680" y="3643200"/>
            <a:ext cx="2000160" cy="1285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азвити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звернутая стрелка 10"/>
          <p:cNvSpPr/>
          <p:nvPr/>
        </p:nvSpPr>
        <p:spPr>
          <a:xfrm rot="2475600">
            <a:off x="7929360" y="4071960"/>
            <a:ext cx="887400" cy="878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1"/>
          <p:cNvSpPr/>
          <p:nvPr/>
        </p:nvSpPr>
        <p:spPr>
          <a:xfrm>
            <a:off x="214200" y="5214960"/>
            <a:ext cx="2214720" cy="10717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Кульми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2"/>
          <p:cNvSpPr/>
          <p:nvPr/>
        </p:nvSpPr>
        <p:spPr>
          <a:xfrm>
            <a:off x="2928960" y="5500800"/>
            <a:ext cx="571320" cy="4842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3"/>
          <p:cNvSpPr/>
          <p:nvPr/>
        </p:nvSpPr>
        <p:spPr>
          <a:xfrm>
            <a:off x="3500280" y="5072040"/>
            <a:ext cx="2143440" cy="10573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Развя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4"/>
          <p:cNvSpPr/>
          <p:nvPr/>
        </p:nvSpPr>
        <p:spPr>
          <a:xfrm>
            <a:off x="5857920" y="5357880"/>
            <a:ext cx="57132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5"/>
          <p:cNvSpPr/>
          <p:nvPr/>
        </p:nvSpPr>
        <p:spPr>
          <a:xfrm>
            <a:off x="6572160" y="5214960"/>
            <a:ext cx="207180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Эпи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Есть чувства, которые поднимают нас  от земли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934640"/>
            <a:ext cx="4786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предо мной, открыта свет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ройна, лукава, смущен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ояла и ждала ответ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даль весенняя, 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вала она щемящей грустью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оторой солнце, тишь, гроза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Рисунок 3" descr="normal_5.jpg"/>
          <p:cNvPicPr/>
          <p:nvPr/>
        </p:nvPicPr>
        <p:blipFill>
          <a:blip r:embed="rId1"/>
          <a:stretch/>
        </p:blipFill>
        <p:spPr>
          <a:xfrm>
            <a:off x="5286240" y="2143080"/>
            <a:ext cx="300060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1-11-28T20:23:06Z</dcterms:modified>
  <cp:revision>14</cp:revision>
  <dc:subject/>
  <dc:title>Первая любовь в изображении И.С. Тургенева. </dc:title>
</cp:coreProperties>
</file>