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6E4-55E0-480A-BC48-2B787A4B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7B6-2E7F-4DC3-B89B-8487F1DA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110-C772-4462-9379-41DD75FC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22E-914D-4980-A58F-25D2F93A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E67E-7739-4E4F-887E-878E8C43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EDE0-CBE2-49F4-81FA-154EB456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5EFA-4C2B-47BE-9407-ADEEECC6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AEB3-87A4-4293-9172-A69EAD65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ACB4-EAB7-4AAB-9820-3696C13A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563C-AC22-4B67-94F3-42958214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6C8D-767F-4CE7-A180-38A7770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3DE-AECA-4FC3-85C2-FC451C3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A4B9-F356-409E-986C-FB1E9D4D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7D88-4843-4458-BCDA-6FC3647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D862-21F3-40D2-9741-D29B61C0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8617-851E-4A86-814C-50F4E242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25F0-5591-4BBE-8F28-4407C1F0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98F-8B50-4F65-BF03-2280B8BE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30B-711D-4E33-BE86-2220999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8C3-AB0D-4E66-9E6F-9711DB22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C90-FA83-406E-9890-111374FA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1AA-DA56-4720-B1C8-998CF40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606-BED7-4912-9A23-67F817C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8A2-4BBE-4B6B-BE67-470CED36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937-4CA9-4E0B-8BAE-48A0D410F8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1EE4-A70C-4C61-BB91-30B83E8851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Tahoma"/>
              </a:rPr>
              <a:t>Портретный очерк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3080" y="5638680"/>
            <a:ext cx="2286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ентация подготовл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ошкиной Е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002"/>
          <p:cNvPicPr/>
          <p:nvPr/>
        </p:nvPicPr>
        <p:blipFill>
          <a:blip r:embed="rId1"/>
          <a:stretch/>
        </p:blipFill>
        <p:spPr>
          <a:xfrm>
            <a:off x="304920" y="2057400"/>
            <a:ext cx="3581280" cy="449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002"/>
          <p:cNvPicPr/>
          <p:nvPr/>
        </p:nvPicPr>
        <p:blipFill>
          <a:blip r:embed="rId2"/>
          <a:stretch/>
        </p:blipFill>
        <p:spPr>
          <a:xfrm>
            <a:off x="4800600" y="1295280"/>
            <a:ext cx="4062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жду внешним портретом человека и его «внутренним» портретом всегда существует связь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полноты и большей достоверности портрета в очерке используются биографические данные изображаемого лица, описывается обстановка, в которой действует герой, наиболее характерные и наиболее существенные эпизоды из его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спользуй пословицы для написания очерк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img303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к начать очерк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туплении обычно автор говорит о чём-то очень важном для понимания личности героя очерка. Оно должно заинтересовать, заинтриговать читателя, чтобы вызвать желание прочитать этот очерк до кон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" descr="Купчиха за чаем 1918 ГРМ"/>
          <p:cNvPicPr/>
          <p:nvPr/>
        </p:nvPicPr>
        <p:blipFill>
          <a:blip r:embed="rId1"/>
          <a:stretch/>
        </p:blipFill>
        <p:spPr>
          <a:xfrm>
            <a:off x="762120" y="380880"/>
            <a:ext cx="2647800" cy="221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Достоевский"/>
          <p:cNvPicPr/>
          <p:nvPr/>
        </p:nvPicPr>
        <p:blipFill>
          <a:blip r:embed="rId2"/>
          <a:stretch/>
        </p:blipFill>
        <p:spPr>
          <a:xfrm>
            <a:off x="5715000" y="304920"/>
            <a:ext cx="2971800" cy="279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01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172200" y="4114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40-1"/>
          <p:cNvPicPr/>
          <p:nvPr/>
        </p:nvPicPr>
        <p:blipFill>
          <a:blip r:embed="rId4"/>
          <a:stretch/>
        </p:blipFill>
        <p:spPr>
          <a:xfrm>
            <a:off x="533520" y="3657600"/>
            <a:ext cx="2666880" cy="27050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209680" y="26989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тр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9880" y="327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к и лю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3581280" y="403848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гут бы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амыми разнообраз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рой очерк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4" descr="img301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нешний вид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вету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ор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ьёз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ро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риступ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ал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л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с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ыл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ть какой – либо вид, следить за своим вид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цо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углое, широкое, узкое, скуластое, прекрасное, милое, открытое, волевое, строгое, суровое, злое, доброе, интеллигентное, румяное, бледное, веснушчатое, смугл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4858920" y="628020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ртрет работы  Крамск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ерты лиц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сивые, неправильные, выразительные, мягкие, резкие, тонкие, грубые, крупные, мелк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4792680" y="1523880"/>
            <a:ext cx="404640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001840" y="6127920"/>
            <a:ext cx="31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портрет Крамског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ражение лиц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ёлое, скорбное, строгое, доброе, умное, печаль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цо как полотно, бледно от волнения, от тяжкой думы, от страд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9" descr="Боярская дочь"/>
          <p:cNvPicPr/>
          <p:nvPr/>
        </p:nvPicPr>
        <p:blipFill>
          <a:blip r:embed="rId1"/>
          <a:stretch/>
        </p:blipFill>
        <p:spPr>
          <a:xfrm>
            <a:off x="4765680" y="1447920"/>
            <a:ext cx="3921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img302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Внутренний портрет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характер человека, его внутренний мир: интересы, привычки, образ мыслей, отношение к делу, к людям, к самому себе, обычные для него настроения, поведение в разных ситуациях, его убеждения, взгляды, чувства и пережи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ачества челове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да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забо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тли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толюби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пыльчи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омер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опы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влюблён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бово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корыс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ород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жлив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сёл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печатли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ика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рожела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ознатель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удирован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1-12-04T20:09:1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