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3B4-61CA-4CBF-960B-6061CF60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DBE-8773-4970-9DAA-630D604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000-C91B-4C11-BDA0-A82DC500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34E-59FC-420B-B435-C13CEE4D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BE0F-80B6-4C1E-8960-7B8B6F6C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61F7-0B31-4360-8503-5123CE42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CB81-7D9B-440B-B194-E430CA17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18F5-760C-4799-8702-A227F98B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D48A-6E11-4987-BE11-5BA7B56F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ED29-ECF1-40AB-95B9-4C694714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74F3-452B-4414-9BB9-B4D2F02D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091-F397-4800-AF72-12C20F57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FF93-A7C7-45F5-AE21-44969AB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41C2-C168-42BE-9260-4F5E27C6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CF79-A7FA-4D21-9EC4-AE5FDC14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059B-B440-43F3-AC7A-5490AE0B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7559-5CDF-4250-9542-66CA6758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3D4-B583-4231-83AA-69794D7C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C10-58C5-4C4C-B8B9-80C3E2ED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F1D-3617-4B9B-B7E6-E1FFA4F0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505-C9C1-46DC-8D1E-2730FB2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D31-1591-4A33-A080-B7AF729D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7DE-E22C-454D-91B5-C9BF5DB0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699-A270-4A8B-A638-906CFC2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03F1-D46E-4DBC-89BA-EEBE6629BA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16F8-CFCB-4130-B7AF-023AB6BF68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Tahoma"/>
              </a:rPr>
              <a:t>Портретный очерк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3080" y="5638680"/>
            <a:ext cx="2286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ентация подготовл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ошкиной Е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002"/>
          <p:cNvPicPr/>
          <p:nvPr/>
        </p:nvPicPr>
        <p:blipFill>
          <a:blip r:embed="rId1"/>
          <a:stretch/>
        </p:blipFill>
        <p:spPr>
          <a:xfrm>
            <a:off x="304920" y="2057400"/>
            <a:ext cx="3581280" cy="449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002"/>
          <p:cNvPicPr/>
          <p:nvPr/>
        </p:nvPicPr>
        <p:blipFill>
          <a:blip r:embed="rId2"/>
          <a:stretch/>
        </p:blipFill>
        <p:spPr>
          <a:xfrm>
            <a:off x="4800600" y="1295280"/>
            <a:ext cx="4062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жду внешним портретом человека и его «внутренним» портретом всегда существует связь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полноты и большей достоверности портрета в очерке используются биографические данные изображаемого лица, описывается обстановка, в которой действует герой, наиболее характерные и наиболее существенные эпизоды из его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пользуй пословицы для написания очерк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img30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к начать очерк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туплении обычно автор говорит о чём-то очень важном для понимания личности героя очерка. Оно должно заинтересовать, заинтриговать читателя, чтобы вызвать желание прочитать этот очерк до ко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Купчиха за чаем 1918 ГРМ"/>
          <p:cNvPicPr/>
          <p:nvPr/>
        </p:nvPicPr>
        <p:blipFill>
          <a:blip r:embed="rId1"/>
          <a:stretch/>
        </p:blipFill>
        <p:spPr>
          <a:xfrm>
            <a:off x="762120" y="380880"/>
            <a:ext cx="2647800" cy="221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Достоевский"/>
          <p:cNvPicPr/>
          <p:nvPr/>
        </p:nvPicPr>
        <p:blipFill>
          <a:blip r:embed="rId2"/>
          <a:stretch/>
        </p:blipFill>
        <p:spPr>
          <a:xfrm>
            <a:off x="5715000" y="304920"/>
            <a:ext cx="2971800" cy="279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01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172200" y="4114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40-1"/>
          <p:cNvPicPr/>
          <p:nvPr/>
        </p:nvPicPr>
        <p:blipFill>
          <a:blip r:embed="rId4"/>
          <a:stretch/>
        </p:blipFill>
        <p:spPr>
          <a:xfrm>
            <a:off x="533520" y="3657600"/>
            <a:ext cx="2666880" cy="2705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209680" y="26989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тр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9880" y="327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к и лю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3581280" y="403848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гут бы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амыми разнообраз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рой очерк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4" descr="img301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нешний вид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вету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ор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ьёз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р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риступ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ал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л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с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ыл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ть какой – либо вид, следить за своим вид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цо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углое, широкое, узкое, скуластое, прекрасное, милое, открытое, волевое, строгое, суровое, злое, доброе, интеллигентное, румяное, бледное, веснушчатое, смугл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4858920" y="628020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ртрет работы  Крамск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ерты лиц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сивые, неправильные, выразительные, мягкие, резкие, тонкие, грубые, крупные, мелк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4792680" y="1523880"/>
            <a:ext cx="404640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001840" y="6127920"/>
            <a:ext cx="31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портрет Крамско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ражение лиц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ёлое, скорбное, строгое, доброе, умное, печаль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цо как полотно, бледно от волнения, от тяжкой думы, от страд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9" descr="Боярская дочь"/>
          <p:cNvPicPr/>
          <p:nvPr/>
        </p:nvPicPr>
        <p:blipFill>
          <a:blip r:embed="rId1"/>
          <a:stretch/>
        </p:blipFill>
        <p:spPr>
          <a:xfrm>
            <a:off x="4765680" y="1447920"/>
            <a:ext cx="392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img302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Внутренний портрет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характер человека, его внутренний мир: интересы, привычки, образ мыслей, отношение к делу, к людям, к самому себе, обычные для него настроения, поведение в разных ситуациях, его убеждения, взгляды, чувства и пережи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чества челове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да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забо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тли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толюби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пыльчи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оме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опы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влюблён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бово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корыс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род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жли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ёл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печатли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ика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рожела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озна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удирован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1-12-04T20:09:1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