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7E1-E603-4119-B70A-2656BC62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DD7-9CCF-4777-9CCE-06DDBFF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BFF-3631-48FE-8DF6-EF953502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486-447E-4A24-9077-9A60B7E2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9D90-DBB9-4E2F-8FB9-4A28B754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021-BF33-4BBF-BB4D-8417814E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F5C4-3BD8-4702-B79F-2EA42896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EF5B-E9EF-4788-A20C-047E49D3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258-34E8-4AAA-AF01-5E2E5EF6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D412-4596-4EC3-BAF6-279F1D54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00CE-4F21-4E28-BFCF-1873CED6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5E0-D433-427E-8E31-08D9A611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E429-EC47-49CD-B2F7-D8BACE5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4B8F-35BC-46C7-B16B-9C72863E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2B7B-A758-40BA-BBC1-771F0AA1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91CC-0DD4-412F-ADC0-F9029712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E00C-4636-473C-A2FD-01FBF477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EDD1A-3293-4F02-B057-681D1BFF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95688-782B-4DFE-925F-CD43447A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909E0-48EB-4B4C-B9B3-171214E6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B84F9-B987-4128-A1B3-1C65EF46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B8F4E-CF23-4CAC-A20F-D5AC48F2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401-4276-442F-B6CC-124CB5B6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111E8-BBD3-433C-8946-6B1A7EB1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C3E35-9CA8-4BE9-8652-162D72EA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06A58-94FD-4523-9258-5F5E194E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0BE55-D2D9-4944-BB58-7E7AF2D2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F3AB4-E7D0-4D27-929F-4894B072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DB8F8-6656-4DF4-9786-FBBA76B5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1BCD0-9202-4C32-9698-15BFD882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6076-D708-480F-8F6E-F7A92E8C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A35B-81B9-46CF-A44B-2B46BB33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7AFA-62AF-4187-BD83-267DB62F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EF0-B587-4FFD-B767-A057068C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5C4C-99FC-42CD-B36B-B011D2B4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8897-43D8-42A2-A76D-8F1A26F6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435B-B3A6-4B1E-9896-954820C6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6B96-D176-43C2-8A36-19DD193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6A89-B872-406A-99BA-E64AB945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D678-B0D9-4DB6-B8EE-A209FAD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D936-4CEC-4350-AD8D-507DAD93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320D-15C9-4740-BD4C-1FA5C9C3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5870-B7A2-46C1-A9D5-24E7E723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509B-73C4-498F-8BE1-FACA47D1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732-6D4F-486A-A70F-93A1D2D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DF84-2FE9-47C5-84B6-566C44FE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27898-6F35-4985-ADC4-41C0EF36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1E78-93CA-4397-9CD0-9A2A08D7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9E1EA-703A-4513-862E-CA3E58B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6CB35-D7A2-4E88-AD62-BD4D2BF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8AA07-14B7-4546-8992-0F41B8F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3AE8-3673-4C95-BB99-8BBF863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A3C3-7C30-4FC1-925D-75C6A01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1381-0CD7-4137-95DF-D81A9BF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A69D5-BB62-4414-88A3-5A0201A8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290-C64C-4A04-A281-011B1F8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A068-9794-4CA2-93BC-FF39E652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20608-C8AA-4364-A17B-3C1B1813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69EE-B61C-4729-BAD5-6CC73BDC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C5DB-77C0-44F7-AFC5-04DAC91B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19DA-160C-493B-93FA-DED44F8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E4882-9845-43DD-83A6-4427F40C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81266-6332-419C-B8C2-8FF2E26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15A16-D871-47AC-B749-C34ADB0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B1DA-7B45-45AD-B9D0-C7E7799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C92C-8865-4B6D-B033-18FEA64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B44-548D-49E2-9D5E-A422F4F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4E690-088E-43B0-8CF0-6AFE9F7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AEB99-B2BC-4204-BBD5-FBB0471D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5524-2B5F-40FC-B9EE-7D60B1C8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6AC60-4F5F-4496-9CFE-FD3CF9A7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05435-3112-424C-8262-00F4D33B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D50B5-9EDE-4100-AAED-CCA71F18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14F38-C092-4F31-9C60-EF1B9C30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EB6BE-B32B-4FF8-95FB-AD39B0B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96B9E-6DCA-4A21-9630-E330943F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9D9BA-8AB3-42B7-9DB7-6D9CD4BA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FA3-8819-4015-B5AD-3DF6426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B4893-3346-4498-9D9A-C00D611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94F1C-6671-47CA-941D-E4BEC2A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E11A6-5DC1-4E2D-8CAC-89A8E37A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12F6B-00DA-49A4-8307-A861E461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BC824-2A35-4CBD-9A99-34E5D71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E1E68-B8DC-42BC-8473-1CE1BB2C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C0854-6127-4AF0-BB76-78925521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BE4E-2F3B-49BC-B8B7-336BB1D7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8918-FDCE-4E92-9349-39B2AAE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666F1-289E-402B-8D06-11390F67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A41-2BD1-4B5D-A4DB-BB9A662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10A0D-5100-41E2-99CA-3DFF73D1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D6B8-643E-48DB-882A-A098677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7BAEE-6EFD-474B-8CD1-D13A35F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87A4F-7B1A-4955-B55B-0A9B0C2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6933A-875C-4F7E-9AE9-65A39C8D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063C0-7DB6-4F09-8F4C-AF8452BF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86E15-5F49-4514-895E-122BAAD3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D646-8F29-47BD-959D-93D9AE86091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02E-2760-4717-B14F-6C7C13B95E9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1A8-28F3-4ED5-917F-AD74169FCA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95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0AA-DB67-45EB-BDCE-DA3A4D9C2D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51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EBA8-10AD-4CE7-B7B3-A7403ADE7ED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C3F6-788D-4DB2-B861-2FED6FC3EE1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4DC7-7FE7-4762-9ED3-8B1A484620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0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F3B1-B99A-4274-A91B-C70D8E0B17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5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258920" y="3429000"/>
            <a:ext cx="68403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троение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зомерия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оменклату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124000" y="765000"/>
            <a:ext cx="518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лкены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2421000"/>
            <a:ext cx="73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1844640"/>
            <a:ext cx="81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Алкены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ациклические углеводороды, содержащие в молекуле, помимо одинарных связей, одну двойную связь между атомами углерода и соответствующие общей формуле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2016000" cy="16570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1908000" y="333360"/>
            <a:ext cx="561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предел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2n+2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             C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2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                 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е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тан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п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у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н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к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п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к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он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ек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08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н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кс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п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к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он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ец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Гомологические ря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59280" y="4508640"/>
            <a:ext cx="338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тен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00508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344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927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025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СН 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59280" y="4508640"/>
            <a:ext cx="338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тен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0508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1344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927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025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С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27640" y="5084640"/>
            <a:ext cx="4248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- метилпропе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0508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1344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927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724280"/>
            <a:ext cx="10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7236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95640" y="5229360"/>
            <a:ext cx="424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иклобу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7236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67280" y="472428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5164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5640" y="5229360"/>
            <a:ext cx="424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иклобу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7236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67280" y="472428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5164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262560" y="4365720"/>
            <a:ext cx="2881440" cy="235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=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                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-БУТЕН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8000" y="4365720"/>
            <a:ext cx="2881440" cy="229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=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                 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С-БУТЕН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08360" y="4724280"/>
            <a:ext cx="57636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6720" y="4724280"/>
            <a:ext cx="50328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851280" y="5300640"/>
            <a:ext cx="50472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48360" y="5373720"/>
            <a:ext cx="50328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88000" y="4797360"/>
            <a:ext cx="57636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659640" y="5300640"/>
            <a:ext cx="50472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956360" y="4724280"/>
            <a:ext cx="43164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56720" y="5373720"/>
            <a:ext cx="28728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Главная цепь – самая длинная цепочка атомов углерода в молекуле, содержащая двойную связ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cc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 rot="354600">
            <a:off x="1898280" y="20520"/>
            <a:ext cx="49752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ыбор главной цеп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95640" y="5661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24200" y="422100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– С – С = СН – СН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0" y="4724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348000" y="4076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67280" y="4724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25720" y="3573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25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17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236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3344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27240" y="4075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17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25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умерация атомов главной цепи начинается с того конца, к которому ближе находится двойная связ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1979640" y="3500280"/>
            <a:ext cx="49687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96200" y="3952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05320" y="407664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– С – С = СН – 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32000" y="4581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132000" y="3933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1280" y="4581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678040" y="4724280"/>
            <a:ext cx="96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08360" y="5084640"/>
            <a:ext cx="5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472428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00360" y="3429000"/>
            <a:ext cx="91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672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17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09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393372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1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1016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 rot="235200">
            <a:off x="899640" y="0"/>
            <a:ext cx="7345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умерация атомов главной цеп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Действие 1: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Выбор главной це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ование названия углеводорода начинается с определения главной цепи – самой длинной цепочки атомов углерода в молекуле. В случае алкенов главная цепь должна содержать двойную связ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84360" y="2006640"/>
            <a:ext cx="829152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о, если по расположению двойной связи нельзя определить начало нумерации атомов в цепи, то его определяет положение заместителей так же, как для предельных углеводородов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Н = СН – СН –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012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05360" y="551664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4764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0000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2400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36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1164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2144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 rot="235200">
            <a:off x="971280" y="189000"/>
            <a:ext cx="7345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умерация атомов главной цеп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58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0" y="1711080"/>
            <a:ext cx="9143640" cy="2778840"/>
            <a:chOff x="0" y="1711080"/>
            <a:chExt cx="9143640" cy="2778840"/>
          </a:xfrm>
        </p:grpSpPr>
        <p:cxnSp>
          <p:nvCxnSpPr>
            <p:cNvPr id="660" name="_s131076"/>
            <p:cNvCxnSpPr>
              <a:stCxn id="661" idx="0"/>
              <a:endCxn id="662" idx="2"/>
            </p:cNvCxnSpPr>
            <p:nvPr/>
          </p:nvCxnSpPr>
          <p:spPr>
            <a:xfrm flipV="1" rot="16200000">
              <a:off x="4387320" y="2091960"/>
              <a:ext cx="216360" cy="2320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3" name="_s131078"/>
            <p:cNvCxnSpPr>
              <a:stCxn id="664" idx="0"/>
              <a:endCxn id="665" idx="2"/>
            </p:cNvCxnSpPr>
            <p:nvPr/>
          </p:nvCxnSpPr>
          <p:spPr>
            <a:xfrm flipH="1" flipV="1" rot="5400000">
              <a:off x="7868520" y="3251160"/>
              <a:ext cx="2163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6" name="_s131079"/>
            <p:cNvCxnSpPr>
              <a:stCxn id="667" idx="0"/>
              <a:endCxn id="662" idx="2"/>
            </p:cNvCxnSpPr>
            <p:nvPr/>
          </p:nvCxnSpPr>
          <p:spPr>
            <a:xfrm flipH="1" flipV="1" rot="5400000">
              <a:off x="3228840" y="3251160"/>
              <a:ext cx="21636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131080"/>
            <p:cNvCxnSpPr>
              <a:stCxn id="669" idx="0"/>
              <a:endCxn id="662" idx="2"/>
            </p:cNvCxnSpPr>
            <p:nvPr/>
          </p:nvCxnSpPr>
          <p:spPr>
            <a:xfrm flipH="1" flipV="1" rot="5400000">
              <a:off x="2067840" y="2092320"/>
              <a:ext cx="216360" cy="2320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131081"/>
            <p:cNvCxnSpPr>
              <a:stCxn id="665" idx="0"/>
              <a:endCxn id="671" idx="2"/>
            </p:cNvCxnSpPr>
            <p:nvPr/>
          </p:nvCxnSpPr>
          <p:spPr>
            <a:xfrm flipV="1" rot="16200000">
              <a:off x="6166440" y="903240"/>
              <a:ext cx="216360" cy="340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131082"/>
            <p:cNvCxnSpPr>
              <a:stCxn id="662" idx="0"/>
              <a:endCxn id="671" idx="2"/>
            </p:cNvCxnSpPr>
            <p:nvPr/>
          </p:nvCxnSpPr>
          <p:spPr>
            <a:xfrm flipH="1" flipV="1" rot="5400000">
              <a:off x="3845880" y="1988280"/>
              <a:ext cx="216360" cy="1236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1" name="_s131083"/>
            <p:cNvSpPr/>
            <p:nvPr/>
          </p:nvSpPr>
          <p:spPr>
            <a:xfrm>
              <a:off x="3708000" y="1711080"/>
              <a:ext cx="1728000" cy="78804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Изомерия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алкенов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_s131084"/>
            <p:cNvSpPr/>
            <p:nvPr/>
          </p:nvSpPr>
          <p:spPr>
            <a:xfrm>
              <a:off x="2167920" y="2715120"/>
              <a:ext cx="2336040" cy="42984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труктурна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_s131085"/>
            <p:cNvSpPr/>
            <p:nvPr/>
          </p:nvSpPr>
          <p:spPr>
            <a:xfrm>
              <a:off x="6807960" y="2715120"/>
              <a:ext cx="2335680" cy="42984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Пространственна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_s131086"/>
            <p:cNvSpPr/>
            <p:nvPr/>
          </p:nvSpPr>
          <p:spPr>
            <a:xfrm>
              <a:off x="0" y="3360600"/>
              <a:ext cx="203184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Углеродного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келет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_s131087"/>
            <p:cNvSpPr/>
            <p:nvPr/>
          </p:nvSpPr>
          <p:spPr>
            <a:xfrm>
              <a:off x="2319840" y="3360600"/>
              <a:ext cx="203220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Положени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кратной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вязи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_s131088"/>
            <p:cNvSpPr/>
            <p:nvPr/>
          </p:nvSpPr>
          <p:spPr>
            <a:xfrm>
              <a:off x="6959880" y="3360600"/>
              <a:ext cx="203184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Цис-тран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_s131090"/>
            <p:cNvSpPr/>
            <p:nvPr/>
          </p:nvSpPr>
          <p:spPr>
            <a:xfrm>
              <a:off x="4640040" y="3360600"/>
              <a:ext cx="203184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Межклассова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зомерия алкено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троение атома углерод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3551400"/>
            <a:ext cx="34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78280" y="3100320"/>
            <a:ext cx="1262160" cy="10922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3217320" y="2358720"/>
            <a:ext cx="2511360" cy="2644920"/>
          </a:xfrm>
          <a:prstGeom prst="blockArc">
            <a:avLst>
              <a:gd name="adj1" fmla="val 9924723"/>
              <a:gd name="adj2" fmla="val 875277"/>
              <a:gd name="adj3" fmla="val 2889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2843640" y="1987920"/>
            <a:ext cx="3384360" cy="3529080"/>
          </a:xfrm>
          <a:prstGeom prst="blockArc">
            <a:avLst>
              <a:gd name="adj1" fmla="val 9823748"/>
              <a:gd name="adj2" fmla="val 976252"/>
              <a:gd name="adj3" fmla="val 2199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8000" y="46530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22800" y="515772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35640" y="4076640"/>
            <a:ext cx="377640" cy="327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06920" y="3068640"/>
            <a:ext cx="37800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19640" y="5013360"/>
            <a:ext cx="37800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08720" y="2349360"/>
            <a:ext cx="377640" cy="327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3284640"/>
            <a:ext cx="37764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0360" y="4365720"/>
            <a:ext cx="37800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битали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ешнего электронного уров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49800" y="386064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49800" y="386064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49800" y="2781360"/>
            <a:ext cx="2872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16720" y="386064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9080" y="2781360"/>
            <a:ext cx="2854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16720" y="2781360"/>
            <a:ext cx="28872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69080" y="3860640"/>
            <a:ext cx="28872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56000" y="3357720"/>
            <a:ext cx="720720" cy="7920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6093000"/>
            <a:ext cx="7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68360" y="5157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08720" y="522936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Электронно-графические формулы атомов углерод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216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7164360" y="3715560"/>
            <a:ext cx="64764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939640" y="3716280"/>
            <a:ext cx="576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364000" y="4075920"/>
            <a:ext cx="576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364000" y="4652280"/>
            <a:ext cx="57636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6000" y="4724280"/>
            <a:ext cx="144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5508720" y="4724280"/>
            <a:ext cx="144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364000" y="4075920"/>
            <a:ext cx="57636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5579640" y="4147920"/>
            <a:ext cx="180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299280" y="37875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6299280" y="37875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6299280" y="37875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939640" y="3716280"/>
            <a:ext cx="64764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588000" y="3715560"/>
            <a:ext cx="64800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27280" y="3787560"/>
            <a:ext cx="180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6877080" y="3789360"/>
            <a:ext cx="1440" cy="4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556000" y="3715560"/>
            <a:ext cx="64764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55640" y="4075920"/>
            <a:ext cx="576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55640" y="4652280"/>
            <a:ext cx="576360" cy="5763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1186920" y="4724280"/>
            <a:ext cx="180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899640" y="4724280"/>
            <a:ext cx="180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755640" y="4075920"/>
            <a:ext cx="576360" cy="5763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900000" y="414936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908000" y="3715560"/>
            <a:ext cx="64800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619280" y="3789360"/>
            <a:ext cx="1440" cy="4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195640" y="3787560"/>
            <a:ext cx="144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724000" y="4148280"/>
            <a:ext cx="180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116000" y="4148280"/>
            <a:ext cx="144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40360" y="242100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озбуждённом состоя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32000" y="3249720"/>
            <a:ext cx="160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5157720"/>
            <a:ext cx="2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7242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9280" y="4724280"/>
            <a:ext cx="37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414972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14972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364500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797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42210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32000" y="3284640"/>
            <a:ext cx="160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364500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540160"/>
            <a:ext cx="384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глерод в обычном состоя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43120" y="4292640"/>
            <a:ext cx="4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56360" y="4365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959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4400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92360" y="393372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35480" y="3778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19640" y="3645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332000" y="3715560"/>
            <a:ext cx="57456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0278 C 0.00312 -0.03445 -0.00174 -0.04578 0.00851 -0.06613 C 0.01215 -0.08116 0.01267 -0.10081 0.02118 -0.11283 C 0.02691 -0.13572 0.04792 -0.1533 0.0625 -0.16555 C 0.06528 -0.16786 0.0691 -0.16763 0.07205 -0.16971 C 0.07413 -0.1711 0.07604 -0.17318 0.0783 -0.17411 C 0.08246 -0.17596 0.09097 -0.17827 0.09097 -0.17827 C 0.11736 -0.17757 0.14392 -0.17804 0.17031 -0.17619 C 0.17361 -0.17596 0.17986 -0.17203 0.17986 -0.17203 C 0.18368 -0.16694 0.19253 -0.15931 0.19253 -0.15931 C 0.19583 -0.15283 0.1974 -0.14659 0.20052 -0.14012 C 0.20677 -0.10729 0.20208 -0.13457 0.20208 -0.05572 E">
                                      <p:cBhvr>
                                        <p:cTn id="50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ибридизация орбиталей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ридизацией орбиталей называется процесс выравнивания их по форме и 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00720" y="4292640"/>
            <a:ext cx="1295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84360" y="436392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84360" y="436392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84360" y="3284640"/>
            <a:ext cx="2872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51280" y="436392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03640" y="3284640"/>
            <a:ext cx="28584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51280" y="3284640"/>
            <a:ext cx="2890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3640" y="4363920"/>
            <a:ext cx="28872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2920" y="4005360"/>
            <a:ext cx="720720" cy="7920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0360" y="4292640"/>
            <a:ext cx="430200" cy="12970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12000" y="3213000"/>
            <a:ext cx="28872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3213000"/>
            <a:ext cx="28908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32720" y="4292640"/>
            <a:ext cx="430200" cy="12970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51640" y="4292640"/>
            <a:ext cx="430200" cy="12970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24720" y="3213000"/>
            <a:ext cx="28908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44000" y="3213000"/>
            <a:ext cx="288720" cy="1150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44000" y="4363920"/>
            <a:ext cx="285480" cy="11527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6165720"/>
            <a:ext cx="7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8000" y="4005360"/>
            <a:ext cx="5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4360" y="5516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8000" y="5589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27280" y="5589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19640" y="5589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3564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661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93080" y="5661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84692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4300" spc="-1" strike="noStrike">
                <a:solidFill>
                  <a:srgbClr val="ffffff"/>
                </a:solidFill>
                <a:latin typeface="Arial"/>
              </a:rPr>
              <a:t>-связи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 гибридные орбитали  лежат на плоскости угол между ними 12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8974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разование </a:t>
            </a:r>
            <a:r>
              <a:rPr b="0" lang="ru-RU" sz="3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-связ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41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е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орбитали атомов углерода, которые не участвуют в гибридизации, будут перекрываться в двух областях, перпендикулярных плоскости молекулы («боковое перекрывание»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642160" cy="2881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716360" y="6308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лина двойной связи - 0,134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40720" y="501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101080" y="501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40720" y="522936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Модель молекулы этиле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rcRect l="28579" t="0" r="36198" b="28533"/>
          <a:stretch/>
        </p:blipFill>
        <p:spPr>
          <a:xfrm>
            <a:off x="1617840" y="2924280"/>
            <a:ext cx="2663640" cy="15112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165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4-11-15T18:40:02Z</dcterms:modified>
  <cp:revision>27</cp:revision>
  <dc:subject/>
  <dc:title>PowerPoint Presentation</dc:title>
</cp:coreProperties>
</file>