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5CC-E32B-4B11-BB9D-0FCE7D5C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F4E-C4FC-41D9-B7A5-CC2EC92C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FD8-190D-4DD2-913A-FE6865FE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FD8-CDF5-4EFC-9A40-9D48D4D9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1C11-385D-4763-B554-E6D65C67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37E4-F26B-403D-A0B7-0CE612BD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67A3-60E8-40BE-8BD0-E2FA5C39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F795-ED64-443C-9932-70E828C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8E44-02E9-4540-BFBC-B7FD8C8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268D-35E2-4797-B139-23FDAF1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2657-806F-4518-A8AC-C066D0B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D8C-0F83-44F7-86B9-4B8668D0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D292-4813-4B38-8A2A-2348DCA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FF5-AEA6-4FAB-A3C5-E7EC21DD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1CBD-6DAE-4DC1-B7AE-949D1FE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EDBC-E1A6-4C99-AAEA-5EDEC333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3DD-8FF1-4280-AABB-D2EC6C21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4DE79-F131-4D90-B0B8-0B1EC0B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A547B-5E7E-4B69-AE6D-90247637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A025F-B8E7-4082-AC0D-ADAAD0EB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A41BB-5342-4D9C-BE67-24826A5E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D6E7C-FF14-47D3-A965-BBF9F9B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FEA-1B3A-487C-99AA-4AD9C3AB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72DD-D52F-448E-B58B-DED2941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E861C-04CB-4E90-ABBE-8907DA6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F8388-6753-4938-B132-59CB2A4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66B09-0527-409C-9A4E-E72E661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5E912-8F33-4E80-8AAC-C9D7E03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7B57D-AA40-4BC3-AC43-8A77A580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E9BD5-FB0F-4760-9735-8FE4F0BB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F127-4E11-41FC-B526-B6CDB1D3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0441-349C-4111-9D26-FD2677C9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6214-E070-4969-9C68-E610B59F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916-3215-4BAD-B517-1B015D2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29BA-0A30-4146-A9F4-772F48FD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5D11-6EEE-4E11-B54F-CD6BCE8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AC2D6-8A6B-40EA-8204-9DBFD222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D5D7-9966-4A1E-9830-4A0FC57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C975-DE38-444F-8157-4331226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BB30-129A-4D56-A806-BD2B717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C820-82ED-41F7-A336-603C63AB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50D0-4109-4F03-806B-6C017BC7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D496-53ED-42E7-8F8E-9DFA47EA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A8F4-C09B-4EDE-99C5-AD60D24E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073-73CE-4AB3-91E8-074068A3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A625-4C8F-49A7-A176-908330D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F619-D2C5-47F9-9249-8C32F357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05FF-CD25-47D5-96EF-24EC39C2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1387-3A22-4D72-8840-3444F8A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6A09-C475-4152-B9EB-9243EBE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4F9F-A00D-4947-A254-EB429E8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EF183-7246-4F9B-873A-A37270B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BB33-74FA-439C-B1D0-247ED9B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B49C-B7D3-4464-86C6-7F24A750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A5A8-AB58-4B84-8490-6BA87C73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2E3-FEE2-4B40-88A9-2F142BD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1112-62C0-48F6-B423-AE13205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7F67-52FD-4672-94A6-F5E61A79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E147F-6CBF-4E8E-8CC3-E1695A8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32B7-6F2D-466A-9026-2F7493E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CD5A-33C9-458A-8E34-656B398A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D657-C8F6-4122-A38C-7E0F5CB6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7E558-DD2D-4087-A211-46D6E77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73A0-EC1F-42C5-A692-6B60FDF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6145-E2E6-4C75-A13E-855CA2B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17065-749F-454A-A89E-7F68636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143-BD21-4209-8952-0F79D472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D43F9-306B-4C3A-906D-B32D783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4453-57DD-449F-A3F4-2BBC16C8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9280-02CF-4543-B50C-D0BE74C6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56B5D-AE6A-4AE9-ACB5-EC164B76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E5827-735C-4285-990E-F7A64E39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F916B-5063-40E7-9203-B146BC02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C588B-EED0-4B4C-97AC-5AA45F4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1A0D3-C404-4DDB-B4F3-A548FE9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0918C-87E9-4DA0-8AB6-5D00FA7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D59C3-8761-431F-BFB9-F3C93E6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A10-1A92-4CC2-9539-6801C539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7B949-2FDA-4325-A63E-7744C04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B4134-6E85-4D40-B94A-4791F14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358B3-040B-4A87-9AF0-24EAE7D8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2CDF40-042E-4B59-980F-9547E246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F97B1-6EF1-49E5-8403-A7F56E89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BE73-1217-4CC2-991D-F1798362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644E6-FB9C-48B2-BA0C-083F4C11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DEE35-50B1-49BD-8154-DEA5139E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65ED9-58B6-43D3-8FBE-0B90A0DC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AEA64-8434-4002-B807-0B188480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C9A-5634-4089-B545-286CD44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72943-F63F-4700-8887-73485AC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7C80-E8D2-4CB5-AF55-A4E714A6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19BD-3979-47CC-B2AB-6DC3BA5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5786-225D-463F-A91A-A419B8A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D5BB7-F959-4FA5-8AC6-F7625214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38E8-E275-4E49-9524-F697578C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B6C3-D5FD-462F-9206-6B07358D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B89-8003-4472-9CAE-8ABF93A06B0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CA8-A7D0-4BC2-BDBF-2314B9C23B4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82A2-97F6-42E6-AB95-25C0845F38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6F5D-0C07-4044-A755-AEAF0ED106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5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721-6ADB-40A8-891B-4D04344C52B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D93E-AB97-49EA-984D-26B1CB12B03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A2D-37FD-4E17-8B1A-425AF416E8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0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C412-4A2D-41A3-A0A2-D69EF2D497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5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1258920" y="3429000"/>
            <a:ext cx="68403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троение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зомерия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оменклатур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124000" y="765000"/>
            <a:ext cx="518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лкены.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2421000"/>
            <a:ext cx="73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1844640"/>
            <a:ext cx="81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Алкены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- ациклические углеводороды, содержащие в молекуле, помимо одинарных связей, одну двойную связь между атомами углерода и соответствующие общей формуле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2016000" cy="16570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1908000" y="333360"/>
            <a:ext cx="561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предел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2n+2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             C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b2b2b2"/>
                </a:solidFill>
                <a:latin typeface="Arial"/>
              </a:rPr>
              <a:t>2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                       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ме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тан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п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у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н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к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п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к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он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ек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08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ен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кс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геп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к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он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ец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Гомологические ряд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59280" y="4508640"/>
            <a:ext cx="338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тен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00508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344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927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1025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СН 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59280" y="4508640"/>
            <a:ext cx="338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тен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0508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1344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927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025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 С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27640" y="5084640"/>
            <a:ext cx="4248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- метилпропе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0508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1344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92720" y="350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56360" y="4724280"/>
            <a:ext cx="10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7236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95640" y="5229360"/>
            <a:ext cx="424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иклобу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236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67280" y="472428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5164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5640" y="5229360"/>
            <a:ext cx="424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иклобу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7236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67280" y="472428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67280" y="3860640"/>
            <a:ext cx="41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51640" y="443700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262560" y="4365720"/>
            <a:ext cx="2881440" cy="235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=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                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-БУТЕН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38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э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проп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бут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08000" y="189000"/>
            <a:ext cx="532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40186" dir="4303641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труктурные формул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40186" dir="4303641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67280" y="278136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СН -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67280" y="1916280"/>
            <a:ext cx="4176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8000" y="4365720"/>
            <a:ext cx="2881440" cy="229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=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                 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С-БУТЕН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4724280"/>
            <a:ext cx="57636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6720" y="4724280"/>
            <a:ext cx="50328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851280" y="5300640"/>
            <a:ext cx="50472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48360" y="5373720"/>
            <a:ext cx="50328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88000" y="4797360"/>
            <a:ext cx="576360" cy="2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659640" y="5300640"/>
            <a:ext cx="50472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956360" y="4724280"/>
            <a:ext cx="43164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56720" y="5373720"/>
            <a:ext cx="28728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Главная цепь – самая длинная цепочка атомов углерода в молекуле, содержащая двойную связ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cc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 rot="354600">
            <a:off x="1898280" y="20520"/>
            <a:ext cx="49752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ыбор главной цеп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95640" y="5661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24200" y="422100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– С – С = СН – СН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0" y="4724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3348000" y="4076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67280" y="4724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25720" y="357336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25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17720" y="486900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236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13344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27240" y="4075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17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25800" y="4076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умерация атомов главной цепи начинается с того конца, к которому ближе находится двойная связ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1979640" y="3500280"/>
            <a:ext cx="49687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96200" y="3952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8000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05320" y="4076640"/>
            <a:ext cx="461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– С – С = СН – 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32000" y="4581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132000" y="393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1280" y="4581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78040" y="4724280"/>
            <a:ext cx="96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08360" y="5084640"/>
            <a:ext cx="5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472428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00360" y="3429000"/>
            <a:ext cx="91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672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917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09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00720" y="393372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180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10160" y="39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 rot="235200">
            <a:off x="899640" y="0"/>
            <a:ext cx="7345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умерация атомов главной цеп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Действие 1: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Выбор главной це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ование названия углеводорода начинается с определения главной цепи – самой длинной цепочки атомов углерода в молекуле. В случае алкенов главная цепь должна содержать двойную связ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84360" y="2006640"/>
            <a:ext cx="829152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о, если по расположению двойной связи нельзя определить начало нумерации атомов в цепи, то его определяет положение заместителей так же, как для предельных углеводородов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Н = СН – СН –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012000" y="530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05360" y="5516640"/>
            <a:ext cx="9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476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0000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2400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36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116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21440" y="45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 rot="235200">
            <a:off x="971280" y="189000"/>
            <a:ext cx="7345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Нумерация атомов главной цеп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58" name="">
            <a:hlinkClick r:id="rId1" action="ppaction://hlinksldjump"/>
          </p:cNvPr>
          <p:cNvSpPr/>
          <p:nvPr/>
        </p:nvSpPr>
        <p:spPr>
          <a:xfrm>
            <a:off x="7667640" y="5950080"/>
            <a:ext cx="1008000" cy="5745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7885" h="21600">
                <a:moveTo>
                  <a:pt x="0" y="0"/>
                </a:moveTo>
                <a:lnTo>
                  <a:pt x="37885" y="0"/>
                </a:lnTo>
                <a:lnTo>
                  <a:pt x="37885" y="21600"/>
                </a:lnTo>
                <a:lnTo>
                  <a:pt x="0" y="21600"/>
                </a:lnTo>
                <a:close/>
              </a:path>
              <a:path fill="lightenLess" w="37885" h="21600">
                <a:moveTo>
                  <a:pt x="0" y="0"/>
                </a:moveTo>
                <a:lnTo>
                  <a:pt x="37885" y="0"/>
                </a:lnTo>
                <a:lnTo>
                  <a:pt x="36485" y="1400"/>
                </a:lnTo>
                <a:lnTo>
                  <a:pt x="1400" y="1400"/>
                </a:lnTo>
                <a:close/>
              </a:path>
              <a:path fill="darken" w="37885" h="21600">
                <a:moveTo>
                  <a:pt x="37885" y="0"/>
                </a:moveTo>
                <a:lnTo>
                  <a:pt x="37885" y="21600"/>
                </a:lnTo>
                <a:lnTo>
                  <a:pt x="36485" y="20200"/>
                </a:lnTo>
                <a:lnTo>
                  <a:pt x="36485" y="1400"/>
                </a:lnTo>
                <a:close/>
              </a:path>
              <a:path fill="darkenLess" w="37885" h="21600">
                <a:moveTo>
                  <a:pt x="37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5" y="20200"/>
                </a:lnTo>
                <a:close/>
              </a:path>
              <a:path fill="lighten" w="37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0" y="1711080"/>
            <a:ext cx="9143640" cy="2778840"/>
            <a:chOff x="0" y="1711080"/>
            <a:chExt cx="9143640" cy="2778840"/>
          </a:xfrm>
        </p:grpSpPr>
        <p:cxnSp>
          <p:nvCxnSpPr>
            <p:cNvPr id="660" name="_s131076"/>
            <p:cNvCxnSpPr>
              <a:stCxn id="661" idx="0"/>
              <a:endCxn id="662" idx="2"/>
            </p:cNvCxnSpPr>
            <p:nvPr/>
          </p:nvCxnSpPr>
          <p:spPr>
            <a:xfrm flipV="1" rot="16200000">
              <a:off x="4387320" y="2091960"/>
              <a:ext cx="216360" cy="2320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3" name="_s131078"/>
            <p:cNvCxnSpPr>
              <a:stCxn id="664" idx="0"/>
              <a:endCxn id="665" idx="2"/>
            </p:cNvCxnSpPr>
            <p:nvPr/>
          </p:nvCxnSpPr>
          <p:spPr>
            <a:xfrm flipH="1" flipV="1" rot="5400000">
              <a:off x="7868520" y="3251160"/>
              <a:ext cx="2163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6" name="_s131079"/>
            <p:cNvCxnSpPr>
              <a:stCxn id="667" idx="0"/>
              <a:endCxn id="662" idx="2"/>
            </p:cNvCxnSpPr>
            <p:nvPr/>
          </p:nvCxnSpPr>
          <p:spPr>
            <a:xfrm flipH="1" flipV="1" rot="5400000">
              <a:off x="3228840" y="3251160"/>
              <a:ext cx="21636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131080"/>
            <p:cNvCxnSpPr>
              <a:stCxn id="669" idx="0"/>
              <a:endCxn id="662" idx="2"/>
            </p:cNvCxnSpPr>
            <p:nvPr/>
          </p:nvCxnSpPr>
          <p:spPr>
            <a:xfrm flipH="1" flipV="1" rot="5400000">
              <a:off x="2067840" y="2092320"/>
              <a:ext cx="216360" cy="2320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131081"/>
            <p:cNvCxnSpPr>
              <a:stCxn id="665" idx="0"/>
              <a:endCxn id="671" idx="2"/>
            </p:cNvCxnSpPr>
            <p:nvPr/>
          </p:nvCxnSpPr>
          <p:spPr>
            <a:xfrm flipV="1" rot="16200000">
              <a:off x="6166440" y="903240"/>
              <a:ext cx="216360" cy="3406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131082"/>
            <p:cNvCxnSpPr>
              <a:stCxn id="662" idx="0"/>
              <a:endCxn id="671" idx="2"/>
            </p:cNvCxnSpPr>
            <p:nvPr/>
          </p:nvCxnSpPr>
          <p:spPr>
            <a:xfrm flipH="1" flipV="1" rot="5400000">
              <a:off x="3845880" y="1988280"/>
              <a:ext cx="216360" cy="1236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1" name="_s131083"/>
            <p:cNvSpPr/>
            <p:nvPr/>
          </p:nvSpPr>
          <p:spPr>
            <a:xfrm>
              <a:off x="3708000" y="1711080"/>
              <a:ext cx="1728000" cy="78804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Изомерия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ffffff"/>
                  </a:solidFill>
                  <a:latin typeface="Tahoma"/>
                </a:rPr>
                <a:t>алкенов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_s131084"/>
            <p:cNvSpPr/>
            <p:nvPr/>
          </p:nvSpPr>
          <p:spPr>
            <a:xfrm>
              <a:off x="2167920" y="2715120"/>
              <a:ext cx="2336040" cy="42984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труктурна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_s131085"/>
            <p:cNvSpPr/>
            <p:nvPr/>
          </p:nvSpPr>
          <p:spPr>
            <a:xfrm>
              <a:off x="6807960" y="2715120"/>
              <a:ext cx="2335680" cy="42984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Пространственна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_s131086"/>
            <p:cNvSpPr/>
            <p:nvPr/>
          </p:nvSpPr>
          <p:spPr>
            <a:xfrm>
              <a:off x="0" y="3360600"/>
              <a:ext cx="203184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Углеродного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келет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_s131087"/>
            <p:cNvSpPr/>
            <p:nvPr/>
          </p:nvSpPr>
          <p:spPr>
            <a:xfrm>
              <a:off x="2319840" y="3360600"/>
              <a:ext cx="203220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Положени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кратной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связи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_s131088"/>
            <p:cNvSpPr/>
            <p:nvPr/>
          </p:nvSpPr>
          <p:spPr>
            <a:xfrm>
              <a:off x="6959880" y="3360600"/>
              <a:ext cx="203184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Цис-тран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_s131090"/>
            <p:cNvSpPr/>
            <p:nvPr/>
          </p:nvSpPr>
          <p:spPr>
            <a:xfrm>
              <a:off x="4640040" y="3360600"/>
              <a:ext cx="2031840" cy="1129320"/>
            </a:xfrm>
            <a:prstGeom prst="roundRect">
              <a:avLst>
                <a:gd name="adj" fmla="val 16667"/>
              </a:avLst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840" rIns="3384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ahoma"/>
                </a:rPr>
                <a:t>Межклассова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зомерия алкенов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троение атома углерод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3551400"/>
            <a:ext cx="3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78280" y="3100320"/>
            <a:ext cx="1262160" cy="10922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3217320" y="2358720"/>
            <a:ext cx="2511360" cy="2644920"/>
          </a:xfrm>
          <a:prstGeom prst="blockArc">
            <a:avLst>
              <a:gd name="adj1" fmla="val 9924723"/>
              <a:gd name="adj2" fmla="val 875277"/>
              <a:gd name="adj3" fmla="val 2889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2843640" y="1987920"/>
            <a:ext cx="3384360" cy="3529080"/>
          </a:xfrm>
          <a:prstGeom prst="blockArc">
            <a:avLst>
              <a:gd name="adj1" fmla="val 9823748"/>
              <a:gd name="adj2" fmla="val 976252"/>
              <a:gd name="adj3" fmla="val 2199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8000" y="46530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22800" y="515772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35640" y="4076640"/>
            <a:ext cx="377640" cy="327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06920" y="3068640"/>
            <a:ext cx="37800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19640" y="5013360"/>
            <a:ext cx="37800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08720" y="2349360"/>
            <a:ext cx="377640" cy="327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3284640"/>
            <a:ext cx="37764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0360" y="4365720"/>
            <a:ext cx="378000" cy="32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битали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ешнего электронного уров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49800" y="386064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49800" y="386064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49800" y="2781360"/>
            <a:ext cx="2872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16720" y="386064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9080" y="2781360"/>
            <a:ext cx="2854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16720" y="2781360"/>
            <a:ext cx="28872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69080" y="3860640"/>
            <a:ext cx="28872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0" y="3357720"/>
            <a:ext cx="720720" cy="7920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6093000"/>
            <a:ext cx="7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5157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08720" y="522936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Электронно-графические формулы атомов углерод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216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7164360" y="3715560"/>
            <a:ext cx="64764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939640" y="3716280"/>
            <a:ext cx="576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364000" y="4075920"/>
            <a:ext cx="576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364000" y="4652280"/>
            <a:ext cx="57636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6000" y="4724280"/>
            <a:ext cx="144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5508720" y="4724280"/>
            <a:ext cx="144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364000" y="4075920"/>
            <a:ext cx="57636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5579640" y="4147920"/>
            <a:ext cx="180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299280" y="37875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299280" y="37875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6299280" y="3787560"/>
            <a:ext cx="14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939640" y="3716280"/>
            <a:ext cx="64764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588000" y="3715560"/>
            <a:ext cx="64800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27280" y="3787560"/>
            <a:ext cx="180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6877080" y="3789360"/>
            <a:ext cx="144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556000" y="3715560"/>
            <a:ext cx="64764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55640" y="4075920"/>
            <a:ext cx="576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55640" y="4652280"/>
            <a:ext cx="576360" cy="5763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186920" y="4724280"/>
            <a:ext cx="180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899640" y="4724280"/>
            <a:ext cx="180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755640" y="4075920"/>
            <a:ext cx="576360" cy="57636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900000" y="4149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908000" y="3715560"/>
            <a:ext cx="648000" cy="57636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19280" y="3789360"/>
            <a:ext cx="144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195640" y="3787560"/>
            <a:ext cx="144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724000" y="4148280"/>
            <a:ext cx="180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116000" y="4148280"/>
            <a:ext cx="1440" cy="43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940360" y="242100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озбуждённом состоя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32000" y="3249720"/>
            <a:ext cx="160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5157720"/>
            <a:ext cx="2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7242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9280" y="4724280"/>
            <a:ext cx="37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41497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41497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364500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797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4221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32000" y="3284640"/>
            <a:ext cx="160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364500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540160"/>
            <a:ext cx="384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глерод в обычном состоя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43120" y="4292640"/>
            <a:ext cx="4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56360" y="4365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9593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24400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92360" y="3933720"/>
            <a:ext cx="1440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35480" y="3778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19640" y="3645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332000" y="3715560"/>
            <a:ext cx="57456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0278 C 0.00312 -0.03445 -0.00174 -0.04578 0.00851 -0.06613 C 0.01215 -0.08116 0.01267 -0.10081 0.02118 -0.11283 C 0.02691 -0.13572 0.04792 -0.1533 0.0625 -0.16555 C 0.06528 -0.16786 0.0691 -0.16763 0.07205 -0.16971 C 0.07413 -0.1711 0.07604 -0.17318 0.0783 -0.17411 C 0.08246 -0.17596 0.09097 -0.17827 0.09097 -0.17827 C 0.11736 -0.17757 0.14392 -0.17804 0.17031 -0.17619 C 0.17361 -0.17596 0.17986 -0.17203 0.17986 -0.17203 C 0.18368 -0.16694 0.19253 -0.15931 0.19253 -0.15931 C 0.19583 -0.15283 0.1974 -0.14659 0.20052 -0.14012 C 0.20677 -0.10729 0.20208 -0.13457 0.20208 -0.05572 E">
                                      <p:cBhvr>
                                        <p:cTn id="50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ибридизация орбиталей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ридизацией орбиталей называется процесс выравнивания их по форме и 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00720" y="4292640"/>
            <a:ext cx="129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84360" y="436392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84360" y="436392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84360" y="3284640"/>
            <a:ext cx="2872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51280" y="4363920"/>
            <a:ext cx="28584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03640" y="3284640"/>
            <a:ext cx="28584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51280" y="3284640"/>
            <a:ext cx="289080" cy="1079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03640" y="4363920"/>
            <a:ext cx="28872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2920" y="4005360"/>
            <a:ext cx="720720" cy="7920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0360" y="4292640"/>
            <a:ext cx="430200" cy="1297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2000" y="3213000"/>
            <a:ext cx="28872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3213000"/>
            <a:ext cx="28908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32720" y="4292640"/>
            <a:ext cx="430200" cy="1297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51640" y="4292640"/>
            <a:ext cx="430200" cy="1297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24720" y="3213000"/>
            <a:ext cx="289080" cy="107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44000" y="3213000"/>
            <a:ext cx="288720" cy="1150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44000" y="4363920"/>
            <a:ext cx="285480" cy="11527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6165720"/>
            <a:ext cx="7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8000" y="4005360"/>
            <a:ext cx="5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4360" y="5516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8000" y="5589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27280" y="5589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19640" y="5589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3564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661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93080" y="5661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84692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4300" spc="-1" strike="noStrike">
                <a:solidFill>
                  <a:srgbClr val="ffffff"/>
                </a:solidFill>
                <a:latin typeface="Arial"/>
              </a:rPr>
              <a:t>-связи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 гибридные орбитали  лежат на плоскости угол между ними 12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8974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разование </a:t>
            </a:r>
            <a:r>
              <a:rPr b="0" lang="ru-RU" sz="3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-связ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41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е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орбитали атомов углерода, которые не участвуют в гибридизации, будут перекрываться в двух областях, перпендикулярных плоскости молекулы («боковое перекрывание»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642160" cy="2881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716360" y="630864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лина двойной связи - 0,134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40720" y="501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01080" y="501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40720" y="522936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Модель молекулы этиле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rcRect l="28579" t="0" r="36198" b="28533"/>
          <a:stretch/>
        </p:blipFill>
        <p:spPr>
          <a:xfrm>
            <a:off x="1617840" y="2924280"/>
            <a:ext cx="2663640" cy="15112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165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4-11-15T18:40:02Z</dcterms:modified>
  <cp:revision>27</cp:revision>
  <dc:subject/>
  <dc:title>PowerPoint Presentation</dc:title>
</cp:coreProperties>
</file>