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F85-CCA8-4242-A394-6469B976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FBC-6B7D-4C96-885C-4DB17E8E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B56-E18C-4EBB-ABA8-3113C52F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038-B811-4967-9875-966426CE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5252-BCC0-4DB8-BBFC-B799D6C1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D608-4245-4919-961C-0B860BC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858-245F-4B9F-82C4-B54ACC33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1901-FEED-429F-9A08-1641A0AC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44A0-88ED-4027-ACC9-864C5DE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0E4E-0812-431E-882D-D9D6BA4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B5C5-9567-4F17-8D3A-DBEA885D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471-8B13-45C8-AA94-9773246D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BED0-F707-4B94-A94A-EB87AFEB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B2B0-64FE-45B0-BA9A-2ED84FD2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E34A-3881-4F2D-BEA6-984D78B4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71A8-3002-4008-857C-E3A828AB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EC2E-16D6-4269-BA2C-A0F5A81F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ECAC-399C-43FB-A224-436AF27E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CB4C-B895-48FB-92B4-B46F945A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0E15-3BF9-47AB-BD8C-506EA498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ACB7-3F69-4B29-9217-E7110DF4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7C4D-15AE-4A9A-8B18-C3FFD2FD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C15-33A0-41F6-99F4-AB1A0528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53C9-5059-4963-AC80-550B6062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BF46-F44D-4045-AC90-4F449B62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A586-1AE4-47A2-9F4D-A8B88D8F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9142-5B1E-4746-AD0D-129967B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5AC4-E2D6-4D38-BAC6-1EDC72E7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61AC-0B48-467C-A638-826D1085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5A1F-566D-4650-A20A-384791E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FB32F-7F0B-4FA3-94F3-BC7143AA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938EE-CD73-444D-A25A-4D33B090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639D-C337-4897-85C5-36D00FD2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B21-2DBC-429A-91D4-BD1EBC67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F7CF-A9C3-4E5B-A19E-9A1CD228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9CC2-5BA4-4B59-ABC4-E5918834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F3DCE-7F18-4755-A137-346FA08E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138C4-FD5B-4251-851C-22BBFB3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E82B-58CD-4353-9F20-08A5D455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BF46-4146-4707-BA19-2A0311A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187F-7D15-43B2-8CF3-1D5883BC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4499-641B-4396-957B-56B354CC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7FDD8-6FB3-42EE-89F7-A6DECEB6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0A398-2A65-49CE-9911-FF5041BD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AAE-FC46-4106-9A35-29F1BBBB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7DC41-589F-4F4D-A7A9-FD9F8D3F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5ABB5-C6A8-461D-B801-40770CD1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75CD-FEC8-46D2-9AFA-90E055B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98AB1-8A72-4AD0-A069-48715709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5FFAA-1791-444D-961E-A8F6BB1F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EC799-DB83-4FFB-A754-1CEF633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3242F-B1D1-48DA-832B-7E7B0C92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8AB8-C024-41BC-963C-1D36FBE5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43F7-736A-432A-AF13-29A8D82B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F5F3E-E07A-4CB3-8629-9523AF37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8D2-3D26-4092-B85B-3CE0EB0E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2AE1F-1B17-4C4B-BFB1-84E75DB7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C675-0FB8-4FFF-A48F-D403964E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894EF-0095-46FD-B182-2748DE78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DD30-8763-4E01-B48B-2338C1DA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0507A-F25B-4E76-B77A-EEC12A27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6B7D8-3937-48FD-ABA7-968BC36A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DCEEB-97E3-4C8C-9C89-53B98526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BEB60-CAFD-4AAD-A4B6-6E135C44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D90C1-30A2-4940-B809-89E705E9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C93F2-E9D8-4048-8736-10ECE2FD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AB6-B765-464D-8124-50C3926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CDD32-3809-414E-A31B-38341058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FDB19-04DD-4D74-A982-F0625116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91D07-29C2-49A5-B9A6-0B73FA0C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F8AD-E3D9-42C5-92D5-600A6420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EEDF2-3D33-4C2A-B5BE-63D1736C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31D70-49F3-4EA4-B002-9A5E173D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F9A79-692C-4369-815A-F9C64DC6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677C8-BFF8-455D-A891-1F1BE87F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58D22-418B-4FE0-A3E4-BF5FA08B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6058A-9B72-49BD-9863-6B3B8F21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FA8-88F7-440F-B1F7-506C2F0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EA188-C2DC-4A64-8282-5F957159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76E3-013E-471D-8E5F-EC943CDB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DAA0-4413-407E-9137-7CB8A1BA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BA7B2-3705-4380-A84C-D9ED4FC8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3F7F0-5701-4169-B507-B9C121ED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E895D-5367-4EAB-B5EF-FC428CE8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F8587-9860-42D2-A859-8956ECDD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DACA-EB9A-4F25-9893-5FB990E3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41B1D-3CF9-4B98-9846-638D953A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D923B-CA17-421A-809C-BE1C5650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162-1D5B-415C-B2D2-D36E77A5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973CB-DB74-4C14-83F0-C3D29254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AB302-04B6-409E-882C-F908ADBA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AE5CE-0C76-4D55-BD97-CC469EC6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65F83-1B70-4479-BF2D-2162C74C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B505A-3896-4D48-8606-63AEACDA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F57F-8DF3-444F-93AD-397C0130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EE67D-983F-41F3-8D45-281005AB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A41F-0EB5-4425-A6C3-03C43E15BC68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58D5-6111-44DB-85DD-8FC56DB68F37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BC1E-BC4B-49CA-9CC1-0C0F2C268210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7736-3F61-424F-A613-0B401E9155B9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668C-9DED-44CD-95AA-055A69DFD732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E1E9-2B87-4F87-89BB-204F373BDCD2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CBF9-76C6-4D45-9D4B-80EBA2EDA49C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2BE7-D1C4-4B0F-AD23-08C1025CD8D9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Cambria"/>
              </a:rPr>
              <a:t>Рассказ А.П.Чехова </a:t>
            </a:r>
            <a:br>
              <a:rPr sz="6000"/>
            </a:br>
            <a:r>
              <a:rPr b="1" lang="en-US" sz="6000" spc="-1" strike="noStrike">
                <a:solidFill>
                  <a:srgbClr val="cc0099"/>
                </a:solidFill>
                <a:latin typeface="Cambria"/>
              </a:rPr>
              <a:t>«Злоумышленник</a:t>
            </a:r>
            <a:r>
              <a:rPr b="0" lang="en-US" sz="3200" spc="-1" strike="noStrike">
                <a:solidFill>
                  <a:srgbClr val="cc0099"/>
                </a:solidFill>
                <a:latin typeface="Cambria"/>
              </a:rPr>
              <a:t>»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СЛЕДОВАТЕЛЬ ВЕРИТ МУЖИКУ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2920" y="1213920"/>
            <a:ext cx="885816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«Послушай, братец, не прикидывайся ты мне идиотом, а говори толком. Нечего тут про грузила врать!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ПОЧЕМУ МУЖИК УКРАЛ ГАЙКУ?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1071720"/>
            <a:ext cx="9001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инец на дороге не найдешь, купить надо, а гвоздик не годится. Лучше гайки и не найтить... И тяжелая, и дыра есть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ужик беден. У него нет денег на свинец, из которого делают грузил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К ЧЕМУ МОГЛО ПРИВЕСТИ ОТВИНЧИВАНИЕ ГАЙКИ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2920" y="1219320"/>
            <a:ext cx="8858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«Разве ты не понимаешь, глупая голова, к чему ведет это отвинчивание? Не догляди сторож, так ведь поезд мог бы сойти с рельсов, людей бы убило! Ты людей убил бы!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868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МУЖИК ПОНИМАЕТ, ЧТО МОГ УБИТЬ ЛЮДЕЙ?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Ну! Уж сколько лет всей деревней гайки отвинчиваем и хранил господь, а тут крушение... людей убил... Ежели б я рельсу унес или, положим, бревно поперек ейного пути положил, ну, тогды, пожалуй, своротило бы поезд, а то... тьфу! гайк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 пойми же, гайками прикрепляется рельса к шпалам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МУЖИК РАНЬШЕ УЖЕ КРАЛ ГАЙКИ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560" y="1219320"/>
            <a:ext cx="8543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гда у тебя делали обыск, то нашли еще одну гайку... Эту в каком месте ты отвинтил и когда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Я ее не отвинчивал, ее мне Игнашка, Семена кривого сын, дал. Это я про ту, что под сундучком, а ту, что на дворе в санях, мы вместе с Митрофаном вывинтили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92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ЧТО ДОЛЖЕН СДЕЛАТЬ СЛЕДОВАТЕЛЬ С МУЖИКОМ?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85840" y="1285560"/>
            <a:ext cx="85723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«Я должен взять тебя под стражу и отослать в тюрьму.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МУЖИК ПОНЯЛ ЗА ЧТО ЕГО ХОТЯТ ПОСАДИТЬ В ТЮРЬМУ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2920" y="1219320"/>
            <a:ext cx="8786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«В тюрьму... Было б за что, пошел бы, а то так... здорово живешь... За что? И не крал, кажись, и не дрался...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99"/>
                </a:solidFill>
                <a:latin typeface="Cambria"/>
              </a:rPr>
              <a:t>КТО ТАКОЙ ЗЛОУМЫШЛЕННИК?</a:t>
            </a:r>
            <a:endParaRPr b="0" lang="en-US" sz="43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14200" y="1219320"/>
            <a:ext cx="8786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Злоумышленник – это человек, совершивший преступление, которое он заранее задумал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90010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ПОЧЕМУ РАССКАЗ НАЗВАН «ЗЛОУМЫШЛЕННИК»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Главный герой рассказа – Денис Григорьев сделал плохое дело, которое могло привести к гибели людей. У него не было злого умысла при отвинчивании гаек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Но следователь не поверил мужику. Он считал его злоумышленником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ambria"/>
              </a:rPr>
              <a:t>АВТОР РАССКАЗ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85840" y="1571400"/>
            <a:ext cx="7524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Антон Павлович Чех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Русский писатель. 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Родился 29 января 186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года в Таганроге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мер 15 июля 1904 го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 Герман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3" descr="220px-Anton_Pavlovič_Čehov_(Ант́о_П́авлович_Ч́ехов).jpg"/>
          <p:cNvPicPr/>
          <p:nvPr/>
        </p:nvPicPr>
        <p:blipFill>
          <a:blip r:embed="rId1"/>
          <a:stretch/>
        </p:blipFill>
        <p:spPr>
          <a:xfrm>
            <a:off x="6215040" y="1143000"/>
            <a:ext cx="27939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ГЛАВНЫЕ ГЕРОИ РАССКАЗА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ый следовате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н судит людей, которые нарушили закон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с Григорьев – простой крестьянин, мужи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57120" y="5929200"/>
            <a:ext cx="733896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42920" y="142920"/>
          <a:ext cx="8786880" cy="6288120"/>
        </p:xfrm>
        <a:graphic>
          <a:graphicData uri="http://schemas.openxmlformats.org/drawingml/2006/table">
            <a:tbl>
              <a:tblPr/>
              <a:tblGrid>
                <a:gridCol w="4643280"/>
                <a:gridCol w="4143600"/>
              </a:tblGrid>
              <a:tr h="628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Внешность муж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Маленький, чрезвычайно тощий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С обросшими, нечесанными  волосами и изъеденным рябинами лицом и глазами;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Густые, нависшие бров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Одежда  муж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Пестрядинная рубаха и латаные порты;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Он бос(босой, без обуви)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85480" y="1071360"/>
            <a:ext cx="74818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естрядинная рубаха –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линная рубашк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з льн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латаные порты-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шитые штан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3" descr="Укр_муж_трад_костюм_www.muzeivko.narod.ru.jpg"/>
          <p:cNvPicPr/>
          <p:nvPr/>
        </p:nvPicPr>
        <p:blipFill>
          <a:blip r:embed="rId1"/>
          <a:stretch/>
        </p:blipFill>
        <p:spPr>
          <a:xfrm>
            <a:off x="6429240" y="857160"/>
            <a:ext cx="27147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ЗА КАКИМ ДЕЛОМ ЗАСТАЛИ МУЖИКА?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2920" y="1357200"/>
            <a:ext cx="878688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Его застали за отвинчиванием гайки с железной дороги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Он открутил гайку рельсы.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img1003191501087462.jpg"/>
          <p:cNvPicPr/>
          <p:nvPr/>
        </p:nvPicPr>
        <p:blipFill>
          <a:blip r:embed="rId1"/>
          <a:stretch/>
        </p:blipFill>
        <p:spPr>
          <a:xfrm>
            <a:off x="285840" y="4143240"/>
            <a:ext cx="5286240" cy="2500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550449_w640_h640_1070011501.jpg"/>
          <p:cNvPicPr/>
          <p:nvPr/>
        </p:nvPicPr>
        <p:blipFill>
          <a:blip r:embed="rId2"/>
          <a:stretch/>
        </p:blipFill>
        <p:spPr>
          <a:xfrm>
            <a:off x="6286680" y="4857840"/>
            <a:ext cx="219060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14200" y="71388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Гайки прикрепляют рельсы к шпалам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Если гайки открутить, поезд сойдет с рельс,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и будет крушение. Погибнут люди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ДЛЯ ЧЕГО МУЖИКУ БЫЛА НУЖНА ГАЙКА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1285560"/>
            <a:ext cx="91440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Он хотел сделать из нее грузило, чтобы ловить рыбу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4" name="Content Placeholder 3" descr="016_Carpfishing_02.jpg"/>
          <p:cNvPicPr/>
          <p:nvPr/>
        </p:nvPicPr>
        <p:blipFill>
          <a:blip r:embed="rId1"/>
          <a:stretch/>
        </p:blipFill>
        <p:spPr>
          <a:xfrm>
            <a:off x="324000" y="4581360"/>
            <a:ext cx="4248000" cy="21322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4"/>
          <p:cNvSpPr/>
          <p:nvPr/>
        </p:nvSpPr>
        <p:spPr>
          <a:xfrm>
            <a:off x="285840" y="28584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Грузило – груз, подвешиваемый на леске удочки. Чаще всего это кусочек свин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st1191-01ор.jpg"/>
          <p:cNvPicPr/>
          <p:nvPr/>
        </p:nvPicPr>
        <p:blipFill>
          <a:blip r:embed="rId2"/>
          <a:stretch/>
        </p:blipFill>
        <p:spPr>
          <a:xfrm>
            <a:off x="5429160" y="4357800"/>
            <a:ext cx="321480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13:35Z</dcterms:created>
  <dc:creator>Stratus</dc:creator>
  <dc:description/>
  <dc:language>en-US</dc:language>
  <cp:lastModifiedBy>elena</cp:lastModifiedBy>
  <dcterms:modified xsi:type="dcterms:W3CDTF">2011-03-17T09:24:15Z</dcterms:modified>
  <cp:revision>28</cp:revision>
  <dc:subject/>
  <dc:title>Рассказ А.П.Чехова  «Злоумышленник»</dc:title>
</cp:coreProperties>
</file>