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9961-5139-4F20-AD1D-0D176E8B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D32-1559-4D9C-91A3-B093D5AF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79F-F3EE-4B8A-8722-D4545532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F294-61AB-47AB-A44A-E58EF97A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5C31-A46E-4F2C-B3CD-C2FFBD31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374F-C409-42B6-BA58-68EF2515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C892-ABFE-4F32-8DE0-A5A716D3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0FA0-FD48-4477-9C53-E305FB74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2A4F-1F12-40DA-8483-99E13920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F573-4348-41F0-A579-DC72AA63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7FE3-725B-4ABC-8D47-95FF3018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6F4-5194-46DE-9E2F-E2865039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BA29-E212-4DC6-9CA8-45B284AF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934C-A063-4041-A87B-9FFED0A7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5459-45CF-4140-BE55-A30E0CF0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ED20-8696-4A27-9DDE-ADB932E1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F1C9-E3B4-422B-AA51-C741A31D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2BCCF-63D1-444E-92A4-377F7018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3C885-C63B-4BF4-8EB0-C209E09E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D2062-1874-41F2-B632-888C84A6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04077-620A-4317-A0E0-C953B4ED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3EF0B-1007-485D-B1C1-B6C3E0E5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A97A-F1E4-4953-8A82-E3E01A67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601FB-D9E5-49B9-8EA4-BC3C9E68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6EC78-920A-4214-9F7C-92C9B3EB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42727-4498-4EFC-82B6-F26D4B09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AF8ED-68EB-4B69-8541-2B545AFB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3DC7E-4853-4F18-B698-DE5C500C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9969F-A12D-4117-9E03-F618C209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1FFFA-7425-41C3-8DD9-CD3D8670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B49DA-4431-451B-B49C-D084D5B3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FD7AC-5A80-4B37-B2F9-626EF630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10983-565F-48EC-A9AA-E8393378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72CD-491B-4DC4-9AA0-35FE2145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7F383-ECF9-4EA7-9790-52B92954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33C48-9AAA-4D89-ACB6-F7B7B94A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19324-1F09-4228-A57C-DAC79912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9A578-2423-4E17-B2E6-04E384FB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05A89-0ADE-4B88-9DEB-F21F2BF7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91D86-AB3D-41CE-AAA3-A4D2D934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32F89-97E0-4EEB-A862-56DE4DD4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D4BED-2F23-4570-971C-56BBBD73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BB5BE-FC8C-49F5-BE30-F7AE90FE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8AC7F-E517-4626-A843-7624D849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17A7-1933-4011-85B1-E2FBFBBE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D010E-BFFE-42A4-9FA8-09ABEEE5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377C9-EAAB-499D-A8BF-91A65F7C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3479D-8046-4569-B8BD-8D38A647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64CD6-A22A-43FE-A55B-90F84D0E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03041-3C1E-4E03-B846-14774823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3B570-E649-42B3-B962-93721183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380E8-2F2F-43F0-ACFD-7153A314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3216A-6B52-4BE1-876B-3E0F9015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46446-C5D1-4FA9-ACBB-CD366C6C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350A5-E4B3-477D-8778-39DD9F1F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54BD-0C71-48C8-8DFB-5E0DF7FE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21A52-A535-4465-A5E7-336242F1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50AD1-7088-40BA-86DD-1012F309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B6CDE-35E6-4F90-81FA-0E7196F3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E7F21-BB83-4127-9405-C83F28B2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DEEE2-3A90-4971-BD41-5856BA48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3F8B8-1435-46E8-A6A7-90765C66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97C83-B57F-4D3D-8B57-54755BCE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8890A-7501-43E4-A94E-D26D614E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941B5-DF04-4BC9-B4E2-CD0B95A9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0E737-5BBF-4A05-B3C7-9D25EFC4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1ABF-0403-4C55-BC1A-A76495C9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D9250-836A-4AFC-8E0A-5D492E7C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93E77-6A68-46B1-A219-A08754E2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46A58-8B7A-4DA3-BDDF-A7808996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1E6E3-3690-4C4C-914F-28BF7925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91DAA-807D-41DD-AE32-3CACA4BF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55C7F-B5BC-450F-8B9C-40557D53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1E3A1-85D6-4B00-9D3B-352FCE39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3AA21-642B-418A-A9D2-04ECFDFA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13D0D-8FF5-4B7C-BF86-38D17A58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06E02-6033-4B0C-B6D8-B20E2F8E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AA9-31CD-4EEC-9B2E-E30D49C4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E0C62-8F5C-4EDD-8ACA-D320E3C4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C3CF7-AB7E-4140-A61C-AE1B1E1B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2C46F-8401-459B-83E5-D9B65DF7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A7F72-EE61-4552-A0F0-D12CB503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15B5A-CFC9-4335-B289-0AA47EFF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98943-0BD1-4174-8E6A-E27BEB9A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7EABB-A95E-413E-97E5-F38104AB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A24C9-B4BF-46D8-901D-953F4E2D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B6228-12B2-489E-ADA2-DA30F53C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36871-57C8-469A-A504-594F5459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D226-3866-45A4-AB2A-D330C3F3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740EB-01C3-4FF6-AC8A-68648BDC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03808-AF2C-4D6E-A855-D9400CE8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24561-EBD7-4C43-B137-C76FF2F2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54536-9F44-47CF-AF2E-1CD6CA6C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21BCD-35CA-42F1-BFF1-7215C0C9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DEFA5-B5E3-4406-88F8-67C69586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47F5A-37BF-43DA-BEE4-89E7C93B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5ABA-F4FB-44E3-B48F-B76E107128E6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5B28-8127-476E-B0DB-4A0C4D3CFBBD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C8EF-9459-42E4-BE96-AD7311CAA7FA}" type="slidenum">
              <a:rPr b="0" lang="en-US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81C0-D405-444D-9F88-A9EDC20D3FAE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D6A0-819A-4318-B067-C8FC9A6CCC43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478E-D998-4337-A296-C68CA6A99BF4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AC0D-1EF5-4C3C-A613-529552330635}" type="slidenum">
              <a:rPr b="0" lang="en-US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4017-A54C-45A7-BA39-E649C7E073CE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Cambria"/>
              </a:rPr>
              <a:t>Рассказ А.П.Чехова </a:t>
            </a:r>
            <a:br>
              <a:rPr sz="6000"/>
            </a:br>
            <a:r>
              <a:rPr b="1" lang="en-US" sz="6000" spc="-1" strike="noStrike">
                <a:solidFill>
                  <a:srgbClr val="cc0099"/>
                </a:solidFill>
                <a:latin typeface="Cambria"/>
              </a:rPr>
              <a:t>«Злоумышленник</a:t>
            </a:r>
            <a:r>
              <a:rPr b="0" lang="en-US" sz="3200" spc="-1" strike="noStrike">
                <a:solidFill>
                  <a:srgbClr val="cc0099"/>
                </a:solidFill>
                <a:latin typeface="Cambria"/>
              </a:rPr>
              <a:t>»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3296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Cambria"/>
              </a:rPr>
              <a:t>СЛЕДОВАТЕЛЬ ВЕРИТ МУЖИКУ?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2920" y="1213920"/>
            <a:ext cx="885816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«Послушай, братец, не прикидывайся ты мне идиотом, а говори толком. Нечего тут про грузила врать!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8688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Cambria"/>
              </a:rPr>
              <a:t>ПОЧЕМУ МУЖИК УКРАЛ ГАЙКУ?</a:t>
            </a:r>
            <a:endParaRPr b="0" lang="en-US" sz="4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1071720"/>
            <a:ext cx="90010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винец на дороге не найдешь, купить надо, а гвоздик не годится. Лучше гайки и не найтить... И тяжелая, и дыра есть.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ужик беден. У него нет денег на свинец, из которого делают грузил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88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Cambria"/>
              </a:rPr>
              <a:t>К ЧЕМУ МОГЛО ПРИВЕСТИ ОТВИНЧИВАНИЕ ГАЙКИ?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2920" y="1219320"/>
            <a:ext cx="88581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«Разве ты не понимаешь, глупая голова, к чему ведет это отвинчивание? Не догляди сторож, так ведь поезд мог бы сойти с рельсов, людей бы убило! Ты людей убил бы!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8688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Cambria"/>
              </a:rPr>
              <a:t>МУЖИК ПОНИМАЕТ, ЧТО МОГ УБИТЬ ЛЮДЕЙ?</a:t>
            </a:r>
            <a:endParaRPr b="0" lang="en-US" sz="4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Ну! Уж сколько лет всей деревней гайки отвинчиваем и хранил господь, а тут крушение... людей убил... Ежели б я рельсу унес или, положим, бревно поперек ейного пути положил, ну, тогды, пожалуй, своротило бы поезд, а то... тьфу! гайк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а пойми же, гайками прикрепляется рельса к шпалам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Cambria"/>
              </a:rPr>
              <a:t>МУЖИК РАНЬШЕ УЖЕ КРАЛ ГАЙКИ?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560" y="1219320"/>
            <a:ext cx="85438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гда у тебя делали обыск, то нашли еще одну гайку... Эту в каком месте ты отвинтил и когда?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Я ее не отвинчивал, ее мне Игнашка, Семена кривого сын, дал. Это я про ту, что под сундучком, а ту, что на дворе в санях, мы вместе с Митрофаном вывинтили.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2920" y="428760"/>
            <a:ext cx="87868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Cambria"/>
              </a:rPr>
              <a:t>ЧТО ДОЛЖЕН СДЕЛАТЬ СЛЕДОВАТЕЛЬ С МУЖИКОМ?</a:t>
            </a:r>
            <a:endParaRPr b="0" lang="en-US" sz="4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85840" y="1285560"/>
            <a:ext cx="857232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«Я должен взять тебя под стражу и отослать в тюрьму.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Cambria"/>
              </a:rPr>
              <a:t>МУЖИК ПОНЯЛ ЗА ЧТО ЕГО ХОТЯТ ПОСАДИТЬ В ТЮРЬМУ?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2920" y="1219320"/>
            <a:ext cx="87868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«В тюрьму... Было б за что, пошел бы, а то так... здорово живешь... За что? И не крал, кажись, и не дрался...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c0099"/>
                </a:solidFill>
                <a:latin typeface="Cambria"/>
              </a:rPr>
              <a:t>КТО ТАКОЙ ЗЛОУМЫШЛЕННИК?</a:t>
            </a:r>
            <a:endParaRPr b="0" lang="en-US" sz="43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14200" y="1219320"/>
            <a:ext cx="87868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Злоумышленник – это человек, совершивший преступление, которое он заранее задумал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2560" y="214200"/>
            <a:ext cx="90010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Cambria"/>
              </a:rPr>
              <a:t>ПОЧЕМУ РАССКАЗ НАЗВАН «ЗЛОУМЫШЛЕННИК»?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Главный герой рассказа – Денис Григорьев сделал плохое дело, которое могло привести к гибели людей. У него не было злого умысла при отвинчивании гаек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Но следователь не поверил мужику. Он считал его злоумышленником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Cambria"/>
              </a:rPr>
              <a:t>АВТОР РАССКАЗ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85840" y="1571400"/>
            <a:ext cx="7524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Антон Павлович Чех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Русский писатель. 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Родился 29 января 186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года в Таганроге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умер 15 июля 1904 год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в Герман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Picture 3" descr="220px-Anton_Pavlovič_Čehov_(Ант́о_П́авлович_Ч́ехов).jpg"/>
          <p:cNvPicPr/>
          <p:nvPr/>
        </p:nvPicPr>
        <p:blipFill>
          <a:blip r:embed="rId1"/>
          <a:stretch/>
        </p:blipFill>
        <p:spPr>
          <a:xfrm>
            <a:off x="6215040" y="1143000"/>
            <a:ext cx="279396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Cambria"/>
              </a:rPr>
              <a:t>ГЛАВНЫЕ ГЕРОИ РАССКАЗА</a:t>
            </a:r>
            <a:endParaRPr b="0" lang="en-US" sz="4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ебный следовател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н судит людей, которые нарушили закон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ис Григорьев – простой крестьянин, мужи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57120" y="5929200"/>
            <a:ext cx="7338960" cy="5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42920" y="142920"/>
          <a:ext cx="8786880" cy="6288120"/>
        </p:xfrm>
        <a:graphic>
          <a:graphicData uri="http://schemas.openxmlformats.org/drawingml/2006/table">
            <a:tbl>
              <a:tblPr/>
              <a:tblGrid>
                <a:gridCol w="4643280"/>
                <a:gridCol w="4143600"/>
              </a:tblGrid>
              <a:tr h="628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Внешность мужи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Calibri"/>
                          <a:ea typeface="Arial"/>
                        </a:rPr>
                        <a:t>Маленький, чрезвычайно тощий;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Calibri"/>
                          <a:ea typeface="Arial"/>
                        </a:rPr>
                        <a:t>С обросшими, нечесанными  волосами и изъеденным рябинами лицом и глазами;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d0d0d"/>
                          </a:solidFill>
                          <a:latin typeface="Calibri"/>
                          <a:ea typeface="Arial"/>
                        </a:rPr>
                        <a:t>Густые, нависшие брови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Одежда  мужи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d0d0d"/>
                          </a:solidFill>
                          <a:latin typeface="Calibri"/>
                          <a:ea typeface="Arial"/>
                        </a:rPr>
                        <a:t>Пестрядинная рубаха и латаные порты;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d0d0d"/>
                          </a:solidFill>
                          <a:latin typeface="Calibri"/>
                          <a:ea typeface="Arial"/>
                        </a:rPr>
                        <a:t>Он бос(босой, без обуви)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85480" y="1071360"/>
            <a:ext cx="7481880" cy="53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естрядинная рубаха –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длинная рубашк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з льн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алатаные порты-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ашитые штаны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3" descr="Укр_муж_трад_костюм_www.muzeivko.narod.ru.jpg"/>
          <p:cNvPicPr/>
          <p:nvPr/>
        </p:nvPicPr>
        <p:blipFill>
          <a:blip r:embed="rId1"/>
          <a:stretch/>
        </p:blipFill>
        <p:spPr>
          <a:xfrm>
            <a:off x="6429240" y="857160"/>
            <a:ext cx="271476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885816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Cambria"/>
              </a:rPr>
              <a:t>ЗА КАКИМ ДЕЛОМ ЗАСТАЛИ МУЖИКА?</a:t>
            </a:r>
            <a:endParaRPr b="0" lang="en-US" sz="4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2920" y="1357200"/>
            <a:ext cx="878688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Его застали за отвинчиванием гайки с железной дороги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Он открутил гайку рельсы.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3" descr="img1003191501087462.jpg"/>
          <p:cNvPicPr/>
          <p:nvPr/>
        </p:nvPicPr>
        <p:blipFill>
          <a:blip r:embed="rId1"/>
          <a:stretch/>
        </p:blipFill>
        <p:spPr>
          <a:xfrm>
            <a:off x="285840" y="4143240"/>
            <a:ext cx="5286240" cy="2500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550449_w640_h640_1070011501.jpg"/>
          <p:cNvPicPr/>
          <p:nvPr/>
        </p:nvPicPr>
        <p:blipFill>
          <a:blip r:embed="rId2"/>
          <a:stretch/>
        </p:blipFill>
        <p:spPr>
          <a:xfrm>
            <a:off x="6286680" y="4857840"/>
            <a:ext cx="219060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14200" y="713880"/>
            <a:ext cx="8786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Гайки прикрепляют рельсы к шпалам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Если гайки открутить, поезд сойдет с рельс,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и будет крушение. Погибнут люди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Cambria"/>
              </a:rPr>
              <a:t>ДЛЯ ЧЕГО МУЖИКУ БЫЛА НУЖНА ГАЙКА?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1285560"/>
            <a:ext cx="914400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Он хотел сделать из нее грузило, чтобы ловить рыбу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4" name="Content Placeholder 3" descr="016_Carpfishing_02.jpg"/>
          <p:cNvPicPr/>
          <p:nvPr/>
        </p:nvPicPr>
        <p:blipFill>
          <a:blip r:embed="rId1"/>
          <a:stretch/>
        </p:blipFill>
        <p:spPr>
          <a:xfrm>
            <a:off x="324000" y="4581360"/>
            <a:ext cx="4248000" cy="21322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4"/>
          <p:cNvSpPr/>
          <p:nvPr/>
        </p:nvSpPr>
        <p:spPr>
          <a:xfrm>
            <a:off x="285840" y="285840"/>
            <a:ext cx="871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Грузило – груз, подвешиваемый на леске удочки. Чаще всего это кусочек свинц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" descr="st1191-01ор.jpg"/>
          <p:cNvPicPr/>
          <p:nvPr/>
        </p:nvPicPr>
        <p:blipFill>
          <a:blip r:embed="rId2"/>
          <a:stretch/>
        </p:blipFill>
        <p:spPr>
          <a:xfrm>
            <a:off x="5429160" y="4357800"/>
            <a:ext cx="3214800" cy="23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2:13:35Z</dcterms:created>
  <dc:creator>Stratus</dc:creator>
  <dc:description/>
  <dc:language>en-US</dc:language>
  <cp:lastModifiedBy>elena</cp:lastModifiedBy>
  <dcterms:modified xsi:type="dcterms:W3CDTF">2011-03-17T09:24:15Z</dcterms:modified>
  <cp:revision>28</cp:revision>
  <dc:subject/>
  <dc:title>Рассказ А.П.Чехова  «Злоумышленник»</dc:title>
</cp:coreProperties>
</file>