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D03-3CDF-403E-ACFB-7984D006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4F9-40C0-4AA1-A9DD-E8015F52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AF7-F331-4131-B66C-31353123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D18-FB41-42AC-90BB-330A222B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1133-1E3C-414C-954D-7029B1BB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7F2C-1ED8-4E95-8858-02C1F266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0EBB-B093-43CB-A5C5-D4D8CC92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3623-4484-4A1F-9103-8783167E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357B-A3A5-4A9B-98D9-246CA2F3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4D40-A8DB-4FC6-8F9E-003A23F3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B9E-7B6E-4C27-AC97-2B3AB84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71F-D788-41F5-9CB6-8B10444A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3C00-30C5-4EE2-9655-D1E62BFF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EF74-F7A3-40FA-9680-F5E62A8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F749-0A6D-4296-B556-52FDDF0C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E0AD-B729-4FF1-82D3-BF7A64D5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705F-AF12-4A7F-A1BA-BF2F5691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6960-BA8A-4D90-9401-C4EAB072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88E5-888F-434A-A11B-F288F125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1851-D96B-44D3-BE54-4889413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DDD7-7845-4EFF-9E6B-AD285DF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36D0-22EA-4501-89EA-BFC68B8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F5A-7CE7-435E-828A-AB0C1AA9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FDB9-3473-48F9-A9F4-2DF77521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14CE-9185-4F99-8DC6-F591803B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1190-3B9D-4515-A4F1-14341DA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0377-489B-4F63-8D92-8584715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8A6F-A8E5-43F6-A4C8-C37CC328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5724-AD30-4B32-894F-339D3279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91A1-F913-4481-A297-64B42DD2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A8DC5-D53D-4FB2-A671-C9E8FD74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1A5C-AF1C-4561-86CB-D6AA158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28AE-5AEC-4BBD-92A3-C33BCC35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F4E-CC5B-435A-8DF3-09A77E24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D35C-E801-40AE-8BA4-E17B108A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8361-4073-4EF3-BAB7-40570714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A837-8CC1-4B62-9A02-719E1D2B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8F262-0338-45C7-88F9-A077214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4EDEF-0840-4B40-B4D0-C1557E0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A5FC-3FA2-4CC7-8881-4561676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5040-2D5E-4326-9115-1112103D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3143-60EB-4E68-BB15-2386C264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7FCB-8775-4240-A41E-726169D3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2CB-F72F-4256-A044-66F7EA3F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BCC-D8EB-4B79-A836-BD910B2A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2EA-2CDE-4DFE-9BC6-F40D2F5C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DEE-D3C4-40CA-9B3D-0688322B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220-D294-4CDE-9257-897F0EB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BC05-6EFF-43D5-A75B-739DCA2C3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0B7-9E55-4F10-855C-5048801F7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238D-4744-4A41-A268-5B1F0F175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E2D8-2AE7-40C3-A54A-45964F991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lerix.ru/album/Claude-Monet" TargetMode="External"/><Relationship Id="rId2" Type="http://schemas.openxmlformats.org/officeDocument/2006/relationships/hyperlink" Target="http://ru.wikipedia.org/wiki/&#1052;&#1086;&#1085;&#1077;,_&#1050;&#1083;&#1086;&#1076;" TargetMode="External"/><Relationship Id="rId3" Type="http://schemas.openxmlformats.org/officeDocument/2006/relationships/hyperlink" Target="http://impressionnisme.narod.ru/index.htm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9280" y="1197000"/>
            <a:ext cx="6121440" cy="23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лод Моне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Лондон.Парламент.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очинение по карти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356000" y="3933360"/>
            <a:ext cx="388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а 3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лицея №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Красный Су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тионова Семё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4824360" cy="58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Клод Моне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итель импрессионизма (франц. - впечатление) - направление в искусстве последней трети XIX - начале XX в. Он пытался как можно более естественно и свежо запечатлеть мимолетное впечатление от быстро текущей, постоянно меняющейся жизни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Сюжеты картин: городские улочки, сельские пейзажи, привычные и всем знакомые здания. Главное для него было чередование света и тени, причудливая игра солнечных "зайчиков" на самых обычных предметах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Моне использовать новую технику письма, при которой краски на мольберте не смешивались, а накладывались на полотно кистью в виде отдельных мазков. Его работы следует смотреть с расстояния, тогда четкие раздельные мазки плавно переходят друг в друга, и создается ощущение динамики. Получается, что объемные формы постепенно растворяются в окутывающей их световоздушной оболочке. </a:t>
            </a: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D:\Мои документы\Сема\Клод Моне\Клод_Моне.jpg"/>
          <p:cNvPicPr/>
          <p:nvPr/>
        </p:nvPicPr>
        <p:blipFill>
          <a:blip r:embed="rId1"/>
          <a:stretch/>
        </p:blipFill>
        <p:spPr>
          <a:xfrm>
            <a:off x="5688000" y="457200"/>
            <a:ext cx="2925720" cy="81010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5940360" y="4941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40-19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:\Мои документы\Сема\Клод Моне\glrx-1273721921.JPG"/>
          <p:cNvPicPr/>
          <p:nvPr/>
        </p:nvPicPr>
        <p:blipFill>
          <a:blip r:embed="rId1"/>
          <a:stretch/>
        </p:blipFill>
        <p:spPr>
          <a:xfrm>
            <a:off x="1403280" y="260280"/>
            <a:ext cx="6264360" cy="5577120"/>
          </a:xfrm>
          <a:prstGeom prst="rect">
            <a:avLst/>
          </a:prstGeom>
          <a:ln w="19080">
            <a:solidFill>
              <a:srgbClr val="cc6600"/>
            </a:solidFill>
            <a:miter/>
          </a:ln>
        </p:spPr>
      </p:pic>
      <p:sp>
        <p:nvSpPr>
          <p:cNvPr id="172" name="TextBox 4"/>
          <p:cNvSpPr/>
          <p:nvPr/>
        </p:nvSpPr>
        <p:spPr>
          <a:xfrm>
            <a:off x="4788000" y="5950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ндон. Парламент. 190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179280" y="189000"/>
            <a:ext cx="8785440" cy="63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дной из таких картин являетс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 «Лондон. Парламент» (1904г.), где художник изобразил, Вестминский дворец – резиденцию английского парламента. Это одно из самых красивейших и знаменитых зданий Лондон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Размытость форм и отсутствие границ между небом и водой. Здесь архитектурное строение лишено материальности, оно становится бесплотным силуэтом, расплывчатым, едва отличимым от своего отражения в воде. Это еще более усиливает впечатление нереальности и призрачности здания Парламента, которое возникает на полотне, подобно привидению. Оно выглядит, как скалы обрывистого берега. Остроконечные шпили башенок, как бы растворяются в вышине. Величественно и романтично возвышается башня Виктории над королевским входом знаменитой часовой башни Биг-Бен отбивающей первые утренние часы. Кроме того, чтобы усилить визионерский характер архитектуры, Моне изменяет ее пропорции и зрительно удлиняет высоту центральной башни. Стёрты границы замка и его отражения в воде. У его подножия мелкой рябью просыпается Темза. В ней затерялось робкое утреннее солнце, которое своими лучами сквозь туман пытается обласкать ещё спящий город. Лодка одинокого рыбака плавно скользит вниз по рек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Солнце ещё не взошло, а его лучи уже окрасили небо в золотисто-персиковые тёплые цвета. В холодных водах Темзы отражается небесное  буйство красок. Благодаря туману, всё кажется в лиловой дымке. Единообразие красочной фактуры создает ощущение плотности тумана и дает возможность перемежать мазки различных цветов. С их помощью художник передает игру света, подчеркивает взаимопроникновение реальности и ее изображения. В картине палитра сохраняет присущее художнику чувство меры и ограничивается главным образом синим, желтым и некоторыми оттенками розово-фиолетового цве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Ссылк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2e6b53"/>
                </a:solidFill>
                <a:uFillTx/>
                <a:latin typeface="Calibri"/>
                <a:ea typeface="Calibri"/>
                <a:hlinkClick r:id="rId1"/>
              </a:rPr>
              <a:t>http://gallerix.ru/album/Claude-Monet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- репродукция картины Моне Лондон. Парламе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2e6b53"/>
                </a:solidFill>
                <a:uFillTx/>
                <a:latin typeface="Calibri"/>
                <a:ea typeface="Calibri"/>
                <a:hlinkClick r:id="rId2"/>
              </a:rPr>
              <a:t>http://ru.wikipedia.org/wiki/%D0%9C%D0%BE%D0%BD%D0%B5,_%D0%9A%D0%BB%D0%BE%D0%B4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 – Портрет Клода Моне, о жизни художни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2e6b53"/>
                </a:solidFill>
                <a:uFillTx/>
                <a:latin typeface="Calibri"/>
                <a:ea typeface="Calibri"/>
                <a:hlinkClick r:id="rId3"/>
              </a:rPr>
              <a:t>http://impressionnisme.narod.ru/index.htm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 - статья импрессиониз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9:18Z</dcterms:created>
  <dc:creator>Светлана</dc:creator>
  <dc:description/>
  <dc:language>en-US</dc:language>
  <cp:lastModifiedBy>Уроженко</cp:lastModifiedBy>
  <dcterms:modified xsi:type="dcterms:W3CDTF">2011-12-16T10:09:19Z</dcterms:modified>
  <cp:revision>19</cp:revision>
  <dc:subject/>
  <dc:title>Слайд 1</dc:title>
</cp:coreProperties>
</file>