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B65-6F35-4089-BF36-7C99CC37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E9D-CF2B-46B4-A0C3-8ACFBAE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419-DDF5-4E3A-B2F1-1AFAA980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FCD-BD96-4D44-8486-6881FA2E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88A-0722-4508-B1B1-DCF05BEE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DBF-32C6-4FC4-AF93-B0C677F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0B7-8097-4DA5-AF58-2D36568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5C34-D9AB-4DC7-B7CD-3786857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AECD-0ED6-4168-9068-C0D8A145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5A88-DDD0-4D69-BD32-FD8B25A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239F-BE80-4B66-9FE7-D02328E2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F75-E103-4AEE-9D9B-D7EA824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CDA-3E5C-49A3-8403-B0152FCB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894-C528-416F-B4ED-E976E13D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DCC7-169E-4BBA-97CB-A58FCB0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0081-B83D-469D-BAC8-031EA566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EF7-869C-4B98-BCFE-74C02220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9DEE-D301-40E5-BE39-A4BEF464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250C-B6C2-4B80-A385-815E12B4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3539-4A9D-41FB-915A-4F49248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6AAF-9692-4641-A45D-11397879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68BC-9C76-4B11-AEE0-AC6F550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F36-BBD3-4F45-96ED-F7400682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8645-07BD-46B3-8D9A-6C16D60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3ACB-64B9-429E-BF3E-66A276C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CF44-B966-43ED-B4AB-C73D99B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A548-26B9-4609-B506-6CFB3FD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CAAF-38CC-4376-8087-444DAEF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4338-D5B9-45C5-86AD-00FBEEEB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D30C-2A88-4199-9F38-4ECE3803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4E28-7422-4632-A77B-29CF5C48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32D3-1BFC-4FCC-B4BF-5AD1844B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C2DB-01B5-4E9D-8763-F293DFE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F9C-D68E-470A-82A3-3174CFB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91AB-F9ED-4AF8-A98B-3969F4F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E307-D75C-4D1F-A51F-CFF9B18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AB49-12AD-4119-A226-4B326FB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9F63-D904-4ECE-ADE3-37B255C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F3EC-F574-48FD-91C2-B0AB8CB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2C47-B0B6-4AD4-8EDF-A37C93A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9EA0-F122-4FF3-A2DE-62AFF9A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EDC4-EC44-4368-8277-9DD755C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60F2-5890-47EF-B8EF-7E080482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155-CB87-4666-A6B4-FDC5B77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AAD-9DFB-44D6-8C2D-6D5710D5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9F0-A518-4672-89E1-DDA694D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593-3D52-486D-88C9-120370E9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B1F-00A6-40DC-822B-A2A9612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BB0D-AF34-4977-94F9-7AD4A7D27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7CE-D57D-4F71-B514-717993CC7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253-5FED-44D9-97CE-3641302F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DA6-3B97-4FD7-B595-D909EB9EB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lerix.ru/album/Claude-Monet" TargetMode="External"/><Relationship Id="rId2" Type="http://schemas.openxmlformats.org/officeDocument/2006/relationships/hyperlink" Target="http://ru.wikipedia.org/wiki/&#1052;&#1086;&#1085;&#1077;,_&#1050;&#1083;&#1086;&#1076;" TargetMode="External"/><Relationship Id="rId3" Type="http://schemas.openxmlformats.org/officeDocument/2006/relationships/hyperlink" Target="http://impressionnisme.narod.ru/index.ht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121440" cy="23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Лондон.Парламент.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чинение по карт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356000" y="3933360"/>
            <a:ext cx="388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а 3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лицея №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Красный Су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тионова Сем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482436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Клод Моне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итель импрессионизма (франц. - впечатление) - направление в искусстве последней трети XIX - начале XX в. Он пытался как можно более естественно и свежо запечатлеть мимолетное впечатление от быстро текущей, постоянно меняющейся жизни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южеты картин: городские улочки, сельские пейзажи, привычные и всем знакомые здания. Главное для него было чередование света и тени, причудливая игра солнечных "зайчиков" на самых обычных предметах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Моне использовать новую технику письма, при которой краски на мольберте не смешивались, а накладывались на полотно кистью в виде отдельных мазков. Его работы следует смотреть с расстояния, тогда четкие раздельные мазки плавно переходят друг в друга, и создается ощущение динамики. Получается, что объемные формы постепенно растворяются в окутывающей их световоздушной оболочке. 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:\Мои документы\Сема\Клод Моне\Клод_Моне.jpg"/>
          <p:cNvPicPr/>
          <p:nvPr/>
        </p:nvPicPr>
        <p:blipFill>
          <a:blip r:embed="rId1"/>
          <a:stretch/>
        </p:blipFill>
        <p:spPr>
          <a:xfrm>
            <a:off x="5688000" y="457200"/>
            <a:ext cx="2925720" cy="8101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5940360" y="4941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40-19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:\Мои документы\Сема\Клод Моне\glrx-1273721921.JPG"/>
          <p:cNvPicPr/>
          <p:nvPr/>
        </p:nvPicPr>
        <p:blipFill>
          <a:blip r:embed="rId1"/>
          <a:stretch/>
        </p:blipFill>
        <p:spPr>
          <a:xfrm>
            <a:off x="1403280" y="260280"/>
            <a:ext cx="6264360" cy="5577120"/>
          </a:xfrm>
          <a:prstGeom prst="rect">
            <a:avLst/>
          </a:prstGeom>
          <a:ln w="19080">
            <a:solidFill>
              <a:srgbClr val="cc6600"/>
            </a:solidFill>
            <a:miter/>
          </a:ln>
        </p:spPr>
      </p:pic>
      <p:sp>
        <p:nvSpPr>
          <p:cNvPr id="172" name="TextBox 4"/>
          <p:cNvSpPr/>
          <p:nvPr/>
        </p:nvSpPr>
        <p:spPr>
          <a:xfrm>
            <a:off x="478800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. Парламент. 190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179280" y="189000"/>
            <a:ext cx="8785440" cy="63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й из таких картин являетс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«Лондон. Парламент» (1904г.), где художник изобразил, Вестминский дворец – резиденцию английского парламента. Это одно из самых красивейших и знаменитых зданий Лондон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Размытость форм и отсутствие границ между небом и водой. Здесь архитектурное строение лишено материальности, оно становится бесплотным силуэтом, расплывчатым, едва отличимым от своего отражения в воде. Это еще более усиливает впечатление нереальности и призрачности здания Парламента, которое возникает на полотне, подобно привидению. Оно выглядит, как скалы обрывистого берега. Остроконечные шпили башенок, как бы растворяются в вышине. Величественно и романтично возвышается башня Виктории над королевским входом знаменитой часовой башни Биг-Бен отбивающей первые утренние часы. Кроме того, чтобы усилить визионерский характер архитектуры, Моне изменяет ее пропорции и зрительно удлиняет высоту центральной башни. Стёрты границы замка и его отражения в воде. У его подножия мелкой рябью просыпается Темза. В ней затерялось робкое утреннее солнце, которое своими лучами сквозь туман пытается обласкать ещё спящий город. Лодка одинокого рыбака плавно скользит вниз по рек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олнце ещё не взошло, а его лучи уже окрасили небо в золотисто-персиковые тёплые цвета. В холодных водах Темзы отражается небесное  буйство красок. Благодаря туману, всё кажется в лиловой дымке. Единообразие красочной фактуры создает ощущение плотности тумана и дает возможность перемежать мазки различных цветов. С их помощью художник передает игру света, подчеркивает взаимопроникновение реальности и ее изображения. В картине палитра сохраняет присущее художнику чувство меры и ограничивается главным образом синим, желтым и некоторыми оттенками розово-фиолетового цве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сылк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1"/>
              </a:rPr>
              <a:t>http://gallerix.ru/album/Claude-Monet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- репродукция картины Моне Лондон. Парлам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2"/>
              </a:rPr>
              <a:t>http://ru.wikipedia.org/wiki/%D0%9C%D0%BE%D0%BD%D0%B5,_%D0%9A%D0%BB%D0%BE%D0%B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– Портрет Клода Моне, о жизни художни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3"/>
              </a:rPr>
              <a:t>http://impressionnisme.narod.ru/index.htm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- статья импрессиониз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9:18Z</dcterms:created>
  <dc:creator>Светлана</dc:creator>
  <dc:description/>
  <dc:language>en-US</dc:language>
  <cp:lastModifiedBy>Уроженко</cp:lastModifiedBy>
  <dcterms:modified xsi:type="dcterms:W3CDTF">2011-12-16T10:09:19Z</dcterms:modified>
  <cp:revision>19</cp:revision>
  <dc:subject/>
  <dc:title>Слайд 1</dc:title>
</cp:coreProperties>
</file>