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3880" cy="124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065-74EE-46DB-86A8-1EA32F45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1520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60C-EEB1-4106-9278-94F6CFD7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040" y="395964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630-B89F-446B-88DD-59A8172C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4600" y="395964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2360" y="395964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2AB-BFF0-44AF-A774-EA550DB9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64A-F249-45B0-99B9-07E24D78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C24-7959-4773-8F7F-819D68A1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789-958E-4FD1-BB1A-7A91D53D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973-1759-4BCB-995D-D9CFF58A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31400"/>
            <a:ext cx="82152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2C2-F403-4F4D-9094-0E8A2B7D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925-36F8-4C4A-87A2-1102F56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040" y="395964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E49-F27F-4F9A-9F60-E30E0CED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1520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074-854F-4E82-8263-72A8A197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800520" y="1789200"/>
            <a:ext cx="5395320" cy="5049360"/>
            <a:chOff x="3800520" y="1789200"/>
            <a:chExt cx="5395320" cy="5049360"/>
          </a:xfrm>
        </p:grpSpPr>
        <p:sp>
          <p:nvSpPr>
            <p:cNvPr id="1" name="Rectangle 2"/>
            <p:cNvSpPr/>
            <p:nvPr/>
          </p:nvSpPr>
          <p:spPr>
            <a:xfrm>
              <a:off x="6738480" y="2166480"/>
              <a:ext cx="3146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3"/>
            <p:cNvSpPr/>
            <p:nvPr/>
          </p:nvSpPr>
          <p:spPr>
            <a:xfrm>
              <a:off x="6848280" y="1881000"/>
              <a:ext cx="74520" cy="7416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 rot="1020000">
              <a:off x="8303400" y="2374560"/>
              <a:ext cx="9360" cy="3286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7764480" y="556452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 rot="120000">
              <a:off x="8762040" y="2436120"/>
              <a:ext cx="9360" cy="3167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 rot="20640000">
              <a:off x="8993880" y="2428560"/>
              <a:ext cx="9360" cy="1397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 rot="20460000">
              <a:off x="5466960" y="2882160"/>
              <a:ext cx="9720" cy="3223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 rot="1140000">
              <a:off x="4395240" y="2900160"/>
              <a:ext cx="9720" cy="3359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 rot="240000">
              <a:off x="4832640" y="2967840"/>
              <a:ext cx="9360" cy="3021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382080" y="4791600"/>
              <a:ext cx="995400" cy="247320"/>
            </a:xfrm>
            <a:custGeom>
              <a:avLst/>
              <a:gdLst>
                <a:gd name="textAreaLeft" fmla="*/ 0 w 995400"/>
                <a:gd name="textAreaRight" fmla="*/ 995400 w 9954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7589520" y="5695920"/>
              <a:ext cx="1593720" cy="199800"/>
            </a:xfrm>
            <a:custGeom>
              <a:avLst/>
              <a:gdLst>
                <a:gd name="textAreaLeft" fmla="*/ 0 w 1593720"/>
                <a:gd name="textAreaRight" fmla="*/ 1594080 w 1593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7628040" y="5781960"/>
              <a:ext cx="1555200" cy="388440"/>
            </a:xfrm>
            <a:custGeom>
              <a:avLst/>
              <a:gdLst>
                <a:gd name="textAreaLeft" fmla="*/ 0 w 1555200"/>
                <a:gd name="textAreaRight" fmla="*/ 1555560 w 1555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657920" y="5695920"/>
              <a:ext cx="1525320" cy="142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4863240" y="2445840"/>
              <a:ext cx="161640" cy="2458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4863240" y="268236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863240" y="2804760"/>
              <a:ext cx="142560" cy="171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8723880" y="1912680"/>
              <a:ext cx="162000" cy="24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8731800" y="2141280"/>
              <a:ext cx="133200" cy="151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8723880" y="2274480"/>
              <a:ext cx="142920" cy="171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8655120" y="559116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4795920" y="1789200"/>
              <a:ext cx="4165920" cy="704520"/>
            </a:xfrm>
            <a:custGeom>
              <a:avLst/>
              <a:gdLst>
                <a:gd name="textAreaLeft" fmla="*/ 0 w 4165920"/>
                <a:gd name="textAreaRight" fmla="*/ 4166280 w 416592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4663800" y="5985000"/>
              <a:ext cx="133560" cy="150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6017760" y="6142320"/>
              <a:ext cx="142920" cy="171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3809880" y="6142320"/>
              <a:ext cx="114480" cy="1425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3879720" y="6088320"/>
              <a:ext cx="2209320" cy="617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800520" y="6081840"/>
              <a:ext cx="2403360" cy="4568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3875040" y="6123240"/>
              <a:ext cx="2279520" cy="34884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29"/>
            <p:cNvSpPr/>
            <p:nvPr/>
          </p:nvSpPr>
          <p:spPr>
            <a:xfrm>
              <a:off x="5959080" y="6008760"/>
              <a:ext cx="142920" cy="152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0"/>
            <p:cNvSpPr/>
            <p:nvPr/>
          </p:nvSpPr>
          <p:spPr>
            <a:xfrm>
              <a:off x="8645760" y="571500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1"/>
            <p:cNvSpPr/>
            <p:nvPr/>
          </p:nvSpPr>
          <p:spPr>
            <a:xfrm>
              <a:off x="6751080" y="2812680"/>
              <a:ext cx="275040" cy="4025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2"/>
            <p:cNvSpPr/>
            <p:nvPr/>
          </p:nvSpPr>
          <p:spPr>
            <a:xfrm>
              <a:off x="6830640" y="2452320"/>
              <a:ext cx="120960" cy="380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6722640" y="2766600"/>
              <a:ext cx="325800" cy="8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6860880" y="2426760"/>
              <a:ext cx="403920" cy="249804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2498040"/>
                <a:gd name="textAreaBottom" fmla="*/ 2498400 h 249804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6641640" y="2255400"/>
              <a:ext cx="506880" cy="21888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8640" indent="-2714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696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696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696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50E00A-3D67-48D1-B986-6DB5CDDA827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ed=1&amp;rpt=simage&amp;text=&#1088;&#1080;&#1089;&#1091;&#1085;&#1082;&#1080;%20&#1076;&#1077;&#1090;&#1077;&#1081;%20&#1086;%20&#1089;&#1087;&#1080;&#1076;&#1077;&amp;img_url=myglossies.hop.ru%2FImg%2Fchildren%2Femosii%2F02.jpg&amp;p=863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357200" y="1428840"/>
            <a:ext cx="6643800" cy="496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дросткам о ВИЧ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стория болезни ВИЧ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928800"/>
            <a:ext cx="8055000" cy="57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рус  был выявлен  в 1983 году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Ч попал в организм человека  от африканской обезья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В России всего зарегистрировано 371 тысяча челове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умерло — 11 тысяч челове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Находятся под наблюдением 14 тысяч детей, рожденных от ВИЧ матере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429680" y="128592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60000" y="420840"/>
            <a:ext cx="8280360" cy="29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оссии на сегодняшний день официально зарегистрировано более 360 тыс. ВИЧ-инфицированных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71840" y="3143160"/>
            <a:ext cx="3854520" cy="3083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8160" cy="13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Ч - вирус иммунодефицита человек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1634760"/>
            <a:ext cx="8074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рус иммунодефицита относится к лентивирусам ("медленным вирусам"), к подгруппе ретровиру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адая в организм, ВИЧ атакует определенные клетки крови: Т-лимфоциты-"помощники". вирусу ничего не нужно: он использует для воспроизводства клетку-хозя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19083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собенности  заражения  ВИЧ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7712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пути передачи 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ереливании кр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заражённой крови на мед инструментах шприцах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овом акте с человеком, заражённым 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иутробно от заражённой матери к ребён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5"/>
          <a:stretch/>
        </p:blipFill>
        <p:spPr>
          <a:xfrm>
            <a:off x="6500880" y="785880"/>
            <a:ext cx="2469960" cy="164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6835680" y="4929120"/>
            <a:ext cx="2100240" cy="1708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9" descr="http://im0-tub.yandex.net/i?id=57543336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43160" y="4786200"/>
            <a:ext cx="1928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сновные симптомы  ВИЧ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еря веса более, чем на 10% от прежнего в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хорадка  (более 1мес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рея  (более 1мес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льная утомляемость и слаб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инические симптомы ВИЧ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7120" y="928440"/>
            <a:ext cx="831528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шель, продолжающийся более 1м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мат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венные поражения ко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оясывающий лиш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лимфоузлов в течение 3-х месяц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6"/>
          <a:stretch/>
        </p:blipFill>
        <p:spPr>
          <a:xfrm>
            <a:off x="2928960" y="3857760"/>
            <a:ext cx="37796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60360" y="360360"/>
            <a:ext cx="82281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асто инфекция  поражает клетки внутренних органов( печень,почки, селезенка)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теле человека находят злокачественные опухоли – саркому Капоши и лимфому мозг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215040" y="2071800"/>
            <a:ext cx="1979640" cy="253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830680" cy="1969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14200" y="4929120"/>
            <a:ext cx="3565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цесс      печ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   больного          СПИ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000840" y="4786200"/>
            <a:ext cx="248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ркома Капо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больного СПИ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263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Заключение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14000" y="1079280"/>
            <a:ext cx="82263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есть, совесть, долг, нравственность, добродетель. Люди, обладающие этими нравственными качествами, издревле почитаются в обществ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ждому человеку присущи они, но не каждый развивает их в себе и совершенству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1-12-15T18:32:45Z</dcterms:modified>
  <cp:revision>11</cp:revision>
  <dc:subject/>
  <dc:title>Slide 1</dc:title>
</cp:coreProperties>
</file>