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CD6-53FE-4E85-A0DD-FBA037A6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77C-F898-43FC-99C0-25E5102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F72-E2A9-49B8-A7A3-166DDEF8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1D9-6AB5-4713-A6F6-2902CFFC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57CA-F39C-4C1C-A643-1B2C29B8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712E-629A-48E7-9C38-3117BA78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131-43D4-4F81-A2F4-69EF375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ABE3-A8FB-416B-A3CE-2532175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EF9-2638-46B5-9F54-856413F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5321-6448-4244-B5F8-B913C62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C223-8A45-4913-B546-E559AC69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DCF-8216-4B83-95E6-5755A16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66D-D6E2-4098-AF58-5A0F6A27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77AB-E545-4A5D-8063-8871174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ED3B-2A86-4C69-BAC4-6531A28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252-818F-452E-8DC6-45BA5E17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94A6-CC77-443E-8A1E-D6B1DF3A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994-6C2A-4FD4-90CA-CC9D1E2B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FF6-3E3A-4020-93B0-3EF53628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55A-3676-4E8F-A258-43F615E3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DBF-83B7-428F-B280-90CA2C44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D67-B8CC-4AB2-BA98-B3414A1D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C6A-FC3A-44F4-A788-0AB9ACD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184-0B97-4C21-BD8D-3050AC0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7E0F-FE51-4A8F-BBD2-71A2CBA613FF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4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7CC-9AD8-437B-830E-1AD573993380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1600" y="2417760"/>
            <a:ext cx="77724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Тип Моллюски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05360" y="5711760"/>
            <a:ext cx="33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Презентацию подготовила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Гречухина Наталья Васильевна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Учитель биологии и химии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</a:rPr>
              <a:t>МОУ «Алексеевская СОШ»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7480" y="3620880"/>
            <a:ext cx="77724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ридакн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Гигантская тридакна имеет створки длино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,4 м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это самый крупный из двустворчатых моллюсков на земном шаре. Масса гигантской тридакны окол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0 кг.,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причём масса мягких частей тела всего около 30 кг. Обитает в Индийском и Тихом океанах. питаются мелкими организмами, засасывая их через сифон. Мышцы,  замыкающие створки обладают огромной силой. Раскрыть створки живой ракушки можно лиш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 помощи лома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Тридакна может образовывать жемчужины, иногда массой д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 кг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98600" y="552600"/>
            <a:ext cx="756936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479160"/>
            <a:ext cx="777240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891720"/>
            <a:ext cx="77724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ловоног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5360" y="1898640"/>
            <a:ext cx="8918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головоног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иболее развитые моллюск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Головоногие - крупные моллюски длиной до 20 см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Активно передвигаются в толще воды и у дна. Могут развивать скорость плавания: кальмары – до 40 км/ч, осьминоги – до 15 км/ч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4280" y="1981080"/>
            <a:ext cx="781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. Наличие наружной раковин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ягкое тел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езамкнутая кровеносная систем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Наличие сифонов у морских моллюсков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Пищеварительная система хорошо развит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ермафродит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ть настоящее сердце, почки, лёгкие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7360" y="839880"/>
            <a:ext cx="69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типа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61440"/>
            <a:ext cx="77724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775800"/>
            <a:ext cx="777240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рюхоногие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25920" y="857160"/>
            <a:ext cx="4410000" cy="3063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349280" y="3747960"/>
            <a:ext cx="4451400" cy="303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43720" y="4037760"/>
            <a:ext cx="22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Наземные улит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5040" y="32331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Морские улит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Брюхоног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едставители этого класса встречают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глубинах океана, в прибрежной зоне океанов и морей, в пресных водоёмах, в горах и пещерах, каменистых пустынях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Тело подразделяется на голову, туловище и 1-у ногу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 брюхоногих хорошо развиты органы  обоня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обенности строения брюхоногих моллюс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46280" y="160020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544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3600" y="1851120"/>
            <a:ext cx="78804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5120" y="477720"/>
            <a:ext cx="33447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993240"/>
            <a:ext cx="7772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устворчаты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61040" y="378000"/>
            <a:ext cx="4782960" cy="389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2901960"/>
            <a:ext cx="479736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 Двухстворчат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1980720"/>
            <a:ext cx="77724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исключительно водные животные. Размеры и масса тела различн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ковина состоит из дух створок. Внутренний слой створок покрыт перламутро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и моллюски образуют жемчуг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Моллюски очень чувствительны к солёности воды и др. экологическим факторам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38320"/>
            <a:ext cx="9144000" cy="481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0:26:54Z</dcterms:created>
  <dc:creator>н.</dc:creator>
  <dc:description/>
  <dc:language>en-US</dc:language>
  <cp:lastModifiedBy>Наталья</cp:lastModifiedBy>
  <dcterms:modified xsi:type="dcterms:W3CDTF">2009-09-28T16:55:36Z</dcterms:modified>
  <cp:revision>49</cp:revision>
  <dc:subject/>
  <dc:title>Конструирование урока с использованием информационных технологий</dc:title>
</cp:coreProperties>
</file>