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4EB6-8C5E-4214-B426-068A5569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88B-8279-48C5-A345-898A3E25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2BE-0401-43B9-ACC3-2BDDC40F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63C3-C939-4C37-A9E5-B60027E7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8030-75D9-474E-A7FC-A8235755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B4F7-DAD2-46EA-A19C-8762169B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0EE3-6C37-4BBC-B7CF-93B02E88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BE30-3220-4D9B-B117-FA6C158A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F46B-B722-44DC-B559-7B46778E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3E49-5706-4809-A09F-B30E430C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3C21-8389-438B-988C-4211B896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578-3149-4D1B-A990-2A981654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056B-1C00-4175-B111-F36F8B05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90F9-9B99-4AFC-8F62-A6CD9AF8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D0D0-3589-4B5F-BAB5-99AAF5A2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C51B-53B1-4248-8774-D555FF74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7CE2-187B-4662-A5DC-0890F8FC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47F-C3BD-427F-8C6D-A5F77465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2DF8-D222-4E78-805E-A1532BE8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3C07-820C-48BB-8863-840A659A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0D1-8F5D-4FFB-AD73-65189D4A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927-4EBD-42BB-BB4A-A286F802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BDA4-3340-4D48-88F3-016A0A7B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51C-940B-4156-937B-97390988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1669-F5C4-42EE-AEF5-6566E6178E64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4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2384-4C24-455A-84D4-4FAA74A7B26C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71600" y="2417760"/>
            <a:ext cx="777240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Тип Моллюски</a:t>
            </a: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логия 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05360" y="5711760"/>
            <a:ext cx="3338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Arial"/>
              </a:rPr>
              <a:t>Презентацию подготовила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Arial"/>
              </a:rPr>
              <a:t>Гречухина Наталья Васильевн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Arial"/>
              </a:rPr>
              <a:t>Учитель биологии и химии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Arial"/>
              </a:rPr>
              <a:t>МОУ «Алексеевская СОШ»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7480" y="3620880"/>
            <a:ext cx="7772400" cy="32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ридакна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Гигантская тридакна имеет створки длиной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,4 м.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это самый крупный из двустворчатых моллюсков на земном шаре. Масса гигантской тридакны окол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0 кг.,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причём масса мягких частей тела всего около 30 кг. Обитает в Индийском и Тихом океанах. питаются мелкими организмами, засасывая их через сифон. Мышцы,  замыкающие створки обладают огромной силой. Раскрыть створки живой ракушки можно лишь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ри помощи лома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Тридакна может образовывать жемчужины, иногда массой д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7 кг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398600" y="552600"/>
            <a:ext cx="7569360" cy="30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479160"/>
            <a:ext cx="777240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кация моллю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891720"/>
            <a:ext cx="77724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Головоногие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25360" y="1898640"/>
            <a:ext cx="891864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с головоног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иболее развитые моллюски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Головоногие - крупные моллюски длиной до 20 см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Активно передвигаются в толще воды и у дна. Могут развивать скорость плавания: кальмары – до 40 км/ч, осьминоги – до 15 км/ч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4280" y="1981080"/>
            <a:ext cx="781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1. Наличие наружной раковин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Мягкое тело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Незамкнутая кровеносная система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Наличие сифонов у морских моллюсков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Пищеварительная система хорошо развита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Гермафродит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ть настоящее сердце, почки, лёгкие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7360" y="839880"/>
            <a:ext cx="69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щая характеристика тип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361440"/>
            <a:ext cx="77724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кация моллю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480" y="775800"/>
            <a:ext cx="777240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рюхоногие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25920" y="857160"/>
            <a:ext cx="4410000" cy="3063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349280" y="3747960"/>
            <a:ext cx="4451400" cy="3033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543720" y="4037760"/>
            <a:ext cx="22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Наземные улитк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5040" y="323316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Морские улитк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с Брюхоног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1980720"/>
            <a:ext cx="77724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редставители этого класса встречают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глубинах океана, в прибрежной зоне океанов и морей, в пресных водоёмах, в горах и пещерах, каменистых пустынях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Тело подразделяется на голову, туловище и 1-у ногу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У брюхоногих хорошо развиты органы  обоняния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обенности строения брюхоногих моллюс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46280" y="1600200"/>
            <a:ext cx="6842160" cy="513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544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быкновенный пруд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63600" y="1851120"/>
            <a:ext cx="7880400" cy="38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5120" y="477720"/>
            <a:ext cx="33447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кац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лю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7480" y="993240"/>
            <a:ext cx="77724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вустворчаты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361040" y="378000"/>
            <a:ext cx="4782960" cy="3898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2901960"/>
            <a:ext cx="4797360" cy="39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с Двухстворчат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7480" y="1980720"/>
            <a:ext cx="777240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Это исключительно водные животные. Размеры и масса тела различны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Раковина состоит из дух створок. Внутренний слой створок покрыт перламутром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Эти моллюски образуют жемчуг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Моллюски очень чувствительны к солёности воды и др. экологическим факторам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138320"/>
            <a:ext cx="9144000" cy="4813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0:26:54Z</dcterms:created>
  <dc:creator>н.</dc:creator>
  <dc:description/>
  <dc:language>en-US</dc:language>
  <cp:lastModifiedBy>Наталья</cp:lastModifiedBy>
  <dcterms:modified xsi:type="dcterms:W3CDTF">2009-09-28T16:55:36Z</dcterms:modified>
  <cp:revision>49</cp:revision>
  <dc:subject/>
  <dc:title>Конструирование урока с использованием информационных технологий</dc:title>
</cp:coreProperties>
</file>