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19.wmf" ContentType="image/x-wmf"/>
  <Override PartName="/ppt/media/image14.jpeg" ContentType="image/jpeg"/>
  <Override PartName="/ppt/media/image17.png" ContentType="image/png"/>
  <Override PartName="/ppt/media/image15.png" ContentType="image/png"/>
  <Override PartName="/ppt/media/image13.jpeg" ContentType="image/jpeg"/>
  <Override PartName="/ppt/media/image3.wmf" ContentType="image/x-wmf"/>
  <Override PartName="/ppt/media/image1.jpeg" ContentType="image/jpeg"/>
  <Override PartName="/ppt/media/image4.wmf" ContentType="image/x-wmf"/>
  <Override PartName="/ppt/media/image16.png" ContentType="image/png"/>
  <Override PartName="/ppt/media/chimes.wav" ContentType="audio/x-wav"/>
  <Override PartName="/ppt/media/image7.wmf" ContentType="image/x-wmf"/>
  <Override PartName="/ppt/media/image12.wmf" ContentType="image/x-wmf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784-F9A0-47F6-A63B-EB407639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4D8-A91D-40D5-A14D-E371F034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C6A-DE55-4D7B-A0B7-097C180D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9FC-2A31-4136-BDB3-5D1E0327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65FA-62FA-4D4D-8278-2C163A78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AC34-D7B5-4346-A3D0-5307CFF9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FFD2-A770-4EB5-9040-66483BB9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F8BE-368F-486C-B3A2-ABDC31FB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0786-BF76-49CF-BCD3-6D4E510E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CC1D-B624-429C-93B8-9CEFDFA7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C8BE-8D19-432E-8285-B640ECA2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1C9-3BCA-4560-8246-29412EC3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48B2-0FDF-4414-B7C8-B67A5D05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F9CB-69D4-4E7F-8BEA-CFEE710C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3A54-C8CD-4170-A425-089C6CE1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D4A5-5DA4-40E5-BBF5-08606729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7E06-548D-4BDD-AF20-A5917D16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CB6-E8B1-4B35-9AF1-669D0AEF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F0D9-017A-4313-AB91-A827D560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7B1-2DBD-4DA6-95CD-756E104E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FA1D-9676-4262-8362-81202D7A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C5D-EBFE-4447-80C0-475FCBA7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C3E-9229-477D-9110-D2D5B242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103-33CB-422D-8022-BA6BE6AA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677E-3C00-4868-912D-897F04569F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ED71-D71B-471C-B5B2-EE4A0D4964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00280" y="1135080"/>
            <a:ext cx="3941640" cy="4586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49320" y="322200"/>
            <a:ext cx="5443560" cy="6213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67200" y="1706400"/>
            <a:ext cx="3009600" cy="3445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51120" y="2806560"/>
            <a:ext cx="1841760" cy="1244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299880" y="-1447920"/>
            <a:ext cx="9743760" cy="9753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40040" y="2678040"/>
            <a:ext cx="1663920" cy="1501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-1847880" y="-3067200"/>
            <a:ext cx="12839760" cy="13005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2147760"/>
            <a:ext cx="84582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онструктор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62120" y="2362320"/>
            <a:ext cx="74674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М О Р О Д И Н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ДА     МОРДА       РОД            РО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Р        МОРЕ         СОР            ДО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ДА      РОСА         НОС            ДАР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РДИНА  МИР       НАРОД       СО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ДИНА   АР                               СО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0880" y="1219320"/>
            <a:ext cx="72392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Лесна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ПТЕКА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6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0880" y="762120"/>
            <a:ext cx="7391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ел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М И 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6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ТВЕТ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Шалфей, чабрец, базилик, мал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Отвар крапивы, листья подоржника,чистоте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Зверобой, ромаш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Отвар или сироп шиповника, боярышник, звероб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ЗМИНУ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0720" y="1066680"/>
            <a:ext cx="693396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    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о грибы,по ягоды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066680"/>
            <a:ext cx="73152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АЗКА-ЗАГАД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Д У Б"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6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14400" y="1371600"/>
            <a:ext cx="65530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просы д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езна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ОССВОР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Чем размножаются растени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Хвойный кустарни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Морская капус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Хвойное дерево,сбрасывающее лист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Вещество, которое выделяет хвойное дерево при повреждении веток или ство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Мох.(назван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Хвойное дерево-обитатель тай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Лишайник- пища северных олен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тветы на кроссвор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Семена                    5.Смо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Можжевельник        6.Сфагну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Ламинария              7.Кед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Лиственница           8.Ягель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1143000"/>
            <a:ext cx="69343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вед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тогов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52480" y="1752480"/>
            <a:ext cx="65534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ирода -на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елёный до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5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словицы и поговор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Где цветок, там и мед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Руби дерево крепкое, гнилое само упадё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Это только цветочки-ягодки вперед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Лес зимой словно сед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Лес и вода- родные брат и сест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Берёзоньки, как девоньки, в сарафанчиках беленьких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375320" y="105011640"/>
            <a:ext cx="7408800" cy="1026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1831680" cy="1765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248520" y="3048120"/>
            <a:ext cx="1981080" cy="1181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4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43000" y="1752480"/>
            <a:ext cx="670572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Загадочный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740040" y="2678040"/>
            <a:ext cx="1663920" cy="150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410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523880" y="-237960"/>
            <a:ext cx="12191760" cy="7333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65520" y="2562120"/>
            <a:ext cx="1812960" cy="1731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35240" y="995400"/>
            <a:ext cx="4672080" cy="4865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35240" y="1697040"/>
            <a:ext cx="4672080" cy="3463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1-19T10:08:0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