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5.png" ContentType="image/png"/>
  <Override PartName="/ppt/media/image13.jpeg" ContentType="image/jpeg"/>
  <Override PartName="/ppt/media/image3.wmf" ContentType="image/x-wmf"/>
  <Override PartName="/ppt/media/image1.jpeg" ContentType="image/jpeg"/>
  <Override PartName="/ppt/media/image4.wmf" ContentType="image/x-wmf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80A-C23B-4064-8AFB-5595A37A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ECB-64A7-4856-B8F2-50D40EAC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CA1-A6B0-4437-B722-92F52406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BF6-0CA1-4554-A49A-801C17C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7A72-5AF9-43CA-A1D7-093E736D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14E-3852-4EBE-9611-DEF36FF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2832-0453-4E1C-B645-986FCBD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FCF8-E4A5-4B99-B198-F4757B2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C31C-6283-4006-AB40-64B589EF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9AC-FE1A-41D0-B90D-EE87800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F02B-0D28-4B79-A2FB-12DD67B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B03-92F3-406C-AC04-DABA212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21A-75B5-4A72-9F53-6EB3DBF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DA5E-E3DF-4071-BF12-69E6FC63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F49-F6DB-435D-B36D-FFEB1DE0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AB05-A050-4824-9D81-AEA9FFD2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7743-814B-4A72-A10A-73D74039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38E-2DB7-4C28-BA81-25356FD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E5A-D57B-49CF-9462-D8C2BCD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BA0-9CB1-4A0C-BD05-F6ABAC8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D1F-14AF-4B33-9783-ECCCDD8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FE7-2C33-40A3-9CA9-3F8B3E7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6FD-6C33-4D95-ACFE-D9512B8D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6DC-C6D9-4891-ADCF-B725B51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03DB-B312-4A0F-860E-C9F763116D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D5A-FD8E-4983-B845-6C9EFAC465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00280" y="1135080"/>
            <a:ext cx="3941640" cy="4586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49320" y="322200"/>
            <a:ext cx="544356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7200" y="1706400"/>
            <a:ext cx="3009600" cy="344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51120" y="2806560"/>
            <a:ext cx="184176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99880" y="-1447920"/>
            <a:ext cx="9743760" cy="975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40040" y="2678040"/>
            <a:ext cx="1663920" cy="1501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1847880" y="-3067200"/>
            <a:ext cx="12839760" cy="1300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2147760"/>
            <a:ext cx="84582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нструктор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2362320"/>
            <a:ext cx="74674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М О Р О Д И Н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ДА     МОРДА       РОД            Р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Р        МОРЕ         СОР            Д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ДА      РОСА         НОС            ДАР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РДИНА  МИР       НАРОД       С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ДИНА   АР                               С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21932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есна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ТЕКА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76212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ел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 И 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Шалфей, чабрец, базилик, ма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Отвар крапивы, листья подоржника,чистот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Зверобой, рома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Отвар или сироп шиповника, боярышник, звероб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066680"/>
            <a:ext cx="693396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о грибы,по ягод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6668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-ЗАГАД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Д У Б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371600"/>
            <a:ext cx="65530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ы д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зна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Чем размножаются раст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Хвойный кустар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Морская капу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Хвойное дерево,сбрасывающее лис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Вещество, которое выделяет хвойное дерево при повреждении веток или ств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Мох.(наз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Хвойное дерево-обитатель тай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Лишайник- пища северных олен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веты на кроссвор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Семена                    5.См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Можжевельник        6.Сфагн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Ламинария              7.Ке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Лиственница           8.Ягель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143000"/>
            <a:ext cx="6934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о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17524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рода -н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елёный до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словицы и поговор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Где цветок, там и мед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Руби дерево крепкое, гнилое само упадё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Это только цветочки-ягодки впере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Лес зимой словно сед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Лес и вода- родные брат и сест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Берёзоньки, как девоньки, в сарафанчиках беленьки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375320" y="105011640"/>
            <a:ext cx="7408800" cy="1026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31680" cy="176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198108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1752480"/>
            <a:ext cx="6705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Загадочный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40040" y="2678040"/>
            <a:ext cx="1663920" cy="15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10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237960"/>
            <a:ext cx="12191760" cy="73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65520" y="2562120"/>
            <a:ext cx="181296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35240" y="995400"/>
            <a:ext cx="4672080" cy="48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35240" y="1697040"/>
            <a:ext cx="467208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9T10:08:0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