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0D1-0A6C-4D7A-B4E0-C8404C53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699-0842-4534-B630-C31F71CE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34D-DE80-4763-B1A2-B7BC448C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1EA-518E-4312-B2E9-85B405E0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216-A7B2-4649-A2D1-F0C6ECA5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DED-BF97-4255-B68E-5B452ED4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1FA-84A9-4F00-B678-2191EBCF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73C-2F57-44CC-83F1-6140977D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C4B-423A-4AFF-9DCE-245BA969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5F3-9B30-45B7-AC73-0EE79401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B2E-4819-4AE4-8AEC-364A2776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3FF-242C-4FFD-9B44-AFAC050D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D4FD-1756-4F30-9D0E-9EB0D0CA6B37}" type="datetime">
              <a:rPr b="0" lang="en-US" sz="1200" spc="-1" strike="noStrike">
                <a:solidFill>
                  <a:srgbClr val="ba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54B7-EDF5-4039-87E9-B0D4F4697DAE}" type="slidenum">
              <a:rPr b="0" lang="en-US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tranamasterov.ru/technics/napkins_details" TargetMode="External"/><Relationship Id="rId3" Type="http://schemas.openxmlformats.org/officeDocument/2006/relationships/hyperlink" Target="http://stranamasterov.ru/blog/2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7215120" y="4286160"/>
            <a:ext cx="857160" cy="111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Цветы из салфеток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40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a8989"/>
                </a:solidFill>
                <a:latin typeface="Arial"/>
              </a:rPr>
              <a:t>Презентацию подготовила 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a8989"/>
                </a:solidFill>
                <a:latin typeface="Arial"/>
              </a:rPr>
              <a:t>учитель начальных классов МОУ-СОШ № 17 г.Клина, Московской области 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a8989"/>
                </a:solidFill>
                <a:latin typeface="Arial"/>
              </a:rPr>
              <a:t>Перфилова Г.Б.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a8989"/>
                </a:solidFill>
                <a:latin typeface="Arial"/>
              </a:rPr>
              <a:t>(по материалам сайта «Страна мастеров»)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44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392904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7786800" y="54291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6"/>
          <a:stretch/>
        </p:blipFill>
        <p:spPr>
          <a:xfrm>
            <a:off x="4357800" y="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Сделай надрезы глубиной примерно 10 мм через равные промежутки.</a:t>
            </a:r>
            <a:endParaRPr b="0" lang="en-US" sz="3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08000" y="1628640"/>
            <a:ext cx="5400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Подними верхний тонкий слой. Сожми его пальцами вокруг центра.</a:t>
            </a:r>
            <a:endParaRPr b="0" lang="en-US" sz="3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3240000" cy="3095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716360" y="2708280"/>
            <a:ext cx="307368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Поднимай следующие слои и также сжимай их пальцами.</a:t>
            </a:r>
            <a:endParaRPr b="0" lang="en-US" sz="4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68360" y="1628640"/>
            <a:ext cx="4751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Подними все слои друг за другом. Можно поднимать по 2—3 слоя одновременно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. </a:t>
            </a:r>
            <a:br>
              <a:rPr sz="4000"/>
            </a:b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Получился пышный цветок.</a:t>
            </a:r>
            <a:endParaRPr b="0" lang="en-US" sz="3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0920" y="2637000"/>
            <a:ext cx="525636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Чтобы сделать листочки для одуванчика, возьми полоски бумаги размером 3,5—4 см на 8—12 см и сложи пополам. Отрежь уголки. Вырезай зубчики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1871640" cy="4103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35280" y="2276640"/>
            <a:ext cx="2016360" cy="4176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443640" y="1844640"/>
            <a:ext cx="18018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Вырежи несколько листочков разного размера и разных оттенков. </a:t>
            </a:r>
            <a:br>
              <a:rPr sz="2800"/>
            </a:b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риклеивай к основе только нижнюю часть листа.</a:t>
            </a:r>
            <a:r>
              <a:rPr b="0" lang="en-US" sz="40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5184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Интернет-ресурсы: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tranamasterov.ru/technics/napkins_details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stranamasterov.ru/blog/2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Огромное спасибо Татьяне Просняковой за предоставленные материалы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B48A-FF82-406D-BCD6-D2C1FE2E027B}" type="datetime">
              <a:rPr b="0" lang="en-US" sz="1200" spc="-1" strike="noStrike">
                <a:solidFill>
                  <a:srgbClr val="ba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C39C-F883-4384-AA64-F7ABBBC9F993}" type="slidenum">
              <a:rPr b="0" lang="en-US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258920" y="692280"/>
            <a:ext cx="66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Возьми столовую салфетку, состоящую из трёх слоёв. Раздели все слои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518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Возьми два тонких слоя и сложи каждый вчетверо.</a:t>
            </a:r>
            <a:endParaRPr b="0" lang="en-US" sz="4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761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Сложи каждый слой ещё раз вчетверо.</a:t>
            </a:r>
            <a:endParaRPr b="0" lang="en-US" sz="4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209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Наложи слои друг на друга.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0920" y="1628640"/>
            <a:ext cx="5257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Соедини все слои, пробив их степлером.</a:t>
            </a:r>
            <a:endParaRPr b="0" lang="en-US" sz="4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6121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Пробей для прочности ещё раз, расположив скрепки крест-накрест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2360" y="1628640"/>
            <a:ext cx="5688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Вырежи круг.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2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9:48:15Z</dcterms:created>
  <dc:creator>Admin</dc:creator>
  <dc:description>http://aida.ucoz.ru</dc:description>
  <dc:language>en-US</dc:language>
  <cp:lastModifiedBy>Admin</cp:lastModifiedBy>
  <dcterms:modified xsi:type="dcterms:W3CDTF">2011-03-01T20:18:42Z</dcterms:modified>
  <cp:revision>2</cp:revision>
  <dc:subject/>
  <dc:title>Цветы из салфеток</dc:title>
</cp:coreProperties>
</file>