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6A514-8978-4387-B8E9-84B2AF6A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06452-7A12-4006-BF54-7E99574F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06874-892E-4B5A-A8E8-CCF9ED59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8E4A9-36E0-46D6-81AC-934F1FCB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7E3B-74B2-4CA7-9B97-26B077EA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DEDE-45AB-48C8-A7B0-59ACD936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8A12-084D-499A-B89F-3C7E584C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630B-149C-4A99-A312-94F20988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1140-EC6B-40F2-9C25-56BB6139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EB56-8EDB-474D-B7A2-0CE1140C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E367-D4D5-417D-A533-9819056C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D88C4-E5AD-4461-8070-27058E27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EDB6-2583-401C-8762-B2D0BAFE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01F4-A614-4359-A8A4-45F98C5C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9DB3-BA7E-47A4-85E2-54A8A4DF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0499-8197-4774-BB28-29570951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667F-73AF-4782-A522-81C0349F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75F50-CCC7-4A51-BC56-EB1ABF01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48EF6-BC18-4A5F-A565-02894F33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A0814-B594-452E-A9C1-55F6FF22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68D17-DD9A-4CF6-AAE0-787875C6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C845A-FD95-483F-B335-B33B1704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6076E-5655-44FE-824D-6D6D4A4F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6F021-47BB-4A61-8C5C-94EE2E18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015E-01C3-4FE3-BD16-EE0CFFDFC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9E19-3E85-4955-BA3F-698B443B58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7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9907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Garamond"/>
              </a:rPr>
              <a:t>НАРКОМАНИЯ: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Garamond"/>
              </a:rPr>
              <a:t>ЧЕЙ ЭТО ВЫБОР ?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Рисунок 4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228600" y="541008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Работу подготови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педагог-организатор ОБЖ гимназии «Дмитров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Баринов Андрей Сергее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НАЧИНАЕТ  НРАВИТЬС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Garamond"/>
              </a:rPr>
              <a:t>Для этого этапа характерно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1756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Осознанное желание получить «кайф» при помощи ПАВ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56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Планирование употреблени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56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Поиск разумных оправданий употреблени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56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Поиск «ПОДХОДЯЩЕЙ» компани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56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ПАВ становится необходимым атрибутом веселья и отдых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56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ПАВ начинают использовать ка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          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- лекарство против «комплексов»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          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- лекарство от стресс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          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- способ общени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          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- спутник сексуальных отношени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56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«Рост» дозы, требуемой для получения нужных ощущени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56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Формируется особая «тусовка» - свой ПАВ, своя музыка, стиль одежды, юмор.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Рисунок 5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Line 3"/>
          <p:cNvSpPr/>
          <p:nvPr/>
        </p:nvSpPr>
        <p:spPr>
          <a:xfrm flipH="1" flipV="1">
            <a:off x="762120" y="914040"/>
            <a:ext cx="46080" cy="2895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09480" y="3124080"/>
            <a:ext cx="78487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7913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28600" y="457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мо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Line 8"/>
          <p:cNvSpPr/>
          <p:nvPr/>
        </p:nvSpPr>
        <p:spPr>
          <a:xfrm flipV="1">
            <a:off x="762120" y="914400"/>
            <a:ext cx="533160" cy="22096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1295280" y="990720"/>
            <a:ext cx="457200" cy="2133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1981080" y="1752480"/>
            <a:ext cx="609840" cy="2210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2819520" y="2209680"/>
            <a:ext cx="533160" cy="198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Line 16"/>
          <p:cNvSpPr/>
          <p:nvPr/>
        </p:nvSpPr>
        <p:spPr>
          <a:xfrm flipV="1">
            <a:off x="3352680" y="2743200"/>
            <a:ext cx="304920" cy="1447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Line 17"/>
          <p:cNvSpPr/>
          <p:nvPr/>
        </p:nvSpPr>
        <p:spPr>
          <a:xfrm flipV="1">
            <a:off x="1752480" y="1752480"/>
            <a:ext cx="228600" cy="1371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18"/>
          <p:cNvSpPr/>
          <p:nvPr/>
        </p:nvSpPr>
        <p:spPr>
          <a:xfrm flipV="1">
            <a:off x="2590920" y="2209320"/>
            <a:ext cx="228600" cy="175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3657600" y="2743200"/>
            <a:ext cx="685800" cy="2057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Line 20"/>
          <p:cNvSpPr/>
          <p:nvPr/>
        </p:nvSpPr>
        <p:spPr>
          <a:xfrm flipV="1">
            <a:off x="4343400" y="3123720"/>
            <a:ext cx="380880" cy="1676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Line 21"/>
          <p:cNvSpPr/>
          <p:nvPr/>
        </p:nvSpPr>
        <p:spPr>
          <a:xfrm>
            <a:off x="4724280" y="3124080"/>
            <a:ext cx="609840" cy="2057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Line 22"/>
          <p:cNvSpPr/>
          <p:nvPr/>
        </p:nvSpPr>
        <p:spPr>
          <a:xfrm flipV="1">
            <a:off x="5334120" y="3733560"/>
            <a:ext cx="380880" cy="1447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Line 23"/>
          <p:cNvSpPr/>
          <p:nvPr/>
        </p:nvSpPr>
        <p:spPr>
          <a:xfrm>
            <a:off x="5715000" y="3733920"/>
            <a:ext cx="1066680" cy="2590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24"/>
          <p:cNvSpPr/>
          <p:nvPr/>
        </p:nvSpPr>
        <p:spPr>
          <a:xfrm>
            <a:off x="1371600" y="3049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Magneto"/>
              </a:rPr>
              <a:t>График «кайф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Рисунок 20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2"/>
          <p:cNvSpPr/>
          <p:nvPr/>
        </p:nvSpPr>
        <p:spPr>
          <a:xfrm>
            <a:off x="2514600" y="914400"/>
            <a:ext cx="434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Зависимость – болезнь привыкания. Организм привыкает к определённой дозе и требует большей для получения удовольств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Рисунок 23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1585800" cy="31240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4" descr=""/>
          <p:cNvPicPr/>
          <p:nvPr/>
        </p:nvPicPr>
        <p:blipFill>
          <a:blip r:embed="rId3"/>
          <a:stretch/>
        </p:blipFill>
        <p:spPr>
          <a:xfrm>
            <a:off x="7086600" y="533520"/>
            <a:ext cx="1828800" cy="23270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5"/>
          <p:cNvSpPr/>
          <p:nvPr/>
        </p:nvSpPr>
        <p:spPr>
          <a:xfrm>
            <a:off x="6629400" y="327672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ЗАКОН ДОЗ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Если человек продолжает принимать ПАВ, он переходит с меньших доз на большие и с менее сильных веществ на более сильны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2057400" y="54100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Если человек не прекращает      употребление ПАВ, начинается      следующая стадия развития зависимости 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ВОЗНИКАЮТ  ПРОБЛЕ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Garamond"/>
              </a:rPr>
              <a:t>Для этого этапа характерно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1832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Проблемы со здоровьем (похмелье, ломка, неприятные ощущения после употребления ПАВ, инфекционные заболевания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32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Потеря контроля над поведением (травмы, насилие, криминал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32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Неразборчивость в сексе (венерические заболевания, нежелательная беременность, проблемы в отношениях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32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Скандалы в семье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32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Проблемы с учёбой, неприятности в учебных заведениях (школе, училище, университете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32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Финансовые трудности (долги, продажа вещей из дома, постоянный поиск денег, кражи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32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Конфликты с друзьям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32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Основной круг общения – те, кто употребляет ПАВ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32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Конфликты с законом, приводы в милицию.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Рисунок 5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3"/>
          <p:cNvSpPr/>
          <p:nvPr/>
        </p:nvSpPr>
        <p:spPr>
          <a:xfrm flipH="1" flipV="1">
            <a:off x="762120" y="914400"/>
            <a:ext cx="46080" cy="3124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609480" y="3124080"/>
            <a:ext cx="78487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7913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28600" y="457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мо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Line 8"/>
          <p:cNvSpPr/>
          <p:nvPr/>
        </p:nvSpPr>
        <p:spPr>
          <a:xfrm flipV="1">
            <a:off x="762120" y="990720"/>
            <a:ext cx="533160" cy="2133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1295280" y="990720"/>
            <a:ext cx="457200" cy="2133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1981080" y="1752480"/>
            <a:ext cx="609840" cy="2210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2819520" y="2209680"/>
            <a:ext cx="533160" cy="198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Line 16"/>
          <p:cNvSpPr/>
          <p:nvPr/>
        </p:nvSpPr>
        <p:spPr>
          <a:xfrm flipV="1">
            <a:off x="3352680" y="2743200"/>
            <a:ext cx="30492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Line 17"/>
          <p:cNvSpPr/>
          <p:nvPr/>
        </p:nvSpPr>
        <p:spPr>
          <a:xfrm flipV="1">
            <a:off x="1752480" y="175248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Line 18"/>
          <p:cNvSpPr/>
          <p:nvPr/>
        </p:nvSpPr>
        <p:spPr>
          <a:xfrm flipV="1">
            <a:off x="2590920" y="2209320"/>
            <a:ext cx="228600" cy="1752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Line 19"/>
          <p:cNvSpPr/>
          <p:nvPr/>
        </p:nvSpPr>
        <p:spPr>
          <a:xfrm>
            <a:off x="3657600" y="2743200"/>
            <a:ext cx="68580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Line 20"/>
          <p:cNvSpPr/>
          <p:nvPr/>
        </p:nvSpPr>
        <p:spPr>
          <a:xfrm flipV="1">
            <a:off x="4343400" y="3123720"/>
            <a:ext cx="380880" cy="1676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Line 21"/>
          <p:cNvSpPr/>
          <p:nvPr/>
        </p:nvSpPr>
        <p:spPr>
          <a:xfrm>
            <a:off x="4724280" y="3124080"/>
            <a:ext cx="60984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Line 22"/>
          <p:cNvSpPr/>
          <p:nvPr/>
        </p:nvSpPr>
        <p:spPr>
          <a:xfrm flipV="1">
            <a:off x="5334120" y="3733560"/>
            <a:ext cx="380880" cy="1447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Line 23"/>
          <p:cNvSpPr/>
          <p:nvPr/>
        </p:nvSpPr>
        <p:spPr>
          <a:xfrm>
            <a:off x="5715000" y="3733920"/>
            <a:ext cx="1066680" cy="2590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1371600" y="3049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Magneto"/>
              </a:rPr>
              <a:t>График «кайф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Рисунок 20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9"/>
          <p:cNvSpPr/>
          <p:nvPr/>
        </p:nvSpPr>
        <p:spPr>
          <a:xfrm>
            <a:off x="4114800" y="9907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Возникает физическая зависимость. Наркотик не приносит удовольствия, а употребляется для приведения организма в нормальное состоя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Рисунок 21" descr=""/>
          <p:cNvPicPr/>
          <p:nvPr/>
        </p:nvPicPr>
        <p:blipFill>
          <a:blip r:embed="rId2"/>
          <a:stretch/>
        </p:blipFill>
        <p:spPr>
          <a:xfrm>
            <a:off x="7086600" y="2209680"/>
            <a:ext cx="1825560" cy="29401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22"/>
          <p:cNvSpPr/>
          <p:nvPr/>
        </p:nvSpPr>
        <p:spPr>
          <a:xfrm>
            <a:off x="228600" y="3505320"/>
            <a:ext cx="213372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Garamond"/>
              </a:rPr>
              <a:t>Возникающие проблемы служат оправданием дальнейшего употребления. Употребление вызывает новые проблемы. Причина и следствие меняются местами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extBox 23"/>
          <p:cNvSpPr/>
          <p:nvPr/>
        </p:nvSpPr>
        <p:spPr>
          <a:xfrm>
            <a:off x="2514600" y="5181480"/>
            <a:ext cx="53341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Garamond"/>
              </a:rPr>
              <a:t>Прекратить употребление ПАВ на этой стадии самостоятельно невозможно, необходима помощь специалистов. Продолжение употребления обязательно ведет к переходу  на следующую стадию развития зависимости …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УПОТРЕБЛЕНИЕ СТАНОВИТСЯ ЦЕЛЬЮ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Garamond"/>
              </a:rPr>
              <a:t>Для этого этапа характерно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1890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Употребление ради употреблени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90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Постоянная потребность в ПАВ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90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Использование крайних средств и способов в поисках дозы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90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Разрушение нравственных ценносте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90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Апатия и нежелание жить, утрата смысла существовани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90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Попытки САМОУБИЙСТВ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90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Серьёзные проблемы со здоровьем, возникновение хронических заболевани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90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Разрыв с семьёй, друзьями, общество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90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Замкнутость, «уход  в себя»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90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СМЕРТ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Рисунок 5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3"/>
          <p:cNvSpPr/>
          <p:nvPr/>
        </p:nvSpPr>
        <p:spPr>
          <a:xfrm flipH="1" flipV="1">
            <a:off x="762120" y="914400"/>
            <a:ext cx="46080" cy="3124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609480" y="3124080"/>
            <a:ext cx="78487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62940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28600" y="457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мо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Line 8"/>
          <p:cNvSpPr/>
          <p:nvPr/>
        </p:nvSpPr>
        <p:spPr>
          <a:xfrm flipV="1">
            <a:off x="762120" y="990720"/>
            <a:ext cx="533160" cy="2133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Line 9"/>
          <p:cNvSpPr/>
          <p:nvPr/>
        </p:nvSpPr>
        <p:spPr>
          <a:xfrm>
            <a:off x="1295280" y="990720"/>
            <a:ext cx="457200" cy="2133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Line 11"/>
          <p:cNvSpPr/>
          <p:nvPr/>
        </p:nvSpPr>
        <p:spPr>
          <a:xfrm>
            <a:off x="1981080" y="1752480"/>
            <a:ext cx="609840" cy="2210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Line 14"/>
          <p:cNvSpPr/>
          <p:nvPr/>
        </p:nvSpPr>
        <p:spPr>
          <a:xfrm>
            <a:off x="2819520" y="2209680"/>
            <a:ext cx="533160" cy="198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Line 16"/>
          <p:cNvSpPr/>
          <p:nvPr/>
        </p:nvSpPr>
        <p:spPr>
          <a:xfrm flipV="1">
            <a:off x="3352680" y="2743200"/>
            <a:ext cx="304920" cy="1447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Line 17"/>
          <p:cNvSpPr/>
          <p:nvPr/>
        </p:nvSpPr>
        <p:spPr>
          <a:xfrm flipV="1">
            <a:off x="1752480" y="175248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Line 18"/>
          <p:cNvSpPr/>
          <p:nvPr/>
        </p:nvSpPr>
        <p:spPr>
          <a:xfrm flipV="1">
            <a:off x="2590920" y="2209320"/>
            <a:ext cx="228600" cy="1752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Line 19"/>
          <p:cNvSpPr/>
          <p:nvPr/>
        </p:nvSpPr>
        <p:spPr>
          <a:xfrm>
            <a:off x="3657600" y="2743200"/>
            <a:ext cx="685800" cy="2057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Line 20"/>
          <p:cNvSpPr/>
          <p:nvPr/>
        </p:nvSpPr>
        <p:spPr>
          <a:xfrm flipV="1">
            <a:off x="4343400" y="3123720"/>
            <a:ext cx="380880" cy="1676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Line 21"/>
          <p:cNvSpPr/>
          <p:nvPr/>
        </p:nvSpPr>
        <p:spPr>
          <a:xfrm>
            <a:off x="4724280" y="3124080"/>
            <a:ext cx="609840" cy="2057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Line 22"/>
          <p:cNvSpPr/>
          <p:nvPr/>
        </p:nvSpPr>
        <p:spPr>
          <a:xfrm flipV="1">
            <a:off x="5334120" y="3733560"/>
            <a:ext cx="380880" cy="1447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Line 23"/>
          <p:cNvSpPr/>
          <p:nvPr/>
        </p:nvSpPr>
        <p:spPr>
          <a:xfrm>
            <a:off x="5715000" y="3733920"/>
            <a:ext cx="914400" cy="2590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24"/>
          <p:cNvSpPr/>
          <p:nvPr/>
        </p:nvSpPr>
        <p:spPr>
          <a:xfrm>
            <a:off x="1371600" y="3049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Magneto"/>
              </a:rPr>
              <a:t>График «кайф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Рисунок 20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1"/>
          <p:cNvSpPr/>
          <p:nvPr/>
        </p:nvSpPr>
        <p:spPr>
          <a:xfrm>
            <a:off x="2971800" y="114300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Глубокие физиологические изменения. Употребление ПАВ для того, чтобы прожить этот день. Мозг разучился самостоятельно регулировать нейрохимический баланс и уже не может воспринимать окружающий мри без очередной доз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extBox 22"/>
          <p:cNvSpPr/>
          <p:nvPr/>
        </p:nvSpPr>
        <p:spPr>
          <a:xfrm>
            <a:off x="457200" y="4495680"/>
            <a:ext cx="38098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Если человек не прекращает употребление – он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ПОГИБАЕ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066680" y="4800600"/>
            <a:ext cx="7010640" cy="15238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228600" y="380880"/>
            <a:ext cx="86104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Абсолютное большинство наркоманов, дошедших до этой стадии погибают от передозировки. Количество вещества, требуемое для возвращения мозга к нормальному функционированию, становится критическим для жизнедеятельности организма в цел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ЧЕЛОВЕК УМИРАЕТ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4" name="Рисунок 8" descr=""/>
          <p:cNvPicPr/>
          <p:nvPr/>
        </p:nvPicPr>
        <p:blipFill>
          <a:blip r:embed="rId2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Употребление многих психоативных веществ может быть привлекательны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Но вы уже знаете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Garamond"/>
              </a:rPr>
              <a:t>ЧТО</a:t>
            </a: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 оно влечёт за соб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aramond"/>
              </a:rPr>
              <a:t>Кто делает выбор 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6" name="Рисунок 5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1632240" cy="12510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6" descr=""/>
          <p:cNvPicPr/>
          <p:nvPr/>
        </p:nvPicPr>
        <p:blipFill>
          <a:blip r:embed="rId3"/>
          <a:stretch/>
        </p:blipFill>
        <p:spPr>
          <a:xfrm>
            <a:off x="6324480" y="3124080"/>
            <a:ext cx="1632240" cy="129564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7" descr=""/>
          <p:cNvPicPr/>
          <p:nvPr/>
        </p:nvPicPr>
        <p:blipFill>
          <a:blip r:embed="rId4"/>
          <a:stretch/>
        </p:blipFill>
        <p:spPr>
          <a:xfrm>
            <a:off x="390600" y="2109960"/>
            <a:ext cx="3151080" cy="101124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8" descr=""/>
          <p:cNvPicPr/>
          <p:nvPr/>
        </p:nvPicPr>
        <p:blipFill>
          <a:blip r:embed="rId5"/>
          <a:stretch/>
        </p:blipFill>
        <p:spPr>
          <a:xfrm>
            <a:off x="2597040" y="2944800"/>
            <a:ext cx="3754440" cy="101772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9" descr=""/>
          <p:cNvPicPr/>
          <p:nvPr/>
        </p:nvPicPr>
        <p:blipFill>
          <a:blip r:embed="rId6"/>
          <a:stretch/>
        </p:blipFill>
        <p:spPr>
          <a:xfrm>
            <a:off x="5492880" y="2109960"/>
            <a:ext cx="3174840" cy="101124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0"/>
          <p:cNvSpPr/>
          <p:nvPr/>
        </p:nvSpPr>
        <p:spPr>
          <a:xfrm>
            <a:off x="1981080" y="449568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А, МОЖЕТ, ТЫ САМ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TextBox 11"/>
          <p:cNvSpPr/>
          <p:nvPr/>
        </p:nvSpPr>
        <p:spPr>
          <a:xfrm>
            <a:off x="457200" y="51055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Способен ли ты сказать «НЕТ», даже когда это трудно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TextBox 12"/>
          <p:cNvSpPr/>
          <p:nvPr/>
        </p:nvSpPr>
        <p:spPr>
          <a:xfrm>
            <a:off x="152280" y="5749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Garamond"/>
              </a:rPr>
              <a:t>ТОЛЬКО ТЫ МОЖЕШЬ ПОЗАБОТИТЬСЯ О СЕБЕ, ЕСЛИ ТЫ ДЕЙСТВИТЕЛЬНО ЭТОГО ХОЧЕШЬ 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Если в результате употребления ПАВ у человека появляются проблемы в любой из сфер жизни (тело, разум, эмоции, душа, отношения с людьми) и если человек не может прекратить употребление, или прекращает,  но снова «срывается» - это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зависимость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Рисунок 5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4"/>
          <p:cNvSpPr/>
          <p:nvPr/>
        </p:nvSpPr>
        <p:spPr>
          <a:xfrm>
            <a:off x="457200" y="2514600"/>
            <a:ext cx="701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З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ВИСИМОСТЬ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– это болезнь. Болезнь хроническая, прогрессирующая, смертельная. Тем не менее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выздоровл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8" name="Рисунок 6" descr=""/>
          <p:cNvPicPr/>
          <p:nvPr/>
        </p:nvPicPr>
        <p:blipFill>
          <a:blip r:embed="rId2"/>
          <a:stretch/>
        </p:blipFill>
        <p:spPr>
          <a:xfrm>
            <a:off x="7543800" y="2286000"/>
            <a:ext cx="1467000" cy="16765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7"/>
          <p:cNvSpPr/>
          <p:nvPr/>
        </p:nvSpPr>
        <p:spPr>
          <a:xfrm>
            <a:off x="2286000" y="4191120"/>
            <a:ext cx="61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ВЫЗДОРОВЛЕНИЕ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– сложный,  долговременный, иногда болезненный процесс, первым шагом и основным условием которого является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Box 9"/>
          <p:cNvSpPr/>
          <p:nvPr/>
        </p:nvSpPr>
        <p:spPr>
          <a:xfrm>
            <a:off x="3733920" y="36576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ВОЗМОЖН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TextBox 10"/>
          <p:cNvSpPr/>
          <p:nvPr/>
        </p:nvSpPr>
        <p:spPr>
          <a:xfrm>
            <a:off x="762120" y="56386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ПОЛНЫЙ ОТКАЗ ОТ УПОТРЕБЛЕНИЯ ЛЮБЫХ ПА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2" name="Рисунок 11" descr=""/>
          <p:cNvPicPr/>
          <p:nvPr/>
        </p:nvPicPr>
        <p:blipFill>
          <a:blip r:embed="rId3"/>
          <a:stretch/>
        </p:blipFill>
        <p:spPr>
          <a:xfrm>
            <a:off x="228600" y="3733920"/>
            <a:ext cx="1676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спользуемая литерату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44" name="Рисунок 5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6" descr=""/>
          <p:cNvPicPr/>
          <p:nvPr/>
        </p:nvPicPr>
        <p:blipFill>
          <a:blip r:embed="rId2"/>
          <a:stretch/>
        </p:blipFill>
        <p:spPr>
          <a:xfrm>
            <a:off x="2438280" y="3962520"/>
            <a:ext cx="4419720" cy="24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80880" y="1295280"/>
            <a:ext cx="84582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верович Н.Е., Шкарина Н.В., Яцницкая А.В. Я выбираю жизнь. Заочный разговор подростков о жизни и наркотиках – СПб, 2003 г. – 40 с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режогин Л.О., Крюковский С.В. Профилактика наркомании у детей и подростков – М., 2005 г. – 10 с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рентьева А.В., Лагутина О.В., Молев Е.И. Чей это выбор? – М., Фонд НАН, 1998 г. – 18 с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СОДЕРЖ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262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Социологический опро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262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Медицинская точка зр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262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Стадии развития наркотической зависимос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262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первые опыт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262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начинает нравитьс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262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возникают проблем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262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Употребление становится цель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Кто делает выбор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Как вы думаете, зачем люди употребляют алкоголь, наркотики и многие другие вещества, изменяющие состояния сознания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Чтобы было хорошо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Для кайф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Так легче общатьс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От гор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Чтобы было весело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Чтобы быть взрослее и круче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Просто чтобы испытать что это такое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Уйти от бол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За компанию и т.д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А почему люди этого не делают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Они боятся за свою жизнь и здоровье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Они боятся проблем, родителей, милици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У них есть принципы и убеждени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Иногда этого не делают потому, что нет денег – но это временно 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Рисунок 4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8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8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80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12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80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80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8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56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4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68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8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28600" y="3200400"/>
            <a:ext cx="1828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5640" y="2590920"/>
            <a:ext cx="6629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Он думал так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1688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Garamond"/>
              </a:rPr>
              <a:t>… </a:t>
            </a: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в жизни надо всё попробовать …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1688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… </a:t>
            </a: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один раз не страшно …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1688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… </a:t>
            </a: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я буду контролировать себя …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1688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… </a:t>
            </a: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я сильный, я буду держать себя в руках …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1688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… </a:t>
            </a: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те, кто стали наркоманами, - слабые и безвольные …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1688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… </a:t>
            </a: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а мне всё по-фигу …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1688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… </a:t>
            </a: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чем я хуже других …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1688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… </a:t>
            </a: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а, гори оно всё огнём …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1688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… </a:t>
            </a: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когда почувствую, что начинается зависимость – брошу …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1688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… </a:t>
            </a: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от этого вещества зависимости не будет …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04920" y="228600"/>
            <a:ext cx="853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Ни один наркоман, погибающий в притоне или общественном туалете от передозировки, не планировал для себя ничего такого, когда вводил себе первую дозу или затягивался первым «косяком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Рисунок 6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1905120" cy="29718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457200" y="601992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…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А может, он вообще не думал …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8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84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88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24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68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36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16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12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В течении жизни человек испытывает различные эмоции: радость, страх, печаль и т.д. Эмоции сопровождаются физиологическими изменениями: учащение сердцебиения, задержка дыхания, влажность кожи, дрожь и т.п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Каждый раз, когда мы что-нибудь делаем, думаем, чувствуем, в нервной системе происходят физиологические изменения. От нейрона к нейрону передаются импульсы, начинается выделение биологически активных веществ – нейромедиаторов. Человеку свойственно получать удовольствие. У него, как и у всех млекопитающих, существуют «центр удовольствия», который находится в мозг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80880" y="2590920"/>
            <a:ext cx="579132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В 1953 году Джеймс Олдс и его коллеги вживили электроды в мозг крысы. Крысы научились нажимать на рычаг, чтобы получать раздражение 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Однажды научившись, они продолжали это делать с частотой несколько тысяч раз в час на протяжении десяти час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Поскольку крыса трудилась с таким упорством, её поведение означало, что ей «нравится» ощущение, вызываемое такой стимуляцие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04920" y="54100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В норме, колебания эмоционального состояния человека, незначительны. Центральная нервная система поддерживает баланс нейромедиаторов. НО! Если в организм попадают психоактивные вещества (ПАВ), происходят резкие измен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Рисунок 6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7" descr=""/>
          <p:cNvPicPr/>
          <p:nvPr/>
        </p:nvPicPr>
        <p:blipFill>
          <a:blip r:embed="rId2"/>
          <a:stretch/>
        </p:blipFill>
        <p:spPr>
          <a:xfrm>
            <a:off x="6934320" y="2362320"/>
            <a:ext cx="1990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СТАДИИ РАЗВИТИЯ НАРКОТИЧЕСКОЙ ЗАВИСИМОСТИ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0">
              <a:spcBef>
                <a:spcPts val="799"/>
              </a:spcBef>
              <a:buNone/>
              <a:tabLst>
                <a:tab algn="l" pos="0"/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1 стадия – ПЕРВЫЕ ОПЫ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14600" indent="0">
              <a:spcBef>
                <a:spcPts val="799"/>
              </a:spcBef>
              <a:buNone/>
              <a:tabLst>
                <a:tab algn="l" pos="0"/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2 стадия – НАЧИНАЕТ НРАВИ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14600" indent="0">
              <a:spcBef>
                <a:spcPts val="799"/>
              </a:spcBef>
              <a:buNone/>
              <a:tabLst>
                <a:tab algn="l" pos="0"/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3 стадия – ВОЗНИКАЮТ ПРОБЛ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14600" indent="0">
              <a:spcBef>
                <a:spcPts val="799"/>
              </a:spcBef>
              <a:buNone/>
              <a:tabLst>
                <a:tab algn="l" pos="0"/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4 стадия – УПОТРЕБЛЕНИЕ   СТАНОВИТСЯ ЦЕЛЬ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Рисунок 5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ПЕРВЫЕ  ОПЫ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Garamond"/>
              </a:rPr>
              <a:t>Для этого этапа характерно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1792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Естественное любопытство, желание «просто попробовать»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92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АКТИВНЫЙ поиск новых видов кайф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92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Неумение сказать «НЕТ»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92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Трудности с пониманием собственных границ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92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Попадание под влияние различных мифов о химических веществах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92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Страх прослыть «белой вороной» или «маменькиным сынком»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92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Неосознанное желание убежать от сложностей жизни (или осознанное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92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Наплевательское отношение к себе, к своей жизни, «пофигизм» как мировоззрение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92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Желание сделать свою жизнь интересной и наполненно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92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Незнание того, как на самом деле действуют ПАВ на психику и организм человек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Рисунок 5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2"/>
          <p:cNvSpPr/>
          <p:nvPr/>
        </p:nvSpPr>
        <p:spPr>
          <a:xfrm flipV="1">
            <a:off x="762120" y="914040"/>
            <a:ext cx="0" cy="30481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Line 3"/>
          <p:cNvSpPr/>
          <p:nvPr/>
        </p:nvSpPr>
        <p:spPr>
          <a:xfrm>
            <a:off x="609480" y="3124080"/>
            <a:ext cx="78487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0199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04920" y="457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мо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Line 6"/>
          <p:cNvSpPr/>
          <p:nvPr/>
        </p:nvSpPr>
        <p:spPr>
          <a:xfrm flipV="1">
            <a:off x="762120" y="990720"/>
            <a:ext cx="533160" cy="2133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1295280" y="990720"/>
            <a:ext cx="457200" cy="2133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81080" y="1752480"/>
            <a:ext cx="609840" cy="2210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2819520" y="2209680"/>
            <a:ext cx="533160" cy="198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10"/>
          <p:cNvSpPr/>
          <p:nvPr/>
        </p:nvSpPr>
        <p:spPr>
          <a:xfrm flipV="1">
            <a:off x="3352680" y="2743200"/>
            <a:ext cx="304920" cy="1447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11"/>
          <p:cNvSpPr/>
          <p:nvPr/>
        </p:nvSpPr>
        <p:spPr>
          <a:xfrm flipV="1">
            <a:off x="1752480" y="175248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12"/>
          <p:cNvSpPr/>
          <p:nvPr/>
        </p:nvSpPr>
        <p:spPr>
          <a:xfrm flipV="1">
            <a:off x="2590920" y="2209320"/>
            <a:ext cx="228600" cy="1752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3657600" y="2743200"/>
            <a:ext cx="685800" cy="2057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14"/>
          <p:cNvSpPr/>
          <p:nvPr/>
        </p:nvSpPr>
        <p:spPr>
          <a:xfrm flipV="1">
            <a:off x="4343400" y="3123720"/>
            <a:ext cx="380880" cy="1676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4724280" y="3124080"/>
            <a:ext cx="609840" cy="2057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5334120" y="3733560"/>
            <a:ext cx="380880" cy="1447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Line 17"/>
          <p:cNvSpPr/>
          <p:nvPr/>
        </p:nvSpPr>
        <p:spPr>
          <a:xfrm>
            <a:off x="5715000" y="3733920"/>
            <a:ext cx="1066680" cy="2819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1600200" y="2286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Magneto"/>
              </a:rPr>
              <a:t>График «кайф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3276720" y="914400"/>
            <a:ext cx="5638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Необычно высокий пик ощущений, «кайф». Первые дозы ПАВ вызывают резкий сбой нейрохимического баланса головного мозга. Очень важно, что ПАВ не сами вызывают удовольствие, а заставляют организм активизировать свои ресурсы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304920" y="46483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Человеку дан «сейф» - запас удовольствия. Им можно пользоваться всю жизнь понемногу, а можно «взломать» сейф и выгрести целую охапку «кайфа». Не скоро придёт в себя «ограбленный» банк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Рисунок 22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3" descr=""/>
          <p:cNvPicPr/>
          <p:nvPr/>
        </p:nvPicPr>
        <p:blipFill>
          <a:blip r:embed="rId2"/>
          <a:stretch/>
        </p:blipFill>
        <p:spPr>
          <a:xfrm>
            <a:off x="6781680" y="3276720"/>
            <a:ext cx="1981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Есть два пути после первых опытов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4042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Полностью прекратить употребление;          около 50 % людей так и поступаю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4042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Продолжить употребление, что неминуемо приведет к переходу на следующий этап развития зависимости от ПА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4042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Третьего не дано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УВЫ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Рисунок 5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4:25:13Z</dcterms:created>
  <dc:creator>Андрей</dc:creator>
  <dc:description/>
  <dc:language>en-US</dc:language>
  <cp:lastModifiedBy>user</cp:lastModifiedBy>
  <dcterms:modified xsi:type="dcterms:W3CDTF">2011-12-17T13:47:20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