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0CB0-0C52-4404-AB9B-0D2EB779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6137-FCFC-495F-8DC8-CD8DE385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3D01-80A4-4C1B-8AD7-AE382E0D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05C5-F985-4F2F-9C3E-722BED41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0317-7CE4-4F28-B2F2-667F555D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0031-34F9-4269-B3E7-CEE1FD4C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0F48-38C0-41C9-9820-D61E2AD5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9982-5984-4C46-BBCF-AB1D7216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6640-A965-4AD3-A20E-21DC2145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6337-2484-40F3-BAA4-707A8497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C748-D1BA-46F7-9507-761C45AB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88DC6-8206-46B7-B7EC-CEF0FBC1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642D-B703-4473-8BB1-7A4EA07E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BF57-6102-473C-8907-77D05AD9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66F4-27BE-4658-85B7-F4C38DF0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75D9-E490-4C57-904A-F424E915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E699-DAC0-46DA-8B5A-E6560819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2A0D-9A85-466D-A8C7-5B7D8173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27A1-C2A4-477D-8ECB-BFA2A214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E6EB-D4D8-4ECE-B427-6734665A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FB15-CB05-49A8-A6B0-AE02AC74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E57D-5295-48EC-92BD-919F14DB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B1A9-71A6-46DD-B79E-FA3D6516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BE4C-E136-44C4-976F-86F24C2C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3CB7-1776-4D85-80AF-CCD0DCD2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496D-D560-48D9-86D6-90FCA7DEAF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НАРКОМАНИЯ: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ЧЕЙ ЭТО ВЫБОР 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Рисунок 4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228600" y="54100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Работу подготови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педагог-организатор ОБЖ гимназии «Дмитров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Баринов Андрей Серге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НАЧИНАЕТ  НРАВИТЬС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Для этого этапа характерн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Осознанное желание получить «кайф» при помощи ПА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ланирование употребл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оиск разумных оправданий употребл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оиск «ПОДХОДЯЩЕЙ» компан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АВ становится необходимым атрибутом веселья и отдых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АВ начинают использовать ка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          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- лекарство против «комплексов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          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- лекарство от стресс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          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- способ общ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          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- спутник сексуальных отношен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«Рост» дозы, требуемой для получения нужных ощущен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56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Формируется особая «тусовка» - свой ПАВ, своя музыка, стиль одежды, юмор.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Line 3"/>
          <p:cNvSpPr/>
          <p:nvPr/>
        </p:nvSpPr>
        <p:spPr>
          <a:xfrm flipH="1" flipV="1">
            <a:off x="762120" y="914040"/>
            <a:ext cx="46080" cy="2895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09480" y="312408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7913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28600" y="457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мо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8"/>
          <p:cNvSpPr/>
          <p:nvPr/>
        </p:nvSpPr>
        <p:spPr>
          <a:xfrm flipV="1">
            <a:off x="762120" y="914400"/>
            <a:ext cx="533160" cy="2209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1295280" y="990720"/>
            <a:ext cx="457200" cy="2133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1981080" y="1752480"/>
            <a:ext cx="609840" cy="221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2819520" y="2209680"/>
            <a:ext cx="533160" cy="198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16"/>
          <p:cNvSpPr/>
          <p:nvPr/>
        </p:nvSpPr>
        <p:spPr>
          <a:xfrm flipV="1">
            <a:off x="3352680" y="2743200"/>
            <a:ext cx="30492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17"/>
          <p:cNvSpPr/>
          <p:nvPr/>
        </p:nvSpPr>
        <p:spPr>
          <a:xfrm flipV="1">
            <a:off x="1752480" y="1752480"/>
            <a:ext cx="228600" cy="137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18"/>
          <p:cNvSpPr/>
          <p:nvPr/>
        </p:nvSpPr>
        <p:spPr>
          <a:xfrm flipV="1">
            <a:off x="2590920" y="2209320"/>
            <a:ext cx="228600" cy="175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3657600" y="2743200"/>
            <a:ext cx="68580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20"/>
          <p:cNvSpPr/>
          <p:nvPr/>
        </p:nvSpPr>
        <p:spPr>
          <a:xfrm flipV="1">
            <a:off x="4343400" y="3123720"/>
            <a:ext cx="380880" cy="1676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4724280" y="3124080"/>
            <a:ext cx="60984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5334120" y="3733560"/>
            <a:ext cx="38088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5715000" y="3733920"/>
            <a:ext cx="1066680" cy="2590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1371600" y="304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Magneto"/>
              </a:rPr>
              <a:t>График «кайф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20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2"/>
          <p:cNvSpPr/>
          <p:nvPr/>
        </p:nvSpPr>
        <p:spPr>
          <a:xfrm>
            <a:off x="2514600" y="91440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Зависимость – болезнь привыкания. Организм привыкает к определённой дозе и требует большей для получения удовольств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Рисунок 23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585800" cy="31240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4" descr=""/>
          <p:cNvPicPr/>
          <p:nvPr/>
        </p:nvPicPr>
        <p:blipFill>
          <a:blip r:embed="rId3"/>
          <a:stretch/>
        </p:blipFill>
        <p:spPr>
          <a:xfrm>
            <a:off x="7086600" y="533520"/>
            <a:ext cx="1828800" cy="23270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5"/>
          <p:cNvSpPr/>
          <p:nvPr/>
        </p:nvSpPr>
        <p:spPr>
          <a:xfrm>
            <a:off x="6629400" y="327672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ЗАКОН ДОЗ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Если человек продолжает принимать ПАВ, он переходит с меньших доз на большие и с менее сильных веществ на более сильны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2057400" y="54100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Если человек не прекращает      употребление ПАВ, начинается      следующая стадия развития зависимости 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ВОЗНИКАЮТ  ПРОБЛЕ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Для этого этапа характерн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роблемы со здоровьем (похмелье, ломка, неприятные ощущения после употребления ПАВ, инфекционные заболевания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отеря контроля над поведением (травмы, насилие, криминал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Неразборчивость в сексе (венерические заболевания, нежелательная беременность, проблемы в отношениях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Скандалы в семь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роблемы с учёбой, неприятности в учебных заведениях (школе, училище, университете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Финансовые трудности (долги, продажа вещей из дома, постоянный поиск денег, кражи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Конфликты с друзьям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Основной круг общения – те, кто употребляет ПА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32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Конфликты с законом, приводы в милицию.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3"/>
          <p:cNvSpPr/>
          <p:nvPr/>
        </p:nvSpPr>
        <p:spPr>
          <a:xfrm flipH="1" flipV="1">
            <a:off x="762120" y="914400"/>
            <a:ext cx="46080" cy="3124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609480" y="312408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7913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28600" y="457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мо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762120" y="990720"/>
            <a:ext cx="533160" cy="2133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1295280" y="990720"/>
            <a:ext cx="457200" cy="2133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1981080" y="1752480"/>
            <a:ext cx="609840" cy="2210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2819520" y="2209680"/>
            <a:ext cx="533160" cy="198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Line 16"/>
          <p:cNvSpPr/>
          <p:nvPr/>
        </p:nvSpPr>
        <p:spPr>
          <a:xfrm flipV="1">
            <a:off x="3352680" y="2743200"/>
            <a:ext cx="30492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17"/>
          <p:cNvSpPr/>
          <p:nvPr/>
        </p:nvSpPr>
        <p:spPr>
          <a:xfrm flipV="1">
            <a:off x="1752480" y="175248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18"/>
          <p:cNvSpPr/>
          <p:nvPr/>
        </p:nvSpPr>
        <p:spPr>
          <a:xfrm flipV="1">
            <a:off x="2590920" y="2209320"/>
            <a:ext cx="228600" cy="1752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3657600" y="2743200"/>
            <a:ext cx="68580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Line 20"/>
          <p:cNvSpPr/>
          <p:nvPr/>
        </p:nvSpPr>
        <p:spPr>
          <a:xfrm flipV="1">
            <a:off x="4343400" y="3123720"/>
            <a:ext cx="380880" cy="1676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4724280" y="3124080"/>
            <a:ext cx="60984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22"/>
          <p:cNvSpPr/>
          <p:nvPr/>
        </p:nvSpPr>
        <p:spPr>
          <a:xfrm flipV="1">
            <a:off x="5334120" y="3733560"/>
            <a:ext cx="38088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5715000" y="3733920"/>
            <a:ext cx="1066680" cy="2590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1371600" y="304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Magneto"/>
              </a:rPr>
              <a:t>График «кайф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Рисунок 20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9"/>
          <p:cNvSpPr/>
          <p:nvPr/>
        </p:nvSpPr>
        <p:spPr>
          <a:xfrm>
            <a:off x="4114800" y="9907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Возникает физическая зависимость. Наркотик не приносит удовольствия, а употребляется для приведения организма в нормальное состоя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Рисунок 21" descr=""/>
          <p:cNvPicPr/>
          <p:nvPr/>
        </p:nvPicPr>
        <p:blipFill>
          <a:blip r:embed="rId2"/>
          <a:stretch/>
        </p:blipFill>
        <p:spPr>
          <a:xfrm>
            <a:off x="7086600" y="2209680"/>
            <a:ext cx="1825560" cy="29401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2"/>
          <p:cNvSpPr/>
          <p:nvPr/>
        </p:nvSpPr>
        <p:spPr>
          <a:xfrm>
            <a:off x="228600" y="3505320"/>
            <a:ext cx="213372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Garamond"/>
              </a:rPr>
              <a:t>Возникающие проблемы служат оправданием дальнейшего употребления. Употребление вызывает новые проблемы. Причина и следствие меняются местами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extBox 23"/>
          <p:cNvSpPr/>
          <p:nvPr/>
        </p:nvSpPr>
        <p:spPr>
          <a:xfrm>
            <a:off x="2514600" y="5181480"/>
            <a:ext cx="53341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Garamond"/>
              </a:rPr>
              <a:t>Прекратить употребление ПАВ на этой стадии самостоятельно невозможно, необходима помощь специалистов. Продолжение употребления обязательно ведет к переходу  на следующую стадию развития зависимости …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УПОТРЕБЛЕНИЕ СТАНОВИТСЯ ЦЕЛЬЮ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Для этого этапа характерн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Употребление ради употребл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остоянная потребность в ПА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Использование крайних средств и способов в поисках дозы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Разрушение нравственных ценнос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Апатия и нежелание жить, утрата смысла существова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опытки САМОУБИЙ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Серьёзные проблемы со здоровьем, возникновение хронических заболеван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Разрыв с семьёй, друзьями, общество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Замкнутость, «уход  в себя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890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СМЕР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H="1" flipV="1">
            <a:off x="762120" y="914400"/>
            <a:ext cx="46080" cy="3124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609480" y="312408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62940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8600" y="457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мо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ine 8"/>
          <p:cNvSpPr/>
          <p:nvPr/>
        </p:nvSpPr>
        <p:spPr>
          <a:xfrm flipV="1">
            <a:off x="762120" y="990720"/>
            <a:ext cx="533160" cy="2133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1295280" y="990720"/>
            <a:ext cx="457200" cy="2133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1981080" y="1752480"/>
            <a:ext cx="609840" cy="2210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Line 14"/>
          <p:cNvSpPr/>
          <p:nvPr/>
        </p:nvSpPr>
        <p:spPr>
          <a:xfrm>
            <a:off x="2819520" y="2209680"/>
            <a:ext cx="533160" cy="198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Line 16"/>
          <p:cNvSpPr/>
          <p:nvPr/>
        </p:nvSpPr>
        <p:spPr>
          <a:xfrm flipV="1">
            <a:off x="3352680" y="2743200"/>
            <a:ext cx="30492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Line 17"/>
          <p:cNvSpPr/>
          <p:nvPr/>
        </p:nvSpPr>
        <p:spPr>
          <a:xfrm flipV="1">
            <a:off x="1752480" y="175248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Line 18"/>
          <p:cNvSpPr/>
          <p:nvPr/>
        </p:nvSpPr>
        <p:spPr>
          <a:xfrm flipV="1">
            <a:off x="2590920" y="2209320"/>
            <a:ext cx="228600" cy="1752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3657600" y="2743200"/>
            <a:ext cx="68580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Line 20"/>
          <p:cNvSpPr/>
          <p:nvPr/>
        </p:nvSpPr>
        <p:spPr>
          <a:xfrm flipV="1">
            <a:off x="4343400" y="3123720"/>
            <a:ext cx="380880" cy="1676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Line 21"/>
          <p:cNvSpPr/>
          <p:nvPr/>
        </p:nvSpPr>
        <p:spPr>
          <a:xfrm>
            <a:off x="4724280" y="3124080"/>
            <a:ext cx="60984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Line 22"/>
          <p:cNvSpPr/>
          <p:nvPr/>
        </p:nvSpPr>
        <p:spPr>
          <a:xfrm flipV="1">
            <a:off x="5334120" y="3733560"/>
            <a:ext cx="38088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5715000" y="3733920"/>
            <a:ext cx="914400" cy="25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1371600" y="304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Magneto"/>
              </a:rPr>
              <a:t>График «кайф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Рисунок 20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1"/>
          <p:cNvSpPr/>
          <p:nvPr/>
        </p:nvSpPr>
        <p:spPr>
          <a:xfrm>
            <a:off x="2971800" y="11430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Глубокие физиологические изменения. Употребление ПАВ для того, чтобы прожить этот день. Мозг разучился самостоятельно регулировать нейрохимический баланс и уже не может воспринимать окружающий мри без очередной доз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extBox 22"/>
          <p:cNvSpPr/>
          <p:nvPr/>
        </p:nvSpPr>
        <p:spPr>
          <a:xfrm>
            <a:off x="457200" y="4495680"/>
            <a:ext cx="3809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Если человек не прекращает употребление – о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ПОГИБАЕ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066680" y="4800600"/>
            <a:ext cx="7010640" cy="1523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228600" y="380880"/>
            <a:ext cx="86104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Абсолютное большинство наркоманов, дошедших до этой стадии погибают от передозировки. Количество вещества, требуемое для возвращения мозга к нормальному функционированию, становится критическим для жизнедеятельности организма в цел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ЧЕЛОВЕК УМИРАЕ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Рисунок 8" descr=""/>
          <p:cNvPicPr/>
          <p:nvPr/>
        </p:nvPicPr>
        <p:blipFill>
          <a:blip r:embed="rId2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потребление многих психоативных веществ может быть привлекательн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Но вы уже знаете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ЧТО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 оно влечёт за соб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aramond"/>
              </a:rPr>
              <a:t>Кто делает выбор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6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1632240" cy="1251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"/>
          <p:cNvPicPr/>
          <p:nvPr/>
        </p:nvPicPr>
        <p:blipFill>
          <a:blip r:embed="rId3"/>
          <a:stretch/>
        </p:blipFill>
        <p:spPr>
          <a:xfrm>
            <a:off x="6324480" y="3124080"/>
            <a:ext cx="1632240" cy="12956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7" descr=""/>
          <p:cNvPicPr/>
          <p:nvPr/>
        </p:nvPicPr>
        <p:blipFill>
          <a:blip r:embed="rId4"/>
          <a:stretch/>
        </p:blipFill>
        <p:spPr>
          <a:xfrm>
            <a:off x="390600" y="2109960"/>
            <a:ext cx="3151080" cy="101124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8" descr=""/>
          <p:cNvPicPr/>
          <p:nvPr/>
        </p:nvPicPr>
        <p:blipFill>
          <a:blip r:embed="rId5"/>
          <a:stretch/>
        </p:blipFill>
        <p:spPr>
          <a:xfrm>
            <a:off x="2597040" y="2944800"/>
            <a:ext cx="3754440" cy="101772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9" descr=""/>
          <p:cNvPicPr/>
          <p:nvPr/>
        </p:nvPicPr>
        <p:blipFill>
          <a:blip r:embed="rId6"/>
          <a:stretch/>
        </p:blipFill>
        <p:spPr>
          <a:xfrm>
            <a:off x="5492880" y="2109960"/>
            <a:ext cx="3174840" cy="101124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0"/>
          <p:cNvSpPr/>
          <p:nvPr/>
        </p:nvSpPr>
        <p:spPr>
          <a:xfrm>
            <a:off x="1981080" y="44956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А, МОЖЕТ, ТЫ САМ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457200" y="5105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Способен ли ты сказать «НЕТ», даже когда это трудно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TextBox 12"/>
          <p:cNvSpPr/>
          <p:nvPr/>
        </p:nvSpPr>
        <p:spPr>
          <a:xfrm>
            <a:off x="152280" y="5749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ТОЛЬКО ТЫ МОЖЕШЬ ПОЗАБОТИТЬСЯ О СЕБЕ, ЕСЛИ ТЫ ДЕЙСТВИТЕЛЬНО ЭТОГО ХОЧЕШЬ 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Если в результате употребления ПАВ у человека появляются проблемы в любой из сфер жизни (тело, разум, эмоции, душа, отношения с людьми) и если человек не может прекратить употребление, или прекращает,  но снова «срывается» - это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зависимость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457200" y="251460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ВИСИМОСТЬ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– это болезнь. Болезнь хроническая, прогрессирующая, смертельная. Тем не менее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выздоров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8" name="Рисунок 6" descr=""/>
          <p:cNvPicPr/>
          <p:nvPr/>
        </p:nvPicPr>
        <p:blipFill>
          <a:blip r:embed="rId2"/>
          <a:stretch/>
        </p:blipFill>
        <p:spPr>
          <a:xfrm>
            <a:off x="7543800" y="2286000"/>
            <a:ext cx="1467000" cy="16765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7"/>
          <p:cNvSpPr/>
          <p:nvPr/>
        </p:nvSpPr>
        <p:spPr>
          <a:xfrm>
            <a:off x="2286000" y="419112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ВЫЗДОРОВЛЕНИЕ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– сложный,  долговременный, иногда болезненный процесс, первым шагом и основным условием которого являетс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3733920" y="3657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ВОЗМОЖН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762120" y="56386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ПОЛНЫЙ ОТКАЗ ОТ УПОТРЕБЛЕНИЯ ЛЮБЫХ П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Рисунок 11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1676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спользуемая литерату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4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6" descr=""/>
          <p:cNvPicPr/>
          <p:nvPr/>
        </p:nvPicPr>
        <p:blipFill>
          <a:blip r:embed="rId2"/>
          <a:stretch/>
        </p:blipFill>
        <p:spPr>
          <a:xfrm>
            <a:off x="2438280" y="3962520"/>
            <a:ext cx="4419720" cy="24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0880" y="1295280"/>
            <a:ext cx="84582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ерович Н.Е., Шкарина Н.В., Яцницкая А.В. Я выбираю жизнь. Заочный разговор подростков о жизни и наркотиках – СПб, 2003 г. – 40 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ежогин Л.О., Крюковский С.В. Профилактика наркомании у детей и подростков – М., 2005 г. – 10 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рентьева А.В., Лагутина О.В., Молев Е.И. Чей это выбор? – М., Фонд НАН, 1998 г. – 18 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оциологический опро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Медицинская точка зр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Стадии развития наркотической зависимос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первые опыт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начинает нравить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возникают проблем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262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Употребление становится цел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Кто делает выбо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Как вы думаете, зачем люди употребляют алкоголь, наркотики и многие другие вещества, изменяющие состояния сознания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Чтобы было хорошо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Для кайф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Так легче общатьс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От гор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Чтобы было весело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Чтобы быть взрослее и круч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Просто чтобы испытать что это тако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Уйти от бол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За компанию и т.д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А почему люди этого не делают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Они боятся за свою жизнь и здоровь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Они боятся проблем, родителей, милиц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У них есть принципы и убежде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268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Иногда этого не делают потому, что нет денег – но это временно 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8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8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8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12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8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8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8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6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3200400"/>
            <a:ext cx="1828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5640" y="2590920"/>
            <a:ext cx="6629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Он думал так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в жизни надо всё попробовать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один раз не страшно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я буду контролировать себя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я сильный, я буду держать себя в руках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те, кто стали наркоманами, - слабые и безвольные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а мне всё по-фигу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чем я хуже других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а, гори оно всё огнём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когда почувствую, что начинается зависимость – брошу …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1688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… </a:t>
            </a:r>
            <a:r>
              <a:rPr b="1" i="1" lang="ru-RU" sz="1600" spc="-1" strike="noStrike">
                <a:solidFill>
                  <a:srgbClr val="ffff00"/>
                </a:solidFill>
                <a:latin typeface="Garamond"/>
              </a:rPr>
              <a:t>от этого вещества зависимости не будет …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04920" y="22860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Ни один наркоман, погибающий в притоне или общественном туалете от передозировки, не планировал для себя ничего такого, когда вводил себе первую дозу или затягивался первым «косяком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Рисунок 6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19051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457200" y="60199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…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А может, он вообще не думал …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8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84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88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24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68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36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16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12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В течении жизни человек испытывает различные эмоции: радость, страх, печаль и т.д. Эмоции сопровождаются физиологическими изменениями: учащение сердцебиения, задержка дыхания, влажность кожи, дрожь и т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Каждый раз, когда мы что-нибудь делаем, думаем, чувствуем, в нервной системе происходят физиологические изменения. От нейрона к нейрону передаются импульсы, начинается выделение биологически активных веществ – нейромедиаторов. Человеку свойственно получать удовольствие. У него, как и у всех млекопитающих, существуют «центр удовольствия», который находится в мозг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80880" y="2590920"/>
            <a:ext cx="57913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В 1953 году Джеймс Олдс и его коллеги вживили электроды в мозг крысы. Крысы научились нажимать на рычаг, чтобы получать раздражение 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Однажды научившись, они продолжали это делать с частотой несколько тысяч раз в час на протяжении десяти час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Поскольку крыса трудилась с таким упорством, её поведение означало, что ей «нравится» ощущение, вызываемое такой стимуляци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04920" y="54100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В норме, колебания эмоционального состояния человека, незначительны. Центральная нервная система поддерживает баланс нейромедиаторов. НО! Если в организм попадают психоактивные вещества (ПАВ), происходят резкие измен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Рисунок 6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"/>
          <p:cNvPicPr/>
          <p:nvPr/>
        </p:nvPicPr>
        <p:blipFill>
          <a:blip r:embed="rId2"/>
          <a:stretch/>
        </p:blipFill>
        <p:spPr>
          <a:xfrm>
            <a:off x="6934320" y="2362320"/>
            <a:ext cx="1990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СТАДИИ РАЗВИТИЯ НАРКОТИЧЕСКОЙ ЗАВИСИМОСТ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0">
              <a:spcBef>
                <a:spcPts val="799"/>
              </a:spcBef>
              <a:buNone/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1 стадия – ПЕРВЫЕ ОПЫ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14600" indent="0">
              <a:spcBef>
                <a:spcPts val="799"/>
              </a:spcBef>
              <a:buNone/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2 стадия – НАЧИНАЕТ Н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14600" indent="0">
              <a:spcBef>
                <a:spcPts val="799"/>
              </a:spcBef>
              <a:buNone/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3 стадия – ВОЗНИКАЮТ ПРОБЛ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14600" indent="0">
              <a:spcBef>
                <a:spcPts val="799"/>
              </a:spcBef>
              <a:buNone/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4 стадия – УПОТРЕБЛЕНИЕ   СТАНОВИТСЯ ЦЕЛЬ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ПЕРВЫЕ  ОПЫ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Garamond"/>
              </a:rPr>
              <a:t>Для этого этапа характерн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Естественное любопытство, желание «просто попробовать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АКТИВНЫЙ поиск новых видов кайф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Неумение сказать «НЕТ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Трудности с пониманием собственных границ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Попадание под влияние различных мифов о химических веществах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Страх прослыть «белой вороной» или «маменькиным сынком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Неосознанное желание убежать от сложностей жизни (или осознанное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Наплевательское отношение к себе, к своей жизни, «пофигизм» как мировоззрение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Желание сделать свою жизнь интересной и наполненно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792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Незнание того, как на самом деле действуют ПАВ на психику и организм челове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 flipV="1">
            <a:off x="762120" y="914040"/>
            <a:ext cx="0" cy="3048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609480" y="312408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199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04920" y="457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мо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6"/>
          <p:cNvSpPr/>
          <p:nvPr/>
        </p:nvSpPr>
        <p:spPr>
          <a:xfrm flipV="1">
            <a:off x="762120" y="990720"/>
            <a:ext cx="533160" cy="2133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1295280" y="990720"/>
            <a:ext cx="457200" cy="2133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1752480"/>
            <a:ext cx="609840" cy="2210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2819520" y="2209680"/>
            <a:ext cx="533160" cy="198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3352680" y="2743200"/>
            <a:ext cx="30492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11"/>
          <p:cNvSpPr/>
          <p:nvPr/>
        </p:nvSpPr>
        <p:spPr>
          <a:xfrm flipV="1">
            <a:off x="1752480" y="175248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2590920" y="2209320"/>
            <a:ext cx="228600" cy="1752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3657600" y="2743200"/>
            <a:ext cx="68580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4343400" y="3123720"/>
            <a:ext cx="380880" cy="1676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4724280" y="3124080"/>
            <a:ext cx="609840" cy="2057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5334120" y="3733560"/>
            <a:ext cx="38088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17"/>
          <p:cNvSpPr/>
          <p:nvPr/>
        </p:nvSpPr>
        <p:spPr>
          <a:xfrm>
            <a:off x="5715000" y="3733920"/>
            <a:ext cx="1066680" cy="2819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1600200" y="228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Magneto"/>
              </a:rPr>
              <a:t>График «кайф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3276720" y="914400"/>
            <a:ext cx="56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Необычно высокий пик ощущений, «кайф». Первые дозы ПАВ вызывают резкий сбой нейрохимического баланса головного мозга. Очень важно, что ПАВ не сами вызывают удовольствие, а заставляют организм активизировать свои ресурсы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304920" y="46483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Человеку дан «сейф» - запас удовольствия. Им можно пользоваться всю жизнь понемногу, а можно «взломать» сейф и выгрести целую охапку «кайфа». Не скоро придёт в себя «ограбленный» банк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Рисунок 22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3" descr=""/>
          <p:cNvPicPr/>
          <p:nvPr/>
        </p:nvPicPr>
        <p:blipFill>
          <a:blip r:embed="rId2"/>
          <a:stretch/>
        </p:blipFill>
        <p:spPr>
          <a:xfrm>
            <a:off x="6781680" y="3276720"/>
            <a:ext cx="1981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Есть два пути после первых опытов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404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Полностью прекратить употребление;          около 50 % людей так и поступаю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404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Продолжить употребление, что неминуемо приведет к переходу на следующий этап развития зависимости от ПА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4042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Третьего не дано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УВЫ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Рисунок 5" descr=""/>
          <p:cNvPicPr/>
          <p:nvPr/>
        </p:nvPicPr>
        <p:blipFill>
          <a:blip r:embed="rId1"/>
          <a:stretch/>
        </p:blipFill>
        <p:spPr>
          <a:xfrm>
            <a:off x="7997760" y="6238800"/>
            <a:ext cx="1146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4:25:13Z</dcterms:created>
  <dc:creator>Андрей</dc:creator>
  <dc:description/>
  <dc:language>en-US</dc:language>
  <cp:lastModifiedBy>user</cp:lastModifiedBy>
  <dcterms:modified xsi:type="dcterms:W3CDTF">2011-12-17T13:47:2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