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9AE0-1E78-442F-939C-7518B063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2B99-2488-4A18-BB99-784F7FFB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349B-442A-4C6A-A174-8DA5AFDB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221-4831-44AE-BF61-9C1D7D86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1DF2-503C-49D6-B5C0-A14D83F3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E8D4-1F2B-41A6-8B74-82E66CC9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7C0-D4CA-4F26-871A-39B45FC0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9A2-7C80-4BD5-A941-276ABA0A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F806-714B-46DF-B066-C4BE9D72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F1A-83BA-41B3-B2B7-B50C2AE7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01D-9683-4E59-920F-949A7C38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17CF-3D18-4C08-A141-F04D7182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0962-4B54-4DAF-A6DD-4B848CC5C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Презентация к уроку </a:t>
            </a: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развития речи</a:t>
            </a: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 в 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3 </a:t>
            </a: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классе по программе «Особый ребён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рок – исследование практической направленности. Данному уроку предшествовали 2 урока по изуч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знаков картофеля и капусты. Дети учились классифицировать и дифференцировать овощи: растущ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д землёй, под землё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ема: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СПОЗНАВАНИЕ ОВОЩЕЙ ПО ЗАПАХУ, ПО ВКУС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Цели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ить детей исследовательским навыкам, различать и называть овощи: картофель,      капусту, сладкий перец, лу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гурец, зелень – петрушку и укроп, зелёный лук, морков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ить различать их по запах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вивать зрительное и слуховое восприятие, внимание, мышл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вивать вкусовые ощущения, мелкую моторику ру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точнять, обогащать и активизировать словарь воспитан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рригировать эмоционально-волевую сферу д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спитывать интерес к растительному пище, заинтересованность в их употреб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орудование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вежие овощи: капуста, огурцы, зелёный и репчатый лук, сладкий перец, картофель (сваренный в мундире), морковь, зелень-укроп, петруш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ервированный стол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скатерть, тарелки, ложки, салфетки –для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учителя: разделочная доска, нож, салатница, соль, подсолнечное ма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Физкультмину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208720" cy="59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ы капусту рубим, руби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ы морковку трём, трё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ы капусту солим, соли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ы капусту жмём, жмём.          Дети выполняют проговариваемые действия, повторяя з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ител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 Дидактическая игра «Угадай по запаху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  На отдельное блюдо  учитель выкладывает половинки овощей, предварительно разрезая и хором с детьми проговаривая: половинка огурца, половинка моркови, половинка репчатого лука, половинка болгарского перца, половинка картофеля, зелень: пучок укропа  и петруш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Каждому говорящему ученику (по его согласию и желанию) завязываются глаза плат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 его носу учитель подносит разрезанный овощ и спрашивает: «Что это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з СТАТИСТИКИ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з 5-ти речевых детей – 3 назвали овощи без ошибок, 2-ое сделали по одной ошиб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ребёнок назвал овощ неправильно, учитель даёт кусочек попроб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ПРЕДЕЛЕНИЕ ОВОЩЕЙ ПО ЗАПА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а игра очень позити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Какой  серьёзны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Зелень привлекает не только цветом, но и запах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Употребление овощей в пищ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ЕСЕДА ОБЛЮДАХ ИЗ КАПУСТЫ, КАРТОФЕЛЯ И ДРУГИХ ОВОЩ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 МОЖНО ПРИГОТОВИТЬ ИЗ КАРТОФЕЛЯ И КАПУС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БОРЩ, СУП, САЛ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–КАКИЕ ЕЩЁ ИЗ ОВОЩЕЙ НА НАШЕМ СТОЛЕ ДОБАВЛЯЮТ, НАПРИМЕР В БОРЩ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МОРКОВКУ, ЛУК, ПЕРЕ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ПРАВИЛЬНО! МОЛОДЦ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НО, борщ мы с вами варить сегодня не будем, а вот самое простое блюдо я вам сейчас приготовл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готовление салата из капус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ходу того, как учитель на глазах у детей режет, жмёт, солит, заправляет  (подсолнечным маслом) салат, он обязательно комментирует свои действ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салат режется зелёный лук и зел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Наш салат готов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УШАНИЕ САЛАТА И ОВОЩ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итель и воспитатель каждому ребёнку на тарелку кладёт по 2 сваренных картофеля, веточку зелёного лука, веточку зелени, дольки сладкого перца, кусочки огурц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отдельные небольшие тарелки каждому раскладывается приготовленный сал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бята, приятного аппетит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Спасиб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что необходимо сделать ещё, чтобы огурец и картофель были вкусне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Нужна соль. (Посоли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Правильно, дети! Их нужно сол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итель с воспитателем каждому показывают как солить или сами соля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Д  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Организационный  моме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полняется сервировка стола с привлечением дежурных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ращается внимание всех детей на подготовленный сто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читель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бята, как вы думаете, что мы будем с вами делат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ети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Куш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ьно! Приглашаю вас всех за сто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стол выставляются блюда с красиво уложенными овощ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А ещё мы будем рассказывать об этом. Что эт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вощи! (кто-то из детей скажет: «Капуста, картошка, огурцы и т. д.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речевые дети показывают жестами, выражают положительные эмо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Формулирование темы и целей деятельности на уро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сегодняшнем уроке мы продолжим говорить об овощах. Научимся различать их по запаху, так как каждый овощ имеет свой индивидуальный  зап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На столе лежат приборы для приема пищи, значит мы овощи будем ещё и кушать. Расскажем каковы они на вкус? В каком виде их употребляют в пищ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 ПОДВЕДЕНИЕ  ИТОГ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Что мы сегодня на уроке узнавали по запаху, по вкусу и кушал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Овощ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назовите, какие овощ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еречисля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ам понравились на вкус овощи? Значит вы будете их употреблять в пищу и всегда будете здоро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ценивается работа и активность каждого уче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Подготовительный этап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Беседа об овощах с опорой на натуральные предме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называются все эти предмет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вощ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де растут овощ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ого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буду загадывать загадки, а вы показывать и называть, о каком овоще так говоря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Что за скрип? Что за хрус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что ещё за кус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же быть без хруст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я ………… (капус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показывает кочан капусты): - Посмотрите, капусту сравнивают с кус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итель разрезает кочан попол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Слышите скрип, треск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Красный нос в землю врос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 зелёный хвост снаруж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м зелёный хвост не нуж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ужен только красный нос (морков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нициатива предлагается сначала детям показать морк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: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загадке морковку сравнивают с красным носом, который в землю врос.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дполагаемый ответ дет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Морковка растёт (прячется) в земле, а зелёные веточки мы видим сверх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дети не отвечают, учитель помогает, провоцируя к диалог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Я длинный и зелён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кусный и солён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кусный и сыр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то же я такой?     (огурец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И зелен и гу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грядке вырос кус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али щипать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али плакать и рыдать.  (Зеленый лук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конце произнесения загадки учитель демонстрирует пучок зелёного лука, а дети обязательно назовут 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Ещё раз, хором: «Зелёный лук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И зелен и гу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грядке вырос кус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копай немножк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д кустом …… (картошк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Почему нужно копать? Где прячется картофел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 что сверху, на земл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Зелёный кус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Что за куст на грядке наше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локольчики вис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сный, желтый и зелё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чему – то не звенят.    (сладкий перец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: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то это, ребята? (держит в руках перец). Он действительно похож на колокольчик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Отгадывание загад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43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Дидактическая игра «Сосчитай овощ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, два, три, четыре, пят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умеем мы счит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ного разных овоще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читать ты их суме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ждому ребёнку раздается по одной предметной картинке с изображением разного количества овощей (в пределах 5-ти). Ребёнок должен сосчитать изображенные овощи на его картинке и составить словосочетание, например: «Три огурца», «Пять морковок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38760" y="2557440"/>
            <a:ext cx="36576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едложенные картинки для сч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37200" y="1600200"/>
            <a:ext cx="306072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42840" y="3938760"/>
            <a:ext cx="3065760" cy="2187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133960" y="3938760"/>
            <a:ext cx="3065400" cy="218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601640" y="1600200"/>
            <a:ext cx="17481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6:13:54Z</dcterms:created>
  <dc:creator>Администратор</dc:creator>
  <dc:description/>
  <dc:language>en-US</dc:language>
  <cp:lastModifiedBy>Администратор</cp:lastModifiedBy>
  <dcterms:modified xsi:type="dcterms:W3CDTF">2011-12-17T18:26:10Z</dcterms:modified>
  <cp:revision>8</cp:revision>
  <dc:subject/>
  <dc:title>Слайд 1</dc:title>
</cp:coreProperties>
</file>