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8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4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17F-09D1-442C-A982-31AF3FD3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6B0-2220-42CC-A9C5-77281285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075-FCFF-410E-AE91-951EC27B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E08-0003-403F-A782-84942473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69C-23C0-4375-9D5B-0F4D42D5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3FE-5553-4778-9B96-FA801256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0FC-D7AD-40A3-BEBF-702F204E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43A-041B-48A0-B314-97633105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E75-F62F-40DD-AC36-BF309D04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CD0-811A-461F-8529-77EA1AB0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6DA-159F-4574-A992-01E0D255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B99-8CFD-4D49-958F-B523115D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7B1F-1DB9-4D33-8B63-73675179FE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5F47-7023-4569-9EF4-BD4724D37F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ranamasterov.ru/node/99973?tid=451" TargetMode="External"/><Relationship Id="rId2" Type="http://schemas.openxmlformats.org/officeDocument/2006/relationships/hyperlink" Target="http://stranamasterov.ru/user/23582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нутый угол 8"/>
          <p:cNvGrpSpPr/>
          <p:nvPr/>
        </p:nvGrpSpPr>
        <p:grpSpPr>
          <a:xfrm>
            <a:off x="353880" y="281160"/>
            <a:ext cx="8508960" cy="6443640"/>
            <a:chOff x="353880" y="281160"/>
            <a:chExt cx="8508960" cy="6443640"/>
          </a:xfrm>
        </p:grpSpPr>
        <p:pic>
          <p:nvPicPr>
            <p:cNvPr id="42" name="Загнутый угол 8" descr=""/>
            <p:cNvPicPr/>
            <p:nvPr/>
          </p:nvPicPr>
          <p:blipFill>
            <a:blip r:embed="rId2"/>
            <a:stretch/>
          </p:blipFill>
          <p:spPr>
            <a:xfrm>
              <a:off x="353880" y="281160"/>
              <a:ext cx="8508960" cy="64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57120" y="285840"/>
              <a:ext cx="85010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6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я с объемной кроно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:\Documents and Settings\Aida\Рабочий стол\Материалы для разработок , новые идеи\КАРТИНКИ СБОРНИК_ школьные\78.gif"/>
          <p:cNvPicPr/>
          <p:nvPr/>
        </p:nvPicPr>
        <p:blipFill>
          <a:blip r:embed="rId3"/>
          <a:stretch/>
        </p:blipFill>
        <p:spPr>
          <a:xfrm>
            <a:off x="0" y="6000840"/>
            <a:ext cx="4714920" cy="619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Documents and Settings\Aida\Рабочий стол\Материалы для разработок , новые идеи\КАРТИНКИ СБОРНИК_ школьные\78.gif"/>
          <p:cNvPicPr/>
          <p:nvPr/>
        </p:nvPicPr>
        <p:blipFill>
          <a:blip r:embed="rId4"/>
          <a:stretch/>
        </p:blipFill>
        <p:spPr>
          <a:xfrm>
            <a:off x="4643280" y="6000840"/>
            <a:ext cx="4500720" cy="619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5008680" y="4357800"/>
            <a:ext cx="388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филова Гали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-СОШ №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 Клин 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сбо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6977-1A96-4608-97A7-C1C60EDD3CF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6597-A051-4A53-A789-A8A400565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71760" y="2004840"/>
            <a:ext cx="600048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 превратилось в яблоню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83FD-7A3D-4F9A-A5B7-B5E5DF3B23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98D6-1248-4B11-9C9C-73FD3EBCF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643120" y="1857240"/>
            <a:ext cx="3786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stranamasterov.ru/node/99973?tid=4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tranamasterov.ru/user/2358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FD5A-B456-45A7-B349-02C2ED8166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BCFF-D77D-4A52-8ABB-747E024663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я с объёмной кро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8C53-9F2D-4834-BDD5-4E524C3DD12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6AD0-9C80-4298-82FC-F26D15707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143000" y="1785960"/>
            <a:ext cx="7000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3D07-6110-46CC-B34D-F9C576A5282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DFCE-7A08-40E2-A75E-9B93202DD6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42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езаем из картона кон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го дер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 см по высоте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о вырезаем ство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по разме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стволу дер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водим и дорисовываем вер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5572080" y="3571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8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езать полоски бума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ой 1,5 или 2 с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ой 10,5 с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ирина листа А4 пополам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ть из них гармош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рем две полоски, накладыва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у на другую под прямым угл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еиваем и переплетаем между собой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ными ножницами вырезать любые по форме части кроны и одну нижнюю часть, которая соответствует нижней части де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3F6E-D7B2-4725-B614-FF2AAED0AF6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2006-CB0A-4A4A-A85F-82F0EF949B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071960" y="142920"/>
            <a:ext cx="50720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еить гармошки к частям кроны, кроме нижн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AC08-4734-4E6E-8A02-770DEA7077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F052-1062-46C4-9C0E-F52F74EE61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428920" y="1785960"/>
            <a:ext cx="42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еиваем нижнюю часть к дерев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44AF-97F1-4481-BB1F-69C7274900B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8A95-72EF-49AE-BDA4-C95191F31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571840" y="1857240"/>
            <a:ext cx="3929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еиваем ство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E7BD-08D4-4834-8017-24F63B4A126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3683-1E78-4FF5-A619-405823BC6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571840" y="1857240"/>
            <a:ext cx="39290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еиваем все части, перекрывая кажду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9FA5-D638-4230-ABCF-3FA0E2F75A6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60A6-9DB5-48BF-A608-9269663449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571840" y="1857240"/>
            <a:ext cx="400032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фото видно, что части кроны не касаются самого дере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0A62-F03C-4CC0-BB9D-6F608C00B5E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1818-2035-4FFF-A060-06A87B4D26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285920" y="2328840"/>
            <a:ext cx="6572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00:52Z</dcterms:created>
  <dc:creator>Admin</dc:creator>
  <dc:description>http://aida.ucoz.ru</dc:description>
  <dc:language>en-US</dc:language>
  <cp:lastModifiedBy>Admin</cp:lastModifiedBy>
  <dcterms:modified xsi:type="dcterms:W3CDTF">2011-12-18T11:38:52Z</dcterms:modified>
  <cp:revision>6</cp:revision>
  <dc:subject/>
  <dc:title>Деревья с объемной кроной</dc:title>
</cp:coreProperties>
</file>