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39A7-035D-4569-AE39-8295D1701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3284-749A-45E5-A4B5-6C396313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18DE-0232-442D-9273-13B65A832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54F8-991D-494E-97EC-F61AA50C7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907ED-4103-473A-BD2C-B862310DF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469C-92A4-448F-BB22-79AB09C5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5BA53-55F6-4B4D-9EF4-67D395C0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BDA1-BB7E-4648-A556-2AD6C109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727C9-6ED6-4905-91BB-567A4AD8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2DA4-5148-4316-A82B-F704C785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9CB3-8072-424F-86B8-003B66D6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E203-E7E6-48CD-98F8-1AE9B6A0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7191B-01C5-46F3-A6E7-7E7735B3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425B-52F4-46C8-BB6E-6EBA086B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16A3E-1E9E-4056-AC9C-CC54492C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6E9D-4740-4DD4-9569-E83D84A1B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D406E-FDAF-46E9-AB6D-7174E9A8A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8C36-E6A8-445B-B9E0-45D93491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7454-3C07-4014-864B-E1630F4C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71F6-50D7-42F5-A440-EDDB463E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AA61-C104-4C58-98C9-41C67E2F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F3DF-4F9D-454D-862E-8CF3E930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C299-FCF4-4403-B762-252F0C60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CCED-52D0-4E27-A381-2E6265DC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cc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530C-F877-47C6-83E9-E3E27C8B1E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Group 9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cc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ffcc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ff99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5" name="Arc 17"/>
              <p:cNvSpPr/>
              <p:nvPr/>
            </p:nvSpPr>
            <p:spPr>
              <a:xfrm>
                <a:off x="752400" y="3587760"/>
                <a:ext cx="198360" cy="1832040"/>
              </a:xfrm>
              <a:prstGeom prst="pie">
                <a:avLst/>
              </a:prstGeom>
              <a:solidFill>
                <a:srgbClr val="ffcc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16" name="Oval 18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7a7c93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18" name="Rectangle 20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cc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6" name="Group 3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57" name="Group 4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58" name="AutoShape 5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7a7c93"/>
                    </a:gs>
                    <a:gs pos="100000">
                      <a:srgbClr val="eaeae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AutoShape 6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Rectangle 7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ffcc6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8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cc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Rectangle 9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cc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Rectangle 10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cc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Arc 11"/>
                <p:cNvSpPr/>
                <p:nvPr/>
              </p:nvSpPr>
              <p:spPr>
                <a:xfrm rot="10485000">
                  <a:off x="2004120" y="3555360"/>
                  <a:ext cx="1148040" cy="1359000"/>
                </a:xfrm>
                <a:prstGeom prst="pie">
                  <a:avLst/>
                </a:prstGeom>
                <a:solidFill>
                  <a:srgbClr val="ffcc6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Freeform 12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prstGeom prst="pie">
                  <a:avLst/>
                </a:prstGeom>
                <a:solidFill>
                  <a:srgbClr val="ff996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Freeform 13"/>
              <p:cNvSpPr/>
              <p:nvPr/>
            </p:nvSpPr>
            <p:spPr>
              <a:xfrm>
                <a:off x="3886200" y="2873520"/>
                <a:ext cx="514440" cy="366480"/>
              </a:xfrm>
              <a:prstGeom prst="pie">
                <a:avLst/>
              </a:prstGeom>
              <a:solidFill>
                <a:srgbClr val="00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67" name="Rectangle 14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cc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D5EA-83EF-4CAC-9558-51B818E89232}" type="slidenum"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121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99"/>
                </a:solidFill>
                <a:latin typeface="Arial Black"/>
              </a:rPr>
              <a:t>ФИЗИЧЕСКИЕ ЯВЛЕНИЯ  В РИСУНКАХ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2143080" y="42876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МОУ гимназия №3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99"/>
                </a:solidFill>
                <a:latin typeface="Arial Black"/>
              </a:rPr>
              <a:t>Световые явления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2484360" y="6381720"/>
            <a:ext cx="47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Шамаева Анастасия, 7 Б класс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37" name="Рисунок 8" descr="Изображение20.jpg"/>
          <p:cNvPicPr/>
          <p:nvPr/>
        </p:nvPicPr>
        <p:blipFill>
          <a:blip r:embed="rId1"/>
          <a:stretch/>
        </p:blipFill>
        <p:spPr>
          <a:xfrm>
            <a:off x="1428840" y="1928880"/>
            <a:ext cx="71866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99"/>
                </a:solidFill>
                <a:latin typeface="Arial Black"/>
              </a:rPr>
              <a:t>Световые явления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484360" y="6381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Малышева Александра, 7 Б класс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40" name="Рисунок 6" descr="Изображение21.jpg"/>
          <p:cNvPicPr/>
          <p:nvPr/>
        </p:nvPicPr>
        <p:blipFill>
          <a:blip r:embed="rId1"/>
          <a:stretch/>
        </p:blipFill>
        <p:spPr>
          <a:xfrm>
            <a:off x="2786040" y="1643040"/>
            <a:ext cx="414324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99"/>
                </a:solidFill>
                <a:latin typeface="Arial Black"/>
              </a:rPr>
              <a:t>Механические явления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484360" y="6381720"/>
            <a:ext cx="47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Зайцева Диана, 7 А класс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13" name="Рисунок 6" descr="Изображение12.jpg"/>
          <p:cNvPicPr/>
          <p:nvPr/>
        </p:nvPicPr>
        <p:blipFill>
          <a:blip r:embed="rId1"/>
          <a:stretch/>
        </p:blipFill>
        <p:spPr>
          <a:xfrm>
            <a:off x="1714680" y="1714680"/>
            <a:ext cx="671508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99"/>
                </a:solidFill>
                <a:latin typeface="Arial Black"/>
              </a:rPr>
              <a:t>Механические явления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pic>
        <p:nvPicPr>
          <p:cNvPr id="115" name="Рисунок 12" descr="Изображение13.jpg"/>
          <p:cNvPicPr/>
          <p:nvPr/>
        </p:nvPicPr>
        <p:blipFill>
          <a:blip r:embed="rId1"/>
          <a:stretch/>
        </p:blipFill>
        <p:spPr>
          <a:xfrm>
            <a:off x="2666880" y="1631880"/>
            <a:ext cx="4905360" cy="46278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3143160" y="6381720"/>
            <a:ext cx="40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Андронова Анна, 7 В класс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99"/>
                </a:solidFill>
                <a:latin typeface="Arial Black"/>
              </a:rPr>
              <a:t>Механические явления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2484360" y="6381720"/>
            <a:ext cx="47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Патрушев Антон, 7 А класс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19" name="Рисунок 8" descr="Изображение14.jpg"/>
          <p:cNvPicPr/>
          <p:nvPr/>
        </p:nvPicPr>
        <p:blipFill>
          <a:blip r:embed="rId1"/>
          <a:stretch/>
        </p:blipFill>
        <p:spPr>
          <a:xfrm>
            <a:off x="1928880" y="1928880"/>
            <a:ext cx="6000840" cy="41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99"/>
                </a:solidFill>
                <a:latin typeface="Arial Black"/>
              </a:rPr>
              <a:t>Звуковые явления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484360" y="6381720"/>
            <a:ext cx="47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Горылева Александра, 7 А класс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22" name="Рисунок 6" descr="Изображение15.jpg"/>
          <p:cNvPicPr/>
          <p:nvPr/>
        </p:nvPicPr>
        <p:blipFill>
          <a:blip r:embed="rId1"/>
          <a:stretch/>
        </p:blipFill>
        <p:spPr>
          <a:xfrm>
            <a:off x="2286000" y="2143080"/>
            <a:ext cx="564984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99"/>
                </a:solidFill>
                <a:latin typeface="Arial Black"/>
              </a:rPr>
              <a:t>Тепловые явления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484360" y="6381720"/>
            <a:ext cx="47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Цвиклист Валерия, 7 В класс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25" name="Рисунок 6" descr="Изображение16.jpg"/>
          <p:cNvPicPr/>
          <p:nvPr/>
        </p:nvPicPr>
        <p:blipFill>
          <a:blip r:embed="rId1"/>
          <a:stretch/>
        </p:blipFill>
        <p:spPr>
          <a:xfrm>
            <a:off x="2143080" y="2000160"/>
            <a:ext cx="595620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99"/>
                </a:solidFill>
                <a:latin typeface="Arial Black"/>
              </a:rPr>
              <a:t>Электрические явления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2484360" y="6381720"/>
            <a:ext cx="47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Жабко Анастасия, 7 В класс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28" name="Рисунок 6" descr="Изображение17.jpg"/>
          <p:cNvPicPr/>
          <p:nvPr/>
        </p:nvPicPr>
        <p:blipFill>
          <a:blip r:embed="rId1"/>
          <a:stretch/>
        </p:blipFill>
        <p:spPr>
          <a:xfrm>
            <a:off x="2000160" y="2000160"/>
            <a:ext cx="587052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99"/>
                </a:solidFill>
                <a:latin typeface="Arial Black"/>
              </a:rPr>
              <a:t>Магнитные явления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2484360" y="6381720"/>
            <a:ext cx="47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Дегтярева Юлия, 7 Б класс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31" name="Рисунок 6" descr="Изображение18.jpg"/>
          <p:cNvPicPr/>
          <p:nvPr/>
        </p:nvPicPr>
        <p:blipFill>
          <a:blip r:embed="rId1"/>
          <a:stretch/>
        </p:blipFill>
        <p:spPr>
          <a:xfrm>
            <a:off x="2714760" y="1643040"/>
            <a:ext cx="483372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99"/>
                </a:solidFill>
                <a:latin typeface="Arial Black"/>
              </a:rPr>
              <a:t>Магнитные явления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2484360" y="6381720"/>
            <a:ext cx="47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Юдин Герман, 7 Б класс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34" name="Рисунок 6" descr="Изображение19.jpg"/>
          <p:cNvPicPr/>
          <p:nvPr/>
        </p:nvPicPr>
        <p:blipFill>
          <a:blip r:embed="rId1"/>
          <a:stretch/>
        </p:blipFill>
        <p:spPr>
          <a:xfrm>
            <a:off x="2357280" y="1714680"/>
            <a:ext cx="533412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02:09:51Z</dcterms:created>
  <dc:creator>Владимир</dc:creator>
  <dc:description/>
  <dc:language>en-US</dc:language>
  <cp:lastModifiedBy>semia</cp:lastModifiedBy>
  <dcterms:modified xsi:type="dcterms:W3CDTF">2009-01-06T17:12:28Z</dcterms:modified>
  <cp:revision>4</cp:revision>
  <dc:subject/>
  <dc:title>ФИЗИЧЕСКИЕ ЯВЛЕНИЯ  В РИСУНКАХ</dc:title>
</cp:coreProperties>
</file>