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C6F-249F-4437-AF9A-F801EECF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C88B-D130-4590-B4E4-3403C47B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088D-3F91-4A19-8649-FA445A69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073F-49E5-4EB6-8C83-DD7D189C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EE34-2469-4092-95E6-3E1991CB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8A4F-7734-4DBE-8A14-1AE6EF10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0F48-0631-4888-9867-AC3E0C5E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DF7A-E45A-4DB7-96F3-13D68F85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B0E-E9BD-42B0-BEB3-0250C26C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1E50-6134-4C07-A895-E28F0191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4827-F121-4CF9-90D2-D8674651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D9D-36B4-419A-B6E6-9B1DEB8B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A3EE-7E4D-4861-A5BF-4C61FC1E5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Times New Roman"/>
              </a:rPr>
              <a:t>Муниципальное казённое дошкольное образовательное учреждение</a:t>
            </a:r>
            <a:br>
              <a:rPr sz="2000"/>
            </a:br>
            <a:r>
              <a:rPr b="1" i="1" lang="ru-RU" sz="2000" spc="-1" strike="noStrike">
                <a:solidFill>
                  <a:srgbClr val="9900cc"/>
                </a:solidFill>
                <a:latin typeface="Times New Roman"/>
              </a:rPr>
              <a:t>«Детский сад № 1»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  </a:t>
            </a:r>
            <a:r>
              <a:rPr b="1" i="1" lang="ru-RU" sz="3200" spc="-1" strike="noStrike">
                <a:solidFill>
                  <a:srgbClr val="ff0066"/>
                </a:solidFill>
                <a:latin typeface="Arial Black"/>
                <a:ea typeface="Arial"/>
              </a:rPr>
              <a:t>«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Современные з</a:t>
            </a:r>
            <a:r>
              <a:rPr b="1" i="1" lang="ru-RU" sz="3200" spc="-1" strike="noStrike">
                <a:solidFill>
                  <a:srgbClr val="ff0066"/>
                </a:solidFill>
                <a:latin typeface="Arial Black"/>
                <a:ea typeface="Arial"/>
              </a:rPr>
              <a:t>доровьесберегающие  технологии»</a:t>
            </a:r>
            <a:br>
              <a:rPr sz="3200"/>
            </a:br>
            <a:br>
              <a:rPr sz="3200"/>
            </a:b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88360" y="4581360"/>
            <a:ext cx="5074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старший воспитатель </a:t>
            </a:r>
            <a:br>
              <a:rPr sz="2000"/>
            </a:b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 Кузнецова Татьяна Александровна</a:t>
            </a:r>
            <a:br>
              <a:rPr sz="2000"/>
            </a:b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ервая квалификационная категор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42920" y="4221000"/>
            <a:ext cx="1581120" cy="215280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0000ff"/>
                </a:solidFill>
                <a:latin typeface="Arial Black"/>
              </a:rPr>
              <a:t>Подвижные и спортивные игры</a:t>
            </a:r>
            <a:br>
              <a:rPr sz="3600"/>
            </a:b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 подбираются в соответствии с возрастом ребёнка, местом и временем её проведения. В детском саду используем лишь элементы спортивных игр.</a:t>
            </a: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979640" y="2924280"/>
            <a:ext cx="4792680" cy="3240000"/>
          </a:xfrm>
          <a:prstGeom prst="rect">
            <a:avLst/>
          </a:prstGeom>
          <a:ln w="12708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 Black"/>
              </a:rPr>
              <a:t>Релаксация</a:t>
            </a:r>
            <a:br>
              <a:rPr sz="3600"/>
            </a:b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используется спокойная классическая музыка (Чайковский, Рахманинов), звуки природы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835280" y="2421000"/>
            <a:ext cx="5400720" cy="3511440"/>
          </a:xfrm>
          <a:prstGeom prst="rect">
            <a:avLst/>
          </a:prstGeom>
          <a:ln w="12708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Гимнастика бодрящая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закаливание</a:t>
            </a:r>
            <a:br>
              <a:rPr sz="3600"/>
            </a:b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форма проведения различна: упражнения на кроватках, обширное умывание, ходьба по дорожкам «здоровья», лёгкий бег из группы в спортзал с разницей температуры в помещениях и другие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411280" y="2924280"/>
            <a:ext cx="4432320" cy="3298680"/>
          </a:xfrm>
          <a:prstGeom prst="rect">
            <a:avLst/>
          </a:prstGeom>
          <a:ln w="130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Arial Black"/>
              </a:rPr>
              <a:t>Гимнастика пальчиковая</a:t>
            </a:r>
            <a:br>
              <a:rPr sz="4000"/>
            </a:b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рекомендуется всем детям, особенно с речевыми проблемами. Проводиться в любой удобный отрезок времени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908000" y="2852640"/>
            <a:ext cx="5688360" cy="3211560"/>
          </a:xfrm>
          <a:prstGeom prst="rect">
            <a:avLst/>
          </a:prstGeom>
          <a:ln w="12708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 Black"/>
              </a:rPr>
              <a:t>Гимнастика дыхательная</a:t>
            </a:r>
            <a:br>
              <a:rPr sz="3600"/>
            </a:b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проводится в проветриваемом помещении, педагог даёт детям инструкции об обязательной гигиене полости носа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195640" y="2349360"/>
            <a:ext cx="5113080" cy="3880080"/>
          </a:xfrm>
          <a:prstGeom prst="rect">
            <a:avLst/>
          </a:prstGeom>
          <a:ln w="12708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Arial Black"/>
              </a:rPr>
              <a:t>Гимнастика для глаз</a:t>
            </a:r>
            <a:br>
              <a:rPr sz="3600"/>
            </a:b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рекомендуется использовать наглядный материал (ориентиры), показ педагога.</a:t>
            </a:r>
            <a:br>
              <a:rPr sz="2000"/>
            </a:b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92000" y="2204640"/>
            <a:ext cx="5467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753080" cy="3567240"/>
          </a:xfrm>
          <a:prstGeom prst="rect">
            <a:avLst/>
          </a:prstGeom>
          <a:ln w="130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 Black"/>
              </a:rPr>
              <a:t>Занятия из серии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«</a:t>
            </a:r>
            <a:r>
              <a:rPr b="1" i="1" lang="ru-RU" sz="3600" spc="-1" strike="noStrike">
                <a:solidFill>
                  <a:srgbClr val="0000ff"/>
                </a:solidFill>
                <a:latin typeface="Arial Black"/>
              </a:rPr>
              <a:t>Здоровье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»</a:t>
            </a:r>
            <a:br>
              <a:rPr sz="3600"/>
            </a:b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могут быть включены в НОД к качестве познавательного характера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055960" y="2595600"/>
            <a:ext cx="4827600" cy="3486240"/>
          </a:xfrm>
          <a:prstGeom prst="rect">
            <a:avLst/>
          </a:prstGeom>
          <a:ln w="12708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 Black"/>
              </a:rPr>
              <a:t>Точечный самомассаж</a:t>
            </a:r>
            <a:br>
              <a:rPr sz="4000"/>
            </a:b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проводится строго по специальной методике, показана детям с частыми простудными заболеваниями и для профилактики ОРЗ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4319640" cy="3422520"/>
          </a:xfrm>
          <a:prstGeom prst="rect">
            <a:avLst/>
          </a:prstGeom>
          <a:ln w="12708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Сказкотерапия</a:t>
            </a:r>
            <a:br>
              <a:rPr sz="3600"/>
            </a:b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 используется для психо-терапевтической и развивающей работы. Сказку может рассказывать взрослый, либо это может быть групповое рассказывание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340000" y="2492280"/>
            <a:ext cx="4537080" cy="356580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4920" y="620640"/>
            <a:ext cx="727560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3333ff"/>
                </a:solidFill>
                <a:latin typeface="Arial Black"/>
              </a:rPr>
              <a:t>Восточная </a:t>
            </a:r>
            <a:r>
              <a:rPr b="1" i="1" lang="ru-RU" sz="3600" spc="-1" strike="noStrike">
                <a:solidFill>
                  <a:srgbClr val="0000ff"/>
                </a:solidFill>
                <a:latin typeface="Arial Black"/>
              </a:rPr>
              <a:t>гимнастика</a:t>
            </a:r>
            <a:br>
              <a:rPr sz="3600"/>
            </a:b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проводится со среднего возраста, развивает пластику движений</a:t>
            </a:r>
            <a:br>
              <a:rPr sz="3600"/>
            </a:b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92360" y="2492280"/>
            <a:ext cx="5904000" cy="3476880"/>
          </a:xfrm>
          <a:prstGeom prst="rect">
            <a:avLst/>
          </a:prstGeom>
          <a:ln w="12708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-1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83664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«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Забота о здоровье</a:t>
            </a: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 — это важнейший труд воспитателя. От жизнерадостности, бодрости детей зависит их духовная жизнь, мировоззрение, умственное развитие, прочность знаний, вера в свои силы»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 Black"/>
              </a:rPr>
              <a:t>В. А. Сухомлинский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Arial Black"/>
              </a:rPr>
              <a:t>Технологии музыкального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воздействия</a:t>
            </a:r>
            <a:br>
              <a:rPr sz="3600"/>
            </a:br>
            <a:r>
              <a:rPr b="1" i="1" lang="ru-RU" sz="2800" spc="-1" strike="noStrike">
                <a:solidFill>
                  <a:srgbClr val="9900cc"/>
                </a:solidFill>
                <a:latin typeface="Arial Black"/>
              </a:rPr>
              <a:t>используется в качестве вспомогательного средства</a:t>
            </a: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,</a:t>
            </a:r>
            <a:r>
              <a:rPr b="1" i="1" lang="ru-RU" sz="2800" spc="-1" strike="noStrike">
                <a:solidFill>
                  <a:srgbClr val="9900cc"/>
                </a:solidFill>
                <a:latin typeface="Arial Black"/>
              </a:rPr>
              <a:t> как часть других технологий</a:t>
            </a: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,</a:t>
            </a:r>
            <a:r>
              <a:rPr b="1" i="1" lang="ru-RU" sz="2800" spc="-1" strike="noStrike">
                <a:solidFill>
                  <a:srgbClr val="9900cc"/>
                </a:solidFill>
                <a:latin typeface="Arial Black"/>
              </a:rPr>
              <a:t> для снятия напряжения</a:t>
            </a: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,</a:t>
            </a:r>
            <a:r>
              <a:rPr b="1" i="1" lang="ru-RU" sz="2800" spc="-1" strike="noStrike">
                <a:solidFill>
                  <a:srgbClr val="9900cc"/>
                </a:solidFill>
                <a:latin typeface="Arial Black"/>
              </a:rPr>
              <a:t> повышения эмоционального настроя</a:t>
            </a: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.</a:t>
            </a:r>
            <a:br>
              <a:rPr sz="3600"/>
            </a:b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3500280"/>
            <a:ext cx="7772400" cy="28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-7772400" y="-5829480"/>
            <a:ext cx="5638680" cy="422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268360" y="3213000"/>
            <a:ext cx="4969080" cy="3319560"/>
          </a:xfrm>
          <a:prstGeom prst="rect">
            <a:avLst/>
          </a:prstGeom>
          <a:ln w="130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Arial Black"/>
              </a:rPr>
              <a:t>Упражнения на степах</a:t>
            </a:r>
            <a:br>
              <a:rPr sz="3600"/>
            </a:b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проводятся под ритмичную музыку: в форме утренней гимнастики, части физкультурного: занятия, досуга или праздника</a:t>
            </a:r>
            <a:br>
              <a:rPr sz="3600"/>
            </a:b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79640" y="2421000"/>
            <a:ext cx="5113440" cy="3835440"/>
          </a:xfrm>
          <a:prstGeom prst="rect">
            <a:avLst/>
          </a:prstGeom>
          <a:ln w="12708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0000ff"/>
                </a:solidFill>
                <a:latin typeface="Arial Black"/>
              </a:rPr>
              <a:t>Технологии эстетической направленности</a:t>
            </a:r>
            <a:br>
              <a:rPr sz="3600"/>
            </a:b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реализуется на занятиях художественно-эстетического цикла, при посещении музеев, театров, выставок и пр., оформление помещений к праздникам</a:t>
            </a:r>
            <a:br>
              <a:rPr sz="2000"/>
            </a:b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68360" y="3284640"/>
            <a:ext cx="4321440" cy="3097080"/>
          </a:xfrm>
          <a:prstGeom prst="rect">
            <a:avLst/>
          </a:prstGeom>
          <a:ln w="12708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 Black"/>
              </a:rPr>
              <a:t>Мы стремимся к полной реализации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i="1" lang="ru-RU" sz="3600" spc="-1" strike="noStrike">
                <a:solidFill>
                  <a:srgbClr val="0000ff"/>
                </a:solidFill>
                <a:latin typeface="Arial Black"/>
              </a:rPr>
              <a:t> в жизни каждого ребенка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i="1" lang="ru-RU" sz="3600" spc="-1" strike="noStrike">
                <a:solidFill>
                  <a:srgbClr val="0000ff"/>
                </a:solidFill>
                <a:latin typeface="Arial Black"/>
              </a:rPr>
              <a:t> трех моментов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i="1" lang="ru-RU" sz="3600" spc="-1" strike="noStrike">
                <a:solidFill>
                  <a:srgbClr val="0000ff"/>
                </a:solidFill>
                <a:latin typeface="Arial Black"/>
              </a:rPr>
              <a:t> </a:t>
            </a:r>
            <a:br>
              <a:rPr sz="3600"/>
            </a:b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 Black"/>
              </a:rPr>
              <a:t>достаточной индивидуальной умственной нагрузки 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 Black"/>
              </a:rPr>
              <a:t>обеспечение условий для преобладания положительных эмоциональных впечатлений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 Black"/>
              </a:rPr>
              <a:t>полное удовлетворение потребности в движении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70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Здоровье </a:t>
            </a: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- это состояние полного физического, психического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и социального благополучия, а не просто отсутствие болезней или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физических дефектов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(Всемирная организация здравоохранения)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99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Здоровьесберегающая технология</a:t>
            </a: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 - это 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.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Здоровьесберегающие образовательные </a:t>
            </a: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технологии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технологии обеспечения гигиенически оптимальных условий проведения воспитательно-образовательного процесс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технологии правильной организации воспитательно-образовательного процесс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психолого-педагогические технологии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 Black"/>
              </a:rPr>
              <a:t>Задачи здоровьесбережения</a:t>
            </a:r>
            <a:r>
              <a:rPr b="1" i="1" lang="ru-RU" sz="3600" spc="-1" strike="noStrike">
                <a:solidFill>
                  <a:srgbClr val="3333ff"/>
                </a:solidFill>
                <a:latin typeface="Arial Black"/>
              </a:rPr>
              <a:t>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Arial Black"/>
              </a:rPr>
              <a:t>создание адекватных условий для развития</a:t>
            </a: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,</a:t>
            </a:r>
            <a:r>
              <a:rPr b="1" i="1" lang="ru-RU" sz="2800" spc="-1" strike="noStrike">
                <a:solidFill>
                  <a:srgbClr val="9900cc"/>
                </a:solidFill>
                <a:latin typeface="Arial Black"/>
              </a:rPr>
              <a:t> обучения</a:t>
            </a: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,</a:t>
            </a:r>
            <a:r>
              <a:rPr b="1" i="1" lang="ru-RU" sz="2800" spc="-1" strike="noStrike">
                <a:solidFill>
                  <a:srgbClr val="9900cc"/>
                </a:solidFill>
                <a:latin typeface="Arial Black"/>
              </a:rPr>
              <a:t> оздоровления детей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Arial Black"/>
              </a:rPr>
              <a:t>сохранение здоровья детей и повышение двигательной активности и умственной работоспособности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Arial Black"/>
              </a:rPr>
              <a:t>создание положительного эмоционального настроя и снятие психоэмоционального напряжения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58920" y="475920"/>
            <a:ext cx="76341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Формы организации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здоровьесберегающей работы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6000" y="1700280"/>
            <a:ext cx="15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2133720"/>
            <a:ext cx="84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7489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Физкультурное занятие</a:t>
            </a:r>
            <a:br>
              <a:rPr sz="4000"/>
            </a:b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занятия проводятся в соответствии с программой, перед занятием необходимо хорошо проветрить помещени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835280" y="2276640"/>
            <a:ext cx="5040360" cy="3951000"/>
          </a:xfrm>
          <a:prstGeom prst="rect">
            <a:avLst/>
          </a:prstGeom>
          <a:ln w="12708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Самостоятельная деятельность детей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68360" y="2421000"/>
            <a:ext cx="5112000" cy="3384360"/>
          </a:xfrm>
          <a:prstGeom prst="rect">
            <a:avLst/>
          </a:prstGeom>
          <a:ln w="130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0:20:44Z</dcterms:created>
  <dc:creator>side</dc:creator>
  <dc:description/>
  <dc:language>en-US</dc:language>
  <cp:lastModifiedBy>Zver</cp:lastModifiedBy>
  <dcterms:modified xsi:type="dcterms:W3CDTF">2011-12-18T11:39:06Z</dcterms:modified>
  <cp:revision>20</cp:revision>
  <dc:subject/>
  <dc:title>Your Title Here…</dc:title>
</cp:coreProperties>
</file>