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5.jpeg" ContentType="image/jpeg"/>
  <Override PartName="/ppt/media/image20.wmf" ContentType="image/x-wmf"/>
  <Override PartName="/ppt/media/image10.jpeg" ContentType="image/jpeg"/>
  <Override PartName="/ppt/media/image29.jpeg" ContentType="image/jpeg"/>
  <Override PartName="/ppt/media/image28.wmf" ContentType="image/x-wmf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6.wmf" ContentType="image/x-wmf"/>
  <Override PartName="/ppt/media/image16.jpeg" ContentType="image/jpeg"/>
  <Override PartName="/ppt/media/image19.png" ContentType="image/png"/>
  <Override PartName="/ppt/media/image6.jpeg" ContentType="image/jpeg"/>
  <Override PartName="/ppt/media/image18.png" ContentType="image/png"/>
  <Override PartName="/ppt/media/image21.wmf" ContentType="image/x-wmf"/>
  <Override PartName="/ppt/media/image23.jpeg" ContentType="image/jpeg"/>
  <Override PartName="/ppt/media/image15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1D7-6793-44F9-8FD6-C94BC67C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E15-06A8-460E-A56C-7B5FAD0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A95-858D-4495-9B1E-4CC9A1DD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C01-A8CA-4116-9E5A-90758AFF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991-57F0-46E9-9F6A-35FA29C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9E2-6031-467D-86B2-E9B275ED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F6E-B2D1-4792-94A2-564D9E63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A37-70D9-41F9-969F-1A171AD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C5E-EDFC-4C70-B0F1-D4D15585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D73-D850-4D43-B67F-B325D26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F20-C513-40B6-8CE5-CC958B5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63C-73E5-46E9-A69E-CB55C278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FEC8-009F-4D76-A7D6-87DB8602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5;&#1077;&#1088;&#1075;&#1080;&#1103;" TargetMode="External"/><Relationship Id="rId2" Type="http://schemas.openxmlformats.org/officeDocument/2006/relationships/hyperlink" Target="http://ru.wikipedia.org/wiki/&#1071;&#1076;&#1077;&#1088;&#1085;&#1099;&#1081;_&#1088;&#1077;&#1072;&#1082;&#1090;&#1086;&#1088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6_&#1072;&#1087;&#1088;&#1077;&#1083;&#1103;" TargetMode="External"/><Relationship Id="rId2" Type="http://schemas.openxmlformats.org/officeDocument/2006/relationships/hyperlink" Target="http://ru.wikipedia.org/wiki/1986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ный а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5472360" cy="395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3640" y="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гимназия № 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3640" y="4437000"/>
            <a:ext cx="2160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ица 3б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ленко Ека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5589720"/>
            <a:ext cx="3276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вчук Еле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5950080"/>
            <a:ext cx="39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Фокино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81560" cy="255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971640" y="476280"/>
            <a:ext cx="33843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127160"/>
          <a:ext cx="9144000" cy="57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7160"/>
                    <a:ext cx="914400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действовать в чс, связанной с повышением уровня ради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3954240" cy="273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1052640"/>
            <a:ext cx="3394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74520"/>
          <a:ext cx="914400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520"/>
                    <a:ext cx="914400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55440"/>
          <a:ext cx="9144000" cy="68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5440"/>
                    <a:ext cx="9144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диационная обстановка на территории Приморского края апрель 2011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ая обстановка на территории Приморского края по данным дозиметрических, радиометрических, гамма-, бета- и спектрометрических исследований удовлетворительная. Естественный радиационный фон составляет в среднем по краю - 0,12 мкЗв/час, по г. Владивостоку - 0,10 мкЗв/час, что не превышает нормативного 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с 11 марта 2011 г. проведено дозиметрических замеров естественного фона - 24338, в том числе за 05 апреля 2011 г. - 1165 замеров, исследованы  9 проб атмосферных осадков, 4 пробы атмосферного воздуха (1 проба - бухта  Патрокл,  3 пробы -  город Владивосток),  1 проба почвы (бухта  Патрокл)  и 25 проб воды из Артёмовского, Богатинского и Пионерского водохранили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 питания и пищевое сырьё из Японии после 11 марта 2011 г. на территорию Приморского края не завозились.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оведении мониторинга радиационной обстановки исследованы пробы морской воды и морского льда (всего-14 проб)  в бухтах Аякс, Поспелова, Назимова, Славянка, Щитовая, Сапёрная, Воевода, Патрокл,  мыс Песчаный, мыс Скреплёва, Спортивной Гава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Рикарда, о. Шкота и о. Рейн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результаты не превышают нормативных значе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32720" y="6308640"/>
            <a:ext cx="18856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диационная обстановка в нашем го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536840"/>
          <a:ext cx="896472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36840"/>
                    <a:ext cx="896472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5200" y="456840"/>
            <a:ext cx="7704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спективы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7361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томная энергия представляется самой перспективной. В России реализуется  масштабная программа атомной энергии, предполагающая увеличение доли атомной энергетики с 16% до 25-30% к 2020 год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4753080" cy="3416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95480" y="6095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720" y="6165720"/>
            <a:ext cx="20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воронежская АЭ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7680" y="1341000"/>
            <a:ext cx="77007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омная Электростанция (АЭС) – это ядерная установка для производства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энерги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путём использования энергии, выделяемой при контролируемой ядерной реакции для этой цели используется </a:t>
            </a: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ядерный реакто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реакт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4419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836640"/>
            <a:ext cx="770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чевидно, атомная энергетика активно развив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использование ядерной энергии ставит перед человечеством новые серьезные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томная энергетика связана с повышенной опасностью для людей, которая проявляется с разрушением атомных реакторов, следовательно катастро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вязи с этим необходимо закладывать решение проблем безопасности (обновления гражданского ядерного арсенала предупреждение аварий с работой реактора, биозащита, уменьшение радиоактивных выбросов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35640" y="4869000"/>
            <a:ext cx="3457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276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Monotype Corsiva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75104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ти все о ядерном реакторе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.В.Матвеев, А.П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дик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госрочный прогноз развития АЭС России и место ядерной энергетики в нем. – М.:Макаров А. А., Волкова Е. А., Браилов В. П. М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ика и расчет реактора.: Учебное пособие вузов. -М.: И.Х.Ганев..,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электрические станции .: - М.:Маргулова Т. Х., Порушко Л.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.Пул «Справочное руководство по физике» Мир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ология. / Е.А. Криксунов; В.В. Пасечник. – М.:Дрофа,200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уководство по организации медицинской помощи при радиационных авариях/ А.К Гуськова, А.В. Барабанова – М.: Энергоатомиздат,19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учевая болезнь и микроэлементы/ В.К. Бондарчук - автореферат, Ивано-Франковск,19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ы общей экологии/Н.М. Мамедов – М.: Устойчивый мир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u.wikipedia.org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edu.yar.ru</a:t>
            </a:r>
            <a:r>
              <a:rPr b="1" i="1" lang="ru-RU" sz="1600" spc="-1" strike="noStrike">
                <a:solidFill>
                  <a:srgbClr val="19056f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0960" y="313920"/>
            <a:ext cx="820584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юсы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851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ые затраты топ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логичность (при правильном использова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ое количество рабочего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3690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0960" y="385560"/>
            <a:ext cx="82058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инусы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659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ожность конструкции агрег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оактивные отх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ожность строи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щерб работникам станции, который приведёт их к смер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ществует постоянная угроза неполадки, которая приведет к уничтожению всей ста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сокие требования к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651640" y="4145040"/>
            <a:ext cx="3340080" cy="220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18480" y="6259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9440" y="60199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опасность на АЭ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ающие факторы ядерного взры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Ядерный взрыв способен мгновенно уничтожить или вывести из строя  незащищенных людей , открыто стоящую технику , сооружения и различные материальные средства. Основными поражающими факторами ядерного взрыва являю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ветовое излуч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дарная вол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никающая ради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диоактивное заражение мест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лектромагнитный импуль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27640" y="3990960"/>
            <a:ext cx="2764080" cy="2333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15880" y="6019920"/>
            <a:ext cx="148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дерный взры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424720" cy="630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59280" y="2060640"/>
            <a:ext cx="3095280" cy="282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286000" y="1924200"/>
            <a:ext cx="4572000" cy="3009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3743280" cy="28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987640" y="1484280"/>
            <a:ext cx="2879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8:15 утра 6 августа 1945 г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Хиросима в один миг была уничтожена взрывом американской атомной бом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9 августа 1945 г. в 11:02 ут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через три дня после бомбардировки Хиросимы, вторая бомба разрушила Нагас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гда в Хиросиме погибло 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около 140 000 челове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 в Нагасаки — 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приблизительно 74 0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течение последующих лет ещё десятки тысяч умерли из-за последствий радиационного воз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4673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960" y="313920"/>
            <a:ext cx="820584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рнобыль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413000"/>
            <a:ext cx="550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рушение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26 апрел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1986 го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четвёртого энергоблока ЧАЭС, расположенной на территории Украины. Разрушение носило взрывной характер, реактор был полностью разрушен, и в окружающую среду было выброшено большое количество радиоактивных веществ. Авария расценивается как крупнейшая в своём роде за всю историю ядерной энергетики, как по предполагаемому количеству погибших и пострадавших от её последствий людей, так и по экономическому ущер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75280" y="1752480"/>
            <a:ext cx="2743200" cy="443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62485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4000" y="594360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твёртый блок Чернобыльской АЭ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1:58:21Z</dcterms:created>
  <dc:creator>Customer</dc:creator>
  <dc:description/>
  <dc:language>en-US</dc:language>
  <cp:lastModifiedBy>Customer</cp:lastModifiedBy>
  <dcterms:modified xsi:type="dcterms:W3CDTF">2011-12-18T02:04:33Z</dcterms:modified>
  <cp:revision>11</cp:revision>
  <dc:subject/>
  <dc:title>Слайд 1</dc:title>
</cp:coreProperties>
</file>