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5.jpeg" ContentType="image/jpeg"/>
  <Override PartName="/ppt/media/image20.wmf" ContentType="image/x-wmf"/>
  <Override PartName="/ppt/media/image10.jpeg" ContentType="image/jpeg"/>
  <Override PartName="/ppt/media/image29.jpeg" ContentType="image/jpeg"/>
  <Override PartName="/ppt/media/image28.wmf" ContentType="image/x-wmf"/>
  <Override PartName="/ppt/media/image22.jpeg" ContentType="image/jpeg"/>
  <Override PartName="/ppt/media/image7.png" ContentType="image/png"/>
  <Override PartName="/ppt/media/image8.png" ContentType="image/png"/>
  <Override PartName="/ppt/media/image14.jpeg" ContentType="image/jpeg"/>
  <Override PartName="/ppt/media/image11.jpeg" ContentType="image/jpeg"/>
  <Override PartName="/ppt/media/image9.jpeg" ContentType="image/jpeg"/>
  <Override PartName="/ppt/media/image13.png" ContentType="image/png"/>
  <Override PartName="/ppt/media/image12.jpeg" ContentType="image/jpeg"/>
  <Override PartName="/ppt/media/image30.jpeg" ContentType="image/jpeg"/>
  <Override PartName="/ppt/media/image24.jpeg" ContentType="image/jpeg"/>
  <Override PartName="/ppt/media/image4.jpeg" ContentType="image/jpeg"/>
  <Override PartName="/ppt/media/image2.png" ContentType="image/png"/>
  <Override PartName="/ppt/media/image3.png" ContentType="image/png"/>
  <Override PartName="/ppt/media/image17.jpeg" ContentType="image/jpeg"/>
  <Override PartName="/ppt/media/image1.png" ContentType="image/png"/>
  <Override PartName="/ppt/media/image26.wmf" ContentType="image/x-wmf"/>
  <Override PartName="/ppt/media/image16.jpeg" ContentType="image/jpeg"/>
  <Override PartName="/ppt/media/image19.png" ContentType="image/png"/>
  <Override PartName="/ppt/media/image6.jpeg" ContentType="image/jpeg"/>
  <Override PartName="/ppt/media/image18.png" ContentType="image/png"/>
  <Override PartName="/ppt/media/image21.wmf" ContentType="image/x-wmf"/>
  <Override PartName="/ppt/media/image23.jpeg" ContentType="image/jpeg"/>
  <Override PartName="/ppt/media/image15.jpeg" ContentType="image/jpeg"/>
  <Override PartName="/ppt/media/image2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AA431-7CF7-4BE3-9A2A-91E043EEE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5F142-95EB-4A2E-BADE-A57E757C5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A1FB6-27DC-4298-9B5B-0F712F02B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55397-497E-4CFE-AE75-964011E58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7A596-D72D-4B59-BE67-74D1E7BED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C0C4F-C800-4C1B-8BE7-542EA7327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CC991-E424-4237-A4C4-87B6C77EB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502A1-7CA3-4426-8E2B-CFB7FFC99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395DA-7A02-45EE-9699-84DE8689D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0B289-FFA2-4FF8-8EE5-423E7ACD6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B864B-2D17-4842-BAA5-03CBB21BD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513A5-7A81-43DE-81ED-8C3F9FB4E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549F8-84AC-47BD-8A6B-0C5EDE403F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9;&#1085;&#1077;&#1088;&#1075;&#1080;&#1103;" TargetMode="External"/><Relationship Id="rId2" Type="http://schemas.openxmlformats.org/officeDocument/2006/relationships/hyperlink" Target="http://ru.wikipedia.org/wiki/&#1071;&#1076;&#1077;&#1088;&#1085;&#1099;&#1081;_&#1088;&#1077;&#1072;&#1082;&#1090;&#1086;&#1088;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ru.wikipedia.org/wiki/26_&#1072;&#1087;&#1088;&#1077;&#1083;&#1103;" TargetMode="External"/><Relationship Id="rId2" Type="http://schemas.openxmlformats.org/officeDocument/2006/relationships/hyperlink" Target="http://ru.wikipedia.org/wiki/1986" TargetMode="External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Мирный ато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826920" y="1341360"/>
            <a:ext cx="5472360" cy="39592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763640" y="0"/>
            <a:ext cx="64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ОУ гимназия № 2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443640" y="4437000"/>
            <a:ext cx="216072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ыполнил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ученица 3б класс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иленко Екатери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5589720"/>
            <a:ext cx="327672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уководитель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учитель начальных класс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Кравчук Елена Анатольев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403280" y="5950080"/>
            <a:ext cx="390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г.Фокино 2011 г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395280" y="260280"/>
            <a:ext cx="4381560" cy="25527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395280" y="18900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4"/>
          <a:stretch/>
        </p:blipFill>
        <p:spPr>
          <a:xfrm>
            <a:off x="971640" y="476280"/>
            <a:ext cx="3384360" cy="265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8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9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Результаты анкетирования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1319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0" y="1127160"/>
          <a:ext cx="9144000" cy="578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127160"/>
                    <a:ext cx="9144000" cy="578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141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9280" y="274680"/>
            <a:ext cx="896472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ак действовать в чс, связанной с повышением уровня радиаци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468360" y="981000"/>
            <a:ext cx="3954240" cy="27370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539640" y="3789360"/>
            <a:ext cx="3959280" cy="280836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5148360" y="1052640"/>
            <a:ext cx="33940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0" y="74520"/>
          <a:ext cx="9144000" cy="6783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74520"/>
                    <a:ext cx="9144000" cy="678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5" name=""/>
          <p:cNvGraphicFramePr/>
          <p:nvPr/>
        </p:nvGraphicFramePr>
        <p:xfrm>
          <a:off x="0" y="55440"/>
          <a:ext cx="9144000" cy="6802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55440"/>
                    <a:ext cx="9144000" cy="680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Радиационная обстановка на территории Приморского края апрель 2011 года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диационная обстановка на территории Приморского края по данным дозиметрических, радиометрических, гамма-, бета- и спектрометрических исследований удовлетворительная. Естественный радиационный фон составляет в среднем по краю - 0,12 мкЗв/час, по г. Владивостоку - 0,10 мкЗв/час, что не превышает нормативного знач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сего с 11 марта 2011 г. проведено дозиметрических замеров естественного фона - 24338, в том числе за 05 апреля 2011 г. - 1165 замеров, исследованы  9 проб атмосферных осадков, 4 пробы атмосферного воздуха (1 проба - бухта  Патрокл,  3 пробы -  город Владивосток),  1 проба почвы (бухта  Патрокл)  и 25 проб воды из Артёмовского, Богатинского и Пионерского водохранилищ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дукты питания и пищевое сырьё из Японии после 11 марта 2011 г. на территорию Приморского края не завозились.                   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проведении мониторинга радиационной обстановки исследованы пробы морской воды и морского льда (всего-14 проб)  в бухтах Аякс, Поспелова, Назимова, Славянка, Щитовая, Сапёрная, Воевода, Патрокл,  мыс Песчаный, мыс Скреплёва, Спортивной Гавани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. Рикарда, о. Шкота и о. Рейнек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се результаты не превышают нормативных значений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6732720" y="6308640"/>
            <a:ext cx="1885680" cy="3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Радиационная обстановка в нашем город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0" y="1536840"/>
          <a:ext cx="8964720" cy="494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536840"/>
                    <a:ext cx="8964720" cy="494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5200" y="456840"/>
            <a:ext cx="77040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Перспективы АЭ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28240" y="1197000"/>
            <a:ext cx="873612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Атомная энергия представляется самой перспективной. В России реализуется  масштабная программа атомной энергии, предполагающая увеличение доли атомной энергетики с 16% до 25-30% к 2020 году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3995640" y="2781360"/>
            <a:ext cx="4753080" cy="34164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2895480" y="6095880"/>
            <a:ext cx="184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268720" y="6165720"/>
            <a:ext cx="209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Нововоронежская АЭ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Понятие АЭ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07680" y="1341000"/>
            <a:ext cx="770076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томная Электростанция (АЭС) – это ядерная установка для производства </a:t>
            </a:r>
            <a:r>
              <a:rPr b="0" lang="en-US" sz="2400" spc="-1" strike="noStrike" u="sng">
                <a:solidFill>
                  <a:srgbClr val="ff5050"/>
                </a:solidFill>
                <a:uFillTx/>
                <a:latin typeface="Arial"/>
                <a:hlinkClick r:id="rId1"/>
              </a:rPr>
              <a:t>энергии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, путём использования энергии, выделяемой при контролируемой ядерной реакции для этой цели используется </a:t>
            </a:r>
            <a:r>
              <a:rPr b="0" lang="en-US" sz="2400" spc="-1" strike="noStrike" u="sng">
                <a:solidFill>
                  <a:srgbClr val="ff5050"/>
                </a:solidFill>
                <a:uFillTx/>
                <a:latin typeface="Arial"/>
                <a:hlinkClick r:id="rId2"/>
              </a:rPr>
              <a:t>ядерный реактор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(реакторы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2209680" y="3429000"/>
            <a:ext cx="441972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Выво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55640" y="836640"/>
            <a:ext cx="770400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Очевидно, атомная энергетика активно развиваетс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о использование ядерной энергии ставит перед человечеством новые серьезные проблем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Атомная энергетика связана с повышенной опасностью для людей, которая проявляется с разрушением атомных реакторов, следовательно катастроф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 связи с этим необходимо закладывать решение проблем безопасности (обновления гражданского ядерного арсенала предупреждение аварий с работой реактора, биозащита, уменьшение радиоактивных выбросов)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435640" y="4869000"/>
            <a:ext cx="3457440" cy="18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611280" y="2276640"/>
            <a:ext cx="770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99cc"/>
                </a:solidFill>
                <a:latin typeface="Monotype Corsiva"/>
              </a:rPr>
              <a:t>Спасибо за внимание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684360" y="333360"/>
            <a:ext cx="1904760" cy="1428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9" dur="8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0" dur="8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" dur="8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Литерату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751040"/>
            <a:ext cx="800100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чти все о ядерном реакторе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Л.В.Матвеев, А.П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удик.,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990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олгосрочный прогноз развития АЭС России и место ядерной энергетики в нем. – М.:Макаров А. А., Волкова Е. А., Браилов В. П. М., 20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Физика и расчет реактора.: Учебное пособие вузов. -М.: И.Х.Ганев..,20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томные электрические станции .: - М.:Маргулова Т. Х., Порушко Л. 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Ч.Пул «Справочное руководство по физике» Мир, 200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Экология. / Е.А. Криксунов; В.В. Пасечник. – М.:Дрофа,2004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Руководство по организации медицинской помощи при радиационных авариях/ А.К Гуськова, А.В. Барабанова – М.: Энергоатомиздат,198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Лучевая болезнь и микроэлементы/ В.К. Бондарчук - автореферат, Ивано-Франковск,196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Основы общей экологии/Н.М. Мамедов – М.: Устойчивый мир, 2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u.wikipedia.org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www.edu.yar.ru</a:t>
            </a:r>
            <a:r>
              <a:rPr b="1" i="1" lang="ru-RU" sz="1600" spc="-1" strike="noStrike">
                <a:solidFill>
                  <a:srgbClr val="19056f"/>
                </a:solidFill>
                <a:latin typeface="Arial"/>
              </a:rPr>
              <a:t> 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80960" y="313920"/>
            <a:ext cx="820584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Плюсы АЭ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78516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алые затраты топли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Экологичность (при правильном использовани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алое количество рабочего персона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828800" y="3048120"/>
            <a:ext cx="5369040" cy="323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80960" y="385560"/>
            <a:ext cx="8205840" cy="83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Минусы АЭ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560" y="1341360"/>
            <a:ext cx="8659800" cy="26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Сложность конструкции агрегато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Радиоактивные отход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Сложность строительств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Ущерб работникам станции, который приведёт их к смерт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Существует постоянная угроза неполадки, которая приведет к уничтожению всей станци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Высокие требования к безопасност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651640" y="4145040"/>
            <a:ext cx="3340080" cy="22032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918480" y="625968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349440" y="6019920"/>
            <a:ext cx="200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Безопасность на АЭ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Поражающие факторы ядерного взры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736120" cy="34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Ядерный взрыв способен мгновенно уничтожить или вывести из строя  незащищенных людей , открыто стоящую технику , сооружения и различные материальные средства. Основными поражающими факторами ядерного взрыва являются: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Световое излучение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Ударная волна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Проникающая радиация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Радиоактивное заражение местности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Электромагнитный импульс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6227640" y="3990960"/>
            <a:ext cx="2764080" cy="23335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115880" y="6019920"/>
            <a:ext cx="148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Ядерный взры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496000" cy="63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250920" y="333360"/>
            <a:ext cx="8424720" cy="63086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3059280" y="2060640"/>
            <a:ext cx="3095280" cy="28256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2286000" y="1924200"/>
            <a:ext cx="4572000" cy="30096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2700360" y="2133720"/>
            <a:ext cx="3743280" cy="28033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6"/>
          <a:stretch/>
        </p:blipFill>
        <p:spPr>
          <a:xfrm>
            <a:off x="2987640" y="1484280"/>
            <a:ext cx="287964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lang="en-US" sz="2000" spc="-1" strike="noStrike" u="sng">
                <a:solidFill>
                  <a:srgbClr val="ff5050"/>
                </a:solidFill>
                <a:uFillTx/>
                <a:latin typeface="Arial"/>
              </a:rPr>
              <a:t>8:15 утра 6 августа 1945 г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Хиросима в один миг была уничтожена взрывом американской атомной бомб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 u="sng">
                <a:solidFill>
                  <a:srgbClr val="ff5050"/>
                </a:solidFill>
                <a:uFillTx/>
                <a:latin typeface="Arial"/>
              </a:rPr>
              <a:t>9 августа 1945 г. в 11:02 утр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через три дня после бомбардировки Хиросимы, вторая бомба разрушила Нагаса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Тогда в Хиросиме погибло </a:t>
            </a:r>
            <a:r>
              <a:rPr b="1" lang="en-US" sz="2000" spc="-1" strike="noStrike" u="sng">
                <a:solidFill>
                  <a:srgbClr val="ff5050"/>
                </a:solidFill>
                <a:uFillTx/>
                <a:latin typeface="Arial"/>
              </a:rPr>
              <a:t>около 140 000 человек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а в Нагасаки — </a:t>
            </a:r>
            <a:r>
              <a:rPr b="1" lang="en-US" sz="2000" spc="-1" strike="noStrike" u="sng">
                <a:solidFill>
                  <a:srgbClr val="ff5050"/>
                </a:solidFill>
                <a:uFillTx/>
                <a:latin typeface="Arial"/>
              </a:rPr>
              <a:t>приблизительно 74 000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В течение последующих лет ещё десятки тысяч умерли из-за последствий радиационного воздейств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4140360" y="3429000"/>
            <a:ext cx="467352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80960" y="313920"/>
            <a:ext cx="820584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Чернобыльская авар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1413000"/>
            <a:ext cx="550224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Разрушение </a:t>
            </a:r>
            <a:r>
              <a:rPr b="0" lang="en-US" sz="2000" spc="-1" strike="noStrike" u="sng">
                <a:solidFill>
                  <a:srgbClr val="ff5050"/>
                </a:solidFill>
                <a:uFillTx/>
                <a:latin typeface="Arial"/>
                <a:hlinkClick r:id="rId1"/>
              </a:rPr>
              <a:t>26 апреля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2000" spc="-1" strike="noStrike" u="sng">
                <a:solidFill>
                  <a:srgbClr val="ff5050"/>
                </a:solidFill>
                <a:uFillTx/>
                <a:latin typeface="Arial"/>
                <a:hlinkClick r:id="rId2"/>
              </a:rPr>
              <a:t>1986 года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четвёртого энергоблока ЧАЭС, расположенной на территории Украины. Разрушение носило взрывной характер, реактор был полностью разрушен, и в окружающую среду было выброшено большое количество радиоактивных веществ. Авария расценивается как крупнейшая в своём роде за всю историю ядерной энергетики, как по предполагаемому количеству погибших и пострадавших от её последствий людей, так и по экономическому ущерб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5975280" y="1752480"/>
            <a:ext cx="2743200" cy="44308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6019920" y="62485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664000" y="5943600"/>
            <a:ext cx="329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Четвёртый блок Чернобыльской АЭ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0T01:58:21Z</dcterms:created>
  <dc:creator>Customer</dc:creator>
  <dc:description/>
  <dc:language>en-US</dc:language>
  <cp:lastModifiedBy>Customer</cp:lastModifiedBy>
  <dcterms:modified xsi:type="dcterms:W3CDTF">2011-12-18T02:04:33Z</dcterms:modified>
  <cp:revision>11</cp:revision>
  <dc:subject/>
  <dc:title>Слайд 1</dc:title>
</cp:coreProperties>
</file>