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6F4-ACD8-44E9-BB6F-40969231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006-0F9A-4B09-97CF-584A8F2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2FD-3269-4382-B71F-E5DFD001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ABC-5A09-4001-8607-45C5D4E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DE3-9681-4B80-B229-483A4FF7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A5F1-FAF6-4167-9DD6-E545DF4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D4B-EC71-4CDB-91EA-8121D4E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2A9D-D108-47F3-A05A-351E485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4F9B-C80F-4740-82BF-1F711067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5441-AB96-487A-88D8-682E628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FBA9-17EA-487F-A60A-1682CC2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4A9-03B7-4A96-8F64-C6D32024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896-7164-4A4C-AF69-C8963BB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A53-F154-4DEE-8B1C-6FAB084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1CF8-6E7E-4922-AE74-183CE022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85F-6084-4AD5-AC5A-4120A335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68E-0D6C-4863-8343-730535EF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8490F-726B-431A-ADAC-907DEFD7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32553-EEF5-4DAC-9722-DACB2627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8EEF8-C34A-4F09-B222-1D8F27B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CE1DE-262D-4DE8-BD27-11A6D64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08662-5CE8-4378-974A-5BC50A79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C62-1FCE-4E5B-ACC2-351B570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EE0BD-B075-41CB-AFAD-EEAE575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9D42F-D939-4994-9D18-FC8A48E4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D110B-C11E-4564-8ECA-557D432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58A37-7DE8-4632-8489-D9D0345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F4B83-9415-4DD7-9763-7BCAE39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8006A-0E19-41F5-BC3E-8E3D15D3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F26A0-4D08-4F21-9191-0F6ED5F4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BDDED-D4BD-401D-A42A-BF6F10AB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6B879-B38D-4531-A0C7-210A294C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36D2F-BFFC-46AB-A61F-BD288EB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4B0-9ADE-46D9-8FCE-46F0D08E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22601-7F37-4311-A302-DC91C02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8E39D-4166-496A-A459-DD3B7C8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E90BB-C1E5-490F-9B57-8784E0E2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BE182-13ED-4810-953E-78527BF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7C1EC-6039-4521-88A5-2B6275F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8C3DA-7275-4680-A163-7539FC6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8720F-F91E-465C-A7CC-DE487A1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11A0D-D16A-4D72-9759-E4A03BB4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65897-684A-4B97-AD63-95C4FB13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1132C-0DB4-4D5F-8975-E658E228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C72-FE93-47C7-A8AA-2116601E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C059-D824-41C7-9DF3-738DEAC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04A12-804F-4A77-8C61-7D03199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3EF21-705F-4679-8C54-516F3EFE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44729-4F52-4B0A-BE23-9B162851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1F8E9-5CC5-439F-8FB7-C1A5C3D4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17029-4D57-4D41-8791-6110F23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1475B-DF70-40C7-8FF0-B36E138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281B0-30E2-498D-912C-F390669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88147-05C3-4B02-BF39-E5F608EA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6537A-D1A3-4E4E-9CEB-6D4B0A04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A47-047B-44A0-BA14-E5DC04C8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6D058-FFD9-460A-97C7-D9171AB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451B-73DC-4D59-8F53-0913C0BF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9FA6-4B6D-4108-877D-F827956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164C-F9FA-4163-BD26-08C29BFD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E73C-BF58-4F54-B6BC-A719976D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8840A-24D5-48B9-B962-A3FF7CD7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B0B7-635D-4934-91EC-731248DD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00352-7436-4DFF-A6F6-4C44689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BBCD-E3A7-42AB-9AE7-DCE1F531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F5A4-BE67-48F5-AD80-B599D1D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EB0-97A8-446A-8DF1-63CFC1C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0AAB-8C8A-4C79-9D18-E803CA3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07076-718F-4C1A-B7DB-F479E02B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C971D-4B6F-4384-80F7-BC7F463A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69B8A-BD6F-41A3-A4CE-8545E587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41955-EB4D-4D10-980D-9D1D9C9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32EC5-D614-46CE-A88E-4CB192C8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790F4-30C7-48F3-8540-9BB4907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3E7C8-9DC7-46EE-B7FC-CAD6393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579B8-66FB-4EAF-A5A8-FE87C0B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AF6C5-AE62-4649-8413-A16B431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DC-8F7E-4BF6-BB45-4EE06B1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4FEBE-72AD-4B92-A3FD-FE3B6B2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191E6-0EE3-4E4C-9D31-1B2D97FA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62BC7-788F-4A7D-AB68-8F91B29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7DA0B-571C-4A88-9B1F-925671B9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23166-F6A8-41F0-94BC-406FC1BD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FA380-EB19-4735-BD92-9385962F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63484-BEA3-49A9-BF7D-F3D08BEF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6ADA9-C964-4D84-9615-BD69B00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8803-2EDF-4B8F-8111-DA489962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460F0-AEC1-44AE-99F6-FF374D6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3ED-0461-47F1-90EE-946A74D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41234-4C5C-4DE7-90D7-B325020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6DB92-F947-4DF1-8B1D-B050B81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DF4F-DAB0-4A67-AC1D-E82131E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5C0D3-9D1A-48E3-B32D-8FFBEDB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59B9-47A9-4E3F-B457-093834F2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FC2A-AF29-4B0B-B081-181E7A24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E3955-AC60-4EF9-A6DA-8DFACD33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7F3-9571-4ED5-BFF0-CA8C464E37D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8DC-356C-4D6C-A495-6065E254DA4D}" type="slidenum">
              <a:rPr b="1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08D-AAD5-4BD9-B85D-5564D17CBF60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F31A-0470-4103-A01F-101957560DF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3186-936A-4576-9EA6-1FF6C134B7D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459-13D6-4F02-BA6E-0C8A6CC2F5AC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34E7-06AC-407B-82D7-EDF3DE1F2A6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C66B-28C0-4553-8BB9-D216063FCE4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989000"/>
            <a:ext cx="6337080" cy="1440000"/>
          </a:xfrm>
          <a:prstGeom prst="rect">
            <a:avLst/>
          </a:prstGeom>
          <a:solidFill>
            <a:srgbClr val="84aa33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НАТЮРМОРТ</a:t>
            </a:r>
            <a:endParaRPr b="0" lang="en-US" sz="8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solidFill>
            <a:srgbClr val="3891a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4 клас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5" descr="купчиха за чаем.jpg"/>
          <p:cNvPicPr/>
          <p:nvPr/>
        </p:nvPicPr>
        <p:blipFill>
          <a:blip r:embed="rId1"/>
          <a:stretch/>
        </p:blipFill>
        <p:spPr>
          <a:xfrm>
            <a:off x="420840" y="571680"/>
            <a:ext cx="5841720" cy="58575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8880" y="571320"/>
            <a:ext cx="2428920" cy="585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упчиха за чаем»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4" name="Скругленный прямоугольник 4"/>
          <p:cNvSpPr/>
          <p:nvPr/>
        </p:nvSpPr>
        <p:spPr>
          <a:xfrm>
            <a:off x="1214280" y="4286160"/>
            <a:ext cx="3714840" cy="2143080"/>
          </a:xfrm>
          <a:prstGeom prst="roundRect">
            <a:avLst>
              <a:gd name="adj" fmla="val 16667"/>
            </a:avLst>
          </a:prstGeom>
          <a:solidFill>
            <a:srgbClr val="3891a7">
              <a:alpha val="19000"/>
            </a:srgbClr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928840" y="571680"/>
            <a:ext cx="2786040" cy="528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Извозчик за чаем»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376" name="Picture 2" descr="D:\хранилище\учиться учиться лечиться\педпрактика\ПЯТЫЙ КУРС\изо\бра\извозчик за чаем.jpg"/>
          <p:cNvPicPr/>
          <p:nvPr/>
        </p:nvPicPr>
        <p:blipFill>
          <a:blip r:embed="rId1"/>
          <a:stretch/>
        </p:blipFill>
        <p:spPr>
          <a:xfrm>
            <a:off x="428760" y="142920"/>
            <a:ext cx="5110200" cy="6429240"/>
          </a:xfrm>
          <a:prstGeom prst="rect">
            <a:avLst/>
          </a:prstGeom>
          <a:ln w="0">
            <a:noFill/>
          </a:ln>
        </p:spPr>
      </p:pic>
      <p:sp>
        <p:nvSpPr>
          <p:cNvPr id="377" name="Скругленный прямоугольник 3"/>
          <p:cNvSpPr/>
          <p:nvPr/>
        </p:nvSpPr>
        <p:spPr>
          <a:xfrm>
            <a:off x="500040" y="2143080"/>
            <a:ext cx="2714760" cy="1857600"/>
          </a:xfrm>
          <a:prstGeom prst="roundRect">
            <a:avLst>
              <a:gd name="adj" fmla="val 16667"/>
            </a:avLst>
          </a:prstGeom>
          <a:solidFill>
            <a:srgbClr val="611617">
              <a:alpha val="19000"/>
            </a:srgbClr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Сравните картины: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3886200" cy="639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Извозчик за чае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6" descr="извозчик за чаем.jpg"/>
          <p:cNvPicPr/>
          <p:nvPr/>
        </p:nvPicPr>
        <p:blipFill>
          <a:blip r:embed="rId1"/>
          <a:stretch/>
        </p:blipFill>
        <p:spPr>
          <a:xfrm>
            <a:off x="571680" y="2438280"/>
            <a:ext cx="3403440" cy="4283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5840" y="1714320"/>
            <a:ext cx="3886200" cy="63972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упчиха за чае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Содержимое 7" descr="купчиха за чаем.jpg"/>
          <p:cNvPicPr/>
          <p:nvPr/>
        </p:nvPicPr>
        <p:blipFill>
          <a:blip r:embed="rId2"/>
          <a:stretch/>
        </p:blipFill>
        <p:spPr>
          <a:xfrm>
            <a:off x="4643280" y="2500200"/>
            <a:ext cx="4192920" cy="420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785880" y="428760"/>
            <a:ext cx="3429000" cy="520560"/>
          </a:xfrm>
          <a:prstGeom prst="rect">
            <a:avLst/>
          </a:prstGeom>
          <a:solidFill>
            <a:srgbClr val="c32d2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Грана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571680" y="428760"/>
            <a:ext cx="5286240" cy="520560"/>
          </a:xfrm>
          <a:prstGeom prst="rect">
            <a:avLst/>
          </a:prstGeom>
          <a:solidFill>
            <a:srgbClr val="feb80a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3e21"/>
                </a:solidFill>
                <a:latin typeface="Calibri"/>
              </a:rPr>
              <a:t>«Омар и фаза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5000760" y="857160"/>
            <a:ext cx="3809880" cy="5143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571680" y="857160"/>
            <a:ext cx="3647880" cy="492444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 стрелкой 3"/>
          <p:cNvCxnSpPr/>
          <p:nvPr/>
        </p:nvCxnSpPr>
        <p:spPr>
          <a:xfrm flipV="1">
            <a:off x="4285800" y="3573360"/>
            <a:ext cx="715320" cy="70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D:\хранилище\учиться учиться лечиться\педпрактика\ПЯТЫЙ КУРС\изо\бра\xsampl1.jpg"/>
          <p:cNvPicPr/>
          <p:nvPr/>
        </p:nvPicPr>
        <p:blipFill>
          <a:blip r:embed="rId1"/>
          <a:stretch/>
        </p:blipFill>
        <p:spPr>
          <a:xfrm>
            <a:off x="500040" y="857160"/>
            <a:ext cx="3809880" cy="5172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D:\хранилище\учиться учиться лечиться\педпрактика\ПЯТЫЙ КУРС\изо\бра\xsampl2.jpg"/>
          <p:cNvPicPr/>
          <p:nvPr/>
        </p:nvPicPr>
        <p:blipFill>
          <a:blip r:embed="rId2"/>
          <a:stretch/>
        </p:blipFill>
        <p:spPr>
          <a:xfrm>
            <a:off x="4929120" y="857160"/>
            <a:ext cx="3810240" cy="5172120"/>
          </a:xfrm>
          <a:prstGeom prst="rect">
            <a:avLst/>
          </a:prstGeom>
          <a:ln w="0">
            <a:noFill/>
          </a:ln>
        </p:spPr>
      </p:pic>
      <p:cxnSp>
        <p:nvCxnSpPr>
          <p:cNvPr id="390" name="Прямая со стрелкой 4"/>
          <p:cNvCxnSpPr/>
          <p:nvPr/>
        </p:nvCxnSpPr>
        <p:spPr>
          <a:xfrm>
            <a:off x="4309920" y="3443400"/>
            <a:ext cx="619920" cy="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урок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4aa33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25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му научилис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5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узнали нового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5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какими художниками познакомилис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5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ие произведения запомнились? Чем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dec9"/>
                </a:solidFill>
                <a:latin typeface="Calibri"/>
              </a:rPr>
              <a:t>СПАСИБО ЗА РАБОТУ!</a:t>
            </a:r>
            <a:endParaRPr b="0" lang="en-US" sz="4400" spc="-1" strike="noStrike">
              <a:solidFill>
                <a:srgbClr val="e7dec9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353" name="Содержимое 6" descr="Рисунок3.jpg"/>
          <p:cNvPicPr/>
          <p:nvPr/>
        </p:nvPicPr>
        <p:blipFill>
          <a:blip r:embed="rId1"/>
          <a:stretch/>
        </p:blipFill>
        <p:spPr>
          <a:xfrm>
            <a:off x="2857680" y="1643040"/>
            <a:ext cx="6075360" cy="3929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2286000" cy="4786200"/>
          </a:xfrm>
          <a:prstGeom prst="rect">
            <a:avLst/>
          </a:prstGeom>
          <a:solidFill>
            <a:srgbClr val="feb80a"/>
          </a:solidFill>
          <a:ln cap="sq" w="50760">
            <a:solidFill>
              <a:srgbClr val="feb80a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идишь на карт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грушу или тор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се предметы сразу,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2857680" y="5929200"/>
            <a:ext cx="6000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ер Клас, «Завтра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30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4aa33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Calibri"/>
              </a:rPr>
              <a:t>Натюрморт (фр. </a:t>
            </a:r>
            <a:r>
              <a:rPr b="1" i="1" lang="ru-RU" sz="2800" spc="-1" strike="noStrike">
                <a:solidFill>
                  <a:srgbClr val="922223"/>
                </a:solidFill>
                <a:latin typeface="Calibri"/>
              </a:rPr>
              <a:t>nature morte</a:t>
            </a:r>
            <a:r>
              <a:rPr b="1" lang="ru-RU" sz="2800" spc="-1" strike="noStrike">
                <a:solidFill>
                  <a:srgbClr val="922223"/>
                </a:solidFill>
                <a:latin typeface="Calibri"/>
              </a:rPr>
              <a:t> — «мёртвая природа») </a:t>
            </a:r>
            <a:r>
              <a:rPr b="1" lang="ru-RU" sz="2800" spc="-1" strike="noStrike">
                <a:solidFill>
                  <a:srgbClr val="4f271c"/>
                </a:solidFill>
                <a:latin typeface="Calibri"/>
              </a:rPr>
              <a:t>— изображение </a:t>
            </a:r>
            <a:r>
              <a:rPr b="1" i="1" lang="ru-RU" sz="2800" spc="-1" strike="noStrike">
                <a:solidFill>
                  <a:srgbClr val="4f271c"/>
                </a:solidFill>
                <a:latin typeface="Calibri"/>
              </a:rPr>
              <a:t>неодушевлённых </a:t>
            </a:r>
            <a:r>
              <a:rPr b="1" lang="ru-RU" sz="2800" spc="-1" strike="noStrike">
                <a:solidFill>
                  <a:srgbClr val="4f271c"/>
                </a:solidFill>
                <a:latin typeface="Calibri"/>
              </a:rPr>
              <a:t>предметов в изобразительном искусст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solidFill>
            <a:srgbClr val="3891a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тюрморт  с большой цветочной вазо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нуар Пьер Огюст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360" name="Рисунок 6" descr="Ренуар Пьер Огюст.jpg"/>
          <p:cNvPicPr/>
          <p:nvPr/>
        </p:nvPicPr>
        <p:blipFill>
          <a:blip r:embed="rId1"/>
          <a:srcRect l="0" t="27272" r="0" b="27272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тюрморт с кувшином и фрукт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ильям Кальф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363" name="Рисунок 4" descr="28241161_1214943473_Villem_Kalf_Natyurmort_s_kuvshinom_i_fruktami_okolo_1650_Amsterdam_Gosudarstvennuyy_muzey.jpg"/>
          <p:cNvPicPr/>
          <p:nvPr/>
        </p:nvPicPr>
        <p:blipFill>
          <a:blip r:embed="rId1"/>
          <a:srcRect l="0" t="25306" r="0" b="25306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ль Сезан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366" name="Рисунок 4" descr="поль сезан.jpg"/>
          <p:cNvPicPr/>
          <p:nvPr/>
        </p:nvPicPr>
        <p:blipFill>
          <a:blip r:embed="rId1"/>
          <a:srcRect l="0" t="8736" r="0" b="8736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alibri"/>
              </a:rPr>
              <a:t>Художник солнца и св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орис Михайлович Кустодиев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Борис Михайлович Кустодиев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00360" y="1999800"/>
            <a:ext cx="4143240" cy="4000680"/>
          </a:xfrm>
          <a:prstGeom prst="rect">
            <a:avLst/>
          </a:prstGeom>
          <a:solidFill>
            <a:srgbClr val="feb80a"/>
          </a:solidFill>
          <a:ln cap="sq" w="50760">
            <a:solidFill>
              <a:srgbClr val="feb80a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878-19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водит «сочно» написанный натюрмор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Содержимое 4" descr="1194510839_tonnel.gif"/>
          <p:cNvPicPr/>
          <p:nvPr/>
        </p:nvPicPr>
        <p:blipFill>
          <a:blip r:embed="rId1"/>
          <a:stretch/>
        </p:blipFill>
        <p:spPr>
          <a:xfrm>
            <a:off x="785880" y="2071800"/>
            <a:ext cx="2857320" cy="39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жугет</cp:lastModifiedBy>
  <dcterms:modified xsi:type="dcterms:W3CDTF">2011-09-05T08:56:49Z</dcterms:modified>
  <cp:revision>5</cp:revision>
  <dc:subject/>
  <dc:title>Натюрморт</dc:title>
</cp:coreProperties>
</file>