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2C2-46DC-4430-AB25-B52147A7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0494-B75D-44CC-A296-C024C8C0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5029-1E3C-4C7F-B54B-64E79D3A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E322-AD80-4D6B-A8D5-5622B48B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103E-1750-4FD2-81EF-E25F488F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52A5-C84E-437D-A2E7-2F2D0314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9B7-CBAE-4371-AFA3-42B0381A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E9DD-DE6F-4EC1-BC6E-FA69AC73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6DEC-24E9-41D8-88D0-B02C48E9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66FB-E7CA-4F8C-9677-29A4E405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C84B-02C3-443D-BD6D-3106B3FC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C956-E804-4363-A78F-33211BBB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8507-97CA-4C8D-BE42-3BF953AE00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920" y="3786120"/>
            <a:ext cx="8786880" cy="27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cademy"/>
              </a:rPr>
              <a:t>Основоположники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Academy"/>
              </a:rPr>
              <a:t>физи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857240" y="57168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гимназия №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214280" y="607212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 Ионова Екатерина, ученица 11 «Б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5" descr="Изображение1.jpg"/>
          <p:cNvPicPr/>
          <p:nvPr/>
        </p:nvPicPr>
        <p:blipFill>
          <a:blip r:embed="rId1"/>
          <a:stretch/>
        </p:blipFill>
        <p:spPr>
          <a:xfrm>
            <a:off x="2928960" y="1000080"/>
            <a:ext cx="3809880" cy="3060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785880" y="4357800"/>
            <a:ext cx="7715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cademy"/>
              </a:rPr>
              <a:t>В сочинениях одного из древнегреческих ученых, </a:t>
            </a:r>
            <a:r>
              <a:rPr b="1" lang="ru-RU" sz="2000" spc="-1" strike="noStrike">
                <a:solidFill>
                  <a:srgbClr val="ffffff"/>
                </a:solidFill>
                <a:latin typeface="Academy"/>
              </a:rPr>
              <a:t>Аристотеля</a:t>
            </a:r>
            <a:r>
              <a:rPr b="0" lang="ru-RU" sz="2000" spc="-1" strike="noStrike">
                <a:solidFill>
                  <a:srgbClr val="ffffff"/>
                </a:solidFill>
                <a:latin typeface="Academy"/>
              </a:rPr>
              <a:t>, впервые и появилось слово "</a:t>
            </a:r>
            <a:r>
              <a:rPr b="0" i="1" lang="ru-RU" sz="2000" spc="-1" strike="noStrike">
                <a:solidFill>
                  <a:srgbClr val="ffffff"/>
                </a:solidFill>
                <a:latin typeface="Academy"/>
              </a:rPr>
              <a:t>физика</a:t>
            </a:r>
            <a:r>
              <a:rPr b="0" lang="ru-RU" sz="2000" spc="-1" strike="noStrike">
                <a:solidFill>
                  <a:srgbClr val="ffffff"/>
                </a:solidFill>
                <a:latin typeface="Academy"/>
              </a:rPr>
              <a:t>" (от греч. " </a:t>
            </a:r>
            <a:r>
              <a:rPr b="0" i="1" lang="ru-RU" sz="2000" spc="-1" strike="noStrike">
                <a:solidFill>
                  <a:srgbClr val="ffffff"/>
                </a:solidFill>
                <a:latin typeface="Academy"/>
              </a:rPr>
              <a:t>physis</a:t>
            </a:r>
            <a:r>
              <a:rPr b="0" lang="ru-RU" sz="2000" spc="-1" strike="noStrike">
                <a:solidFill>
                  <a:srgbClr val="ffffff"/>
                </a:solidFill>
                <a:latin typeface="Academy"/>
              </a:rPr>
              <a:t>" – природ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cademy"/>
              </a:rPr>
              <a:t>В русский язык это слово ввел в XVIII веке </a:t>
            </a:r>
            <a:r>
              <a:rPr b="1" lang="ru-RU" sz="2000" spc="-1" strike="noStrike">
                <a:solidFill>
                  <a:srgbClr val="ffffff"/>
                </a:solidFill>
                <a:latin typeface="Academy"/>
              </a:rPr>
              <a:t>Михаил Васильевич Ломоносов</a:t>
            </a:r>
            <a:r>
              <a:rPr b="0" lang="ru-RU" sz="2000" spc="-1" strike="noStrike">
                <a:solidFill>
                  <a:srgbClr val="ffffff"/>
                </a:solidFill>
                <a:latin typeface="Academy"/>
              </a:rPr>
              <a:t>, когда в переводе с немецкого он издал первый учебник физ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4572000" y="1143000"/>
            <a:ext cx="3571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cademy"/>
              </a:rPr>
              <a:t>Физика зародилась очень давно. Еще до нашей эры ученые Древней Греции пытались объяснить наблюдаемые явления природы – восход  и заход Солнца и звезд, плавание мелких предметов и кораблей и многое друг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Изображение2.jpg"/>
          <p:cNvPicPr/>
          <p:nvPr/>
        </p:nvPicPr>
        <p:blipFill>
          <a:blip r:embed="rId1"/>
          <a:stretch/>
        </p:blipFill>
        <p:spPr>
          <a:xfrm>
            <a:off x="571680" y="1000080"/>
            <a:ext cx="3809880" cy="318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cademy"/>
              </a:rPr>
              <a:t>Аристот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3786120" y="1785960"/>
            <a:ext cx="4572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cademy"/>
                <a:ea typeface="Times New Roman"/>
              </a:rPr>
              <a:t>Физические трактат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cademy"/>
                <a:ea typeface="Times New Roman"/>
              </a:rPr>
              <a:t>"Физика"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cademy"/>
                <a:ea typeface="Times New Roman"/>
              </a:rPr>
              <a:t>"О  происхождении и уничтожении"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cademy"/>
                <a:ea typeface="Times New Roman"/>
              </a:rPr>
              <a:t>"О  небе"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cademy"/>
                <a:ea typeface="Times New Roman"/>
              </a:rPr>
              <a:t>"О  метеорологических вопросах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616680" y="564372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cademy"/>
              </a:rPr>
              <a:t>Платон и Аристо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0"/>
          <p:cNvSpPr/>
          <p:nvPr/>
        </p:nvSpPr>
        <p:spPr>
          <a:xfrm>
            <a:off x="3571920" y="3286080"/>
            <a:ext cx="52862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cademy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cademy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cademy"/>
                <a:ea typeface="Times New Roman"/>
              </a:rPr>
              <a:t>Аристотель впервые ввел слово "Физика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cademy"/>
                <a:ea typeface="Times New Roman"/>
              </a:rPr>
              <a:t>Его физика отражала не столько научные знания или законы,  поскольку  они еще не были открыты, а скорее представление Аристотеля об окружающем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cademy"/>
                <a:ea typeface="Times New Roman"/>
              </a:rPr>
              <a:t>Однако именно благодаря ему физика получила такое широкое распростра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8" descr="Изображение3.jpg"/>
          <p:cNvPicPr/>
          <p:nvPr/>
        </p:nvPicPr>
        <p:blipFill>
          <a:blip r:embed="rId1"/>
          <a:stretch/>
        </p:blipFill>
        <p:spPr>
          <a:xfrm>
            <a:off x="214200" y="1285920"/>
            <a:ext cx="3360960" cy="42670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9" descr="Изображение4.jpg"/>
          <p:cNvPicPr/>
          <p:nvPr/>
        </p:nvPicPr>
        <p:blipFill>
          <a:blip r:embed="rId2"/>
          <a:stretch/>
        </p:blipFill>
        <p:spPr>
          <a:xfrm>
            <a:off x="7143840" y="142920"/>
            <a:ext cx="1639800" cy="2071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cademy"/>
              </a:rPr>
              <a:t>Михаил Ломонос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14200" y="852480"/>
            <a:ext cx="464364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cademy"/>
                <a:ea typeface="Times New Roman"/>
              </a:rPr>
              <a:t>Первый русский учёный-естествоиспытатель мирового значения, человек энциклопедических знаний, разносторонних интересов и способностей, один из основоположников физической химии, поэт, заложивший основы современного русского литературного языка, художник, историк, поборник отечественного просвещения и развития самостоятельной русской на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9" descr="Изображение5.jpg"/>
          <p:cNvPicPr/>
          <p:nvPr/>
        </p:nvPicPr>
        <p:blipFill>
          <a:blip r:embed="rId1"/>
          <a:stretch/>
        </p:blipFill>
        <p:spPr>
          <a:xfrm>
            <a:off x="4929120" y="1285920"/>
            <a:ext cx="3810240" cy="5054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cademy"/>
              </a:rPr>
              <a:t>Михаил Ломонос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4572000" y="1500120"/>
            <a:ext cx="407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cademy"/>
                <a:ea typeface="Times New Roman"/>
              </a:rPr>
              <a:t>В 1755 году по его проекту был организован Московский университет, носящий ныне имя Ломонос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4572000" y="3357720"/>
            <a:ext cx="4000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cademy"/>
                <a:ea typeface="Times New Roman"/>
              </a:rPr>
              <a:t>Именем Ломоносова названы город  в Ленинградской области, течение в Атлантическом океане, горный хребет на Новой Земле, подводный хребет в Северном Ледовитом океане, возвышенность на острове Западный Шпицберг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6" descr="Изображение11.jpg"/>
          <p:cNvPicPr/>
          <p:nvPr/>
        </p:nvPicPr>
        <p:blipFill>
          <a:blip r:embed="rId1"/>
          <a:stretch/>
        </p:blipFill>
        <p:spPr>
          <a:xfrm>
            <a:off x="428760" y="1428840"/>
            <a:ext cx="3809880" cy="48258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Изображение6.jpg"/>
          <p:cNvPicPr/>
          <p:nvPr/>
        </p:nvPicPr>
        <p:blipFill>
          <a:blip r:embed="rId2"/>
          <a:stretch/>
        </p:blipFill>
        <p:spPr>
          <a:xfrm>
            <a:off x="428760" y="1357200"/>
            <a:ext cx="3809880" cy="5004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cademy"/>
              </a:rPr>
              <a:t>Михаил Ломонос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4071960" y="862200"/>
            <a:ext cx="4714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cademy"/>
                <a:ea typeface="Times New Roman"/>
              </a:rPr>
              <a:t>Ломоносова интересовали также астрономия и геофиз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cademy"/>
                <a:ea typeface="Times New Roman"/>
              </a:rPr>
              <a:t>26 мая 1761 года во время прохождения Венеры по диску Солнца Ломоносов открыл существование у неё атмосферы, впервые правильно истолковав размытие солнечного края при двукратном прохождении Венеры через край диска Солн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428760" y="521496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cademy"/>
                <a:ea typeface="Times New Roman"/>
              </a:rPr>
              <a:t>С помощью разработанной им конструкции маятника, позволявшей обнаруживать крайне малые изменения направления и амплитуды его качаний, Ломоносов осуществил длительные исследования земного тягот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8" descr="Изображение7.jpg"/>
          <p:cNvPicPr/>
          <p:nvPr/>
        </p:nvPicPr>
        <p:blipFill>
          <a:blip r:embed="rId1"/>
          <a:stretch/>
        </p:blipFill>
        <p:spPr>
          <a:xfrm>
            <a:off x="635040" y="1214280"/>
            <a:ext cx="3294000" cy="3195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9" descr="Изображение8.jpg"/>
          <p:cNvPicPr/>
          <p:nvPr/>
        </p:nvPicPr>
        <p:blipFill>
          <a:blip r:embed="rId2"/>
          <a:stretch/>
        </p:blipFill>
        <p:spPr>
          <a:xfrm>
            <a:off x="571680" y="1143000"/>
            <a:ext cx="3381120" cy="3787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51:09Z</dcterms:created>
  <dc:creator>Я</dc:creator>
  <dc:description/>
  <dc:language>en-US</dc:language>
  <cp:lastModifiedBy>semia</cp:lastModifiedBy>
  <dcterms:modified xsi:type="dcterms:W3CDTF">2009-01-05T18:03:12Z</dcterms:modified>
  <cp:revision>58</cp:revision>
  <dc:subject/>
  <dc:title>Основоположники физики</dc:title>
</cp:coreProperties>
</file>