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23.gif" ContentType="image/gif"/>
  <Override PartName="/ppt/media/image15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6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0.jpeg" ContentType="image/jpeg"/>
  <Override PartName="/ppt/media/image13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6.jpeg" ContentType="image/jpeg"/>
  <Override PartName="/ppt/media/image45.jpeg" ContentType="image/jpeg"/>
  <Override PartName="/ppt/media/image46.png" ContentType="image/pn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3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4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9BD5-4D49-49F6-AE4B-4D83A554A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979B-E298-454B-B4BB-F720432829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2A3-3B1A-4514-A71F-76BE4B43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82B-596C-4612-97C3-69F24F69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A72-C2CE-4599-BF4A-080A1AB9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897-6E73-42DF-923C-0E38FE4B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4B1B-2138-4043-B204-9D527C8F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E459-CFB0-4E9A-AFF3-48133A53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B652-FA71-4E88-A3E5-E47A9D10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511C-3149-4A6B-9026-8B2E1B8B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50E9-B781-4520-A5B7-577C443C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599A-7370-42FC-B5BF-182EA4C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883F-DE82-46ED-919A-86FB880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237-E537-487D-AB59-9521CB54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7149-75E4-41FA-80EC-9675723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F79A-475D-4F9B-B1A9-04A06E1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A9E5-EEC5-496E-BE39-3B3EDC9B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325E-0295-42D5-8BA8-F404F50D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A88D-FD94-4276-8596-57FC5EE2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D914-FDB6-4973-B6C8-1FCDB755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CD9A1-E5F7-46AB-8A18-34C4634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21E3-21E4-4208-A41C-00FE24B0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D3B4-925A-4C61-8AC1-8B295EDC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2258-598E-4EA8-81A5-3015DBAB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EFB-71B5-41CB-8B87-F75B4F50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DECEA-9E32-4D0D-93AF-AF030619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A7A5-BB63-4DB2-99B8-A286CAB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C5AB-49FF-4CF9-81A7-D8A7C31D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0776-999B-4B5B-9512-67B23D70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A2DA-4FC0-42B0-90A1-B530FB1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4CF4-CC60-47B2-8E9F-DD9225E8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1B6E-E237-4470-9579-F1C61EDA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1EAA-E86C-4562-BF77-AA674EE7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D71E-8B6C-4B72-8C3C-1561B46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DEC8-6E36-46B9-B9CC-F60FCDF7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635-AB86-40A7-BE85-357F2E7C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95D75-EE51-4760-82D7-FEC06AA6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8860-D45D-4D06-A3B1-3574E98E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02D5-E1CE-4F79-AA45-30D70734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439C3-6FBF-40B8-BFA5-9972451A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E852-923B-443E-8F40-A30E1FBB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B0B5-C6C3-4503-8BF8-243ABE41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A65C-DE1E-4876-ABB1-AB16F310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79CA-3E13-460E-A06E-14C0A8D1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F6D20-632E-4C3B-A0FE-8B69F793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45C-70D2-4027-8B65-E937A0A7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13D-9076-4691-A293-C6BA460A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49C-6A6F-4324-BA65-B4ED87A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2C8-8956-4BE3-8DFB-D623D474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B89-D7E6-46B4-BC4A-6913187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13C2-C0D4-4E3E-B58C-D241A22EBB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2BF0-EC12-4941-A52D-D58CEBA9ADB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E021-8670-4064-9681-B797579758F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C026-33C9-4077-84CD-9A2615FF63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hyperlink" Target="http://fotki.yandex.ru/users/evelinalina/view/111347/?page=2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fotki.yandex.ru/users/evelinalina/view/111346/?page=2" TargetMode="Externa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D:\Desktop\i[3].jpg"/>
          <p:cNvPicPr/>
          <p:nvPr/>
        </p:nvPicPr>
        <p:blipFill>
          <a:blip r:embed="rId1"/>
          <a:stretch/>
        </p:blipFill>
        <p:spPr>
          <a:xfrm>
            <a:off x="-900000" y="119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643040" y="357120"/>
            <a:ext cx="5572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поседа  ________ 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тица ______________ 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тица ___________ 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ая __________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2643120" y="2714760"/>
            <a:ext cx="32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ёстр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иннохвостая, говорлив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олтли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5429160" y="5429160"/>
            <a:ext cx="2500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76a3"/>
                </a:solidFill>
                <a:latin typeface="Constantia"/>
              </a:rPr>
              <a:t>сорок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3362760" y="35712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пёст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6"/>
          <p:cNvSpPr/>
          <p:nvPr/>
        </p:nvSpPr>
        <p:spPr>
          <a:xfrm>
            <a:off x="2734920" y="7858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длиннохво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2747880" y="12142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говор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8"/>
          <p:cNvSpPr/>
          <p:nvPr/>
        </p:nvSpPr>
        <p:spPr>
          <a:xfrm>
            <a:off x="2751480" y="164304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бол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2" descr="Сорока в полёте"/>
          <p:cNvPicPr/>
          <p:nvPr/>
        </p:nvPicPr>
        <p:blipFill>
          <a:blip r:embed="rId1"/>
          <a:stretch/>
        </p:blipFill>
        <p:spPr>
          <a:xfrm>
            <a:off x="1785960" y="2286000"/>
            <a:ext cx="3214800" cy="41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24000" y="189000"/>
            <a:ext cx="705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ока   -  с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ро-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79280" y="119700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ксическ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а с белыми перьями на крыльях, издающая ха­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ктерный крик — стреко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сорока воровка"/>
          <p:cNvPicPr/>
          <p:nvPr/>
        </p:nvPicPr>
        <p:blipFill>
          <a:blip r:embed="rId1"/>
          <a:stretch/>
        </p:blipFill>
        <p:spPr>
          <a:xfrm>
            <a:off x="684360" y="3213000"/>
            <a:ext cx="4032000" cy="324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голубая сорока"/>
          <p:cNvPicPr/>
          <p:nvPr/>
        </p:nvPicPr>
        <p:blipFill>
          <a:blip r:embed="rId2"/>
          <a:stretch/>
        </p:blipFill>
        <p:spPr>
          <a:xfrm>
            <a:off x="5003640" y="3213000"/>
            <a:ext cx="3600720" cy="32641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0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643040" y="357120"/>
            <a:ext cx="5572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поседа                  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тица                              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тица                       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ая                     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5429160" y="5429160"/>
            <a:ext cx="2500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55a839"/>
                </a:solidFill>
                <a:latin typeface="Constantia"/>
              </a:rPr>
              <a:t>сорок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3362760" y="35712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пёст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2713680" y="7858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длиннохво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2747880" y="12142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говор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2751480" y="164304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бол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Сорока в полёте"/>
          <p:cNvPicPr/>
          <p:nvPr/>
        </p:nvPicPr>
        <p:blipFill>
          <a:blip r:embed="rId1"/>
          <a:stretch/>
        </p:blipFill>
        <p:spPr>
          <a:xfrm>
            <a:off x="1785960" y="2286000"/>
            <a:ext cx="3214800" cy="41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a0e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1" descr="http://upload.wikimedia.org/wikipedia/commons/6/6c/Whistlingkite.jpg"/>
          <p:cNvPicPr/>
          <p:nvPr/>
        </p:nvPicPr>
        <p:blipFill>
          <a:blip r:embed="rId1"/>
          <a:stretch/>
        </p:blipFill>
        <p:spPr>
          <a:xfrm>
            <a:off x="7572240" y="42876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260" name="06 Дорожка 6.wma" descr=""/>
          <p:cNvPicPr/>
          <p:nvPr/>
        </p:nvPicPr>
        <p:blipFill>
          <a:blip r:embed="rId2"/>
          <a:stretch/>
        </p:blipFill>
        <p:spPr>
          <a:xfrm>
            <a:off x="774072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-0.79392 0.08936 E">
                                      <p:cBhvr>
                                        <p:cTn id="196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392 0.08936 L 0.00139 0.20487 E">
                                      <p:cBhvr>
                                        <p:cTn id="199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20487 L -0.79392 0.27848 E">
                                      <p:cBhvr>
                                        <p:cTn id="202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392 0.27848 L 0.00938 0.48843 E">
                                      <p:cBhvr>
                                        <p:cTn id="205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8 0.48843 L -0.78611 0.55139 E">
                                      <p:cBhvr>
                                        <p:cTn id="208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611 0.55139 L 0.025 0.72987 E">
                                      <p:cBhvr>
                                        <p:cTn id="211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274453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a0e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" descr="http://upload.wikimedia.org/wikipedia/commons/6/6c/Whistlingkite.jpg"/>
          <p:cNvPicPr/>
          <p:nvPr/>
        </p:nvPicPr>
        <p:blipFill>
          <a:blip r:embed="rId1"/>
          <a:stretch/>
        </p:blipFill>
        <p:spPr>
          <a:xfrm>
            <a:off x="7572240" y="42876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263" name="06 Дорожка 6.wma" descr=""/>
          <p:cNvPicPr/>
          <p:nvPr/>
        </p:nvPicPr>
        <p:blipFill>
          <a:blip r:embed="rId2"/>
          <a:stretch/>
        </p:blipFill>
        <p:spPr>
          <a:xfrm>
            <a:off x="774072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-0.79392 0.08936 E">
                                      <p:cBhvr>
                                        <p:cTn id="220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392 0.08936 L 0.00139 0.20487 E">
                                      <p:cBhvr>
                                        <p:cTn id="223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20487 L -0.79392 0.27848 E">
                                      <p:cBhvr>
                                        <p:cTn id="226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392 0.27848 L 0.00938 0.48843 E">
                                      <p:cBhvr>
                                        <p:cTn id="229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8 0.48843 L -0.78611 0.55139 E">
                                      <p:cBhvr>
                                        <p:cTn id="232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611 0.55139 L 0.025 0.72987 E">
                                      <p:cBhvr>
                                        <p:cTn id="235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274453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a0e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1" descr="http://upload.wikimedia.org/wikipedia/commons/6/6c/Whistlingkite.jpg"/>
          <p:cNvPicPr/>
          <p:nvPr/>
        </p:nvPicPr>
        <p:blipFill>
          <a:blip r:embed="rId1"/>
          <a:stretch/>
        </p:blipFill>
        <p:spPr>
          <a:xfrm>
            <a:off x="7572240" y="42876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266" name="06 Дорожка 6.wma" descr=""/>
          <p:cNvPicPr/>
          <p:nvPr/>
        </p:nvPicPr>
        <p:blipFill>
          <a:blip r:embed="rId2"/>
          <a:stretch/>
        </p:blipFill>
        <p:spPr>
          <a:xfrm>
            <a:off x="774072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-0.79392 0.08936 E">
                                      <p:cBhvr>
                                        <p:cTn id="244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392 0.08936 L 0.00139 0.20487 E">
                                      <p:cBhvr>
                                        <p:cTn id="247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20487 L -0.79392 0.27848 E">
                                      <p:cBhvr>
                                        <p:cTn id="250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392 0.27848 L 0.00938 0.48843 E">
                                      <p:cBhvr>
                                        <p:cTn id="253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8 0.48843 L -0.78611 0.55139 E">
                                      <p:cBhvr>
                                        <p:cTn id="256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611 0.55139 L 0.025 0.72987 E">
                                      <p:cBhvr>
                                        <p:cTn id="259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7445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D:\Desktop\0_64da4_5260d31b_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5" descr=""/>
          <p:cNvPicPr/>
          <p:nvPr/>
        </p:nvPicPr>
        <p:blipFill>
          <a:blip r:embed="rId1"/>
          <a:stretch/>
        </p:blipFill>
        <p:spPr>
          <a:xfrm>
            <a:off x="974880" y="42840"/>
            <a:ext cx="7053120" cy="110340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6" descr=""/>
          <p:cNvPicPr/>
          <p:nvPr/>
        </p:nvPicPr>
        <p:blipFill>
          <a:blip r:embed="rId2"/>
          <a:stretch/>
        </p:blipFill>
        <p:spPr>
          <a:xfrm>
            <a:off x="-30240" y="1828800"/>
            <a:ext cx="9455400" cy="193212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7" descr=""/>
          <p:cNvPicPr/>
          <p:nvPr/>
        </p:nvPicPr>
        <p:blipFill>
          <a:blip r:embed="rId3"/>
          <a:stretch/>
        </p:blipFill>
        <p:spPr>
          <a:xfrm>
            <a:off x="-73080" y="1828800"/>
            <a:ext cx="8882280" cy="19321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8" descr="http://img-fotki.yandex.ru/get/3206/evelinalina.b/0_1b2f2_7fd49b6b_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040" y="378612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9" descr="http://img-fotki.yandex.ru/get/2708/evelinalina.b/0_1b1c1_8e0fe1fd_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4960" y="3714840"/>
            <a:ext cx="32385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D:\Desktop\0_4c077_ecff982a_L[1].jpg"/>
          <p:cNvPicPr/>
          <p:nvPr/>
        </p:nvPicPr>
        <p:blipFill>
          <a:blip r:embed="rId1"/>
          <a:stretch/>
        </p:blipFill>
        <p:spPr>
          <a:xfrm>
            <a:off x="108000" y="1125360"/>
            <a:ext cx="4319640" cy="496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D:\Desktop\0_38ef0_def0860b_L[1].jpg"/>
          <p:cNvPicPr/>
          <p:nvPr/>
        </p:nvPicPr>
        <p:blipFill>
          <a:blip r:embed="rId2"/>
          <a:stretch/>
        </p:blipFill>
        <p:spPr>
          <a:xfrm>
            <a:off x="5003640" y="1125360"/>
            <a:ext cx="4140360" cy="4932720"/>
          </a:xfrm>
          <a:prstGeom prst="rect">
            <a:avLst/>
          </a:prstGeom>
          <a:ln w="0">
            <a:noFill/>
          </a:ln>
        </p:spPr>
      </p:pic>
      <p:pic>
        <p:nvPicPr>
          <p:cNvPr id="275" name="Заголовок 8" descr=""/>
          <p:cNvPicPr/>
          <p:nvPr/>
        </p:nvPicPr>
        <p:blipFill>
          <a:blip r:embed="rId3"/>
          <a:stretch/>
        </p:blipFill>
        <p:spPr>
          <a:xfrm>
            <a:off x="73080" y="-42840"/>
            <a:ext cx="8699400" cy="9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D:\Desktop\0_3d903_5355ebe2_L[1].jpg"/>
          <p:cNvPicPr/>
          <p:nvPr/>
        </p:nvPicPr>
        <p:blipFill>
          <a:blip r:embed="rId1"/>
          <a:stretch/>
        </p:blipFill>
        <p:spPr>
          <a:xfrm>
            <a:off x="0" y="1484280"/>
            <a:ext cx="4788000" cy="5113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D:\Desktop\0_3b7e0_8b0629a6_L[1].jpg"/>
          <p:cNvPicPr/>
          <p:nvPr/>
        </p:nvPicPr>
        <p:blipFill>
          <a:blip r:embed="rId2"/>
          <a:stretch/>
        </p:blipFill>
        <p:spPr>
          <a:xfrm>
            <a:off x="5003640" y="1531800"/>
            <a:ext cx="4140360" cy="506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:\Desktop\0_6728b_968ac12e_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D:\Desktop\0_3d7d0_6c27499_L[1].jpg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5327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D:\Desktop\0_53e99_16a8607f_L[1].jpg"/>
          <p:cNvPicPr/>
          <p:nvPr/>
        </p:nvPicPr>
        <p:blipFill>
          <a:blip r:embed="rId2"/>
          <a:stretch/>
        </p:blipFill>
        <p:spPr>
          <a:xfrm>
            <a:off x="5148360" y="981000"/>
            <a:ext cx="3816360" cy="538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D:\Desktop\0_5216b_392a8096_-1-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971640" y="189000"/>
            <a:ext cx="691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-обозначает </a:t>
            </a:r>
            <a:r>
              <a:rPr b="1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признак</a:t>
            </a:r>
            <a:r>
              <a:rPr b="0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-отвечает на вопросы </a:t>
            </a:r>
            <a:r>
              <a:rPr b="1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какая?, какой?, какое?,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-подчёркиваем </a:t>
            </a:r>
            <a:r>
              <a:rPr b="1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волнистой  </a:t>
            </a:r>
            <a:r>
              <a:rPr b="0" lang="ru-RU" sz="2800" spc="-1" strike="noStrike">
                <a:solidFill>
                  <a:srgbClr val="0b5395"/>
                </a:solidFill>
                <a:latin typeface="Arial"/>
                <a:ea typeface="Times New Roman"/>
              </a:rPr>
              <a:t>ли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D:\Desktop\0_607bc_58f4e0b0_L[1]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95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895400"/>
            <a:ext cx="8290080" cy="359748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5" descr=""/>
          <p:cNvPicPr/>
          <p:nvPr/>
        </p:nvPicPr>
        <p:blipFill>
          <a:blip r:embed="rId2"/>
          <a:stretch/>
        </p:blipFill>
        <p:spPr>
          <a:xfrm>
            <a:off x="907920" y="182520"/>
            <a:ext cx="7248600" cy="1103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Моё настрое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2340000" y="1989000"/>
            <a:ext cx="4105080" cy="39610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3419640" y="2997360"/>
            <a:ext cx="502920" cy="5029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2"/>
          <p:cNvSpPr/>
          <p:nvPr/>
        </p:nvSpPr>
        <p:spPr>
          <a:xfrm>
            <a:off x="4788000" y="2997360"/>
            <a:ext cx="504720" cy="5029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3"/>
          <p:cNvSpPr/>
          <p:nvPr/>
        </p:nvSpPr>
        <p:spPr>
          <a:xfrm rot="16200000">
            <a:off x="3963240" y="3826800"/>
            <a:ext cx="861840" cy="19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60" y="1349"/>
                  <a:pt x="7520" y="5080"/>
                  <a:pt x="7520" y="10800"/>
                </a:cubicBezTo>
                <a:cubicBezTo>
                  <a:pt x="7520" y="16520"/>
                  <a:pt x="14560" y="2025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4"/>
          <p:cNvSpPr/>
          <p:nvPr/>
        </p:nvSpPr>
        <p:spPr>
          <a:xfrm>
            <a:off x="4211640" y="4005360"/>
            <a:ext cx="360360" cy="287280"/>
          </a:xfrm>
          <a:custGeom>
            <a:avLst/>
            <a:gdLst>
              <a:gd name="textAreaLeft" fmla="*/ 83880 w 360360"/>
              <a:gd name="textAreaRight" fmla="*/ 276480 w 360360"/>
              <a:gd name="textAreaTop" fmla="*/ 30240 h 287280"/>
              <a:gd name="textAreaBottom" fmla="*/ 181800 h 28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2" descr=""/>
          <p:cNvPicPr/>
          <p:nvPr/>
        </p:nvPicPr>
        <p:blipFill>
          <a:blip r:embed="rId1"/>
          <a:stretch/>
        </p:blipFill>
        <p:spPr>
          <a:xfrm>
            <a:off x="60480" y="3456000"/>
            <a:ext cx="2573280" cy="8301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4" descr=""/>
          <p:cNvPicPr/>
          <p:nvPr/>
        </p:nvPicPr>
        <p:blipFill>
          <a:blip r:embed="rId2"/>
          <a:stretch/>
        </p:blipFill>
        <p:spPr>
          <a:xfrm>
            <a:off x="2212920" y="3456000"/>
            <a:ext cx="2451240" cy="83016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6" descr=""/>
          <p:cNvPicPr/>
          <p:nvPr/>
        </p:nvPicPr>
        <p:blipFill>
          <a:blip r:embed="rId3"/>
          <a:stretch/>
        </p:blipFill>
        <p:spPr>
          <a:xfrm>
            <a:off x="4432320" y="3456000"/>
            <a:ext cx="2376360" cy="83016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8" descr=""/>
          <p:cNvPicPr/>
          <p:nvPr/>
        </p:nvPicPr>
        <p:blipFill>
          <a:blip r:embed="rId4"/>
          <a:stretch/>
        </p:blipFill>
        <p:spPr>
          <a:xfrm>
            <a:off x="6516720" y="3352680"/>
            <a:ext cx="2530440" cy="9334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" descr="http://upload.wikimedia.org/wikipedia/commons/6/6c/Whistlingkite.jpg"/>
          <p:cNvPicPr/>
          <p:nvPr/>
        </p:nvPicPr>
        <p:blipFill>
          <a:blip r:embed="rId5"/>
          <a:stretch/>
        </p:blipFill>
        <p:spPr>
          <a:xfrm>
            <a:off x="142920" y="121428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209" name="imgCropper" descr="http://img-2001-07.photosight.ru/03/20951.jpg"/>
          <p:cNvPicPr/>
          <p:nvPr/>
        </p:nvPicPr>
        <p:blipFill>
          <a:blip r:embed="rId6"/>
          <a:stretch/>
        </p:blipFill>
        <p:spPr>
          <a:xfrm>
            <a:off x="2428920" y="1214280"/>
            <a:ext cx="2071800" cy="22338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Файл:Blue Rock Pigeon (Columba livia) in Kolkata I IMG 9762.jpg"/>
          <p:cNvPicPr/>
          <p:nvPr/>
        </p:nvPicPr>
        <p:blipFill>
          <a:blip r:embed="rId7"/>
          <a:stretch/>
        </p:blipFill>
        <p:spPr>
          <a:xfrm>
            <a:off x="4572000" y="1214280"/>
            <a:ext cx="2093760" cy="22147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http://www.floranimal.ru/gallery/big/3428.jpg"/>
          <p:cNvPicPr/>
          <p:nvPr/>
        </p:nvPicPr>
        <p:blipFill>
          <a:blip r:embed="rId8"/>
          <a:stretch/>
        </p:blipFill>
        <p:spPr>
          <a:xfrm>
            <a:off x="6702480" y="1214280"/>
            <a:ext cx="2441520" cy="221472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19" descr=""/>
          <p:cNvPicPr/>
          <p:nvPr/>
        </p:nvPicPr>
        <p:blipFill>
          <a:blip r:embed="rId9"/>
          <a:stretch/>
        </p:blipFill>
        <p:spPr>
          <a:xfrm>
            <a:off x="1494000" y="3456000"/>
            <a:ext cx="920520" cy="8301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20" descr=""/>
          <p:cNvPicPr/>
          <p:nvPr/>
        </p:nvPicPr>
        <p:blipFill>
          <a:blip r:embed="rId10"/>
          <a:stretch/>
        </p:blipFill>
        <p:spPr>
          <a:xfrm>
            <a:off x="3352680" y="3456000"/>
            <a:ext cx="914400" cy="8301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21" descr=""/>
          <p:cNvPicPr/>
          <p:nvPr/>
        </p:nvPicPr>
        <p:blipFill>
          <a:blip r:embed="rId11"/>
          <a:stretch/>
        </p:blipFill>
        <p:spPr>
          <a:xfrm>
            <a:off x="5499000" y="3456000"/>
            <a:ext cx="920880" cy="8301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2" descr=""/>
          <p:cNvPicPr/>
          <p:nvPr/>
        </p:nvPicPr>
        <p:blipFill>
          <a:blip r:embed="rId12"/>
          <a:stretch/>
        </p:blipFill>
        <p:spPr>
          <a:xfrm>
            <a:off x="7639200" y="3389400"/>
            <a:ext cx="914400" cy="82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6 L 0.1677 0.1375 E">
                                      <p:cBhvr>
                                        <p:cTn id="4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-0.00329 0.13657 E">
                                      <p:cBhvr>
                                        <p:cTn id="4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92 L -0.33021 0.14791 E">
                                      <p:cBhvr>
                                        <p:cTn id="5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949 L -0.06511 0.13866 E">
                                      <p:cBhvr>
                                        <p:cTn id="53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D:\Desktop\0_5b597_430bae1a_L[1].jp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:\Desktop\pw_10387261_2009_01_18_3575[1].jpg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1268280"/>
            <a:ext cx="9504360" cy="1382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D:\Наташа\Фото\HOMEANIM\AG00402_.GIF"/>
          <p:cNvPicPr/>
          <p:nvPr/>
        </p:nvPicPr>
        <p:blipFill>
          <a:blip r:embed="rId2"/>
          <a:stretch/>
        </p:blipFill>
        <p:spPr>
          <a:xfrm>
            <a:off x="3389400" y="3000240"/>
            <a:ext cx="21114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1" descr=""/>
          <p:cNvPicPr/>
          <p:nvPr/>
        </p:nvPicPr>
        <p:blipFill>
          <a:blip r:embed="rId1"/>
          <a:stretch/>
        </p:blipFill>
        <p:spPr>
          <a:xfrm>
            <a:off x="2017800" y="652320"/>
            <a:ext cx="5621400" cy="577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14" descr=""/>
          <p:cNvPicPr/>
          <p:nvPr/>
        </p:nvPicPr>
        <p:blipFill>
          <a:blip r:embed="rId1"/>
          <a:stretch/>
        </p:blipFill>
        <p:spPr>
          <a:xfrm>
            <a:off x="469800" y="1127160"/>
            <a:ext cx="8229600" cy="11034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24" descr=""/>
          <p:cNvPicPr/>
          <p:nvPr/>
        </p:nvPicPr>
        <p:blipFill>
          <a:blip r:embed="rId2"/>
          <a:stretch/>
        </p:blipFill>
        <p:spPr>
          <a:xfrm>
            <a:off x="139680" y="1994040"/>
            <a:ext cx="9455040" cy="340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28760" y="785880"/>
            <a:ext cx="8501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Зима для птиц – время года, и подкормить их в этот период – значит спасти сотни тысяч друзей от смерти, дать им возможность дождаться вес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428760" y="34290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Зима для птиц – сам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4363560" y="3429000"/>
            <a:ext cx="190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тяжёл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5833080" y="3429000"/>
            <a:ext cx="294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время года,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184680" y="3929040"/>
            <a:ext cx="449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подкормить их в это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1"/>
          <p:cNvSpPr/>
          <p:nvPr/>
        </p:nvSpPr>
        <p:spPr>
          <a:xfrm>
            <a:off x="4114440" y="3929040"/>
            <a:ext cx="189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труд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2"/>
          <p:cNvSpPr/>
          <p:nvPr/>
        </p:nvSpPr>
        <p:spPr>
          <a:xfrm>
            <a:off x="5622120" y="3929040"/>
            <a:ext cx="353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период – значи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28880" y="4357800"/>
            <a:ext cx="552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спасти сотни тысяч наши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4"/>
          <p:cNvSpPr/>
          <p:nvPr/>
        </p:nvSpPr>
        <p:spPr>
          <a:xfrm>
            <a:off x="5024880" y="4357800"/>
            <a:ext cx="20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пернат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5"/>
          <p:cNvSpPr/>
          <p:nvPr/>
        </p:nvSpPr>
        <p:spPr>
          <a:xfrm>
            <a:off x="6761160" y="4357800"/>
            <a:ext cx="22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друзей о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344520" y="4786200"/>
            <a:ext cx="199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голод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7"/>
          <p:cNvSpPr/>
          <p:nvPr/>
        </p:nvSpPr>
        <p:spPr>
          <a:xfrm>
            <a:off x="1807560" y="4786200"/>
            <a:ext cx="609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смерти, дать им возмож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8"/>
          <p:cNvSpPr/>
          <p:nvPr/>
        </p:nvSpPr>
        <p:spPr>
          <a:xfrm>
            <a:off x="317520" y="5286240"/>
            <a:ext cx="222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дожда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9"/>
          <p:cNvSpPr/>
          <p:nvPr/>
        </p:nvSpPr>
        <p:spPr>
          <a:xfrm>
            <a:off x="2210040" y="5286240"/>
            <a:ext cx="166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тёпл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0"/>
          <p:cNvSpPr/>
          <p:nvPr/>
        </p:nvSpPr>
        <p:spPr>
          <a:xfrm>
            <a:off x="3573360" y="5286240"/>
            <a:ext cx="157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76a3"/>
                </a:solidFill>
                <a:latin typeface="Constantia"/>
              </a:rPr>
              <a:t>вес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2:09:41Z</dcterms:created>
  <dc:creator>Максим</dc:creator>
  <dc:description/>
  <dc:language>en-US</dc:language>
  <cp:lastModifiedBy>1</cp:lastModifiedBy>
  <dcterms:modified xsi:type="dcterms:W3CDTF">2011-03-03T07:21:07Z</dcterms:modified>
  <cp:revision>90</cp:revision>
  <dc:subject/>
  <dc:title>Слайд 1</dc:title>
</cp:coreProperties>
</file>