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6637-61E8-4B14-A23D-D3E37DCF4F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B2B4-73D5-40BE-BCC7-92EB0A83CB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E1D8-8110-4E75-9166-9D6D61C1F2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0E24-1253-4124-9AF2-33809EFB35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A2E-4517-4D91-B213-92F133C7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6CA-182F-4FFC-B3C0-B3A16D30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94F-E120-4FC2-BB8F-67E7CEC0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39B-B4EB-492F-96E4-1571C66C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FC3A-6340-451D-8783-D89E9A28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0768-88E3-48A0-A3FE-2B2B4531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B015-9E7B-4ECA-AEDE-F3C5ABB0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962D-2DB4-4D8D-8A16-EAF26A71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B08A-82D3-437F-8914-454C4A5B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B9B9-3AD0-46C7-895D-537525F8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5598-D5F9-45D4-9EFE-E3662E9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071-9AB2-4ACB-A2AE-1A9DE3A0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F7AE-4B83-4B24-AA24-05B60C70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A857-86BB-48A4-AD78-C2AD180D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7809-9E9A-4453-B47A-90BDC3AA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127D-08B6-407E-B287-8B382E3B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6FF8-F01F-4CA2-9179-CD88B107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44D-C595-4194-857D-209D928A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E95-2E9C-4FAB-AED9-24A1DFD4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B19-3AED-448A-8189-7F371C6A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67A-E928-4E84-B0A0-3C000512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492-5C95-4AFB-8013-91162945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E8A-8FFE-44CA-B9FD-BE5DFD8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DCD-4263-4F1B-B7BE-1E916A9D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D79D-CD01-4E2F-92C3-413394DA3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15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15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15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B70B-2550-430D-A00B-5BE6250B90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ecff"/>
                </a:solidFill>
                <a:latin typeface="Arial Black"/>
              </a:rPr>
              <a:t>Мониторинг лугового фитоценоза</a:t>
            </a:r>
            <a:endParaRPr b="1" lang="en-US" sz="48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2640" y="2643120"/>
            <a:ext cx="6615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БОУ «Основная общеобразователь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товская школ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мельянова Анастасия, 8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мельянова Нина Дмитриевна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би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11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Таблица 1" descr=""/>
          <p:cNvPicPr/>
          <p:nvPr/>
        </p:nvPicPr>
        <p:blipFill>
          <a:blip r:embed="rId1"/>
          <a:stretch/>
        </p:blipFill>
        <p:spPr>
          <a:xfrm>
            <a:off x="353880" y="853920"/>
            <a:ext cx="8650440" cy="5473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0" y="-773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768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Притеррасная пой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685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ecff"/>
                </a:solidFill>
                <a:latin typeface="Arial Black"/>
              </a:rPr>
              <a:t>Результаты исследований </a:t>
            </a:r>
            <a:br>
              <a:rPr sz="4000"/>
            </a:br>
            <a:r>
              <a:rPr b="1" lang="en-US" sz="4000" spc="-1" strike="noStrike">
                <a:solidFill>
                  <a:srgbClr val="d6ecff"/>
                </a:solidFill>
                <a:latin typeface="Arial Black"/>
              </a:rPr>
              <a:t>и их анализ</a:t>
            </a:r>
            <a:endParaRPr b="1" lang="en-US" sz="40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2600" y="1357200"/>
            <a:ext cx="8007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йменный луг состоит из трех основных  частей . После берегового вала, состоящего из крупнозернистого песка, располагается возвышенная прирусловая часть поймы с песчаной почвой и корневищными злаками. Далее идет широкая центральная пойма, почва которой состоит из более мелких наносных частиц, а в травостое преобладают рыхлокустовые  злаки и бобовые. В понижении располагается притеррасная заболоченная часть с преобладающей растительностью из осок и разнотрав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нализируя таблицы делаем вывод, что по сезонам численность растений изменяется. В 2011 году количество растений на  исследуемых участках больше, чем в 2010 году и выше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я мониторинг, выясняем, является ли процесс старения луга только естественным или же он ускоряется какими-либо внешними причинами. Одним из таких факторов является несвоевременная и чрезмерная пастьба  скота  и увозя ежегодно сено, человек не вносит никаких удобрений в луговую почву, чем истощает её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Рекомендации 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1071360"/>
            <a:ext cx="8007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комендуем  продолжить исследования  над динамикой экосистемы пойменного луга реки Убля в селе Кото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ирать семена наиболее питательные и продуктивные многолетних трав для подкормки птиц зимой и для размн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м бы ученик в будущем не стал, необходимо знать:  познание закономерностей существования биогеоценозов – это основа для правильного научного подхода к их рациональному использова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6ecff"/>
                </a:solidFill>
                <a:latin typeface="Monotype Corsiva"/>
              </a:rPr>
              <a:t>Спасибо </a:t>
            </a:r>
            <a:br>
              <a:rPr sz="9600"/>
            </a:br>
            <a:r>
              <a:rPr b="1" lang="en-US" sz="9600" spc="-1" strike="noStrike">
                <a:solidFill>
                  <a:srgbClr val="d6ecff"/>
                </a:solidFill>
                <a:latin typeface="Monotype Corsiva"/>
              </a:rPr>
              <a:t>за внимание</a:t>
            </a:r>
            <a:endParaRPr b="1" lang="en-US" sz="9600" spc="-1" strike="noStrike">
              <a:solidFill>
                <a:srgbClr val="d6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Цель: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взаимосвязей и взаимодействий различных компонентов экосистемы, причины изменения состава растительности по сезонам и их влияние на динамику эко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356840"/>
            <a:ext cx="8007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нать закономерности существования биогеоценоза пойменного лу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формировать интерес к изучению взаимосвязей и взаимодействий различных компонентов пойменного лу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накомиться с процессами, происходящими по сезонам на пойменном лугу и анализ влияния антропогенного фактора на луговые растительные сооб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Методика исследований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214280"/>
            <a:ext cx="8007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исследования  - пойменный луг реки Убля  в селе Кото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иодичность исследования – по сезон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88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ладываем три ключевых участ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х 10 м внутри которых разбиваем площадки 1х1 м для количественного учета видов растений ,биогеоценоти- ческого исследования  и с теми про –цессами, которые связаны с жизнью растений и с фазами развития л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9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9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9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9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Прирусловая пойма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000680" y="4929120"/>
            <a:ext cx="1571400" cy="1733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928800" y="1285920"/>
            <a:ext cx="7786440" cy="353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3"/>
          <a:stretch/>
        </p:blipFill>
        <p:spPr>
          <a:xfrm>
            <a:off x="7429680" y="4929120"/>
            <a:ext cx="1214280" cy="1682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1000080" y="4929120"/>
            <a:ext cx="1241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Таблица 2" descr=""/>
          <p:cNvPicPr/>
          <p:nvPr/>
        </p:nvPicPr>
        <p:blipFill>
          <a:blip r:embed="rId1"/>
          <a:stretch/>
        </p:blipFill>
        <p:spPr>
          <a:xfrm>
            <a:off x="139680" y="1925640"/>
            <a:ext cx="8772480" cy="4584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0" y="-1332720"/>
            <a:ext cx="9144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768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Результаты   наблюдений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   годам    (2008г., 2009г., 2010г., 2011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768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русловая пой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Центральная пойма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7254720" cy="38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7286760" y="4929120"/>
            <a:ext cx="1643040" cy="163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571680" y="4929120"/>
            <a:ext cx="1785600" cy="16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2857680" y="49291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5"/>
          <a:stretch/>
        </p:blipFill>
        <p:spPr>
          <a:xfrm>
            <a:off x="5072040" y="4929120"/>
            <a:ext cx="171468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Таблица 1" descr=""/>
          <p:cNvPicPr/>
          <p:nvPr/>
        </p:nvPicPr>
        <p:blipFill>
          <a:blip r:embed="rId1"/>
          <a:stretch/>
        </p:blipFill>
        <p:spPr>
          <a:xfrm>
            <a:off x="353880" y="785880"/>
            <a:ext cx="8577360" cy="591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142920" y="-908640"/>
            <a:ext cx="90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768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Центральная пой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685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b6f"/>
            </a:gs>
            <a:gs pos="100000">
              <a:srgbClr val="ea15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ecff"/>
                </a:solidFill>
                <a:latin typeface="Arial Black"/>
              </a:rPr>
              <a:t>Притеррасная пойма</a:t>
            </a:r>
            <a:endParaRPr b="1" lang="en-US" sz="4400" spc="-1" strike="noStrike">
              <a:solidFill>
                <a:srgbClr val="d6ecff"/>
              </a:solidFill>
              <a:latin typeface="Arial Black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858000" cy="3460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1643040" y="4500720"/>
            <a:ext cx="1297080" cy="194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6215040" y="4500720"/>
            <a:ext cx="1440000" cy="194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3924360" y="4508640"/>
            <a:ext cx="145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9:03:01Z</dcterms:created>
  <dc:creator>УЧИТЕЛЬ</dc:creator>
  <dc:description/>
  <dc:language>en-US</dc:language>
  <cp:lastModifiedBy>компьютер</cp:lastModifiedBy>
  <dcterms:modified xsi:type="dcterms:W3CDTF">2001-11-29T18:17:43Z</dcterms:modified>
  <cp:revision>39</cp:revision>
  <dc:subject/>
  <dc:title>Слайд 1</dc:title>
</cp:coreProperties>
</file>