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ACF-0E7C-4FA8-8A69-963DA8040C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9DBD-89F0-4C87-A246-CEC8F948D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3BFF-5DAC-4A26-8388-3574D4E907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17F2-C33F-40B1-92AB-85336F8BF9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BD4-E45F-459D-9711-35131C8F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D76-0B5F-4405-9B60-192ABDAD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1DF-04A4-4577-A6DD-6E851A03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9BA-0952-4D68-9178-79CD237B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5F17-15F7-4289-ADD2-2C958E19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8424-CF85-4E72-AEC6-C4EC70C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2FCE-18C5-4107-9AAA-75DCBD1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6955-1B1E-40AA-ACB7-85DDE0F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EAE5-DC9A-4BB2-9EE0-B0506AC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24F1-C317-42C5-AC44-A7E99287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CD33-3AEB-46A2-A590-E214BAE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629-B6E6-4760-BD71-A20EAC9C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BE16-4A5B-446B-89EB-107B174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BBF-EDB1-43F2-97E0-77265BF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AEED-963E-4256-945D-E19E5F91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D89C-B160-4E64-ADA3-E190E12A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1EC-38A6-4A59-B32D-32D7EAE6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69C-2607-4180-AE9D-3DD70A4A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9E4-A830-457E-95E9-A9B3BBAA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3D1-18A9-4892-9EF0-FF7FA727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F05-ABFA-459B-9DA4-EDF20207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BE6-9D0B-496D-A43D-B2A117E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29F-175D-40C6-B181-BCBACA5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F86-6A3F-4B52-8BC9-7F1A54F3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3AE2-5EC2-4D7F-95D6-F728824A6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78F-2451-4E63-BAF5-0FA9E2772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ecff"/>
                </a:solidFill>
                <a:latin typeface="Arial Black"/>
              </a:rPr>
              <a:t>Мониторинг лугового фитоценоза</a:t>
            </a:r>
            <a:endParaRPr b="1" lang="en-US" sz="48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2640" y="2643120"/>
            <a:ext cx="6615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БОУ «Основная общеобразователь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овская шко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мельянова Анастасия, 8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мельянова Нина Дмитриевна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1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Таблица 1" descr=""/>
          <p:cNvPicPr/>
          <p:nvPr/>
        </p:nvPicPr>
        <p:blipFill>
          <a:blip r:embed="rId1"/>
          <a:stretch/>
        </p:blipFill>
        <p:spPr>
          <a:xfrm>
            <a:off x="353880" y="853920"/>
            <a:ext cx="8650440" cy="5473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0" y="-773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Притеррасная пой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ecff"/>
                </a:solidFill>
                <a:latin typeface="Arial Black"/>
              </a:rPr>
              <a:t>Результаты исследований </a:t>
            </a:r>
            <a:br>
              <a:rPr sz="4000"/>
            </a:br>
            <a:r>
              <a:rPr b="1" lang="en-US" sz="4000" spc="-1" strike="noStrike">
                <a:solidFill>
                  <a:srgbClr val="d6ecff"/>
                </a:solidFill>
                <a:latin typeface="Arial Black"/>
              </a:rPr>
              <a:t>и их анализ</a:t>
            </a:r>
            <a:endParaRPr b="1" lang="en-US" sz="40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600" y="1357200"/>
            <a:ext cx="8007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йменный луг состоит из трех основных  частей . После берегового вала, состоящего из крупнозернистого песка, располагается возвышенная прирусловая часть поймы с песчаной почвой и корневищными злаками. Далее идет широкая центральная пойма, почва которой состоит из более мелких наносных частиц, а в травостое преобладают рыхлокустовые  злаки и бобовые. В понижении располагается притеррасная заболоченная часть с преобладающей растительностью из осок и разнотрав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ализируя таблицы делаем вывод, что по сезонам численность растений изменяется. В 2011 году количество растений на  исследуемых участках больше, чем в 2010 году и выше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я мониторинг, выясняем, является ли процесс старения луга только естественным или же он ускоряется какими-либо внешними причинами. Одним из таких факторов является несвоевременная и чрезмерная пастьба  скота  и увозя ежегодно сено, человек не вносит никаких удобрений в луговую почву, чем истощает 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Рекомендации 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071360"/>
            <a:ext cx="8007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мендуем  продолжить исследования  над динамикой экосистемы пойменного луга реки Убля в селе Кото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ть семена наиболее питательные и продуктивные многолетних трав для подкормки птиц зимой и для размн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м бы ученик в будущем не стал, необходимо знать:  познание закономерностей существования биогеоценозов – это основа для правильного научного подхода к их рациональному использова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ecff"/>
                </a:solidFill>
                <a:latin typeface="Monotype Corsiva"/>
              </a:rPr>
              <a:t>Спасибо </a:t>
            </a:r>
            <a:br>
              <a:rPr sz="9600"/>
            </a:br>
            <a:r>
              <a:rPr b="1" lang="en-US" sz="9600" spc="-1" strike="noStrike">
                <a:solidFill>
                  <a:srgbClr val="d6ecff"/>
                </a:solidFill>
                <a:latin typeface="Monotype Corsiva"/>
              </a:rPr>
              <a:t>за внимание</a:t>
            </a:r>
            <a:endParaRPr b="1" lang="en-US" sz="9600" spc="-1" strike="noStrike">
              <a:solidFill>
                <a:srgbClr val="d6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взаимосвязей и взаимодействий различных компонентов экосистемы, причины изменения состава растительности по сезонам и их влияние на динамику эко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ть закономерности существования биогеоценоза пойменного лу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формировать интерес к изучению взаимосвязей и взаимодействий различных компонентов пойменного лу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ся с процессами, происходящими по сезонам на пойменном лугу и анализ влияния антропогенного фактора на луговые растительные сооб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Методика исследований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214280"/>
            <a:ext cx="8007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исследования  - пойменный луг реки Убля  в селе Кото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ичность исследования – по сезон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адываем три ключевых участ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х 10 м внутри которых разбиваем площадки 1х1 м для количественного учета видов растений ,биогеоценоти- ческого исследования  и с теми про –цессами, которые связаны с жизнью растений и с фазами развития л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9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9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9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9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Прирусловая пойма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000680" y="4929120"/>
            <a:ext cx="1571400" cy="173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928800" y="1285920"/>
            <a:ext cx="7786440" cy="35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7429680" y="4929120"/>
            <a:ext cx="1214280" cy="1682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000080" y="4929120"/>
            <a:ext cx="1241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Таблица 2" descr=""/>
          <p:cNvPicPr/>
          <p:nvPr/>
        </p:nvPicPr>
        <p:blipFill>
          <a:blip r:embed="rId1"/>
          <a:stretch/>
        </p:blipFill>
        <p:spPr>
          <a:xfrm>
            <a:off x="139680" y="1925640"/>
            <a:ext cx="8772480" cy="4584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-133272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зультаты   наблюдений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   годам    (2008г., 2009г., 2010г., 2011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русловая пой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Центральная пойма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7254720" cy="38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7286760" y="4929120"/>
            <a:ext cx="164304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571680" y="4929120"/>
            <a:ext cx="1785600" cy="16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857680" y="4929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5"/>
          <a:stretch/>
        </p:blipFill>
        <p:spPr>
          <a:xfrm>
            <a:off x="5072040" y="4929120"/>
            <a:ext cx="1714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Таблица 1" descr=""/>
          <p:cNvPicPr/>
          <p:nvPr/>
        </p:nvPicPr>
        <p:blipFill>
          <a:blip r:embed="rId1"/>
          <a:stretch/>
        </p:blipFill>
        <p:spPr>
          <a:xfrm>
            <a:off x="353880" y="785880"/>
            <a:ext cx="8577360" cy="591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42920" y="-908640"/>
            <a:ext cx="90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Центральная пой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Притеррасная пойма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858000" cy="346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643040" y="4500720"/>
            <a:ext cx="129708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215040" y="4500720"/>
            <a:ext cx="1440000" cy="194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924360" y="4508640"/>
            <a:ext cx="145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9:03:01Z</dcterms:created>
  <dc:creator>УЧИТЕЛЬ</dc:creator>
  <dc:description/>
  <dc:language>en-US</dc:language>
  <cp:lastModifiedBy>компьютер</cp:lastModifiedBy>
  <dcterms:modified xsi:type="dcterms:W3CDTF">2001-11-29T18:17:43Z</dcterms:modified>
  <cp:revision>39</cp:revision>
  <dc:subject/>
  <dc:title>Слайд 1</dc:title>
</cp:coreProperties>
</file>