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FA7-11B3-40E4-A3B1-F6C95FB8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C26-0286-4778-9162-1FC4A6A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741-C9BB-4663-97C5-B0AB5216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DA5-CE40-45F7-B8B2-DE785D61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F9E-08B9-4D23-BE95-EB42825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E99-FEF3-4608-9120-0A22F20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6C4-E3EF-4338-9580-A1ED375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1FB-C5D4-4CBE-BD5B-F688AC3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816-E6A2-48F2-B945-8C4EB43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2CD-84C7-4DEF-990E-C2E4A7D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A72-6316-4D98-826C-C33F6FC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F73-37A8-4F54-AF3E-DFC6FFF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A8B-27BC-4A99-832B-A4D0471F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208;&#164;&#208;&#176;&#208;&#185;&#208;&#187;:DuplexScaling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ru.wikipedia.org/wiki/&#208;&#164;&#208;&#176;&#208;&#185;&#208;&#187;:Piano_hammers.jpg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208;&#164;&#208;&#176;&#208;&#185;&#208;&#187;:Range_Piano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720" y="5084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о речь не о скрипке…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2565720"/>
            <a:ext cx="491184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Стейнвей (Steinway &amp; 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Бехштейн (Bechs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Яма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Бёзендорф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August För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Кав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98100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иболее известные производители роялей: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00000" y="260280"/>
            <a:ext cx="741708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алЕре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4552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09960" y="0"/>
            <a:ext cx="61340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160200"/>
            <a:ext cx="6913440" cy="6554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5008320" cy="667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979640" y="0"/>
            <a:ext cx="51339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11280" y="0"/>
            <a:ext cx="7956360" cy="682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843280" y="170028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67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050920" y="0"/>
            <a:ext cx="52009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43280" y="819000"/>
            <a:ext cx="5400720" cy="603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11280" y="549360"/>
            <a:ext cx="504036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КОНЕЦ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189000"/>
            <a:ext cx="42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яль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96360" y="34290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08000" y="765000"/>
            <a:ext cx="5473800" cy="3119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650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фр. 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roya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королевский) — музыкальный инструмент, разновидность фортепиано. Рояль имеет крыловидную форму и более громоздок, чем пианино. Однако рояль звучи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лучше и громч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794200">
            <a:off x="1547640" y="3357360"/>
            <a:ext cx="863640" cy="85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19827000">
            <a:off x="1618920" y="148392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77080" y="549360"/>
            <a:ext cx="863640" cy="85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164360" y="3645000"/>
            <a:ext cx="358920" cy="35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5280" y="0"/>
            <a:ext cx="403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я́л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14972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удерживать зву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не нажимая клавиши в этот момент (правая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ослаблять зву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левая; следует заметить, что левая педаль используется не столько для ослабления, сколько для изменения окраски звука во время игры, создавая тем самым дополнительные нюансы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удерживать звук части клави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эффект создания так называемой «расщепленной клавиатуры». Разумеется, это также придает красочность (средня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125360"/>
            <a:ext cx="370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ояль состоит из корпуса в котором над резонансной декой натянуты металлические струны, звучащие при ударе молоточками, приводимыми в движение клавишами. Посредством трех педалей можно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9280" y="5025600"/>
            <a:ext cx="2520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прей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брус, несущий нагрузки от натяжения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87760" y="222264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4487760" y="514188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272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у́то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основной опорный узел фортепиано, наряду с чугунной рамой несущий нагрузку натяжения всех стру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0"/>
            <a:ext cx="64436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угу́нная ра́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фортепиан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(17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В передней части рама имеет порожки или особые винты аграфы, служащие для ограничения длины звучащих участков струн. В задней части рамы вбиты стальные колки, или задние штифты, за которые струны зацепляются ушками или пет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262728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гра́ф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(18)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латунный винт сложной формы с отверстиями и порожками, предназначенный для фиксации положения и обеспечения качественной отсечки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367240"/>
            <a:ext cx="3348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орба́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деталь лицевой части корпуса рояля, закрывающий спереди чугунную раму и вирбельбан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44640"/>
            <a:ext cx="23400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ирбельба́н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 — многослойная деревянная доска с отверстиями, в которые запрессованы вирбели, натягивающие струны роя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5367240"/>
            <a:ext cx="17290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ускле́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опорный брус для крепления ножки роя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284328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пода́ст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металлическая фигурная планка, прижимающая поперёк струны к струнному штапику в дискантовом регистре; привинчивается к вирбельбанку и является одной из границ для вибрирующих участков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0"/>
            <a:ext cx="4105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а́нцир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сплошная плита чугунной рамы рояля, закрывающая вирбельбанк. Она принимает на себя значительную часть силы натяжения струн (около 2.5тон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716280"/>
            <a:ext cx="28432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тульра́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массивная рама, которая привинчивается к бачкам корпуса и служит базой для клавишно-молоточкового механ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8000" y="4818240"/>
            <a:ext cx="3456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у́нный шта́пи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литой порожек на вирбельном панцире чугунной рамы, на котором каждая струна разделяется на задействованную и неработающую ч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6320" y="6165720"/>
            <a:ext cx="155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олото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771640" y="1700280"/>
            <a:ext cx="4175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Range Pian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404640"/>
            <a:ext cx="4305600" cy="595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7040" y="58770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3960" y="476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89000"/>
            <a:ext cx="31669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апазон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5640" y="1335960"/>
            <a:ext cx="705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длине корпуса рояли подразделяю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ольшие концер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свыше 2,7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алые концер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2,4—2,5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алон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2,1—2,3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ольшие кабине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1,7—1,9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алые кабине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1,5—1,7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иниатюр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миньоны) длиной до 1,5 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0"/>
            <a:ext cx="648036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ассификация</a:t>
            </a:r>
            <a:endParaRPr b="1" lang="en-US" sz="2400" spc="1" strike="noStrike">
              <a:ln w="2232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716360" cy="47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-111600"/>
            <a:ext cx="5113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По разнообразию и красоте звука и способности передачи тончайших намерений и индивидуальности исполнителя — рояль один из наиболее совершенных музыкальных инструментов. Фортепианная музыкальная литература колоссаль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07:35Z</dcterms:created>
  <dc:creator>Ruslana</dc:creator>
  <dc:description/>
  <dc:language>en-US</dc:language>
  <cp:lastModifiedBy>р</cp:lastModifiedBy>
  <dcterms:modified xsi:type="dcterms:W3CDTF">2011-12-18T11:51:2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