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A15-82F8-42FB-A330-FB20CBEC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20F-85E8-4F23-AC10-46E8082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D78-9DC9-4319-842D-67B03619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D7E-1F17-4D8A-B081-F0391772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8A4-4733-4EC7-AB02-C855A58D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703-4974-4283-883F-E4F3C880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920-1760-4A3C-85E4-B50A7E2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577-3AA0-4FB6-A1FF-D2A7CC4D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22D-5F30-4A08-9E82-7B8AFD5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360-089E-49AF-8A67-C12A67D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1CC-BF5E-4AD8-8858-15B81D8A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CF3-1AA5-4B38-8806-810258D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EA13-53DE-414D-ABB8-2F69D8E7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1.jpeg"/><Relationship Id="rId7" Type="http://schemas.openxmlformats.org/officeDocument/2006/relationships/image" Target="../media/image10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208;&#164;&#208;&#176;&#208;&#185;&#208;&#187;:DuplexScaling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ru.wikipedia.org/wiki/&#208;&#164;&#208;&#176;&#208;&#185;&#208;&#187;:Piano_hammers.jpg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208;&#164;&#208;&#176;&#208;&#185;&#208;&#187;:Range_Piano.pn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720" y="5084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о речь не о скрипке…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2565720"/>
            <a:ext cx="491184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Стейнвей (Steinway &amp; S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Бехштейн (Bechs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Яма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Бёзендорф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August För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"/>
              </a:rPr>
              <a:t>Кав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98100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иболее известные производители роялей: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00000" y="260280"/>
            <a:ext cx="741708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алЕре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4552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09960" y="0"/>
            <a:ext cx="61340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160200"/>
            <a:ext cx="6913440" cy="6554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5008320" cy="667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979640" y="0"/>
            <a:ext cx="51339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11280" y="0"/>
            <a:ext cx="7956360" cy="682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843280" y="170028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5675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2050920" y="0"/>
            <a:ext cx="52009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43280" y="819000"/>
            <a:ext cx="5400720" cy="603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11280" y="549360"/>
            <a:ext cx="504036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Rockwell"/>
              </a:rPr>
              <a:t>КОНЕЦ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Rockwell"/>
              <a:ea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189000"/>
            <a:ext cx="424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яль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96360" y="34290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08000" y="765000"/>
            <a:ext cx="5473800" cy="3119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650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фр. 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roya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— королевский) — музыкальный инструмент, разновидность фортепиано. Рояль имеет крыловидную форму и более громоздок, чем пианино. Однако рояль звучи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лучше и громч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20794200">
            <a:off x="1547640" y="3357360"/>
            <a:ext cx="863640" cy="85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 rot="19827000">
            <a:off x="1618920" y="148392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77080" y="549360"/>
            <a:ext cx="863640" cy="85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164360" y="3645000"/>
            <a:ext cx="358920" cy="35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5280" y="0"/>
            <a:ext cx="403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я́л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8472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14972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удерживать зву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не нажимая клавиши в этот момент (правая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ослаблять зву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левая; следует заметить, что левая педаль используется не столько для ослабления, сколько для изменения окраски звука во время игры, создавая тем самым дополнительные нюансы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удерживать звук части клави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эффект создания так называемой «расщепленной клавиатуры». Разумеется, это также придает красочность (средня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125360"/>
            <a:ext cx="370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ояль состоит из корпуса в котором над резонансной декой натянуты металлические струны, звучащие при ударе молоточками, приводимыми в движение клавишами. Посредством трех педалей можно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9280" y="5025600"/>
            <a:ext cx="2520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прей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брус, несущий нагрузки от натяжения стру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87760" y="222264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4487760" y="514188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6272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у́то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основной опорный узел фортепиано, наряду с чугунной рамой несущий нагрузку натяжения всех стру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0"/>
            <a:ext cx="64436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угу́нная ра́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фортепиан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(17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В передней части рама имеет порожки или особые винты аграфы, служащие для ограничения длины звучащих участков струн. В задней части рамы вбиты стальные колки, или задние штифты, за которые струны зацепляются ушками или петл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262728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гра́ф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(18)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латунный винт сложной формы с отверстиями и порожками, предназначенный для фиксации положения и обеспечения качественной отсечки стру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367240"/>
            <a:ext cx="3348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орба́у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деталь лицевой части корпуса рояля, закрывающий спереди чугунную раму и вирбельбан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844640"/>
            <a:ext cx="234000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ирбельба́н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 — многослойная деревянная доска с отверстиями, в которые запрессованы вирбели, натягивающие струны роял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5367240"/>
            <a:ext cx="17290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ускле́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опорный брус для крепления ножки роя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284328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пода́ст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металлическая фигурная планка, прижимающая поперёк струны к струнному штапику в дискантовом регистре; привинчивается к вирбельбанку и является одной из границ для вибрирующих участков стру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0"/>
            <a:ext cx="4105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а́нцир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сплошная плита чугунной рамы рояля, закрывающая вирбельбанк. Она принимает на себя значительную часть силы натяжения струн (около 2.5тон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716280"/>
            <a:ext cx="284328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тульра́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массивная рама, которая привинчивается к бачкам корпуса и служит базой для клавишно-молоточкового механ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8000" y="4818240"/>
            <a:ext cx="34560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у́нный шта́пи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литой порожек на вирбельном панцире чугунной рамы, на котором каждая струна разделяется на задействованную и неработающую ч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6320" y="6165720"/>
            <a:ext cx="155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олото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771640" y="1700280"/>
            <a:ext cx="4175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Range Pian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404640"/>
            <a:ext cx="4305600" cy="595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7040" y="5877000"/>
            <a:ext cx="4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3960" y="476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189000"/>
            <a:ext cx="31669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апазон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5640" y="1335960"/>
            <a:ext cx="705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 длине корпуса рояли подразделяю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ольшие концер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свыше 2,7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алые концер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2,4—2,5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салон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2,1—2,3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ольшие кабине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1,7—1,9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алые кабинет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иной 1,5—1,7 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иниатюр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миньоны) длиной до 1,5 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0"/>
            <a:ext cx="648036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лассификация</a:t>
            </a:r>
            <a:endParaRPr b="1" lang="en-US" sz="2400" spc="1" strike="noStrike">
              <a:ln w="2232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716360" cy="47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-111600"/>
            <a:ext cx="5113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По разнообразию и красоте звука и способности передачи тончайших намерений и индивидуальности исполнителя — рояль один из наиболее совершенных музыкальных инструментов. Фортепианная музыкальная литература колоссаль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07:35Z</dcterms:created>
  <dc:creator>Ruslana</dc:creator>
  <dc:description/>
  <dc:language>en-US</dc:language>
  <cp:lastModifiedBy>р</cp:lastModifiedBy>
  <dcterms:modified xsi:type="dcterms:W3CDTF">2011-12-18T11:51:2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