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wmf" ContentType="image/x-wmf"/>
  <Override PartName="/ppt/media/image16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5.jpeg" ContentType="image/jpeg"/>
  <Override PartName="/ppt/media/image25.wmf" ContentType="image/x-wmf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2379-BF8B-41BC-89DF-80A103BE6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D01E-CED5-4095-92F3-A97CCE76D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3DD0-0C59-4E96-8A2E-2DC48A823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504A-95CF-49F0-B5F2-77B3A9386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8B7A-4F0F-4E18-B127-2C55065F9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2833-48AE-4815-B16A-B99C037BE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7C26-E07A-45A4-AC9A-2E4E53F83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2847-48F1-4868-9436-61CC148D7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F2AB-C344-4159-90CF-357456348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38C9-8FB4-4621-AC22-EBA2191AF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6A22-B84D-4311-9403-43A947B76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07AE-AF6B-4FEF-BC11-AF409777D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7AFCA-630D-408B-A379-99C4E81AA5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rasc.ru/multimedia/webalbum/demo/96311789.5610157.jpg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chelyabinsknight.okis.ru/img/chelyabinsknight/sport.jpg" TargetMode="External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infit.ru/images/temp/c74da94082349a80718941577d44c5d7.jpg?big" TargetMode="External"/><Relationship Id="rId2" Type="http://schemas.openxmlformats.org/officeDocument/2006/relationships/image" Target="../media/image18.jpeg"/><Relationship Id="rId3" Type="http://schemas.openxmlformats.org/officeDocument/2006/relationships/hyperlink" Target="http://www.sheiping.net/foto/dlja-chego-nuzhno-zanimatsja-sportom/foto/5.jpg" TargetMode="External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old.ysu.ru/hotnews2/2008_2/Zelen1-6.JPG" TargetMode="External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hyperlink" Target="http://upload.wikimedia.org/wikipedia/commons/8/85/Eishockey_Eisbaeren_gegen_Capitals.jpg" TargetMode="External"/><Relationship Id="rId4" Type="http://schemas.openxmlformats.org/officeDocument/2006/relationships/image" Target="../media/image24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25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333360"/>
            <a:ext cx="8893080" cy="19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5430b"/>
                </a:solidFill>
                <a:latin typeface="Arial Black"/>
              </a:rPr>
              <a:t>Я и спор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71640" y="2513160"/>
            <a:ext cx="4608720" cy="34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у выполнил ученик 5 Б класса Степанов Ники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физической культур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рочкина Елена Николаевн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БОУ «СОШ № 30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. Старый Оск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i?id=86477874&amp;tov=7"/>
          <p:cNvPicPr/>
          <p:nvPr/>
        </p:nvPicPr>
        <p:blipFill>
          <a:blip r:embed="rId1"/>
          <a:stretch/>
        </p:blipFill>
        <p:spPr>
          <a:xfrm>
            <a:off x="250920" y="5330880"/>
            <a:ext cx="1873080" cy="1324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i?id=28690020&amp;tov=6"/>
          <p:cNvPicPr/>
          <p:nvPr/>
        </p:nvPicPr>
        <p:blipFill>
          <a:blip r:embed="rId2"/>
          <a:stretch/>
        </p:blipFill>
        <p:spPr>
          <a:xfrm>
            <a:off x="324000" y="1628640"/>
            <a:ext cx="1174680" cy="1770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i?id=71577430&amp;tov=0"/>
          <p:cNvPicPr/>
          <p:nvPr/>
        </p:nvPicPr>
        <p:blipFill>
          <a:blip r:embed="rId3"/>
          <a:stretch/>
        </p:blipFill>
        <p:spPr>
          <a:xfrm>
            <a:off x="7164360" y="3789360"/>
            <a:ext cx="1400040" cy="990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i?id=47372327&amp;tov=6"/>
          <p:cNvPicPr/>
          <p:nvPr/>
        </p:nvPicPr>
        <p:blipFill>
          <a:blip r:embed="rId4"/>
          <a:stretch/>
        </p:blipFill>
        <p:spPr>
          <a:xfrm>
            <a:off x="179280" y="260280"/>
            <a:ext cx="1728720" cy="11415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5" descr="i?id=76323479&amp;tov=6"/>
          <p:cNvPicPr/>
          <p:nvPr/>
        </p:nvPicPr>
        <p:blipFill>
          <a:blip r:embed="rId5"/>
          <a:stretch/>
        </p:blipFill>
        <p:spPr>
          <a:xfrm>
            <a:off x="7164360" y="333360"/>
            <a:ext cx="1677960" cy="1184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7" descr="i?id=76223089&amp;tov=3"/>
          <p:cNvPicPr/>
          <p:nvPr/>
        </p:nvPicPr>
        <p:blipFill>
          <a:blip r:embed="rId6"/>
          <a:stretch/>
        </p:blipFill>
        <p:spPr>
          <a:xfrm>
            <a:off x="6948360" y="5135400"/>
            <a:ext cx="1944720" cy="1371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5" descr="i?id=160320745&amp;tov=2"/>
          <p:cNvPicPr/>
          <p:nvPr/>
        </p:nvPicPr>
        <p:blipFill>
          <a:blip r:embed="rId7"/>
          <a:stretch/>
        </p:blipFill>
        <p:spPr>
          <a:xfrm>
            <a:off x="7236000" y="1700280"/>
            <a:ext cx="1442880" cy="1717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7" descr="i?id=47512498&amp;tov=8"/>
          <p:cNvPicPr/>
          <p:nvPr/>
        </p:nvPicPr>
        <p:blipFill>
          <a:blip r:embed="rId8"/>
          <a:stretch/>
        </p:blipFill>
        <p:spPr>
          <a:xfrm>
            <a:off x="324000" y="3716280"/>
            <a:ext cx="1584000" cy="1182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8" descr="i?id=28690020&amp;tov=6"/>
          <p:cNvPicPr/>
          <p:nvPr/>
        </p:nvPicPr>
        <p:blipFill>
          <a:blip r:embed="rId9"/>
          <a:stretch/>
        </p:blipFill>
        <p:spPr>
          <a:xfrm>
            <a:off x="539640" y="1844640"/>
            <a:ext cx="117504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Футбол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94920" y="1196640"/>
            <a:ext cx="3538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утбо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англ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Footbal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«ножной мяч») — командный вид спорта, в котором целью является забить большее количество раз мяч в ворота соперника ногами или другими частями тела (кроме рук). В настоящее время самый популярный и массовый вид спорта в мире. 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futbol"/>
          <p:cNvPicPr/>
          <p:nvPr/>
        </p:nvPicPr>
        <p:blipFill>
          <a:blip r:embed="rId1"/>
          <a:stretch/>
        </p:blipFill>
        <p:spPr>
          <a:xfrm>
            <a:off x="3924360" y="1268280"/>
            <a:ext cx="476244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be0e3"/>
                </a:solidFill>
                <a:latin typeface="Arial"/>
              </a:rPr>
              <a:t>Волейбо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6244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лейбо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англ.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volleybal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т volley — «ударять мяч с лёта» (также переводят как «летающий», «парящий») и ball — «мяч») — вид спорта, командная спортивная игра, в процессе которой две команды соревнуются на специальной площадке, разделённой сеткой, стремясь направить мяч на сторону соперника таким образом, чтобы он приземлился на площадке противника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обить до пол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, либо игрок защищающейся команды допустил ошибку. При этом для организации атаки игрокам одной команды разрешается не более трёх касаний мяча подряд (в дополнение к касанию на блок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Картинка 15 из 53798"/>
          <p:cNvPicPr/>
          <p:nvPr/>
        </p:nvPicPr>
        <p:blipFill>
          <a:blip r:embed="rId1"/>
          <a:stretch/>
        </p:blipFill>
        <p:spPr>
          <a:xfrm>
            <a:off x="5364000" y="1844640"/>
            <a:ext cx="3419640" cy="41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Хокке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53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оккей с шайбо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спортивная игра, подвид хоккея, заключающаяся в противоборстве двух команд, которые, передавая шайбу клюшками, стремятся забросить её наибольшее количество раз в ворота соперника и не пропустить в свои. Побеждает команда, забросившая наибольшее количество шайб в ворота сопер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Файл:Eishockey Eisbaeren gegen Capitals.jpg"/>
          <p:cNvPicPr/>
          <p:nvPr/>
        </p:nvPicPr>
        <p:blipFill>
          <a:blip r:embed="rId1"/>
          <a:stretch/>
        </p:blipFill>
        <p:spPr>
          <a:xfrm>
            <a:off x="3851280" y="1916280"/>
            <a:ext cx="5003640" cy="39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Картинка 2 из 3913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9640" y="620280"/>
            <a:ext cx="8229600" cy="32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ногие российские спортивные школы являются ведущими в мире, что доказывают высокие достижения на самых престижных спортивных соревнованиях, таких как Олимпийские игры, чемпионаты мира и Европы по различным видам спорта. Многие российские спортсмены являются мировыми спортивными «звёздами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рт представляет собой специфический род физической и интеллектуальной активности, совершаемой с целью соревнования, а также целенаправленной подготовки к ним путём разминки, тренировки, в сочетании с отдыхом, стремлением постепенного улучшения физического здоровья, повышения уровня интеллекта, получения морального и материального удовлетворения, стремления к совершенству, улучшению личных, групповых и абсолютных рекордов, славе, улучшения собственных физических возможностей и навы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i?id=9076280&amp;tov=0"/>
          <p:cNvPicPr/>
          <p:nvPr/>
        </p:nvPicPr>
        <p:blipFill>
          <a:blip r:embed="rId1"/>
          <a:stretch/>
        </p:blipFill>
        <p:spPr>
          <a:xfrm>
            <a:off x="684360" y="333360"/>
            <a:ext cx="1143000" cy="952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i?id=70298039&amp;tov=5"/>
          <p:cNvPicPr/>
          <p:nvPr/>
        </p:nvPicPr>
        <p:blipFill>
          <a:blip r:embed="rId2"/>
          <a:stretch/>
        </p:blipFill>
        <p:spPr>
          <a:xfrm>
            <a:off x="2411280" y="333360"/>
            <a:ext cx="1352520" cy="8859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i?id=25703258&amp;tov=0"/>
          <p:cNvPicPr/>
          <p:nvPr/>
        </p:nvPicPr>
        <p:blipFill>
          <a:blip r:embed="rId3"/>
          <a:stretch/>
        </p:blipFill>
        <p:spPr>
          <a:xfrm>
            <a:off x="4643280" y="260280"/>
            <a:ext cx="1400400" cy="10479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1" descr="i?id=73431119&amp;tov=7"/>
          <p:cNvPicPr/>
          <p:nvPr/>
        </p:nvPicPr>
        <p:blipFill>
          <a:blip r:embed="rId4"/>
          <a:stretch/>
        </p:blipFill>
        <p:spPr>
          <a:xfrm>
            <a:off x="7020000" y="260280"/>
            <a:ext cx="142884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Файл:RussianBea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5430b"/>
                </a:solidFill>
                <a:latin typeface="Arial"/>
              </a:rPr>
              <a:t>Спорт в Росси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порт в России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— один из наиболее востребованных россиянами видов деятельности. Спортом занимаются профессионально и любительски. Любительский спорт тесно связан с понятием физкульту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5" descr="image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порт (англ. sport, сокращение от первоначального англ. disport — «игра», «развлечение») — организованная по определенным правилам деятельность людей, состоящая в сопоставлении их физических и интеллектуальных способностей, а также подготовка к этой деятельности и межличностные отношения, возникающие в её процесс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 эти виды спорта развивают такие качества ка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ыстрота, ловкость, скоростно-силовые качества, выносливость, координацию и мышлен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5" descr="i?id=59443064&amp;tov=5"/>
          <p:cNvPicPr/>
          <p:nvPr/>
        </p:nvPicPr>
        <p:blipFill>
          <a:blip r:embed="rId1"/>
          <a:stretch/>
        </p:blipFill>
        <p:spPr>
          <a:xfrm>
            <a:off x="7596360" y="3068640"/>
            <a:ext cx="1296720" cy="925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" descr="i?id=134991173&amp;tov=6"/>
          <p:cNvPicPr/>
          <p:nvPr/>
        </p:nvPicPr>
        <p:blipFill>
          <a:blip r:embed="rId2"/>
          <a:stretch/>
        </p:blipFill>
        <p:spPr>
          <a:xfrm>
            <a:off x="7596360" y="2133720"/>
            <a:ext cx="1225440" cy="847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i?id=61536917&amp;tov=3"/>
          <p:cNvPicPr/>
          <p:nvPr/>
        </p:nvPicPr>
        <p:blipFill>
          <a:blip r:embed="rId3"/>
          <a:stretch/>
        </p:blipFill>
        <p:spPr>
          <a:xfrm>
            <a:off x="7596360" y="1030320"/>
            <a:ext cx="1225440" cy="819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i?id=5309512&amp;tov=8"/>
          <p:cNvPicPr/>
          <p:nvPr/>
        </p:nvPicPr>
        <p:blipFill>
          <a:blip r:embed="rId4"/>
          <a:stretch/>
        </p:blipFill>
        <p:spPr>
          <a:xfrm>
            <a:off x="250920" y="3357720"/>
            <a:ext cx="1224000" cy="915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i?id=48235511&amp;tov=5"/>
          <p:cNvPicPr/>
          <p:nvPr/>
        </p:nvPicPr>
        <p:blipFill>
          <a:blip r:embed="rId5"/>
          <a:stretch/>
        </p:blipFill>
        <p:spPr>
          <a:xfrm>
            <a:off x="250920" y="2205000"/>
            <a:ext cx="1224000" cy="914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i?id=5085686&amp;tov=6"/>
          <p:cNvPicPr/>
          <p:nvPr/>
        </p:nvPicPr>
        <p:blipFill>
          <a:blip r:embed="rId6"/>
          <a:stretch/>
        </p:blipFill>
        <p:spPr>
          <a:xfrm>
            <a:off x="250920" y="1014480"/>
            <a:ext cx="1225440" cy="9176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0920" y="1773000"/>
            <a:ext cx="806436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f5430b"/>
                </a:solidFill>
                <a:latin typeface="Arial"/>
              </a:rPr>
              <a:t>Одни считают что "В здоровом теле - здоровый дух". Другие - "на самом деле одно из двух". И что вы понимаете под здоровым духом - хорошо бы узнать. Кто-то под здоровым духом подразумевает высокий интеллек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5430b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f5430b"/>
                </a:solidFill>
                <a:latin typeface="Arial"/>
              </a:rPr>
              <a:t>По моему одно другому не мешает. Так что если есть интеллект, то спорт ему не помеха.  Встречался мне человек, который был медалистом, участником многих школьных олимпиад(по предметам) и в то же время был кандидатом в мастера спорта (КМС). А еще знаю профессора, являющегося проректором одного из ВУЗов, который в юности также всерьез занимался спортом и до сих пор в тренажерку ходит. Так что если есть интеллект, то спорт ему не помех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3" descr="Картинка 9 из 358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3640" y="4076640"/>
            <a:ext cx="3810240" cy="2409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Картинка 4 из 358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0920" y="260280"/>
            <a:ext cx="3838320" cy="381024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5430b"/>
                </a:solidFill>
                <a:latin typeface="Arial"/>
              </a:rPr>
              <a:t>Почему нужно заниматься спорт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5280" y="24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орт необходим для человека. Всегда всем было известно, что занятия спортом в значительной степени могут сохранить здоровье, нередко поправить его, и, как следствие, продлить жизнь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ля чего нужно заниматься спорт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Object 4"/>
          <p:cNvGraphicFramePr/>
          <p:nvPr/>
        </p:nvGraphicFramePr>
        <p:xfrm>
          <a:off x="1042920" y="2276640"/>
          <a:ext cx="7201080" cy="481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276640"/>
                    <a:ext cx="7201080" cy="48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7" descr="Картинка 62 из 358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048120"/>
            <a:ext cx="4600440" cy="38098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Картинка 17 из 358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4572000" cy="29782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850920" y="260280"/>
            <a:ext cx="482436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условиях современного мира, когда большую часть времени мы проводим в сидячем положении, каждому необходимо уделять время физминуткам, чтобы элементарно поддерживать себя и свою опорно-двигательную систему в тонусе. Но в идеале физическая культура должна сопровождать человека с самого рождения и, можно сказать, до смерти, поскольку она оказывает оздоровительный и профилактический эффект, что является чрезвычайно важным в любом возрасте</a:t>
            </a:r>
            <a:r>
              <a:rPr b="0" lang="ru-RU" sz="2800" spc="-1" strike="noStrike">
                <a:solidFill>
                  <a:srgbClr val="ef75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476497"/>
          <p:cNvPicPr/>
          <p:nvPr/>
        </p:nvPicPr>
        <p:blipFill>
          <a:blip r:embed="rId1"/>
          <a:stretch/>
        </p:blipFill>
        <p:spPr>
          <a:xfrm>
            <a:off x="250920" y="981000"/>
            <a:ext cx="3562200" cy="53532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5430b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5430b"/>
                </a:solidFill>
                <a:latin typeface="Arial"/>
              </a:rPr>
              <a:t>Даже если человек выполняет тяжелую работу это не значит что ему не нужно заниматься спор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Картинка 5 из 3061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427640" y="1844640"/>
            <a:ext cx="445752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i?id=47512498&amp;tov=8"/>
          <p:cNvPicPr/>
          <p:nvPr/>
        </p:nvPicPr>
        <p:blipFill>
          <a:blip r:embed="rId1"/>
          <a:stretch/>
        </p:blipFill>
        <p:spPr>
          <a:xfrm>
            <a:off x="5580000" y="4005360"/>
            <a:ext cx="3241800" cy="24192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ортивные иг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543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5430b"/>
                </a:solidFill>
                <a:latin typeface="Arial"/>
              </a:rPr>
              <a:t>Спортивные игры</a:t>
            </a:r>
            <a:r>
              <a:rPr b="0" lang="ru-RU" sz="2800" spc="-1" strike="noStrike">
                <a:solidFill>
                  <a:srgbClr val="f5430b"/>
                </a:solidFill>
                <a:latin typeface="Arial"/>
              </a:rPr>
              <a:t> — самостоятельные виды спорта, связанные с игровым противоборством команд или отдельных спортсменов, и проводящиеся по определенным правил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543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5430b"/>
                </a:solidFill>
                <a:latin typeface="Arial"/>
              </a:rPr>
              <a:t>Спортивные игры в которых соревнуются две (или более) команды называются командными спортивными игр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543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5430b"/>
                </a:solidFill>
                <a:latin typeface="Arial"/>
              </a:rPr>
              <a:t>Военно-спортивная игра Зарница была (и является по сей день) важной частью патриотического воспита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школь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ые популярные спортивные игры в наших школах эт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скетбо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лейб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гб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утбо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i?id=66991232&amp;tov=7"/>
          <p:cNvPicPr/>
          <p:nvPr/>
        </p:nvPicPr>
        <p:blipFill>
          <a:blip r:embed="rId1"/>
          <a:stretch/>
        </p:blipFill>
        <p:spPr>
          <a:xfrm>
            <a:off x="826920" y="333360"/>
            <a:ext cx="1428840" cy="1076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i?id=6377856&amp;tov=2"/>
          <p:cNvPicPr/>
          <p:nvPr/>
        </p:nvPicPr>
        <p:blipFill>
          <a:blip r:embed="rId2"/>
          <a:stretch/>
        </p:blipFill>
        <p:spPr>
          <a:xfrm>
            <a:off x="6804000" y="333360"/>
            <a:ext cx="1428840" cy="1143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Файл:Eishockey Eisbaeren gegen Capitals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564000" y="260280"/>
            <a:ext cx="1619280" cy="1292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1" name="Object 20"/>
          <p:cNvGraphicFramePr/>
          <p:nvPr/>
        </p:nvGraphicFramePr>
        <p:xfrm>
          <a:off x="3070080" y="1889280"/>
          <a:ext cx="5594400" cy="4564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2" name="Object 2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70080" y="1889280"/>
                    <a:ext cx="5594400" cy="456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аскетбо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44020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аскетбо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грают две команды, обычно по двенадцать человек, от каждой из которых на площадке одновременно присутствует пять игроков. Цель каждой команды в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аскетбол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забросить мяч в корзину соперника и помешать другой команде овладеть мячом и забросить его в свою корзину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Картинка 1 из 55137"/>
          <p:cNvPicPr/>
          <p:nvPr/>
        </p:nvPicPr>
        <p:blipFill>
          <a:blip r:embed="rId1"/>
          <a:stretch/>
        </p:blipFill>
        <p:spPr>
          <a:xfrm>
            <a:off x="4859280" y="549360"/>
            <a:ext cx="3987720" cy="55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5T09:03:28Z</dcterms:created>
  <dc:creator>SamLab.ws</dc:creator>
  <dc:description/>
  <dc:language>en-US</dc:language>
  <cp:lastModifiedBy>олег</cp:lastModifiedBy>
  <dcterms:modified xsi:type="dcterms:W3CDTF">2011-12-18T16:32:33Z</dcterms:modified>
  <cp:revision>11</cp:revision>
  <dc:subject/>
  <dc:title>Я и спорт</dc:title>
</cp:coreProperties>
</file>