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FB7-0C2E-4F74-9615-68F37B4F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33B-85E5-4800-8542-5CE0AF5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C54-50D9-4D09-9ABE-1EDA65F4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068-4145-4DF0-8338-CF21CB55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F749-541E-4CFD-A18A-D2BD07A4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D081-4492-40AE-A20A-D37D2F1A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31887-B19C-4339-8066-1073C69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C3537-3765-4D17-B498-17E6546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88A3-D60D-4F4B-B87F-079DEC6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03C3-D464-46DB-8FF5-49E4C81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91CD7-B1CE-4D69-96A9-DFE7EA0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421-F5E6-4A2F-86A1-5035C0BB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E222-F7F7-4AC2-AF01-999A33B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B9EF5-63AD-4406-A795-7698BCDC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F991C-A055-43D6-B453-BD1AE87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A3D0E-8363-4A09-9A9A-0B1C373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CDD5A-08F4-4EE2-88E5-C3605EE4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AB0-7535-4FDB-866D-EF0AA10F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601-634E-43D4-B894-4E65E4B8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789-FDEB-4A69-96D9-B7ECEF46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7F7-BC5E-4BAA-B1E0-C977230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4FD-B979-45C6-8DBF-A1FCA48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A19-E8A2-412B-A0DD-A72F20FE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518-B734-4122-940A-368FA2B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066-C447-420F-A11C-3BAAD091F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383-CB55-42AB-AD36-80695E5C2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62120" y="1600200"/>
            <a:ext cx="7924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воряне все родня друг другу"</a:t>
            </a:r>
            <a:endParaRPr b="0" lang="en-US" sz="1800" spc="1" strike="noStrike">
              <a:ln w="19080">
                <a:solidFill>
                  <a:srgbClr val="0033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бластной конкурс исследовательских раб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следовательская работа ученицы 11 класса МОУ «Чихачёвская средняя общеобразовательная школа» Чекменёвой Александры Сергеев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уководитель Малышева Людмила Петровна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МОУ «Чихачевская средня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иколай Матвеевич Чихачёв (2)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.04.1830 - январь 19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н капитана второго ранга Матвея (2)Николаевич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управляющий Морским министерством. Адмирал Генерал-адъютан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ена баронесса ЕВГЕНИЯ ФЕДОРОВНА КО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и: НИКОЛАЙ 1859, ЕВГЕНИЯ 1861, АЛЕКСАНДРА 1864, СОФЬЯ 1868, ЕКАТЕРИНА 1870, ВЕРА (1871-1953, муж КОНСТАНТИН НИКОЛАЕВИЧ ЛЬВОВ, 1870-1937), АННА 1872, НАТАЛИЯ 1874, ДМИТРИЙ (1876-1919, член III Государственной Думы, уби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Чихачев Николай Матвеевич"/>
          <p:cNvPicPr/>
          <p:nvPr/>
        </p:nvPicPr>
        <p:blipFill>
          <a:blip r:embed="rId2"/>
          <a:stretch/>
        </p:blipFill>
        <p:spPr>
          <a:xfrm>
            <a:off x="457200" y="2133720"/>
            <a:ext cx="3152880" cy="37670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Копии докумен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83024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934320" y="1600200"/>
            <a:ext cx="186696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833480" cy="281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33520" y="4724280"/>
            <a:ext cx="3504960" cy="181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124080" y="1600200"/>
            <a:ext cx="169092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191120" y="5638680"/>
            <a:ext cx="38098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серокопия вер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ректор архива И.А.Рез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1066680"/>
            <a:ext cx="1904760" cy="398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990720"/>
            <a:ext cx="2209680" cy="580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рмулярный список о служб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914400"/>
            <a:ext cx="213372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шение удостоверя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оржественное заседание Государственного совета 7 мая 1901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ллюстрация картины И.В.Репина (1844-1930). 190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Государственный Русский муз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реди депутатов – Н.М.Чихачё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51460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47920" y="3913200"/>
            <a:ext cx="2736720" cy="258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4164120" cy="1938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447920" y="411480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514600"/>
            <a:ext cx="228600" cy="2286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09680" y="761040"/>
            <a:ext cx="4876920" cy="459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ahoma"/>
              </a:rPr>
              <a:t>Николай, Евгения, Александра,  Софья, Екатерина, Вера, Анна, Наталья, Дмитр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67080" y="1142640"/>
            <a:ext cx="0" cy="228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2514600" cy="178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удьба села Добрыви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715000" y="2819520"/>
            <a:ext cx="2743200" cy="188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80880" y="1676520"/>
            <a:ext cx="3276720" cy="2438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57200" y="4267080"/>
            <a:ext cx="3276720" cy="2438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495680" y="1219320"/>
            <a:ext cx="2586240" cy="188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ело Чихачё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дные ули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дание 19-го 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778120" cy="1990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486400" y="1905120"/>
            <a:ext cx="2727360" cy="2971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819160" cy="211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14600" y="4572000"/>
            <a:ext cx="274320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Чихачёвский участок железной дорог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819160" cy="2114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95880" y="4572000"/>
            <a:ext cx="2743200" cy="2057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743200" cy="2057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505320" y="2362320"/>
            <a:ext cx="2114280" cy="2819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666880" cy="2000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3809880" y="5715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Ч -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озродить былую слав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857680" cy="380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4038480" cy="3028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800600" y="1143000"/>
            <a:ext cx="320040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дн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219320"/>
            <a:ext cx="205740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сто будущего хр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62120" y="1600200"/>
            <a:ext cx="7696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8f8f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8600" y="304920"/>
            <a:ext cx="8686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брывичские  помещики  Чихачёвы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05120" y="4343400"/>
            <a:ext cx="518148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истории  Росси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ли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ставить родословный рассказ о добрывичской  ветви дворян Чихачё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казать роль  династии  дворян Чихачёвых в истории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ыявить родство дворян Чихачёвых с  дворянами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Задачи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брать материал по теме (использовать сеть Интернет, газеты, журналы, книги о дворянах Чихачёвых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бработать уже изданную литературу по данной те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сследовать копии документов школьного краеведческого музе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вести беседы со старожилами села Добрывичи (бывшего имения дворян Чихачёвых), с настоятелем церкви во имя Тихвинской Божьей Матери отцом Сергием (в миру Чекменёв Сергей Николаевич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истематизировать собранный материал и на его основе составить генеалогическое дерево этой вет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ассказать о полученных результатах на страницах районной газеты «Сельская нов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бранные и обобщённые материалы и презентацию к ним подарить школьному краеведческому музе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Род Чихачёв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оминается в русских летописях с XVI века.  Два дворянских рода Чихачёвых. Первый род – от Данилы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аршая и младшая вет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1624г. Чихачёвым пожалована грамота на помест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4479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Герб рода Чихачевых"/>
          <p:cNvPicPr/>
          <p:nvPr/>
        </p:nvPicPr>
        <p:blipFill>
          <a:blip r:embed="rId2"/>
          <a:stretch/>
        </p:blipFill>
        <p:spPr>
          <a:xfrm>
            <a:off x="5257800" y="2819520"/>
            <a:ext cx="2971800" cy="2971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240880" y="1600200"/>
            <a:ext cx="314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Герб внесен в IX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бщего Гербовник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Матвей Чихачёв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ллегия экономии (1765-1768г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анкт-Петербургская магистратская контора (1769-1771гг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ллежский советник и новоржевский предводитель дворянства  (1783г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1789 году предъявил «подлинную грамоту своего деда Анкидина Сергеевича 1688г.» Псковскому дворянскому депутатскому собранию и вместе с сыновьями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иколаем и Дмитрием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был «признан в древнем дворянстве и внесен в 6-ю часть дворянской родословной книги Псковского наместни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вый Псковский губернский предводитель дворянства, действительный статский советн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Николай Матвеевич Чихачёв(1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конце царствования Екатерины II он в звании бригадира был советником у директора Академии Наук княгини Е. Р. Дашк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етербурге у него был собственный д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сковской губернии Н. М. Чихачёву принадлежало 12 деревень с селом Добрывичи во гла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мел 5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"Строитель боярин Николай Матвеевич Чихачев скончался в 1819 году 31 марта» - надпись на надгробной п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828800"/>
            <a:ext cx="1676160" cy="11430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76720"/>
            <a:ext cx="1676520" cy="12189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828800"/>
            <a:ext cx="1676520" cy="10666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4724280"/>
            <a:ext cx="1828800" cy="11430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3276720"/>
            <a:ext cx="1600200" cy="12189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05520" y="2133720"/>
            <a:ext cx="1152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вей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86600" y="213372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хаи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581280"/>
            <a:ext cx="1447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сков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62920" y="3581280"/>
            <a:ext cx="96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19920" y="5029200"/>
            <a:ext cx="14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лизав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Матвей Николаевич Чихачёв(2) (1786 – 1841г.г.)</a:t>
            </a:r>
            <a:r>
              <a:rPr b="1" i="1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тарший сы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ды Отечественной войны  12-гщ года - офицер и командир роты морского гвардейского экипа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вовал в заграничном походе 1813-15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л немало наград, участвовал в 18-ти морских кампаниях и уволился в отставку по болезни в 1822 году капитаном II ран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чил морское образование за границей (в Англии) и знал 6 язык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хоронен на фамильном кладбище возле церкви во имя Тихвинской Божией Матери в 1841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Михаил Николаевич Чихачёв(1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Младший с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01 – поступил в Морской кадетский корпу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07 г. -  гардемарин на фрегате «Малом» и катере «Гонце», плавает между Кронштадтом и Свеаборго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09 г.- 1813г. -  мичман  и на канонерских лодках под командой капитан-лейтенанта Тулубьева плавает от Петербурга через Кронштадт до Пеленгова и Питкопаса, затем под Вексельмюнде принимают участие в жарком трёхкратном сражении с француз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го Чихачёв пробыл в море свыше 5 ле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онце 1821 - прошение об отставке по болезни. Уволен приказом морского министра в чине капитан-лейтенан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елился в псковских родовых вотчинах Новоржевского уезда (сельцо Михайловское, деревни Горки, Тюирово, Желнино, Веряндол,Черемша, Федорково, Загорицы, Соколово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седатель с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онце 20-х - начале 30-х г.  он женится. Дочь Александ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ирает не позже 1834 года. Жена его (1798 года - ?), Александра Петровна, скончалась в 1857 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08-04T19:01:5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