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8A9-E7F0-4A9A-80AA-45C6D087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1A6-4189-47BC-A6CC-E47F1C8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4BC-56DE-4CD4-9884-6D5331A1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F5D-B012-415B-B859-89180A0C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42E-181F-4CC0-A559-C6CA9136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1C6-D058-4E10-BF92-884DD5D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BEE-E6DF-4881-BA26-1DC0DA6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488-FE39-417F-9F45-1AD00B1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2A3-06BB-4BF9-804C-DD0E57E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AE2-86B6-4BB6-954B-FC1DB35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431-7D45-4A4B-99F4-CCFD1EB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366-FFFD-4D04-A4EA-98BE7A1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3EB-0CE0-45DE-B1DD-8967AC84F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file.mobilmusic.ru/51/01/d7/727124-480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-117360" y="-171360"/>
            <a:ext cx="9261360" cy="7626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40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ГОДНИЕ УКРА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КАМ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95640" y="5105520"/>
            <a:ext cx="3997080" cy="6998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ОЧЕТКОВА Г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ВОТ И ВСЕ ГОТОВО!</a:t>
            </a:r>
            <a:br>
              <a:rPr sz="3200"/>
            </a:b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С ЭТИМ СПРАВИТСЯ ЛЮБОЙ РЕБЕНО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Admin\Рабочий стол\шарик\Фото-0264.jpg"/>
          <p:cNvPicPr/>
          <p:nvPr/>
        </p:nvPicPr>
        <p:blipFill>
          <a:blip r:embed="rId1"/>
          <a:stretch/>
        </p:blipFill>
        <p:spPr>
          <a:xfrm>
            <a:off x="1981080" y="2114640"/>
            <a:ext cx="527868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761080" cy="863640"/>
          </a:xfrm>
          <a:prstGeom prst="rect">
            <a:avLst/>
          </a:prstGeom>
          <a:solidFill>
            <a:srgbClr val="558ed5"/>
          </a:solidFill>
          <a:ln w="9360">
            <a:solidFill>
              <a:srgbClr val="d9d9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9c3"/>
                </a:solidFill>
                <a:latin typeface="Calibri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C:\Documents and Settings\Admin\Рабочий стол\шарик\Фото-0231.jpg"/>
          <p:cNvPicPr/>
          <p:nvPr/>
        </p:nvPicPr>
        <p:blipFill>
          <a:blip r:embed="rId1"/>
          <a:stretch/>
        </p:blipFill>
        <p:spPr>
          <a:xfrm rot="14901600">
            <a:off x="361440" y="2253600"/>
            <a:ext cx="4015080" cy="3011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Admin\Рабочий стол\шарик\Фото-0232.jpg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6480360" cy="720720"/>
          </a:xfrm>
          <a:prstGeom prst="rect">
            <a:avLst/>
          </a:prstGeom>
          <a:solidFill>
            <a:srgbClr val="558ed5"/>
          </a:solidFill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заготов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Admin\Рабочий стол\шарик\Фото-0236.jpg"/>
          <p:cNvPicPr/>
          <p:nvPr/>
        </p:nvPicPr>
        <p:blipFill>
          <a:blip r:embed="rId1"/>
          <a:stretch/>
        </p:blipFill>
        <p:spPr>
          <a:xfrm rot="5212200">
            <a:off x="213480" y="228456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Admin\Рабочий стол\шарик\Фото-0238.jpg"/>
          <p:cNvPicPr/>
          <p:nvPr/>
        </p:nvPicPr>
        <p:blipFill>
          <a:blip r:embed="rId2"/>
          <a:stretch/>
        </p:blipFill>
        <p:spPr>
          <a:xfrm>
            <a:off x="4500720" y="2781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Admin\Рабочий стол\шарик\Фото-023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Admin\Рабочий стол\шарик\Фото-024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шарик\Фото-0243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шарик\Фото-0245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Documents and Settings\Admin\Рабочий стол\шарик\Фото-024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шарик\Фото-0248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Documents and Settings\Admin\Рабочий стол\шарик\Фото-024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Рабочий стол\шарик\Фото-025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:\Documents and Settings\Admin\Рабочий стол\шарик\Фото-025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Admin\Рабочий стол\шарик\Фото-0253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шарик\Фото-0255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Admin\Рабочий стол\шарик\Фото-026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6:45:01Z</dcterms:created>
  <dc:creator>Дима</dc:creator>
  <dc:description/>
  <dc:language>en-US</dc:language>
  <cp:lastModifiedBy>Дима</cp:lastModifiedBy>
  <dcterms:modified xsi:type="dcterms:W3CDTF">2011-12-19T17:45:43Z</dcterms:modified>
  <cp:revision>8</cp:revision>
  <dc:subject/>
  <dc:title>НОВОГОДНИЕ УКРАШЕНИЯ РУКАМИ ДЕТЕЙ</dc:title>
</cp:coreProperties>
</file>