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DB4-041C-4958-815E-4FB6F21D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48A-5AD6-41D4-95D6-3CF23BB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13F-E4CE-465E-A803-5B63A343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A73-DB67-4A2E-8AD3-BB1B5A48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3C5F-C99B-49C1-92EB-EEF3182E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7F6-9AA8-4799-8C67-8E4CED3A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8E28-32FF-42E4-B730-4AAD90A6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5EB7-FDF6-49C6-8922-138CD73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6511-B829-41A9-B215-027AE478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89CC-B813-4AB8-9393-3928E43B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A608-B27F-4F2C-A3FE-5AF2637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660-2F52-4928-8AA8-1CD806E5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DBD2-F783-42A7-8C80-894228D4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9079-9E09-4C60-BDC3-90A4C6E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6F05-9575-436E-9891-7B03D44D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4BA-8C44-4A4A-9B31-576A9686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0EAE-91F6-4249-9DD4-22BE35AB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B71-C7C2-421F-9153-458A821C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841-03E0-4CD6-A39F-9894A2C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1CF-B331-48E3-8489-365F61DD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223-52B9-4FCB-806B-A0FE231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02A-3E0C-44C7-B6EB-B6EB6EE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314-B9CE-4EB7-8CFA-6A9D262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D80-51EA-44B9-A4EB-2A0F482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53A0-4B7A-40CF-9834-F38D29DD3D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B4B5-7F84-47C2-9AF6-788CEEA74F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Экологические забавы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 конкурсная программа для 1 – 4 классов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езентацию выполнил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читель химии-эколог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ечаева С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69608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арке был 61 скворечник. 20 из них сломались. Ребята починили 5. Сколько сейчас в парке несломанных скворечник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: Сейчас в парке 46 несломанных скворечни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64000" y="4508640"/>
            <a:ext cx="2160360" cy="208908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те 9 лет, а его брату 6 лет. Находясь в лесу, они оставили там пластмассовые упаковки из-под сахара. Пластмассовые изделия разлагаются в течение 20 лет. Сколько лет будет Пете и сколько его младшему брату, когда оставленный мусор разложи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: Пете будет 29 лет, а его брату – 2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86392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11755"/>
                </a:moveTo>
                <a:lnTo>
                  <a:pt x="17806" y="4748"/>
                </a:lnTo>
                <a:lnTo>
                  <a:pt x="17806" y="1876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городе, где живут Оля и Юля, нет очистных сооружений, поэтому обе девочки собирают подписи под письмом к властям с просьбой построить очистные сооружения. Оля собрала 7 подписей, а Юля — в 4 раза больше. Сколько всего подписей собрали девоч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: Всего собрано 35 подпис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00360" y="5013360"/>
            <a:ext cx="3527280" cy="158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459640" y="6248520"/>
            <a:ext cx="684360" cy="609480"/>
          </a:xfrm>
          <a:custGeom>
            <a:avLst/>
            <a:gdLst>
              <a:gd name="textAreaLeft" fmla="*/ 39240 w 684360"/>
              <a:gd name="textAreaRight" fmla="*/ 645120 w 684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252" h="21600">
                <a:moveTo>
                  <a:pt x="0" y="0"/>
                </a:moveTo>
                <a:lnTo>
                  <a:pt x="24252" y="0"/>
                </a:lnTo>
                <a:lnTo>
                  <a:pt x="24252" y="21600"/>
                </a:lnTo>
                <a:lnTo>
                  <a:pt x="0" y="21600"/>
                </a:lnTo>
                <a:close/>
              </a:path>
              <a:path fill="lightenLess" w="24252" h="21600">
                <a:moveTo>
                  <a:pt x="0" y="0"/>
                </a:moveTo>
                <a:lnTo>
                  <a:pt x="24252" y="0"/>
                </a:lnTo>
                <a:lnTo>
                  <a:pt x="22852" y="1400"/>
                </a:lnTo>
                <a:lnTo>
                  <a:pt x="1400" y="1400"/>
                </a:lnTo>
                <a:close/>
              </a:path>
              <a:path fill="darken" w="24252" h="21600">
                <a:moveTo>
                  <a:pt x="24252" y="0"/>
                </a:moveTo>
                <a:lnTo>
                  <a:pt x="24252" y="21600"/>
                </a:lnTo>
                <a:lnTo>
                  <a:pt x="22852" y="20200"/>
                </a:lnTo>
                <a:lnTo>
                  <a:pt x="22852" y="1400"/>
                </a:lnTo>
                <a:close/>
              </a:path>
              <a:path fill="darkenLess" w="24252" h="21600">
                <a:moveTo>
                  <a:pt x="24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2" y="20200"/>
                </a:lnTo>
                <a:close/>
              </a:path>
              <a:path fill="lighten" w="24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2" h="21600">
                <a:moveTo>
                  <a:pt x="5120" y="10800"/>
                </a:moveTo>
                <a:lnTo>
                  <a:pt x="19133" y="3794"/>
                </a:lnTo>
                <a:lnTo>
                  <a:pt x="1913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лочные и мясные комбинаты отравляют реку, которая снабжает город питьевой водой. Молочный комбинат сливает в реку 25 л отходов за 1 мин, а мясной комбинат — в 3 раза больше. Посчитай, сколько литров отходов сливают в реку оба комбината за 1 м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: 100 л отходов за 1 мину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4365720"/>
            <a:ext cx="7056360" cy="237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0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онкурс «Стихи о природ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ините небольшое стихотворение, используя предложенные рифм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тич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 ……………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одич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 ……………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уч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 ……………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туч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онкурс «Сложи пословицу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д вами пословицы и поговорки о природе, разделённые на две части и перемешанные. Вы должны сложить пословиц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ова земля……………борозды не порти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 безрыбье и…………знает своё врем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 хлещи кобылу………рак рыб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сякое семя…………… и лягать не ста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тарый конь…………………таков и хлеб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2803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нкурс «Покажи слов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есь написаны выражения, связанные с какими-либо чертами характера или состоянием человека. При помощи мимики и жестов объяснить зрителям эти выраж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Голоден как вол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дутый как индю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м как ры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иристый как пет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Болтлив как со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зойлив как мух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58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нкурс «Вода, вода…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85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этих слов вы должны выписать обитателей водной сред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анна, щука, кит, матрос, скат,  медуз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лодка, водоросли, чайка, швабра,пиявк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одокачка, пингвин, червяк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онкурс «Экологические задачки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 «А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1 «Б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2 «А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2 «Б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2 «В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«А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«Б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«А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«Б»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549000"/>
            <a:ext cx="78469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я увидел красивые подснежники, растущие двумя группами. В одной группе было 4 подснежника, а в другой 8. Сколько подснежников увидел Тол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ТОЛЯ НЕ РВАЛ ПОДСНЕЖНИКОВ, ПОТОМУ ЧТО ОНИ НАХОДЯТСЯ ПОД ОСОБОЙ ОХРАНОЙ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я увидел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дснежни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388360" y="6093000"/>
            <a:ext cx="611280" cy="57456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2980" h="21600">
                <a:moveTo>
                  <a:pt x="0" y="0"/>
                </a:moveTo>
                <a:lnTo>
                  <a:pt x="22980" y="0"/>
                </a:lnTo>
                <a:lnTo>
                  <a:pt x="22980" y="21600"/>
                </a:lnTo>
                <a:lnTo>
                  <a:pt x="0" y="21600"/>
                </a:lnTo>
                <a:close/>
              </a:path>
              <a:path fill="lightenLess" w="22980" h="21600">
                <a:moveTo>
                  <a:pt x="0" y="0"/>
                </a:moveTo>
                <a:lnTo>
                  <a:pt x="22980" y="0"/>
                </a:lnTo>
                <a:lnTo>
                  <a:pt x="21580" y="1400"/>
                </a:lnTo>
                <a:lnTo>
                  <a:pt x="1400" y="1400"/>
                </a:lnTo>
                <a:close/>
              </a:path>
              <a:path fill="darken" w="22980" h="21600">
                <a:moveTo>
                  <a:pt x="22980" y="0"/>
                </a:moveTo>
                <a:lnTo>
                  <a:pt x="22980" y="21600"/>
                </a:lnTo>
                <a:lnTo>
                  <a:pt x="21580" y="20200"/>
                </a:lnTo>
                <a:lnTo>
                  <a:pt x="21580" y="1400"/>
                </a:lnTo>
                <a:close/>
              </a:path>
              <a:path fill="darkenLess" w="22980" h="21600">
                <a:moveTo>
                  <a:pt x="22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80" y="20200"/>
                </a:lnTo>
                <a:close/>
              </a:path>
              <a:path fill="lighten" w="22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80" h="21600">
                <a:moveTo>
                  <a:pt x="7991" y="10800"/>
                </a:moveTo>
                <a:lnTo>
                  <a:pt x="18496" y="3794"/>
                </a:lnTo>
                <a:lnTo>
                  <a:pt x="18496" y="17806"/>
                </a:lnTo>
                <a:close/>
              </a:path>
              <a:path fill="darken" w="22980" h="21600">
                <a:moveTo>
                  <a:pt x="4483" y="3794"/>
                </a:moveTo>
                <a:lnTo>
                  <a:pt x="6146" y="3794"/>
                </a:lnTo>
                <a:lnTo>
                  <a:pt x="6146" y="17806"/>
                </a:lnTo>
                <a:lnTo>
                  <a:pt x="448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аба — это очень полезное животное, так как она поедает вредных насекомых на огородных участках и в садах. Посчитай на рисунке, сколько улиток и гусениц, находящихся на листьях земляники, могла бы съесть жаб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аба   могла   бы   съесть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улиток и гусениц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АБЫ НАХОДЯТСЯ ПОД ОСОБОЙ ОХРАНОЙ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138560" cy="25207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604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696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лесу росло 99 красивых дубков. Неосторожный мальчишка оставил на опушке леса бутылку, которая явилась причиной пожара. После того как пожар потушили, выяснилось, что осталось только 73 дуба. Посчитай, сколь­ко дубовых деревьев сго­рело во время пожа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ОСТАВЛЕННОЕ СТЕКЛО МОЖЕТ СТАТЬ ПРИЧИНОЙ ПОЖАР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: Осталось 26 дуб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867280" y="4724280"/>
            <a:ext cx="2664000" cy="192420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7:16:08Z</dcterms:created>
  <dc:creator>Хозяин</dc:creator>
  <dc:description/>
  <dc:language>en-US</dc:language>
  <cp:lastModifiedBy>Хозяин</cp:lastModifiedBy>
  <dcterms:modified xsi:type="dcterms:W3CDTF">2009-10-11T17:53:23Z</dcterms:modified>
  <cp:revision>4</cp:revision>
  <dc:subject/>
  <dc:title>Экологические забавы</dc:title>
</cp:coreProperties>
</file>